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DE7-CD82-415D-B0BC-A7CB8229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58B-89C2-420E-B3BF-817A87CE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CA3-4F0C-417E-9E82-12B9585E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1D6-BB9C-4CE8-A314-9B8D43E6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5991-2F57-43B4-96E9-F1E26692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7FC5-F1BF-40BF-ADB7-04567429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E7C1-BC23-4FCF-AF8C-0DD1F664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400C-3B15-47F7-9A1D-19552A38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7883-937F-49AE-B837-06868683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92EE-5041-4DC2-B068-86ED1EF4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0368-4A29-46B7-980A-4891AD68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DFB-3DE1-48FB-B7D4-C680982A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5BAE-5815-4C85-86E8-D9348712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A4E1-1008-4227-A24B-F7834D9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58DB-1D63-4181-A100-EE4580A8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23E8-D854-4D75-87A3-46AC360A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073C-C0D7-4757-B0D1-CF3BBC9A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077-2266-4B98-8903-C2C47C5A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A6F-C379-49FE-85F0-969E66CF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3D4-C6FA-4C48-AFA9-5A5F9AEE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1BF-9AD5-4F8C-A27B-8AACF866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C48-F68A-41D6-A9F5-5942A5FA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1E0-5EB5-4A2F-B9C1-7844250F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E3B-32FB-42A5-BAC1-FF47CB55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FF8F-61E6-43DE-B8ED-E450742C91A5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62ED-7A84-440D-9702-8376AF103ED8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장 객체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관계 데이터베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내포 릴레이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복합형과 객체 지향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복합형을 가진 질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복합값과 복합 객체의 생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객체 지향과 객체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관계 데이터베이스의 비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168-09B1-4ED7-BBDC-589D430A17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구조형과 집단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새로운 형과 새로운 테이블을 정의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create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MyStr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char vary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create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My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(d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intege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mon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char(10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ye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create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(name MyString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author-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set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(MyStr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date MyDate, keyword-li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set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(MyString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create 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do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of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A62-5C04-4517-87F9-74313B4B60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구조형과 집단형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반적인 관계형 데이터베이스에서의 테이블 정의와는 달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테이블 정의에는 집합인 애트리뷰트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Dat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같은 구조적 애트리뷰트를 허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도의 복합 애트리뷰트와 다중값 애트리뷰트가 직접 표현되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위의 문장을 사용해 생성된 형은 데이터베이스에 저장된 스키마에 기록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테이블을 직접 생성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ame MyString, author-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yString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MyDate, keyword-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yString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F1F-CFCB-4702-B483-B5EC8C531D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형의 상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사람을 위한 다음 형 정의를 고려해 보자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ame MyStr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-securit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상속을 이용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을 정의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gree MyString, department My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a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alar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epartment My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418-087C-47D2-A10B-D2D26373A5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형의 상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조교에 관한 정보를 저장하고 두 부서의 존재간의 모순을 피하기 위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절을 사용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ingAssistant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형의 정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achingAs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epartm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-dep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epartm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acher-de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1A9-1B3C-47A0-B5C2-4974097BD4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테이블 계층에서의 상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엔티티가 한번에 하나 이상의 테이블에 존재하도록 하여 객체에 여러 형을 갖도록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ame My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-securit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그리고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achers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테이블을 다음과 같이 정의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egree MyString, department MySt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ac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alar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epartment MySt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B72-6CA9-48F1-8B25-1A2EEE27F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테이블 상속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역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테이블 상속은 역할을 모델링하는데 유용하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에 가장 특정한 형을 가지지 않고 여러 형을 가지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형 상속과는 다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나의 객체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양쪽하에 있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-teacher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서브 테이블에 있지 않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서브 테이블에 동시에 있을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는 역할을 얻고 잃을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서브 테이블에 객체를 삽입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삭제함에 따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F6C-25A4-4A7E-B0B8-621F94F091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테이블 상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일관성 요구 조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서브 테이블과 수퍼 테이블상의 일관성 요구 조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수퍼 테이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각 튜플은 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테이블의 기껏해야 하나의 튜플에 대응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각 튜플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정확히 한 튜플에 대응해야 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수퍼 테이블의 주 키 이외에 상속되는 애트리뷰트는 저장될 필요가 없으며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주 키에 근거해 수퍼 키와의 죠인으로 유도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과 함께 다중 상속이 가능하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D37-6131-43EA-8CA5-677A37A745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참조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 지향 언어는 객체를 생성하고 참조하는 기능을 제공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형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-lis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필드를 다음과 같이 재정의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-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of(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erso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-lis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에 대한 참조 집합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테이블의 튜플들은 또한 그들에 대한 참조를 가질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테이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에 대한 참조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(people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을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 키 또는 시스템이 생성한 튜플 식별자를 사용해 구현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2F3-0453-4EE6-B7FD-B4C72F2388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릴레이션 값 애트리뷰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릴레이션명이 나타나는 어느곳에나 릴레이션을 평가하는 표현식이 나타나도록 함으로써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확장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 내포 릴레이션 구조의 장점을 취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다음의 릴레이션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oc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을 고려해 보자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name MyStr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-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eople)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MyDa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-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yString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2C7-8507-4391-9669-BDF92A5498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키워드중의 하나에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가진 모든 문서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database”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eyword-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문서와 문서의 각 저자에 대해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-name, author-name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형의 쌍을 내포하는 릴레이션을 생성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.name, Y.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doc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, B.author-lis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문서의 이름과 저자의 수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me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uthor-li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BE2-6BCB-4CAC-8CCE-FADBA75C6E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관계 데이터 모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관계형 데이터 모델에 객체 지향성과 추가 데이터형을 다루기 위한 구조체를 포함시켜 확장시켰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의 애트리뷰트에 내포 릴레이션과 같은 비원자 값을 포함해 복합형을 갖도록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모델링 능력은 확장시킨 반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특히 데이터에의 선언적 액세스같은 관계형 기본은 유지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존의 관계형 언어와의 양립성을 향상시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980-F8E5-4096-8490-E584ABF56D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경로 표현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복합 애트리뷰트를 참조하기 위해 점 표기법이 참조와 함께 사용될 수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앞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테이블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d-studen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테이블을 고려해 보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d-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dvis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eopl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o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박사과정 학생의 지도교수명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udents.advisor.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d-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oc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내 문서들의 모든 저자명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.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doc.author-lis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C9F-4244-4706-B35B-3D850496D8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비내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포 릴레이션을 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규형으로 변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포 릴레이션을 내포 릴레이션 또는 애트리뷰트로서 구조적형을 갖지 않는 하나의 보통 릴레이션으로 변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을 비내포 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내포 릴레이션이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내포되지 않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thor, date.day, date.month, date.y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, B.author-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, B.keyword-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범위를 한정하는 것으로 선언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그 문서에 대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저자로 한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문서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키워드로 범위를 한정하는 것으로  선언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BB4-F960-450C-801F-28EB0CA5A4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F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을 내포 릴레이션으로 변환하는 것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내 그룹핑의 확장으로 수행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at-doc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애트리뷰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대해 내포하라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tle, author, (day, month, year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a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keyword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eyword-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lat-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oup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tle, author,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2880" y="4191120"/>
            <a:ext cx="78483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12880" y="4191120"/>
            <a:ext cx="784836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2880" y="4191120"/>
            <a:ext cx="1440" cy="19922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12880" y="4191120"/>
            <a:ext cx="11160" cy="1992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87880" y="4245120"/>
            <a:ext cx="45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24840" y="424512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4000" y="4245120"/>
            <a:ext cx="53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6800" y="4245120"/>
            <a:ext cx="145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keyword-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98280" y="4564080"/>
            <a:ext cx="216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day, month, y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68680" y="4946760"/>
            <a:ext cx="111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ales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39160" y="4946760"/>
            <a:ext cx="6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m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10560" y="4946760"/>
            <a:ext cx="141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1,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pril, 8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9960" y="4946760"/>
            <a:ext cx="197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rofit, strategy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8680" y="5267160"/>
            <a:ext cx="111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ales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82360" y="5267160"/>
            <a:ext cx="646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J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10560" y="5267160"/>
            <a:ext cx="141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1,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pril, 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49960" y="5267160"/>
            <a:ext cx="197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rofit, strategy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44200" y="5586480"/>
            <a:ext cx="154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tatu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82360" y="5586480"/>
            <a:ext cx="646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J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54760" y="5586480"/>
            <a:ext cx="153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17,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June, 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51400" y="558648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rofit, personnel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4200" y="5905440"/>
            <a:ext cx="154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tatu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56800" y="5905440"/>
            <a:ext cx="56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r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54760" y="5905440"/>
            <a:ext cx="153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17,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June, 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51400" y="590544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rofit, personnel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2880" y="419112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95600" y="419112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29160" y="4191120"/>
            <a:ext cx="126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84800" y="419112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4040" y="4191120"/>
            <a:ext cx="78372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650440" y="4191120"/>
            <a:ext cx="108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24040" y="4510080"/>
            <a:ext cx="7837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24040" y="4510080"/>
            <a:ext cx="78372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4040" y="4894200"/>
            <a:ext cx="78372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5257800"/>
            <a:ext cx="7837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5562720"/>
            <a:ext cx="7837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24040" y="5853240"/>
            <a:ext cx="78372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12880" y="4191120"/>
            <a:ext cx="1440" cy="199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12880" y="4191120"/>
            <a:ext cx="11160" cy="199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95600" y="4202280"/>
            <a:ext cx="144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95600" y="4202280"/>
            <a:ext cx="11160" cy="19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29160" y="4202280"/>
            <a:ext cx="144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29160" y="4202280"/>
            <a:ext cx="12600" cy="19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84800" y="4202280"/>
            <a:ext cx="180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84800" y="4202280"/>
            <a:ext cx="11160" cy="19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4040" y="6172200"/>
            <a:ext cx="7837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4040" y="6172200"/>
            <a:ext cx="78372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650440" y="4202280"/>
            <a:ext cx="144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650440" y="4202280"/>
            <a:ext cx="10800" cy="19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2880" y="61833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2880" y="618336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5600" y="61833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5600" y="618336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29160" y="61833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29160" y="6183360"/>
            <a:ext cx="126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84800" y="618336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84800" y="618336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650440" y="61833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650440" y="6183360"/>
            <a:ext cx="108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661240" y="41911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661240" y="4191120"/>
            <a:ext cx="1116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661240" y="451008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61240" y="4510080"/>
            <a:ext cx="1116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661240" y="48308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661240" y="483084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61240" y="48942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661240" y="4894200"/>
            <a:ext cx="1116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661240" y="52135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661240" y="5213520"/>
            <a:ext cx="11160" cy="10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661240" y="553248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661240" y="5532480"/>
            <a:ext cx="1116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661240" y="58532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661240" y="585324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61240" y="61722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661240" y="6172200"/>
            <a:ext cx="1116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5AE-C460-4AC2-A4F7-6144E20E05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함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어진 문서에서 저자의 수를 반환하는 함수를 정의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eate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uthor-count(one-doc Docu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turns integer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lect cou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author-l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ne-d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두명 이상의 저자를 가진 모든 문서명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uthor-count(doc) &gt;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FE7-B234-49B5-94D3-780A7EE570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함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베이스 시스템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와 같은 다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언어로 작성된 함수의 사용을 허용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장점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많은 연산에 대해 보다 효율적이며 보다 표현력이 강하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함수를 구현하는 코드가 데이터베이스 시스템내에 로드될 필요가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구조의 우발적인 파손의 위험 부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보안 위험 부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96B-6700-4866-8C45-B5F2F99175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복합 값과 복합 객체의 생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릴레이션으로 정의된 형의 튜플을 생성하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lan”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“Smith”, “Jones”), (1, “April”, 89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“profit”, “strategy”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복합 애트리뷰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값은 괄호 내에 그의 애트리뷰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, month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나열해 생성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합 값 애트리뷰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-lis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-lis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키워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의 괄호 내에 그의 원소를 열거해 생성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3EC-A6DF-4CD6-93BF-29FCB33281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위의 튜플을 릴레이션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삽입하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plan”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Smith”, “Jones”), (1, “April”, 8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profit”, “strategy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에서 복합값을 사용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문서명이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plan”, “opportunities”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또는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s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중의 하나인 모든 문서명과 날짜를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,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am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“salesplan”, “opportunities”, “risks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B60-8D88-4D67-831F-A34714A75F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추가적인 개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다중 집합값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을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se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으로 대치해 생성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함수를 사용해 새로운 객체를 생성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인 객체의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함수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초기화되지 않은 새로운 객체를 생성해 그의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d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필드를 채우고 객체를 반환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객체의 필드는 초기화되어야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77A-1DE4-4B1F-ADC2-0B21F60D55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300" spc="-1" strike="noStrike">
                <a:solidFill>
                  <a:srgbClr val="000000"/>
                </a:solidFill>
                <a:latin typeface="Times New Roman"/>
              </a:rPr>
              <a:t>객체지향과 객체</a:t>
            </a:r>
            <a:r>
              <a:rPr b="0" lang="ko-KR" sz="3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3300" spc="-1" strike="noStrike">
                <a:solidFill>
                  <a:srgbClr val="000000"/>
                </a:solidFill>
                <a:latin typeface="Times New Roman"/>
              </a:rPr>
              <a:t>관계 데이터이스의 비교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다양한 데이터베이스 시스템의 강점 요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관계형 시스템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단순한 데이터형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높은 보호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ODB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근거한 영속 프로그래밍 언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복합 데이터형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프로그래밍 언어와의 결합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높은 성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관계 시스템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복합 데이터형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높은 보호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81A-9D14-4D53-9602-BABD1FD93F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 릴레이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동기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원자 도메인을 허용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원자적≡나누어지지 않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원자 도메인의 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수들의 집합 또는 튜플들의 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복합 데이터를 가진 어플리케이션에 대해 보다 직관적인 모델링을 허용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직관적 정의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원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칼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값을 허용하는 곳에 릴레이션을 허용하자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내에 릴레이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관계형 모델의 수학적 기초를 유지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정규형에 위배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E1F-4A61-44E2-AD4F-8367646EE9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 릴레이션의 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Times New Roman"/>
              </a:rPr>
              <a:t>문서 검색 시스템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Times New Roman"/>
              </a:rPr>
              <a:t>각 문서에는 다음을 가진다</a:t>
            </a:r>
            <a:r>
              <a:rPr b="0" lang="ko-KR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제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저자들의 집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입수한 날짜 및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키워드의 집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Times New Roman"/>
              </a:rPr>
              <a:t>비</a:t>
            </a:r>
            <a:r>
              <a:rPr b="0" lang="ko-KR" sz="25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F </a:t>
            </a:r>
            <a:r>
              <a:rPr b="0" lang="ko-KR" sz="2500" spc="-1" strike="noStrike">
                <a:solidFill>
                  <a:srgbClr val="000000"/>
                </a:solidFill>
                <a:latin typeface="Times New Roman"/>
              </a:rPr>
              <a:t>문서 릴레이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3960" y="5867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4840" y="4506840"/>
            <a:ext cx="393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000" y="4506840"/>
            <a:ext cx="104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-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67800" y="450684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1400" y="4506840"/>
            <a:ext cx="134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-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8400" y="44974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38400" y="4497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38400" y="4497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44974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38400" y="4497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8400" y="4497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43080" y="4497480"/>
            <a:ext cx="1455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43080" y="4497480"/>
            <a:ext cx="145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98920" y="44974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98920" y="4497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98920" y="4497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05040" y="4497480"/>
            <a:ext cx="1704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05040" y="4497480"/>
            <a:ext cx="170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0000" y="44974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0000" y="4497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0000" y="44974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6480" y="4497480"/>
            <a:ext cx="18208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6480" y="4497480"/>
            <a:ext cx="182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37360" y="44974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37360" y="4497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37360" y="4497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2040" y="4497480"/>
            <a:ext cx="2165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2040" y="4497480"/>
            <a:ext cx="2165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07440" y="44974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07440" y="4497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07440" y="4497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07440" y="44974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07440" y="4497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07440" y="4497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38400" y="4503600"/>
            <a:ext cx="4680" cy="33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38400" y="4503600"/>
            <a:ext cx="1440" cy="33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98920" y="4503600"/>
            <a:ext cx="6120" cy="33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98920" y="4503600"/>
            <a:ext cx="1440" cy="33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0000" y="4503600"/>
            <a:ext cx="6480" cy="33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0000" y="4503600"/>
            <a:ext cx="1800" cy="33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37360" y="4503600"/>
            <a:ext cx="4680" cy="33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37360" y="4503600"/>
            <a:ext cx="1440" cy="33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07440" y="4503600"/>
            <a:ext cx="6480" cy="33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07440" y="4503600"/>
            <a:ext cx="1440" cy="33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51840" y="4846680"/>
            <a:ext cx="164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month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38400" y="48340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38400" y="4834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38400" y="48340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43080" y="4834080"/>
            <a:ext cx="1455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43080" y="4834080"/>
            <a:ext cx="145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98920" y="48340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98920" y="48340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98920" y="48340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05040" y="4834080"/>
            <a:ext cx="1704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05040" y="4834080"/>
            <a:ext cx="170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0000" y="48340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0000" y="48340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0000" y="48340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6480" y="4834080"/>
            <a:ext cx="18208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6480" y="4834080"/>
            <a:ext cx="182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37360" y="48340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37360" y="4834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37360" y="48340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2040" y="4834080"/>
            <a:ext cx="2165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2040" y="4834080"/>
            <a:ext cx="2165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07440" y="48340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07440" y="48340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07440" y="48340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8400" y="4840200"/>
            <a:ext cx="4680" cy="34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8400" y="4840200"/>
            <a:ext cx="1440" cy="34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98920" y="4840200"/>
            <a:ext cx="6120" cy="34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98920" y="4840200"/>
            <a:ext cx="1440" cy="34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0000" y="4840200"/>
            <a:ext cx="6480" cy="34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0000" y="4840200"/>
            <a:ext cx="1800" cy="34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37360" y="4840200"/>
            <a:ext cx="4680" cy="34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37360" y="4840200"/>
            <a:ext cx="1440" cy="34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407440" y="4840200"/>
            <a:ext cx="6480" cy="34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07440" y="4840200"/>
            <a:ext cx="1440" cy="34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02640" y="5199120"/>
            <a:ext cx="93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38240" y="5199120"/>
            <a:ext cx="154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ith, Jones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57120" y="5199120"/>
            <a:ext cx="105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04120" y="5199120"/>
            <a:ext cx="174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, strategy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38400" y="51865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38400" y="51865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38400" y="51865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43080" y="5186520"/>
            <a:ext cx="1455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43080" y="5186520"/>
            <a:ext cx="145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8920" y="51865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98920" y="51865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98920" y="51865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05040" y="5186520"/>
            <a:ext cx="1704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05040" y="5186520"/>
            <a:ext cx="170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0000" y="51865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0000" y="51865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0000" y="51865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6480" y="5186520"/>
            <a:ext cx="18208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6480" y="5186520"/>
            <a:ext cx="182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37360" y="51865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37360" y="51865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37360" y="51865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2040" y="5186520"/>
            <a:ext cx="2165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2040" y="5186520"/>
            <a:ext cx="2165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07440" y="51865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07440" y="51865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407440" y="51865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38400" y="5192640"/>
            <a:ext cx="4680" cy="35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38400" y="5192640"/>
            <a:ext cx="1440" cy="35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98920" y="5192640"/>
            <a:ext cx="6120" cy="35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98920" y="5192640"/>
            <a:ext cx="1440" cy="35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192640"/>
            <a:ext cx="6480" cy="35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10000" y="5192640"/>
            <a:ext cx="1800" cy="35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37360" y="5192640"/>
            <a:ext cx="4680" cy="35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37360" y="5192640"/>
            <a:ext cx="1440" cy="35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407440" y="5192640"/>
            <a:ext cx="6480" cy="35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07440" y="5192640"/>
            <a:ext cx="1440" cy="35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17960" y="5556240"/>
            <a:ext cx="125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74960" y="5556240"/>
            <a:ext cx="81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n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32040" y="555624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ck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27960" y="5556240"/>
            <a:ext cx="110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e 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16640" y="5556240"/>
            <a:ext cx="193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t, personnel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38400" y="55436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38400" y="55436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38400" y="5543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3080" y="5543640"/>
            <a:ext cx="1455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43080" y="5543640"/>
            <a:ext cx="145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98920" y="5543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98920" y="55436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98920" y="5543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05040" y="5543640"/>
            <a:ext cx="1704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05040" y="5543640"/>
            <a:ext cx="170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0000" y="5543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0000" y="5543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0000" y="5543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6480" y="5543640"/>
            <a:ext cx="18208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6480" y="5543640"/>
            <a:ext cx="182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37360" y="55436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37360" y="55436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37360" y="5543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2040" y="5543640"/>
            <a:ext cx="2165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2040" y="5543640"/>
            <a:ext cx="2165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07440" y="5543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07440" y="5543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07440" y="5543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38400" y="5549760"/>
            <a:ext cx="4680" cy="43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38400" y="5549760"/>
            <a:ext cx="1440" cy="43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38400" y="5985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38400" y="59850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38400" y="59850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38400" y="5985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38400" y="59850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38400" y="59850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43080" y="5985000"/>
            <a:ext cx="1455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43080" y="5985000"/>
            <a:ext cx="145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98920" y="5549760"/>
            <a:ext cx="6120" cy="43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98920" y="5549760"/>
            <a:ext cx="1440" cy="43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98920" y="59850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98920" y="59850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98920" y="59850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05040" y="5985000"/>
            <a:ext cx="1704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05040" y="5985000"/>
            <a:ext cx="170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0000" y="5549760"/>
            <a:ext cx="6480" cy="43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10000" y="5549760"/>
            <a:ext cx="1800" cy="43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10000" y="5985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10000" y="59850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10000" y="59850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16480" y="5985000"/>
            <a:ext cx="1820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16480" y="5985000"/>
            <a:ext cx="182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37360" y="5549760"/>
            <a:ext cx="4680" cy="43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37360" y="5549760"/>
            <a:ext cx="1440" cy="43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37360" y="5985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37360" y="59850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37360" y="59850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2040" y="5985000"/>
            <a:ext cx="2165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42040" y="5985000"/>
            <a:ext cx="2165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07440" y="5549760"/>
            <a:ext cx="6480" cy="43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407440" y="5549760"/>
            <a:ext cx="1440" cy="435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07440" y="5985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07440" y="59850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407440" y="59850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407440" y="5985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07440" y="59850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407440" y="59850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14D-4876-49C2-ACB0-ED6C2DBA6F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 릴레이션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F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버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버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02480" y="5943600"/>
            <a:ext cx="1035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flat-do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90720" y="2589120"/>
          <a:ext cx="7778520" cy="426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89120"/>
                    <a:ext cx="7778520" cy="42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DF6-57B3-4D5F-A239-AF37BC345C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 릴레이션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F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다음과 같은 다중값 종속을 가진다는 가정하에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-doc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어색함을 제거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mont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다음의 스키마를 사용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-doc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을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로 분해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, auth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tle, key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tle, day, month,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B07-E301-4B5D-AC0E-026117F6AA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-doc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F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676520" y="1752480"/>
            <a:ext cx="6095880" cy="4267440"/>
            <a:chOff x="1676520" y="1752480"/>
            <a:chExt cx="6095880" cy="4267440"/>
          </a:xfrm>
        </p:grpSpPr>
        <p:grpSp>
          <p:nvGrpSpPr>
            <p:cNvPr id="306" name=""/>
            <p:cNvGrpSpPr/>
            <p:nvPr/>
          </p:nvGrpSpPr>
          <p:grpSpPr>
            <a:xfrm>
              <a:off x="2438280" y="1752480"/>
              <a:ext cx="4724640" cy="1446840"/>
              <a:chOff x="2438280" y="1752480"/>
              <a:chExt cx="4724640" cy="144684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2438280" y="1752480"/>
                <a:ext cx="4724640" cy="304920"/>
                <a:chOff x="2438280" y="1752480"/>
                <a:chExt cx="4724640" cy="3049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438280" y="1752480"/>
                  <a:ext cx="4496040" cy="304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105520" y="175248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666880" y="1752480"/>
                  <a:ext cx="44960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tle                                   auth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438280" y="2133720"/>
                <a:ext cx="4724640" cy="1065600"/>
                <a:chOff x="2438280" y="2133720"/>
                <a:chExt cx="4724640" cy="1065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438280" y="2133720"/>
                  <a:ext cx="4496040" cy="1065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105520" y="2133720"/>
                  <a:ext cx="0" cy="106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666880" y="2133720"/>
                  <a:ext cx="449604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lesplan                                 Smit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lesplan                                 Jon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atus report                            Jon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atus report                            Frick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"/>
            <p:cNvGrpSpPr/>
            <p:nvPr/>
          </p:nvGrpSpPr>
          <p:grpSpPr>
            <a:xfrm>
              <a:off x="2438280" y="3352680"/>
              <a:ext cx="4724640" cy="1446840"/>
              <a:chOff x="2438280" y="3352680"/>
              <a:chExt cx="4724640" cy="144684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2438280" y="3352680"/>
                <a:ext cx="4724640" cy="304920"/>
                <a:chOff x="2438280" y="3352680"/>
                <a:chExt cx="4724640" cy="3049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438280" y="3352680"/>
                  <a:ext cx="4496040" cy="304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05520" y="335268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6880" y="3352680"/>
                  <a:ext cx="44960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tle                                   keywor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438280" y="3733920"/>
                <a:ext cx="4724640" cy="1065600"/>
                <a:chOff x="2438280" y="3733920"/>
                <a:chExt cx="4724640" cy="10656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438280" y="3733920"/>
                  <a:ext cx="4496040" cy="1065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105520" y="3733920"/>
                  <a:ext cx="0" cy="106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666880" y="3733920"/>
                  <a:ext cx="449604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lesplan                                 prof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alesplan                                 strateg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atus report                            prof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atus report                            personne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1676520" y="4952880"/>
              <a:ext cx="6095880" cy="1067040"/>
              <a:chOff x="1676520" y="4952880"/>
              <a:chExt cx="6095880" cy="106704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1676520" y="4952880"/>
                <a:ext cx="6095880" cy="303480"/>
                <a:chOff x="1676520" y="4952880"/>
                <a:chExt cx="6095880" cy="303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1676520" y="4952880"/>
                  <a:ext cx="6095880" cy="303480"/>
                  <a:chOff x="1676520" y="4952880"/>
                  <a:chExt cx="6095880" cy="303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1676520" y="4952880"/>
                    <a:ext cx="6095880" cy="3034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733560" y="4952880"/>
                    <a:ext cx="0" cy="30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257800" y="4952880"/>
                    <a:ext cx="0" cy="30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553080" y="4952880"/>
                    <a:ext cx="0" cy="303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1676520" y="4952880"/>
                  <a:ext cx="6095880" cy="303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tle                            day                   month                ye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1676520" y="5332320"/>
                <a:ext cx="6095880" cy="687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alesplan                               1                      April                   8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tatus report                          1                      June                    9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5338800"/>
                <a:ext cx="0" cy="68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57800" y="5334120"/>
                <a:ext cx="0" cy="68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553080" y="5334120"/>
                <a:ext cx="0" cy="68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AD5-57D1-4018-941E-B264AA7D0F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F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스키마에 가지는 문제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0" y="2057400"/>
          <a:ext cx="77184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7718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설계는 사용자의 질의에 죠인을 포함하도록 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릴레이션들의 조인으로 정의된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관계형 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-do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사용자들이 죠인을 수행할 필요가 없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그러나 튜플과 문서간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응을 잃게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여기서 내포 릴레이션 표현이 보다 더 자연스럽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002-70E4-4F48-A1A0-3A4BDB0128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복합형과 객체 지향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관계형 모델에의 확장은 다음을 내포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포 릴레이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복합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세분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-a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 식별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확장을 제공할 것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-3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표준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년 현재 개발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-3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초안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Q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언어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확장에 넓게 기초하여 설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1FF-E440-4C5F-BA2D-973C942031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6T00:38:21Z</dcterms:created>
  <dc:creator>서울산업대학교 교수 석상기</dc:creator>
  <dc:description/>
  <dc:language>en-US</dc:language>
  <cp:lastModifiedBy>sksuk</cp:lastModifiedBy>
  <cp:lastPrinted>1999-05-24T07:39:46Z</cp:lastPrinted>
  <dcterms:modified xsi:type="dcterms:W3CDTF">1999-09-14T08:23:09Z</dcterms:modified>
  <cp:revision>66</cp:revision>
  <dc:subject/>
  <dc:title>제9장:객체-관계 데이터베이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cat1.snut.ac.kr/~sksuk</vt:lpwstr>
  </property>
  <property fmtid="{D5CDD505-2E9C-101B-9397-08002B2CF9AE}" pid="10" name="LinkColor">
    <vt:r8>16711782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C:\My Documents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