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881-061B-4B06-B35F-2225C7F4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BB15-CBAC-42D0-8A36-D6ED217D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0789-544B-4C4D-A7B7-F3DB728E3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E9B-910E-4026-9E50-DE8D8DDC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1E7C-E651-44F3-84B9-623F482C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73F2-AB0A-41D2-B4D8-0973B129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D55E-0AE5-476C-B652-2B091D2F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A9AD-7E51-4416-9DF2-0DB399B2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DE74-0B2F-4FAA-9AC1-B4CD47F5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DCD1-D990-458C-BBE8-5AA65F401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B8B37-D39A-452E-A8BC-56FDEB22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DCA-85F9-4441-937E-84EE2A85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968E7-EB80-4AF6-9435-7CA72718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2B3D-D557-493F-B52F-F58AB31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FB1D-B3C7-4F5D-B483-5A695271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BB10-0F03-493A-85BE-10257B1E7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6628-0C9E-4868-8DBE-43B2E145D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DADE-7CC4-45AC-8525-EC624FFE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B449-411D-492B-9AA4-84165F36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BABD-2973-4AB5-8298-16096911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319C-E653-4E2C-8BAB-DE135D4D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A5D-8E62-49AE-8074-B541077D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8C2C-CAE0-4C05-8418-860C1CD3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2472-78E2-419E-B0EC-787E74F3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639A-C2A3-47A9-B3A4-3DD92ED33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4A33-8C7B-442A-9D4D-B0A4E138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장 객체 지향 데이터베이스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새로운 데이터베이스 응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객체 지향 데이터 모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객체 지향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영속 프로그래밍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9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영속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F41-E7AB-41CF-B693-AE0ABFEDDA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클래스 계층 정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cla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string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nam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string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ddres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}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cla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ustomer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a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redit-rat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}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cla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mployee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a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erson 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date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tart-da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salary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}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class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fficer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sa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mployee 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office-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pense-account-numb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9"/>
              </a:rPr>
              <a:t>}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318-5319-49CE-8611-424777B6A8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클래스 계층 예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71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ffice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 객체의 모든 변수 리스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- office-number,expense-account-number: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지역적으로 정의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- star t-date,salary: employee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에서 상속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- name,address: person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에서 상속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메소드도 변수와 유사하게 상속된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대치성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클래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예를 들어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, person)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의 어떤 메소드도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의 서브 클래스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officer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와 같이 어떠한 서브 클래스에 속한 어떤 객체 내에서도 호출될 수 있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클래스 범위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클래스내 모든 객체의 집합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두 가지 선택 사항이 있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1. Employee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클래스 범위에는 모든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officer, telle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및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ecretary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객체를 포함한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2. Employee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클래스 범위에는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officer, teller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또는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ecretary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같은 서브 클래스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는 속하지 않는 종업원 객체만을 포함한다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C0A-684D-4F2F-9003-FFDDE055CD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다중 상속의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행 예의 클래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ull-time      part-time      teller      secr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officer    full-time-teller   part-time-teller   full-time-secretary    part-time-secret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4920" y="2895480"/>
            <a:ext cx="6325200" cy="1905120"/>
            <a:chOff x="1294920" y="2895480"/>
            <a:chExt cx="6325200" cy="1905120"/>
          </a:xfrm>
        </p:grpSpPr>
        <p:sp>
          <p:nvSpPr>
            <p:cNvPr id="138" name=""/>
            <p:cNvSpPr/>
            <p:nvPr/>
          </p:nvSpPr>
          <p:spPr>
            <a:xfrm flipH="1">
              <a:off x="3429000" y="2895480"/>
              <a:ext cx="1295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4280" y="2895480"/>
              <a:ext cx="144792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971800" y="3504960"/>
              <a:ext cx="4572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29000" y="3504960"/>
              <a:ext cx="53352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1676520" y="3504960"/>
              <a:ext cx="17524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504960"/>
              <a:ext cx="1600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94920" y="4190760"/>
              <a:ext cx="30492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190760"/>
              <a:ext cx="91440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600200" y="4190760"/>
              <a:ext cx="3657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4190760"/>
              <a:ext cx="10670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190760"/>
              <a:ext cx="449604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4190760"/>
              <a:ext cx="15264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666880" y="4190760"/>
              <a:ext cx="137160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9200" y="4114800"/>
              <a:ext cx="6858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029200" y="4114800"/>
              <a:ext cx="259092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BB6-923F-42CB-8E29-6C30FF6E12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다중 상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서브 클래스  관계는 방향성 비순환 그래프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DAG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표현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는 하나 이상의 수퍼 클래스를 가질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는 그의 모든 수퍼 클래스로 부터 변수와 메소드를 상속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모호성의 가능성이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두 개의 수퍼 클래스로부터 상속되는 같은 이름을 가진 변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러 처리하기 또는 변수의 재명명 같은 해결책이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중 상속을 이용해 객체의 “역할”을 모델링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udent, teacher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또는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footballplayer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또는 세 가지 모두의 역할을 할 수 있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여러 클래스로부터 상속하는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udent-teacher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student-teacher-footballplayer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와 같은 서브 클래스를 생성한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0090-E5DF-456C-84FC-1AEE64CEE9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식별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는 변수의 값 또는 메소드 정의의 일부 또는 전부가 시간에 따라 변하더라도 그의 정체성을 유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식별성은 객체 지향이 아닌 프로그래밍 언어 또는 데이터 모델에서의 식별성보다 강력한 개념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값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시스템에서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름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가 제공하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시저내의 변수에 사용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장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모델 또는 프로그래밍 언어에 내장된 식별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용자가 제공하는 식별자가 필요치 않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지향 시스템에서 사용되는 식별성을 형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1C57-86C0-4E4B-A35D-8EAF831ECA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식별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식별자는 객체를 유일하게 식별하는데 사용된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른 객체를 참조하기 위해 객체의 필드로서 저장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perso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spous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필드는 다른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의 식별자일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시스템이 생성할 수도 있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가 생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외부적으로 생성할 수도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회 보장 번호 같은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CD5-BB0C-46B3-BB92-C057B7A273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내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bi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wheel          brake               gear         fr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im     spokes     tire     lever     pad    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설계내의 각 구성 요소는 다른 구성 요소를 내포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의 내포로 모델링 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객체를 내포하는 객체를 복합 또는 혼성 객체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포의 여러 계층이 내포 계층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링크는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-a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가 아닌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s-part-of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해석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서로 다른 사용자가 데이터를 서로 다른 단위로 볼 수 있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371600" y="2209680"/>
            <a:ext cx="5029200" cy="914400"/>
            <a:chOff x="1371600" y="2209680"/>
            <a:chExt cx="5029200" cy="914400"/>
          </a:xfrm>
        </p:grpSpPr>
        <p:sp>
          <p:nvSpPr>
            <p:cNvPr id="162" name=""/>
            <p:cNvSpPr/>
            <p:nvPr/>
          </p:nvSpPr>
          <p:spPr>
            <a:xfrm flipH="1">
              <a:off x="2743200" y="2209680"/>
              <a:ext cx="175248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962160" y="2209680"/>
              <a:ext cx="53316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2209680"/>
              <a:ext cx="83844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95680" y="2209680"/>
              <a:ext cx="1905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371600" y="2743200"/>
              <a:ext cx="12952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86000" y="2743200"/>
              <a:ext cx="3808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666880" y="2743200"/>
              <a:ext cx="38124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733560" y="27432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62520" y="2743200"/>
              <a:ext cx="60948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62520" y="2743200"/>
              <a:ext cx="121896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1BA9-15AE-4637-9196-B9DE7AB066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지향 언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개념은 설계 도구로서 사용될 수 있으며 예를 들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계형 데이터베이스에 적용될 수 있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E-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로 데이터를 모델링하고 릴레이션의 집합으로 변환하는 것과 유사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개념은 데이터베이스를 조작하는데 사용되는 프로그래밍 언어에 결합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 시스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관계형 언어에 복합형과 객체 지향성을 추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프로그래밍 언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지향 프로그래밍 언어에 영속성과 집합과 같은 개념을 추가해 데이터베이스를 다루도록 확장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76C1-3DAE-4C4F-B5C6-C9BF1FAB96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영속 프로그래밍 언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프로그래밍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떤 명시적인 포맷 변환 없이도 객체가 데이터베이스에 생성되고 저장되도록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맷 변환은 내부적으로 수행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들이 메모리 내에서 조작되도록 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데이터베이스로부터 명시적으로 로드되거나 저장할 필요가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같은 데이터 조작어를 통할 필요 없이 프로그래밍 언어 내에서 데이터가 직접 조작되도록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부분 프로그래밍 언어의 능력으로 인해 데이터베이스에 손상을 입히는 프로그래밍 에러를 일으키기 쉽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어의 복잡성으로 자동적인 고급 최적화가 보다 어려워진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선언적인 질의는 잘 지원하지 못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4636-F401-4EBC-B7ED-9FE05C6BC2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의 영속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임시 객체에 영속성을 부여하는 방법은 다음중 하나에 의해 이룰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의 모든 객체가 영속적이도록 선언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단순하지만 융통성이 없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생성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임시 객체를 생성하기 위한 구문을 확장해 영속 객체를 생성하도록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표시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그램 실행 이후 영속적이어야 할 객체에 프로그램이 끝나기 전에 영속적인 것으로 표시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참조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루트 영속 객체를 선언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루트 객체로 부터 직간접으로 참조되는 객체는 영속적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E78-F23B-4316-B81A-394D847A55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새로운 데이터베이스 응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처리 유형의 어플리케이션용으로 설계된 데이터 모델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AD, CASE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멀티미디어와 이미지 데이터베이스 및 문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하이터텍스트 데이터베이스와 같은 신기술에는 부적합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들 새로운 응용에서는 데이터베이스 시스템이 다음과 같은 기능을 처리하도록 요구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복합 데이터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 캡슐화 및 추상 데이터 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874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인덱싱 및 질의에 있어 고상한 방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AA50-3A55-483B-AF4C-1AF9FCCC2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식별성과 포인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객체에는 영속 객체 식별자가 할당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식별성의 영속 정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시저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식별성이 한 프로시저의 실행중에만 영속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그램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식병성이 한 프로그램 또는 질의 실행중에만 영속  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프로그램간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식별성이 한 프로그램 실행으로 부터 다른 프로그 램으로 영속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영속적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식별성이 프로그램 실행과 데이터의 구조 재조정에 걸쳐 영속한다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 지향 시스템에는 요구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79BC-6609-4DBC-94F1-EF04A3A083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식별성과 포인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와 같은 객체 지향 언어에서는 객체 식별자가 실제로 메모리내 포인터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영속 포인터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프로그램 실행 이후에도 영속한다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 내의 포인터로 생각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9A6-B4E4-4E86-9E0F-5C74EEAD738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영속 객체의 저장 및 액세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데이터베이스에서 객체를 찾는 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객체에 이름주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파일에 이름을 주듯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많은 수의 객체에는 확대할 수 없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일반적으로는 객체가 아닌 클래스 범위와 기타 객체의 집단에만 주어진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객체에 객체 식별자 또는 영속 포인터 부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외부적으로 저장될 수 있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모든 객체에 객체 식별자를 갖는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453C-BA8B-46DF-8CDF-38A46AAABB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영속 객체의 저장 및 액세스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데이터베이스에서 객체를 찾는 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객체의 집단을 저장하고 프로그램에서 집단을 반복 검색하여 필요한 객체를 찾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객체의 집단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형으로 모델링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251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객체 범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클래스에 속하는 모든 객체의 집단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통상 영속 객체를 가질 수 있는 모든 객체에 대해 유지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B0FA-5418-4FA1-9BAE-ADEA1E7B8F0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영속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시스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어는 언어를 변경하지 않고도 영속성 지원이 추가되도록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영속성을 지원하기 위해 애트리뷰트와 메소드를 가진 클래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ersistent-Object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선언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오버로딩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새로운 형에 적용할 때 표준 함수명과 연산자를 재정의하는 기능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즉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 +, -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포인터 역 참조 연산자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언어를 확장하지 않고 영속성을 제공하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현하기가 비교적 쉽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 사용하기는 보다 어렵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0E7-E27D-4EC8-9636-C12193EF06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MG C++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정의 언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성을 지원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확장한 표준화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DMG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준에서는 템플릿 클래스와 클래스 라이브러리를 통해 대부분의 기능을 제공하면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가급적 적게 확장하려 하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템플릿 클래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Ref&lt;class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참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영속 포인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지정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템플릿 클래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&lt;class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객체의 집합을 정의하는데 사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insert_eleme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delete-eleme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메소드를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 OD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형 정의 구문을 소폭으로 확장하였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참조 무결성 제약 조건을 지정하기 위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nvers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기법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B78D-A0A1-4871-B608-96E020ABDB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MG C++ ODL 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class Person  :  public Persistent_Object </a:t>
            </a:r>
            <a:r>
              <a:rPr b="0" lang="ko-KR" sz="2400" spc="-1" strike="noStrike">
                <a:solidFill>
                  <a:srgbClr val="000000"/>
                </a:solidFill>
                <a:latin typeface="CMSY10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publi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String   nam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String   addres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SY10"/>
              </a:rPr>
              <a:t>}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class Customer  :  public Person </a:t>
            </a:r>
            <a:r>
              <a:rPr b="0" lang="ko-KR" sz="2400" spc="-1" strike="noStrike">
                <a:solidFill>
                  <a:srgbClr val="000000"/>
                </a:solidFill>
                <a:latin typeface="CMSY10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public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Date  member_from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int  customer_id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Ref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Branch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home_branch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Set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Ref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Account</a:t>
            </a:r>
            <a:r>
              <a:rPr b="0" lang="ko-KR" sz="2400" spc="-1" strike="noStrike">
                <a:solidFill>
                  <a:srgbClr val="000000"/>
                </a:solidFill>
                <a:latin typeface="CMMI10"/>
              </a:rPr>
              <a:t>&gt;&gt;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accounts  </a:t>
            </a: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inverse 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Account :: owners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SY10"/>
              </a:rPr>
              <a:t>}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B6B-2BA3-43A3-9E22-A2F6255EA2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MG C++ ODL 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class Account : public Persistent_Object </a:t>
            </a: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priva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int bal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int numb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Set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Ref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Customer</a:t>
            </a:r>
            <a:r>
              <a:rPr b="0" i="1" lang="ko-KR" sz="2400" spc="-1" strike="noStrike">
                <a:solidFill>
                  <a:srgbClr val="000000"/>
                </a:solidFill>
                <a:latin typeface="CMMI10"/>
              </a:rPr>
              <a:t>&gt;&gt;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owners </a:t>
            </a:r>
            <a:r>
              <a:rPr b="1" lang="ko-KR" sz="2400" spc="-1" strike="noStrike">
                <a:solidFill>
                  <a:srgbClr val="000000"/>
                </a:solidFill>
                <a:latin typeface="Helvetica-Bold"/>
              </a:rPr>
              <a:t>inverse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Customer :: account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int find_balan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int update_balance(int del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CMSY10"/>
              </a:rPr>
              <a:t>} </a:t>
            </a:r>
            <a:r>
              <a:rPr b="0" lang="ko-KR" sz="2400" spc="-1" strike="noStrike">
                <a:solidFill>
                  <a:srgbClr val="000000"/>
                </a:solidFill>
                <a:latin typeface="CMTT10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1621-996A-4675-AFE7-C56224ABE7D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ODMG C++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객체 조작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new(db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같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++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산자의 영속 버전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Ref&lt;Account&gt; account = new(bank_db) Ac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new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는 객체를 메모리가 아닌 특정 데이터베이스에 할당한다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역참조 연산자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Ref&lt;Customer&gt;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객체에 적용하면 참조되는 객체를 메모리로 로드하고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없으면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객체에 메모리내 포인터를 반환한다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클래스의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Constructor -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객체가 생성될 때 객체를 초기화하는 특수 메소드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; new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가 실행될 때 자동으로 호출된다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클래스의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Destructor -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클래스내 객체가 삭제될 때 호출되는 특수 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E26A-A221-4466-A4C7-1EEED614F9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MG C++ OML 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int create _account_owner (String  name,  String  address) 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Database *  bank_db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bank_db  =  Database :: open("Bank-DB"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action  Tran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.begin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Ref&lt;Account&gt; account = new(bank_db)  Account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Ref&lt;Customer&gt; cust = new(bank_db) Customer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cust-&gt;name = name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cust-&gt;address = addres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cust-&gt;accounts.insert_element(account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account-&gt;owners.insert_element(cust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... Code to initialize customer_id,  account  number 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.commit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E6F-1C9F-4B07-ABB7-0EB2B9414B6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지향 데이터 모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관대하게 말하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는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델의 엔티티에 상응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패러다임은 객체에 관련한 코드와 데이터를 하나의 단위로 캡슐화하는데 근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데이터 모델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델같이 논리적 모델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객체 지향 프로그래밍 패러다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Smalltalk, C++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데이터베이스 시스템에의 적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2B7D-76C3-4519-9157-24206CB7A5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ODMG C++ OML : Iterator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의 예제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int print_customers() 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Database * bank_db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bank_db = Database :: open("Bank-DB"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action Trans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.begin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Iterator&lt;Ref&lt;Customer&gt;&gt; iter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Customer :: all_customers.create iterator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Ref&lt;Customer&gt; p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while(iter.next(p)) 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print_cust(p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   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CMTT10"/>
              </a:rPr>
              <a:t>Trans.commit(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CMSY10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Iterator </a:t>
            </a: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구조는 집합내 객체들을 통한 처리를 돕는다</a:t>
            </a:r>
            <a:r>
              <a:rPr b="0" lang="ko-KR" sz="2000" spc="-1" strike="noStrike">
                <a:solidFill>
                  <a:srgbClr val="000000"/>
                </a:solidFill>
                <a:latin typeface="CMSY10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70B-112B-4FD3-9D21-CED46D8C491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구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에 관련된 사항은 다음과 같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에 대한 데이터를 내포하는 변수의 집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변수의 값은 자체가 객체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객체가 반응하는 메시지의 집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메시지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상의 매개 변수를 가질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시지를 구현하는 코드의 본체인 메소드의 집합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소드는 메시지에 대한 응답으로 값을 반환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데이터의 물리적 표현은 객체의 구현자에게만 보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와 응답은 객체에의 외부 인터페이스만을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360-C42A-4F9B-ABBC-28A34B7AEF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메시지와 메소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라는 용어는 반드시 물리적 메시지 전달을 내포한 필요는 없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는 프로시저 호출로 구현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는 다음과 같은 기능을 가진 범용 언어로 작성된 프로그램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객체 자체내의 변수만이 직접 참조될 수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른 객체의 데이터는 메시지를 보냄으로써만이 참조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정확히 말하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엔티티의 각 애트리뷰트는 하나의 변수와 두 개의 메소드로 표현되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변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addres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두 개의 메시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get-addres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et addres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표현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편의상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많은 객체 지향 모델에서는 다른 객체의 변수에 직접 액세스를 허용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024-243A-413A-A663-8843803F8B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객체 클래스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유사한 객체들은 클래스로 그룹핑되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한 각 객체를 그 클래스의 사례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내의 모든 객체는 다음을 공통으로 갖는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변수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시지 인터페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메소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변수에 할당되는 값은 다를 수 있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람 객체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로 그룹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-R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델의 엔티티 집합과 유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7A14-D0F6-45A3-89F6-E353DF3F0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클래스 정의 예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class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mploye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1800" spc="-1" strike="noStrike">
                <a:solidFill>
                  <a:srgbClr val="000000"/>
                </a:solidFill>
                <a:latin typeface="CMSY9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/* Variabl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string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am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string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ddres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date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tart-d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alar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/* Message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nnual-salary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string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get-nam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string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get-address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set-address(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string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ew-addres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int </a:t>
            </a:r>
            <a:r>
              <a:rPr b="1" lang="ko-KR" sz="1800" spc="-1" strike="noStrike">
                <a:solidFill>
                  <a:srgbClr val="000000"/>
                </a:solidFill>
                <a:latin typeface="Helvetica-Bold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mployment-length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800" spc="-1" strike="noStrike">
                <a:solidFill>
                  <a:srgbClr val="000000"/>
                </a:solidFill>
                <a:latin typeface="CMSY9"/>
              </a:rPr>
              <a:t>	</a:t>
            </a:r>
            <a:r>
              <a:rPr b="0" i="1" lang="ko-KR" sz="1800" spc="-1" strike="noStrike">
                <a:solidFill>
                  <a:srgbClr val="000000"/>
                </a:solidFill>
                <a:latin typeface="CMSY9"/>
              </a:rPr>
              <a:t>    </a:t>
            </a:r>
            <a:r>
              <a:rPr b="0" i="1" lang="ko-KR" sz="1800" spc="-1" strike="noStrike">
                <a:solidFill>
                  <a:srgbClr val="000000"/>
                </a:solidFill>
                <a:latin typeface="CMSY9"/>
              </a:rPr>
              <a:t>}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엄격한 캡슐화에서는 다른 변수를 읽고 설절하는 메소드가 또한 요구된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mployment-length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유도 애트리뷰트의 예이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76D-EF11-44E9-83D8-F3E4BD6A89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상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은행 종업원 클래스와 유사한 은행 고객 클래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두 클래스는 모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같은 변수와 메시지는 공통으로 갖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종업원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와 고객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-rating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같이 각 클래스에 특정한 변수와 메시지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모든 종업원은 사람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따라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mploye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세분화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와 비슷하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ustom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 세분화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son, employe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클래스를 생성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래스에 연관된 모든 사람들에게 적용 가능한 변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시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25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클래스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ploy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에 연관된 종업원에 특정한 변수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메시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고객에도 유사하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9B0E-EE07-46B0-B0BE-C43FB8E472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상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래스를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SA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층으로 세분화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87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perso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에 속한 변수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메시지는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employe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래스에 상속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은 결과 클래스 계층이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mployee                                     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fficer        teller       secre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E-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델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ISA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계층과 유사함에 유의하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5640" y="3962520"/>
            <a:ext cx="4420080" cy="761400"/>
            <a:chOff x="2285640" y="3962520"/>
            <a:chExt cx="4420080" cy="761400"/>
          </a:xfrm>
        </p:grpSpPr>
        <p:sp>
          <p:nvSpPr>
            <p:cNvPr id="126" name=""/>
            <p:cNvSpPr/>
            <p:nvPr/>
          </p:nvSpPr>
          <p:spPr>
            <a:xfrm flipH="1">
              <a:off x="3352680" y="3962520"/>
              <a:ext cx="152388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05520" y="3962520"/>
              <a:ext cx="160020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76720" y="449568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285640" y="4495680"/>
              <a:ext cx="76212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05320" y="4495680"/>
              <a:ext cx="76212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8EFC-0F6B-4C8D-80AE-5845EA001A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0:38:24Z</dcterms:created>
  <dc:creator>서울산업대학교 교수 석상기</dc:creator>
  <dc:description/>
  <dc:language>en-US</dc:language>
  <cp:lastModifiedBy>sksuk</cp:lastModifiedBy>
  <dcterms:modified xsi:type="dcterms:W3CDTF">1999-08-30T10:19:18Z</dcterms:modified>
  <cp:revision>39</cp:revision>
  <dc:subject/>
  <dc:title>제 8 장 객체 지향 데이터베이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