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EFB-5021-4C88-A238-35DCB5A7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6C6-4555-4CC0-A611-93A9C2F2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3F0-4987-422F-BD40-5FFBA06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2D1-113A-4C31-85CD-663D03DD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3B3C-AA66-4AAA-90CE-90B66FB2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34C-3D1E-4E04-9473-EACEA4C3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E55-C9CB-442C-984A-A51BD4B5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324-AF88-4EE9-84C2-4214E2C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8A8B-0140-46AA-8B74-4EA3EF8C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783E-B3ED-42C9-B3D3-8A96D93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C533-91FB-4E56-B845-315DBC6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BF1-8E45-46EF-BBC6-20C25576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6505-D82F-4A4E-A09D-B2332056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7A7-282A-4C6F-82DD-6F7EC25C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66C-55B2-4B8C-932C-334B7E2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3D6A-C543-4D9F-A894-F2769C6E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4E24-0E51-4224-8DF4-F992A8B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D03-3244-4893-82EF-1E57A50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7D7-17DE-4B2D-98F1-E4AEB975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528-AF29-4CB1-A1C4-93E87BB9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1DA-76BC-4BD0-9365-B285984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199-4E1B-4329-ADC6-E0F3355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607-A7AD-4872-B70B-F5627CD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E1F-2081-4124-A475-783720A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5C5-6B86-42E1-8534-53C2CE4C5D77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794-3F98-4510-AD5F-2C9717F18C9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무결성 제약 조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도메인 제약 조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참조 무결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주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트리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함수적 종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B69-9625-421C-899F-011F078C26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에서의 참조 무결성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branch-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1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10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account-number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branch-name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ustomer-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10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customer-name, account-number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account-number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customer-name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E0D-D676-49A1-9E31-5B24A4A254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연쇄 행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create 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foreign ke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ranch-name)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referen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on delete re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on update casc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delete cascad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로 인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 삭제가 참조 무결성 제약 조건을 위배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된 지점을 참조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에서 연쇄 삭제가 발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쇄 갱신도 유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1A0-3BC1-4232-9E4A-5BBD5F0FE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연쇄 행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종속에 대해 지정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delete cascad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가진 여러 릴레이션에 걸친 외래 키 종속의 체인이 존재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체인의 한 끝에서의 삭제 또는 갱신은 전체 체인에 걸쳐 전파할 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연쇄 갱신 또는 삭제가 추후의 연쇄 연산에 의해 처리될 수 없는 제약 조건 위배를 야기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은 트랜잭션을 중단시킨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 결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랜잭션과 그의 연쇄 행위로 발생한 모든 변경은 취소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0E9-DD9E-48B3-8C1A-1845FB858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주장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장이란 데이터베이스가 항상 만족해야 할 조건을 표현하는 술어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의 주장은 다음과 같은 형식을 갖는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s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장명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술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장이 이루어질 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은 그 타당성을 테스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테스팅은 상당한 양의 부가 경비를 초래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장은 주의깊게 사용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487-E53C-41DB-ACAA-EE2B69E1F4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주장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지점의 모든 대출 총액은 모든 예금 총 잔고보다 작아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create assertion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m-constraint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che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not exist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selec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select s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 amount)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an.branch-name =branch.branch-nam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MMI10"/>
              </a:rPr>
              <a:t>       </a:t>
            </a:r>
            <a:r>
              <a:rPr b="0" i="1" lang="en-US" sz="2300" spc="-1" strike="noStrike">
                <a:solidFill>
                  <a:srgbClr val="000000"/>
                </a:solidFill>
                <a:latin typeface="CMMI10"/>
              </a:rPr>
              <a:t>&gt;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select s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 balance)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         </a:t>
            </a:r>
            <a:r>
              <a:rPr b="1" lang="en-US" sz="23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300" spc="-1" strike="noStrike">
                <a:solidFill>
                  <a:srgbClr val="000000"/>
                </a:solidFill>
                <a:latin typeface="Helvetica-Bold"/>
              </a:rPr>
              <a:t>accou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branch-name =branch.branch-name))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9CE-7BAF-426A-AC0E-7236514170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주장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대출은 최소 잔고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인 예금을 유지하는 적어도 한 사람의 대출자를 가져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create as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-constraint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not exis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where not exis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,depositor,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.loan-number =borrower.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er.customer-name =depositor.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or.account-number =account.account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.balance 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0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C04-2DAC-4299-9996-186467CB6C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리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거는 데이터베이스 수정의 부작용으로 시스템에 의해 자동으로 실행되는 문장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거 기법을 설계하려면 다음과 같이 해야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거가 실행될 조건을 명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거가 실행될 때 취해질 행위를 명시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-92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준에는 트리거를 포함하지 않지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많은 제품에서 트리거를 지원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58-2D12-457A-87AC-23F1CD50D1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리거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spcAft>
                <a:spcPts val="1500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음의 예금 잔고를 허용하는 대신 은행에서는 다음과 같이 대월을 취급한다 하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금 잔고를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으로 설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월 금액 만큼의 대출 생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대출에 대월한 예금 계좌의 번호를 대출 번호로 부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트리거를 실행하기 위한 조건은 음수의 잔고 값이 되도록 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에의 갱신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924-9F37-4888-BA55-E3EDD1F235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트리거 예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define trig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f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on update of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account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f n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balance </a:t>
            </a:r>
            <a:r>
              <a:rPr b="0" i="1" lang="en-US" sz="2000" spc="-1" strike="noStrike">
                <a:solidFill>
                  <a:srgbClr val="000000"/>
                </a:solidFill>
                <a:latin typeface="CMMI10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nsert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(T.branch-name, T.account-number, -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new 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T.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nsert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-name,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account-number = depositor.account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up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balanc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account-number =T.account-numbe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balanc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앞에 사용한 키워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갱신 이후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balanc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값이 사용되어야 함을 의미한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것이 생략되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갱신 이전의 값이 사용된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FD7-F7DA-4316-8EFE-5119743E72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적 종속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적법한 릴레이션들의 집합에 대한 제약 조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애트리뷰트 집합의 값이 다른 애트리뷰트 집합의 값을 유일하게 결정하도록 요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함수적 종속은 키의 개념을 일반화한 것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75C-FFD6-4B1D-9444-DE3EFFFCE0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도메인 제약 조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무결성 제약 조건은 데이터베이스에의 권한 있는 변경이 데이터의 일관성을 잃지 않도록 보장함으로써 데이터베이스를 우발적인 손상으로부터 보호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메인 제약 조건은 가장 기본적인 무결성 제약 조건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에 삽입되는 테스트 값과 비교가 의미 있도록 보장하는 테스트 질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CF6-6FF3-4380-B01A-E8BD35A79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적 종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을 다음과 같은 릴레이션 스키마라 하자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상에 함수적 종속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가 존재하는 필요 충분 조건은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어떠한 적법한 릴레이션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r(R)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에 대해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의 두 튜플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가 애트리뷰트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가 같고 또한 애트리뷰트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가 같을 때이다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즉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아래의 경우이다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가 릴레이션 스키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의 수퍼 키인 필요 충분 조건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  R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이다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의 후보 키인 필요 충분 조건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  R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이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K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가 아닌 </a:t>
            </a:r>
            <a:r>
              <a:rPr b="0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i="1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R</a:t>
            </a:r>
            <a:r>
              <a:rPr b="0" i="1" lang="ko-KR" sz="18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이다</a:t>
            </a:r>
            <a:r>
              <a:rPr b="0" lang="ko-KR" sz="1800" spc="-1" strike="noStrike">
                <a:solidFill>
                  <a:srgbClr val="000000"/>
                </a:solidFill>
                <a:latin typeface="CMMI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E2C-DB0B-4216-B861-3B272D89A4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적 종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함수적 종속은 수퍼 키를 이용해서 표현할 수 없는 제약 조건을 표현하도록 한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래의 스키마를 고려해 보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-info-schema =( branch-name,loan-numb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-name,amou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래와 같은 함수적 종속의 집합은 가진다고 예상하지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-numb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-numb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음과 같은 함수적 종속을 가진다고는 예상하지 않는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n-numb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CDE-18BA-4271-B6B1-3C17939640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적 종속의 사용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수적 종속을 이용해 다음을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어진 함수적 종속의 집합하에 릴레이션들이 적법한가의 여부 검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함수적 종속 집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에서 적법하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만족한다고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법한 릴레이션상에 제약 조건을 지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의 모든 적법한 릴레이션이 함수적 종속 집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만족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존재한다고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수적 종속이 모든 적법한 사례에 존재하지 않는다 하더라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스키마의 특정 사례가 함수적 종속을 만족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-schem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특정 사례가 경우에 따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-numb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 customer-name</a:t>
            </a: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을 만족한다</a:t>
            </a: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94A-204F-4A2E-84E7-0F49387EF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함수적 종속 집합의 폐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수적 종속 집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주어지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논리적으로 내포되는 어떤 다른 함수적 종속이 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논리적으로 내포되는 함수적 종속 집합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폐포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폐포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암스트롱의 공리를 적용해 모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찾을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재귀 규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면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증가 규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이면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행 규칙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들 규칙은 건전하고 완전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543-15E7-40E2-B22D-A5DC77845D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폐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의 추가 규칙을 사용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계산을 더욱 단순화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이면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합집합 규칙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면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이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분해 규칙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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이면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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가이행 규칙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상의 규칙은 암스트롱의 공리에서 추론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8AC-ADBF-44BA-8B44-88C8FDAE04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( A,B,C,G,H,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{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멤버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FFC-E567-4364-9B3D-3137DCFCF8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애트리뷰트 집합의 폐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의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폐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나타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의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의해 함수적으로 결정되는 애트리뷰트의 집합으로 정의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 존재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하의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폐포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계산하는 알고리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anges to result)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:= resul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CMMI10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elvetica-Bold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30E-B16B-4397-93AF-02284B283D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( A,B,C,G,H,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sult =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esult = ABCG     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이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sult = ABCGH   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이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sult = ABCGHI  (C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이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B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는 후보 키인가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인가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인가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CAB-1B63-40DA-8A16-64874810E2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준 커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함수적 종속의 집합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함수적 종속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고려해 보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-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논리적으로 내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하면 애트리뷰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에서 이질적이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고 함수적 종속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-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)}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논리적으로 내포하면 애트리뷰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에서 이질적이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규준 커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의 모든 종속을 논리적으로 내포하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모든 종속을 논리적으로 내포하며 또한 아래와 같은 종속의 집합이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의 어떠한 함수적 종속도 이질적인 애트리뷰트를 포함하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않는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내의 함수적 종속의 각 왼쪽 편이 유일하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6B0-C46D-4480-81BC-929E11C883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준 커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규준 커버 계산 알고리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union rule to replace any dependencies 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functional dependenc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neous attribute either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xtraneous attribute is found, delete it fro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unt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does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A45-BF72-463F-B378-DBF0C2D5F1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도메인 제약 조건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도메인이 제한되도록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을 사용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ly-wa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메인에는 특정 값을 초과하는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만을 허용하도록 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urly-w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(5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-t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&gt;= 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ourly-wa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메인은 소수점 이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를 가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의 십진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것으로 선언되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메인에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rly-wa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상의 값을 갖도록 하는 제약 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건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-tes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선택 사항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 위배 제약 조건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나타내는데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470-9AAF-4266-BDDA-8903C3EB95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규준 커버 계산 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(A, B,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</a:t>
            </a:r>
            <a:r>
              <a:rPr b="0" lang="ko-KR" sz="1800" spc="-1" strike="noStrike">
                <a:solidFill>
                  <a:srgbClr val="000000"/>
                </a:solidFill>
                <a:latin typeface="CMSY10"/>
              </a:rPr>
              <a:t>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로 결합한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C</a:t>
            </a:r>
            <a:r>
              <a:rPr b="0" lang="ko-KR" sz="1800" spc="-1" strike="noStrike">
                <a:solidFill>
                  <a:srgbClr val="000000"/>
                </a:solidFill>
                <a:latin typeface="CMSY10"/>
              </a:rPr>
              <a:t>를 논리적으로 내포하므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에서 이질적이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</a:t>
            </a:r>
            <a:r>
              <a:rPr b="0" lang="ko-KR" sz="1800" spc="-1" strike="noStrike">
                <a:solidFill>
                  <a:srgbClr val="000000"/>
                </a:solidFill>
                <a:latin typeface="CMSY10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에 의해 논리적으로 내포되므로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BC</a:t>
            </a:r>
            <a:r>
              <a:rPr b="0" lang="ko-KR" sz="1800" spc="-1" strike="noStrike">
                <a:solidFill>
                  <a:srgbClr val="000000"/>
                </a:solidFill>
                <a:latin typeface="CMSY10"/>
              </a:rPr>
              <a:t>에서 이질적이다</a:t>
            </a:r>
            <a:r>
              <a:rPr b="0" lang="ko-KR" sz="1800" spc="-1" strike="noStrike">
                <a:solidFill>
                  <a:srgbClr val="000000"/>
                </a:solidFill>
                <a:latin typeface="CMSY10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규준 커버는 다음과 같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856-C4B7-4D8E-818B-964E282260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참조 무결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어진 애트리뷰트의 집합에 대해 한 릴레이션에 나타나는 값이 다른 릴레이션의 어떤 애트리뷰의 집합에도 또한 나타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 튜플들중 하나에 나타나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있는 지점명이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내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 튜플이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존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식적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각각 주키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진 릴레이션이라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 각각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대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존재해야 한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부분 집합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릴레이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참조하는 외래 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참조 무결성 제약 조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731-9938-4B97-8E23-348B8DD348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모델에서의 참조 무결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간의 관계 집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고려해 보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대한 관계형 스키마에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주 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주 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포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러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각각 관계형 스키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의 외래키를 이룬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약 엔티티 집합 또한 참조 무결성 제약 조건의 대상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렇기 때문에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약 엔티티 집합에 대한 관계 스키마는 그것에 종속되고 있는 엔티티 집합의 주 키를 포함해야만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639-2382-47BF-84B2-8864276E1C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 수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은 참조 무결성 제약 조건을 유지하도록 하기 위해서는 아래의 테스트가 이루어져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삽입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존재하도록 보장해야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 아래와 같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삭제되려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참조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의 튜플들의 집합을 계산해야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집합이 공집합이 아니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 명령은 에러로 거절되던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참조하는 튜플들 자신이 삭제되어야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쇄 삭제가 가능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2F6-7F82-4E8C-9A19-FCD0F1314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 수정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가지 경우가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릴레이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갱신되고 그 갱신이 외래 키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값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수정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삽입의 경우와 유사한 테스트가 이루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새로운 값을 나타낸다 하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다음을 보장해야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만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에서 갱신되고 그 갱신이 주 키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값을 수정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삭제의 경우와 유사한 테스트가 이루어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스템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이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을 이용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이 적용되기 전의 값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을 계산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집합이 공집합이 아니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갱신은 에러로 거절되던지 집합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튜플들이 연쇄 갱신되던지 집합내의 튜플들이 삭제될 수 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5E9-EFB3-4537-A94D-1702AEFB9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참조 무결성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 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후보 키 및 외래 키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의 일부로서 지정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은 주 키를 이루는 애트리뷰트 리스트를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은 후보 키를 이루는 애트리뷰트 리스트를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은 외래 키를 이루는 애트리뷰트 리스트와 외래 키가 참조하는 릴레이션명 모두를 내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A09-E181-4338-82DD-6A9107C2D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에서의 참조 무결성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ustomer-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20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-stre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3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-c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3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customer-nam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branch -nam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15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c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3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branch-nam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E44-41D8-43A5-8FA2-9643E76A6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05:16:32Z</dcterms:created>
  <dc:creator>서울산업대학교 교수 석상기</dc:creator>
  <dc:description/>
  <dc:language>en-US</dc:language>
  <cp:lastModifiedBy>.</cp:lastModifiedBy>
  <cp:lastPrinted>1997-02-26T15:00:00Z</cp:lastPrinted>
  <dcterms:modified xsi:type="dcterms:W3CDTF">1999-06-16T14:23:25Z</dcterms:modified>
  <cp:revision>49</cp:revision>
  <dc:subject/>
  <dc:title>제 6 장 무결성 제약 조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