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128-36BE-47C2-A3DA-F63A81F1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7BA-F609-419E-B7E3-6515310F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25F-B2F5-494F-B065-E5F4700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8F0-5D3B-45EA-85BC-4A723CA8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996-65DB-4430-9D2D-796EE44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7B9E-7214-4133-9C6F-673066D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3054-CCF3-4B3A-A533-959C841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4C90-124A-46DD-BE88-4782D62B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DC4-218A-413A-8F51-CD22F697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280-4879-4E7C-B723-2333B56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9840-DFFB-46B1-9F48-BA5DE475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C17-8398-4A78-8FA3-95202D0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A048-EA1F-4BD6-A7B2-8EA228E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0959-5633-4158-9059-D1E64C5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4814-1FB9-4DFE-8341-1B329501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4DB1-BD16-4EA4-AAFF-8ED3F557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CDA-D7CE-4163-B927-9B1AFDB5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24B-7F68-4C47-B54E-C145627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BCE-E5C5-42A7-9536-6B967111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A9C-4153-422E-8C5B-79CDCE84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C4F-8D8F-43AA-98B8-D7653A4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6E6-9E46-4A55-A316-486BCF8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E15-F09D-42EE-A747-5D9CFCB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C01-E976-49E5-898A-41005B2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355-46B3-45FA-AD20-BE523476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6C7-3084-40E6-953D-46485807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장 기타 관계형 언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Query-by-Example (Q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Qu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112-11F0-4C98-A4A0-5BEED4C1EA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여러 릴레이션에 대한 질의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은행에 예금과 대출을 모두 가진 고객의 이름을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customer-name 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orrower     customer-name     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752480" y="3276720"/>
            <a:ext cx="5943240" cy="2208960"/>
            <a:chOff x="1752480" y="3276720"/>
            <a:chExt cx="5943240" cy="2208960"/>
          </a:xfrm>
        </p:grpSpPr>
        <p:grpSp>
          <p:nvGrpSpPr>
            <p:cNvPr id="307" name=""/>
            <p:cNvGrpSpPr/>
            <p:nvPr/>
          </p:nvGrpSpPr>
          <p:grpSpPr>
            <a:xfrm>
              <a:off x="1752480" y="3276720"/>
              <a:ext cx="5943240" cy="913680"/>
              <a:chOff x="1752480" y="3276720"/>
              <a:chExt cx="5943240" cy="913680"/>
            </a:xfrm>
          </p:grpSpPr>
          <p:sp>
            <p:nvSpPr>
              <p:cNvPr id="308" name=""/>
              <p:cNvSpPr/>
              <p:nvPr/>
            </p:nvSpPr>
            <p:spPr>
              <a:xfrm>
                <a:off x="1752480" y="3276720"/>
                <a:ext cx="594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52480" y="367632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52480" y="373356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800" y="327672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7040" y="327672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178800" y="3733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7040" y="3733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695720" y="3733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95720" y="327672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752480" y="4572000"/>
              <a:ext cx="5943240" cy="913680"/>
              <a:chOff x="1752480" y="4572000"/>
              <a:chExt cx="5943240" cy="913680"/>
            </a:xfrm>
          </p:grpSpPr>
          <p:sp>
            <p:nvSpPr>
              <p:cNvPr id="318" name=""/>
              <p:cNvSpPr/>
              <p:nvPr/>
            </p:nvSpPr>
            <p:spPr>
              <a:xfrm>
                <a:off x="1752480" y="4572000"/>
                <a:ext cx="594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52480" y="497160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52480" y="502884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78800" y="457200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7040" y="457200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78800" y="5028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7040" y="5028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95720" y="5028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95720" y="457200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FB5-0BD5-4843-81FE-6F7F1FC13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여러 릴레이션에 대한 질의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은행에 예금은 있지만 대출은 없는 모든 고객의 이름을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customer-name 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_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orrower     customer-name        loan-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“존재하지 않는다”를 의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828800" y="2971800"/>
            <a:ext cx="5943240" cy="2243160"/>
            <a:chOff x="1828800" y="2971800"/>
            <a:chExt cx="5943240" cy="2243160"/>
          </a:xfrm>
        </p:grpSpPr>
        <p:grpSp>
          <p:nvGrpSpPr>
            <p:cNvPr id="330" name=""/>
            <p:cNvGrpSpPr/>
            <p:nvPr/>
          </p:nvGrpSpPr>
          <p:grpSpPr>
            <a:xfrm>
              <a:off x="1828800" y="2971800"/>
              <a:ext cx="5943240" cy="914400"/>
              <a:chOff x="1828800" y="2971800"/>
              <a:chExt cx="5943240" cy="914400"/>
            </a:xfrm>
          </p:grpSpPr>
          <p:sp>
            <p:nvSpPr>
              <p:cNvPr id="331" name=""/>
              <p:cNvSpPr/>
              <p:nvPr/>
            </p:nvSpPr>
            <p:spPr>
              <a:xfrm>
                <a:off x="1828800" y="2971800"/>
                <a:ext cx="594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28800" y="337176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828800" y="342900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55120" y="29718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53360" y="29718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55120" y="3429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3360" y="3429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72040" y="3429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72040" y="297180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1828800" y="4300560"/>
              <a:ext cx="5943240" cy="914400"/>
              <a:chOff x="1828800" y="4300560"/>
              <a:chExt cx="5943240" cy="914400"/>
            </a:xfrm>
          </p:grpSpPr>
          <p:sp>
            <p:nvSpPr>
              <p:cNvPr id="341" name=""/>
              <p:cNvSpPr/>
              <p:nvPr/>
            </p:nvSpPr>
            <p:spPr>
              <a:xfrm>
                <a:off x="1828800" y="4300560"/>
                <a:ext cx="594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28800" y="470052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28800" y="475776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55120" y="430056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53360" y="430056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255120" y="47577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53360" y="47577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72040" y="47577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72040" y="430056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D83-F9F5-41B8-97A0-8AD2467DB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여러 릴레이션에 대한 질의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적어도 두 개의 예금 계좌를 가진 모든 고객을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customer-name 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_x                        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_x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 “같지 않음”을 의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828800" y="3276720"/>
            <a:ext cx="5943600" cy="1294920"/>
            <a:chOff x="1828800" y="3276720"/>
            <a:chExt cx="5943600" cy="1294920"/>
          </a:xfrm>
        </p:grpSpPr>
        <p:sp>
          <p:nvSpPr>
            <p:cNvPr id="353" name=""/>
            <p:cNvSpPr/>
            <p:nvPr/>
          </p:nvSpPr>
          <p:spPr>
            <a:xfrm>
              <a:off x="1828800" y="3276720"/>
              <a:ext cx="594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8800" y="367668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28800" y="373356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55840" y="327672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53000" y="327672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72400" y="37335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2400" y="327672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1200" y="37335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54400" y="37335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929-0A4F-4F0B-88A4-7AC6CDE0A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조건 박스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골격 테이블 내에 표현하기 불편하거나 불가능한 도메인 변수에 대한 제약 조건의 표현을 허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잔고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,3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 사이 이면서 정확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,5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은 아닌 모든 계좌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branch-name    account-number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       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_x = (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1300 and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2000 and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15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295280" y="3581280"/>
            <a:ext cx="6781680" cy="2011320"/>
            <a:chOff x="1295280" y="3581280"/>
            <a:chExt cx="6781680" cy="2011320"/>
          </a:xfrm>
        </p:grpSpPr>
        <p:grpSp>
          <p:nvGrpSpPr>
            <p:cNvPr id="365" name=""/>
            <p:cNvGrpSpPr/>
            <p:nvPr/>
          </p:nvGrpSpPr>
          <p:grpSpPr>
            <a:xfrm>
              <a:off x="1295280" y="3581280"/>
              <a:ext cx="6781680" cy="869400"/>
              <a:chOff x="1295280" y="3581280"/>
              <a:chExt cx="6781680" cy="869400"/>
            </a:xfrm>
          </p:grpSpPr>
          <p:sp>
            <p:nvSpPr>
              <p:cNvPr id="366" name=""/>
              <p:cNvSpPr/>
              <p:nvPr/>
            </p:nvSpPr>
            <p:spPr>
              <a:xfrm>
                <a:off x="1295280" y="39938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295280" y="40701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438280" y="358128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43400" y="358128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49920" y="358128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76960" y="358128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076960" y="407016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95280" y="35812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438280" y="407016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43400" y="407016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49920" y="407016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295280" y="4601880"/>
              <a:ext cx="6781680" cy="990720"/>
              <a:chOff x="1295280" y="4601880"/>
              <a:chExt cx="6781680" cy="990720"/>
            </a:xfrm>
          </p:grpSpPr>
          <p:sp>
            <p:nvSpPr>
              <p:cNvPr id="378" name=""/>
              <p:cNvSpPr/>
              <p:nvPr/>
            </p:nvSpPr>
            <p:spPr>
              <a:xfrm>
                <a:off x="1295280" y="507024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295280" y="4601880"/>
                <a:ext cx="6781680" cy="990720"/>
                <a:chOff x="1295280" y="4601880"/>
                <a:chExt cx="6781680" cy="990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295280" y="4601880"/>
                  <a:ext cx="678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295280" y="5135400"/>
                  <a:ext cx="678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295280" y="5592600"/>
                  <a:ext cx="678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295280" y="4601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295280" y="5135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6960" y="4601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076960" y="5135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B64-9983-477D-BB72-099805A921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결과 릴레이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예금이 있는 모든 고객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ustomer-name, account-numb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할 필요가 있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deposito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죠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customer-name, account-numb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추출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와 같이 하려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customer-name, account-numb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애트리뷰트를 가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라는 이름의 골결 테이블을 생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를 작성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156-3021-4207-8611-E2953C17E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결과 릴레이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결과 질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nch-name     account-number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                _y                     _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   customer-name     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_x                                    _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esult   customer-name     account-number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               _x                           _y                    _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95280" y="2362320"/>
            <a:ext cx="6781680" cy="3124800"/>
            <a:chOff x="1295280" y="2362320"/>
            <a:chExt cx="6781680" cy="3124800"/>
          </a:xfrm>
        </p:grpSpPr>
        <p:grpSp>
          <p:nvGrpSpPr>
            <p:cNvPr id="392" name=""/>
            <p:cNvGrpSpPr/>
            <p:nvPr/>
          </p:nvGrpSpPr>
          <p:grpSpPr>
            <a:xfrm>
              <a:off x="1295280" y="4670280"/>
              <a:ext cx="6781680" cy="816840"/>
              <a:chOff x="1295280" y="4670280"/>
              <a:chExt cx="6781680" cy="816840"/>
            </a:xfrm>
          </p:grpSpPr>
          <p:sp>
            <p:nvSpPr>
              <p:cNvPr id="393" name=""/>
              <p:cNvSpPr/>
              <p:nvPr/>
            </p:nvSpPr>
            <p:spPr>
              <a:xfrm>
                <a:off x="1295280" y="505800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95280" y="51292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133360" y="4670280"/>
                <a:ext cx="0" cy="38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3400" y="4670280"/>
                <a:ext cx="0" cy="38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49920" y="4670280"/>
                <a:ext cx="0" cy="38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76960" y="4670280"/>
                <a:ext cx="0" cy="38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076960" y="51292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95280" y="46702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33360" y="51292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3400" y="51292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49920" y="5129280"/>
                <a:ext cx="0" cy="3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904760" y="2362320"/>
              <a:ext cx="5562720" cy="913680"/>
              <a:chOff x="1904760" y="2362320"/>
              <a:chExt cx="5562720" cy="913680"/>
            </a:xfrm>
          </p:grpSpPr>
          <p:sp>
            <p:nvSpPr>
              <p:cNvPr id="405" name=""/>
              <p:cNvSpPr/>
              <p:nvPr/>
            </p:nvSpPr>
            <p:spPr>
              <a:xfrm>
                <a:off x="1904760" y="236232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04760" y="2819160"/>
                <a:ext cx="55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33560" y="236232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95880" y="236232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33560" y="28191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95880" y="28191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67480" y="28191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467480" y="2362320"/>
                <a:ext cx="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04760" y="2743200"/>
                <a:ext cx="55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295280" y="3504960"/>
              <a:ext cx="6781320" cy="913680"/>
              <a:chOff x="1295280" y="3504960"/>
              <a:chExt cx="6781320" cy="913680"/>
            </a:xfrm>
          </p:grpSpPr>
          <p:sp>
            <p:nvSpPr>
              <p:cNvPr id="415" name=""/>
              <p:cNvSpPr/>
              <p:nvPr/>
            </p:nvSpPr>
            <p:spPr>
              <a:xfrm>
                <a:off x="1295280" y="3504960"/>
                <a:ext cx="678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95280" y="3904560"/>
                <a:ext cx="678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5280" y="3961800"/>
                <a:ext cx="678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22840" y="350496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45080" y="350496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22840" y="3961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45080" y="3961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076600" y="3961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076600" y="3504960"/>
                <a:ext cx="0" cy="39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E29-5B36-41ED-9EE1-FA655ED9BD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튜플의 출력 순서 지정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O =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오름차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DO =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림차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여러 애트리뷰트에 대해 정렬할 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렬 순서는 각 정렬 연산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AO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괄호 안에 정수를 넣어 지정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모든 계좌 번호를 알파벳순의 오름차순으로 정렬하면서 예금 잔고는 내림 차순으로 열거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branch-name    account-number 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           P.AO(1).           P.DO(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371600" y="4941720"/>
            <a:ext cx="6781680" cy="925200"/>
            <a:chOff x="1371600" y="4941720"/>
            <a:chExt cx="6781680" cy="925200"/>
          </a:xfrm>
        </p:grpSpPr>
        <p:sp>
          <p:nvSpPr>
            <p:cNvPr id="427" name=""/>
            <p:cNvSpPr/>
            <p:nvPr/>
          </p:nvSpPr>
          <p:spPr>
            <a:xfrm>
              <a:off x="1371600" y="53809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71600" y="54619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14600" y="4941720"/>
              <a:ext cx="0" cy="4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4941720"/>
              <a:ext cx="0" cy="4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26240" y="4941720"/>
              <a:ext cx="0" cy="4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4941720"/>
              <a:ext cx="0" cy="4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53280" y="546192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71600" y="4941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14600" y="546192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19720" y="546192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26240" y="546192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D66-3B33-4215-B07F-DE8380C01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연산자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VG, MAX, MIN, SUM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의 연산자에는 항상 뒤에 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LL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붙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SUM.AL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VG.ALL._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모든 예금 잔고 합계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branch-name    account-number     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                                     P.SUM.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43000" y="4648320"/>
            <a:ext cx="7315200" cy="1001160"/>
            <a:chOff x="1143000" y="4648320"/>
            <a:chExt cx="7315200" cy="1001160"/>
          </a:xfrm>
        </p:grpSpPr>
        <p:sp>
          <p:nvSpPr>
            <p:cNvPr id="441" name=""/>
            <p:cNvSpPr/>
            <p:nvPr/>
          </p:nvSpPr>
          <p:spPr>
            <a:xfrm>
              <a:off x="1143000" y="512424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3000" y="521172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09680" y="46483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14800" y="46483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46483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8200" y="46483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58200" y="521172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43000" y="464832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09680" y="521172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14800" y="521172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00800" y="521172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BA5-080B-4764-BDC8-D754495C18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연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예금을 가진 고객의 총 수를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 customer-name   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CNT.UNQ.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: UNQ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중복 제거를 원할 때 사용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905120" y="3352680"/>
            <a:ext cx="6248160" cy="914400"/>
            <a:chOff x="1905120" y="3352680"/>
            <a:chExt cx="6248160" cy="914400"/>
          </a:xfrm>
        </p:grpSpPr>
        <p:sp>
          <p:nvSpPr>
            <p:cNvPr id="455" name=""/>
            <p:cNvSpPr/>
            <p:nvPr/>
          </p:nvSpPr>
          <p:spPr>
            <a:xfrm>
              <a:off x="1905120" y="3352680"/>
              <a:ext cx="624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05120" y="3809880"/>
              <a:ext cx="624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6360" y="3352680"/>
              <a:ext cx="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280" y="3352680"/>
              <a:ext cx="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7636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6728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5328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53280" y="3352680"/>
              <a:ext cx="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05120" y="3733920"/>
              <a:ext cx="624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D4C-4934-4421-9303-FEA1771FC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지점의 평균 잔고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branch-name     account-number     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G.                                         P.AVG.ALL.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P.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roup by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조와 유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balan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열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.AVG.A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모든 잔고를 고려해야 함을 보장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예금 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지점들만의 평균 예금 잔고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건 박스를 추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066680" y="2286000"/>
            <a:ext cx="7619760" cy="779040"/>
            <a:chOff x="1066680" y="2286000"/>
            <a:chExt cx="7619760" cy="779040"/>
          </a:xfrm>
        </p:grpSpPr>
        <p:sp>
          <p:nvSpPr>
            <p:cNvPr id="467" name=""/>
            <p:cNvSpPr/>
            <p:nvPr/>
          </p:nvSpPr>
          <p:spPr>
            <a:xfrm>
              <a:off x="1066680" y="2656440"/>
              <a:ext cx="761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66680" y="2724480"/>
              <a:ext cx="761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177640" y="2286000"/>
              <a:ext cx="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62320" y="2286000"/>
              <a:ext cx="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43360" y="2286000"/>
              <a:ext cx="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86440" y="2286000"/>
              <a:ext cx="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86440" y="27244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6680" y="2286000"/>
              <a:ext cx="761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77640" y="27244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62320" y="27244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43360" y="27244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743200" y="5410080"/>
            <a:ext cx="3809880" cy="838080"/>
            <a:chOff x="2743200" y="5410080"/>
            <a:chExt cx="3809880" cy="838080"/>
          </a:xfrm>
        </p:grpSpPr>
        <p:sp>
          <p:nvSpPr>
            <p:cNvPr id="479" name=""/>
            <p:cNvSpPr/>
            <p:nvPr/>
          </p:nvSpPr>
          <p:spPr>
            <a:xfrm>
              <a:off x="2743200" y="5410080"/>
              <a:ext cx="380988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VG.ALL._x &gt; 1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3200" y="5833800"/>
              <a:ext cx="380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303-FCEC-40B8-B59D-24FCFD1533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-by-Example (QBE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단일 릴레이션에 대한 질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여러 릴레이션에 대한 질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조건 박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결과 릴레이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튜플 출력의 순서 지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집성 연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5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imes New Roman"/>
              </a:rPr>
              <a:t>데이터베이스의 수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41-1D3E-4DA9-9A81-CE45C26145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에 위치한 모든 지점에 예금이 있는 모든 고객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 customer-name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G._x                     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    branch-name           account-number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NT.UNQ.ALL._z               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         branch-name               branch-city        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_z                         Brookl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_w                        Brookl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981080" y="3048120"/>
            <a:ext cx="6019560" cy="761760"/>
            <a:chOff x="1981080" y="3048120"/>
            <a:chExt cx="6019560" cy="761760"/>
          </a:xfrm>
        </p:grpSpPr>
        <p:sp>
          <p:nvSpPr>
            <p:cNvPr id="484" name=""/>
            <p:cNvSpPr/>
            <p:nvPr/>
          </p:nvSpPr>
          <p:spPr>
            <a:xfrm>
              <a:off x="1981080" y="304812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81080" y="34290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44560" y="3048120"/>
              <a:ext cx="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5600" y="3048120"/>
              <a:ext cx="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4456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556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0064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0640" y="3048120"/>
              <a:ext cx="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81080" y="336528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219320" y="4778280"/>
            <a:ext cx="7467480" cy="1143000"/>
            <a:chOff x="1219320" y="4778280"/>
            <a:chExt cx="7467480" cy="1143000"/>
          </a:xfrm>
        </p:grpSpPr>
        <p:sp>
          <p:nvSpPr>
            <p:cNvPr id="494" name=""/>
            <p:cNvSpPr/>
            <p:nvPr/>
          </p:nvSpPr>
          <p:spPr>
            <a:xfrm>
              <a:off x="2319480" y="477828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70600" y="477828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29680" y="477828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86800" y="477828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86800" y="5237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77828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1595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23548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19480" y="5235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73480" y="5235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24640" y="5235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219320" y="3906720"/>
            <a:ext cx="7467480" cy="817560"/>
            <a:chOff x="1219320" y="3906720"/>
            <a:chExt cx="7467480" cy="817560"/>
          </a:xfrm>
        </p:grpSpPr>
        <p:sp>
          <p:nvSpPr>
            <p:cNvPr id="506" name=""/>
            <p:cNvSpPr/>
            <p:nvPr/>
          </p:nvSpPr>
          <p:spPr>
            <a:xfrm flipV="1">
              <a:off x="1219320" y="4363920"/>
              <a:ext cx="746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19480" y="390672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70600" y="390672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29680" y="390672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686800" y="390672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86800" y="436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19320" y="39067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9480" y="436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70600" y="436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29680" y="436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1219320" y="4287600"/>
              <a:ext cx="746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419-1B66-4BA8-ADE6-42FAA5345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질의 예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2120" y="3200400"/>
            <a:ext cx="79246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CNT.UNQ.ALL._w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 서로 다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지점의 수를 지정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CNT.UNQ.ALL._z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고객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가 예금을 가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내 서로 다른 지점의 수를 지정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828800" y="2133720"/>
            <a:ext cx="5790960" cy="838080"/>
            <a:chOff x="1828800" y="2133720"/>
            <a:chExt cx="5790960" cy="838080"/>
          </a:xfrm>
        </p:grpSpPr>
        <p:sp>
          <p:nvSpPr>
            <p:cNvPr id="520" name=""/>
            <p:cNvSpPr/>
            <p:nvPr/>
          </p:nvSpPr>
          <p:spPr>
            <a:xfrm>
              <a:off x="1828800" y="2133720"/>
              <a:ext cx="579096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NT.UNQ.ALL._z = CNT.UNQ.ALL._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28800" y="2557440"/>
              <a:ext cx="579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EB4-BFA4-457B-9EF4-C51CF8B5D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으로 부터 튜플의 삭제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명령으로 표현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열만의 정보를 삭제하는 경우에는 – 로 표시되는 널 값이 삽입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삭제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ustomer   customer-name   customer-street   customer-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.              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명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인 지점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-city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값을 삭제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      branch-name        branch-city            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                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125360" y="3733920"/>
            <a:ext cx="7485120" cy="779400"/>
            <a:chOff x="1125360" y="3733920"/>
            <a:chExt cx="7485120" cy="779400"/>
          </a:xfrm>
        </p:grpSpPr>
        <p:sp>
          <p:nvSpPr>
            <p:cNvPr id="526" name=""/>
            <p:cNvSpPr/>
            <p:nvPr/>
          </p:nvSpPr>
          <p:spPr>
            <a:xfrm>
              <a:off x="2421000" y="3733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78400" y="3733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11760" y="3733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93200" y="37339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93200" y="41720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25360" y="373392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21000" y="41720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78400" y="41720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02400" y="41720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43000" y="40975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5360" y="417348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143000" y="5105520"/>
            <a:ext cx="7485120" cy="779400"/>
            <a:chOff x="1143000" y="5105520"/>
            <a:chExt cx="7485120" cy="779400"/>
          </a:xfrm>
        </p:grpSpPr>
        <p:sp>
          <p:nvSpPr>
            <p:cNvPr id="538" name=""/>
            <p:cNvSpPr/>
            <p:nvPr/>
          </p:nvSpPr>
          <p:spPr>
            <a:xfrm>
              <a:off x="2438640" y="5105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96040" y="5105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9400" y="5105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10840" y="510552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10840" y="55436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43000" y="510552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38640" y="55436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96040" y="55436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20040" y="55436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60640" y="54691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3000" y="554508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9AD-6AC7-4653-8E02-F886586A26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 질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출액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,300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불에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불 사이의 모든 대출을 삭제하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branch-name    loan-number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.                                     _y    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orrower     customer-name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.                                            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752480" y="2743200"/>
            <a:ext cx="5791320" cy="838080"/>
            <a:chOff x="1752480" y="2743200"/>
            <a:chExt cx="5791320" cy="838080"/>
          </a:xfrm>
        </p:grpSpPr>
        <p:sp>
          <p:nvSpPr>
            <p:cNvPr id="552" name=""/>
            <p:cNvSpPr/>
            <p:nvPr/>
          </p:nvSpPr>
          <p:spPr>
            <a:xfrm>
              <a:off x="1752480" y="31557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52480" y="31971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90920" y="27432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9720" y="27432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24480" y="27432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43800" y="27432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4380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52480" y="27432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909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1972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2448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057400" y="3751200"/>
            <a:ext cx="5486400" cy="838440"/>
            <a:chOff x="2057400" y="3751200"/>
            <a:chExt cx="5486400" cy="838440"/>
          </a:xfrm>
        </p:grpSpPr>
        <p:sp>
          <p:nvSpPr>
            <p:cNvPr id="564" name=""/>
            <p:cNvSpPr/>
            <p:nvPr/>
          </p:nvSpPr>
          <p:spPr>
            <a:xfrm>
              <a:off x="2057400" y="3751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21240" y="37512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32640" y="37512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21240" y="41706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32640" y="41706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3800" y="41706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43800" y="37512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57400" y="41148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57400" y="417348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743200" y="5029200"/>
            <a:ext cx="3429000" cy="990360"/>
            <a:chOff x="2743200" y="5029200"/>
            <a:chExt cx="3429000" cy="990360"/>
          </a:xfrm>
        </p:grpSpPr>
        <p:sp>
          <p:nvSpPr>
            <p:cNvPr id="574" name=""/>
            <p:cNvSpPr/>
            <p:nvPr/>
          </p:nvSpPr>
          <p:spPr>
            <a:xfrm>
              <a:off x="2743200" y="5029200"/>
              <a:ext cx="342900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i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x = (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300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43200" y="552996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B13-E0C2-4402-9DF7-4370FC74C3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 질의 예제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에 위치한 지점의 모든 예금 계좌를 삭제하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990720" y="3048120"/>
            <a:ext cx="7467480" cy="685440"/>
            <a:chOff x="990720" y="3048120"/>
            <a:chExt cx="7467480" cy="685440"/>
          </a:xfrm>
        </p:grpSpPr>
        <p:sp>
          <p:nvSpPr>
            <p:cNvPr id="579" name=""/>
            <p:cNvSpPr/>
            <p:nvPr/>
          </p:nvSpPr>
          <p:spPr>
            <a:xfrm flipV="1">
              <a:off x="990720" y="3431520"/>
              <a:ext cx="746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86000" y="304812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48320" y="304812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01080" y="304812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58200" y="304812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58200" y="343296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0720" y="30481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0" y="343296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8320" y="343296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01080" y="343296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990720" y="3367440"/>
              <a:ext cx="746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90720" y="297180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    branch-name          account-number 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.                    _x                            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00200" y="3973680"/>
            <a:ext cx="6019560" cy="838080"/>
            <a:chOff x="1600200" y="3973680"/>
            <a:chExt cx="6019560" cy="838080"/>
          </a:xfrm>
        </p:grpSpPr>
        <p:sp>
          <p:nvSpPr>
            <p:cNvPr id="592" name=""/>
            <p:cNvSpPr/>
            <p:nvPr/>
          </p:nvSpPr>
          <p:spPr>
            <a:xfrm>
              <a:off x="1600200" y="397368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00200" y="439272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63680" y="397368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74720" y="397368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63680" y="43927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74720" y="43927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19760" y="439272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19760" y="397368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00200" y="432252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62120" y="3905280"/>
            <a:ext cx="7619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epositor     customer-name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.                                                 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990720" y="5011560"/>
            <a:ext cx="7485120" cy="779400"/>
            <a:chOff x="990720" y="5011560"/>
            <a:chExt cx="7485120" cy="779400"/>
          </a:xfrm>
        </p:grpSpPr>
        <p:sp>
          <p:nvSpPr>
            <p:cNvPr id="603" name=""/>
            <p:cNvSpPr/>
            <p:nvPr/>
          </p:nvSpPr>
          <p:spPr>
            <a:xfrm>
              <a:off x="2286360" y="501156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3760" y="501156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77120" y="501156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58560" y="501156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58560" y="54496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90720" y="501156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86360" y="54496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43760" y="54496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7760" y="54496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08360" y="537516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90720" y="545112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762120" y="4968720"/>
            <a:ext cx="767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      branch-name        branch-city            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x                   Brookl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A2D-28E0-436E-9A57-BE257E4B13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삽입은 질의 표현식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자를 넣어 수행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의 잔고를 가진 계좌 번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-973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삽입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 모든  대출 고객에게 새로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의 저축 예금 계좌를 부여하는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새로운 저축 예금 계좌의 계좌 번호는  대출 번호로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 화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914400" y="3429000"/>
            <a:ext cx="7467480" cy="817560"/>
            <a:chOff x="914400" y="3429000"/>
            <a:chExt cx="7467480" cy="817560"/>
          </a:xfrm>
        </p:grpSpPr>
        <p:sp>
          <p:nvSpPr>
            <p:cNvPr id="618" name=""/>
            <p:cNvSpPr/>
            <p:nvPr/>
          </p:nvSpPr>
          <p:spPr>
            <a:xfrm flipV="1">
              <a:off x="914400" y="3885840"/>
              <a:ext cx="746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09680" y="342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342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24760" y="342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81880" y="342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1880" y="388800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14400" y="3429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09680" y="388800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0" y="388800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24760" y="388800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914400" y="3809520"/>
              <a:ext cx="746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762120" y="3352680"/>
            <a:ext cx="769608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    branch-name          account-number 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.               Perryridge                   A-9732              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7F7-0A28-4ADC-98E7-8E7187BC89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데이터베이스의 수정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삽입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account        branch-name          account-number  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.               Perryridge                      _x                    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838080" y="2109960"/>
            <a:ext cx="7467480" cy="817560"/>
            <a:chOff x="838080" y="2109960"/>
            <a:chExt cx="7467480" cy="817560"/>
          </a:xfrm>
        </p:grpSpPr>
        <p:sp>
          <p:nvSpPr>
            <p:cNvPr id="633" name=""/>
            <p:cNvSpPr/>
            <p:nvPr/>
          </p:nvSpPr>
          <p:spPr>
            <a:xfrm flipV="1">
              <a:off x="838080" y="2566800"/>
              <a:ext cx="746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33360" y="21099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5680" y="21099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48440" y="21099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05560" y="21099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05560" y="25689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080" y="210996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33360" y="25689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95680" y="25689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48440" y="25689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838080" y="2490480"/>
              <a:ext cx="746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1600200" y="3200400"/>
            <a:ext cx="6019560" cy="838080"/>
            <a:chOff x="1600200" y="3200400"/>
            <a:chExt cx="6019560" cy="838080"/>
          </a:xfrm>
        </p:grpSpPr>
        <p:sp>
          <p:nvSpPr>
            <p:cNvPr id="645" name=""/>
            <p:cNvSpPr/>
            <p:nvPr/>
          </p:nvSpPr>
          <p:spPr>
            <a:xfrm>
              <a:off x="1600200" y="3200400"/>
              <a:ext cx="60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00200" y="361944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63680" y="320040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74720" y="320040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63680" y="361944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74720" y="361944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19760" y="361944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19760" y="320040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00200" y="354924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591560" y="3143160"/>
            <a:ext cx="5951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tor     customer-name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                    _y           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76520" y="4222800"/>
            <a:ext cx="5790960" cy="838080"/>
            <a:chOff x="1676520" y="4222800"/>
            <a:chExt cx="5790960" cy="838080"/>
          </a:xfrm>
        </p:grpSpPr>
        <p:sp>
          <p:nvSpPr>
            <p:cNvPr id="656" name=""/>
            <p:cNvSpPr/>
            <p:nvPr/>
          </p:nvSpPr>
          <p:spPr>
            <a:xfrm>
              <a:off x="1676520" y="46353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76520" y="46767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14600" y="42228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3400" y="42228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48160" y="42228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67480" y="422280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7480" y="4680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76520" y="422280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14600" y="4680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43400" y="4680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48160" y="4680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685800" y="4191120"/>
            <a:ext cx="7696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branch-name    loan-number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905120" y="5181480"/>
            <a:ext cx="5486400" cy="838440"/>
            <a:chOff x="1905120" y="5181480"/>
            <a:chExt cx="5486400" cy="838440"/>
          </a:xfrm>
        </p:grpSpPr>
        <p:sp>
          <p:nvSpPr>
            <p:cNvPr id="669" name=""/>
            <p:cNvSpPr/>
            <p:nvPr/>
          </p:nvSpPr>
          <p:spPr>
            <a:xfrm>
              <a:off x="1905120" y="518148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68960" y="518148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80360" y="518148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68960" y="5600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80360" y="5600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91520" y="560088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91520" y="518148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05120" y="554508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905120" y="560376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85800" y="5105520"/>
            <a:ext cx="77817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    customer-name 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y         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E41-75D9-462C-AE45-CCA4BAD7AF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튜플내의 모든 값을 변경하지 않고 일부 값을 변경할 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산자를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QB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는 사용자가 주 키 필드를 갱신하지 못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자산 값을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,000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로 갱신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잔고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이자를 지급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914400" y="3375000"/>
            <a:ext cx="7772400" cy="970200"/>
            <a:chOff x="914400" y="3375000"/>
            <a:chExt cx="7772400" cy="970200"/>
          </a:xfrm>
        </p:grpSpPr>
        <p:grpSp>
          <p:nvGrpSpPr>
            <p:cNvPr id="682" name=""/>
            <p:cNvGrpSpPr/>
            <p:nvPr/>
          </p:nvGrpSpPr>
          <p:grpSpPr>
            <a:xfrm>
              <a:off x="914400" y="3487680"/>
              <a:ext cx="7485120" cy="779400"/>
              <a:chOff x="914400" y="3487680"/>
              <a:chExt cx="7485120" cy="779400"/>
            </a:xfrm>
          </p:grpSpPr>
          <p:sp>
            <p:nvSpPr>
              <p:cNvPr id="683" name=""/>
              <p:cNvSpPr/>
              <p:nvPr/>
            </p:nvSpPr>
            <p:spPr>
              <a:xfrm>
                <a:off x="2209680" y="3487680"/>
                <a:ext cx="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267080" y="3487680"/>
                <a:ext cx="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00800" y="3487680"/>
                <a:ext cx="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381880" y="3487680"/>
                <a:ext cx="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381880" y="3925800"/>
                <a:ext cx="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14400" y="348768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209680" y="3925800"/>
                <a:ext cx="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267080" y="3925800"/>
                <a:ext cx="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08720" y="3925800"/>
                <a:ext cx="0" cy="34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32040" y="385128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14400" y="390996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914400" y="3375000"/>
              <a:ext cx="777240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branch      branch-name        branch-city             as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Perryridge                                   U.10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62120" y="4759200"/>
            <a:ext cx="7696080" cy="1353960"/>
            <a:chOff x="762120" y="4759200"/>
            <a:chExt cx="7696080" cy="1353960"/>
          </a:xfrm>
        </p:grpSpPr>
        <p:grpSp>
          <p:nvGrpSpPr>
            <p:cNvPr id="696" name=""/>
            <p:cNvGrpSpPr/>
            <p:nvPr/>
          </p:nvGrpSpPr>
          <p:grpSpPr>
            <a:xfrm>
              <a:off x="762120" y="4759200"/>
              <a:ext cx="7696080" cy="1353960"/>
              <a:chOff x="762120" y="4759200"/>
              <a:chExt cx="7696080" cy="1353960"/>
            </a:xfrm>
          </p:grpSpPr>
          <p:sp>
            <p:nvSpPr>
              <p:cNvPr id="697" name=""/>
              <p:cNvSpPr/>
              <p:nvPr/>
            </p:nvSpPr>
            <p:spPr>
              <a:xfrm>
                <a:off x="8381880" y="4800240"/>
                <a:ext cx="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381880" y="5259240"/>
                <a:ext cx="0" cy="85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62120" y="4759200"/>
                <a:ext cx="7696080" cy="13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count        branch-name          account-number      bal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.                                                                          _x*1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 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914400" y="4784400"/>
              <a:ext cx="7467480" cy="1328760"/>
              <a:chOff x="914400" y="4784400"/>
              <a:chExt cx="7467480" cy="132876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914400" y="5241600"/>
                <a:ext cx="7467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209680" y="4784400"/>
                <a:ext cx="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72000" y="4784400"/>
                <a:ext cx="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124760" y="4784400"/>
                <a:ext cx="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14400" y="478440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914400" y="5164920"/>
                <a:ext cx="74674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121520" y="5259240"/>
                <a:ext cx="0" cy="85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572000" y="5246280"/>
                <a:ext cx="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09680" y="5246280"/>
                <a:ext cx="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7A3-B1DA-4E48-A089-222B8CE224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Que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단순 질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튜플 변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데이터베이스의 수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집성 연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과 튜플 관계형 해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73B-2C83-4397-AB32-41B1EE073A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Quel 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University of California, Berkele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개발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ngre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시스템용 질의어로 소개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본 구조는 튜플 관계형 해석의 것과 동등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부분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는 세가지 유형의 절을 사용해 표현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 range of , retriev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튜플 변수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ange of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 내에 선언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릴레이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의 튜플 값에만 한정된 튜플 변수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선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etriev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의 기능과 유사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에는 선택 술어를 내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E1F-DD30-48E9-86BD-114B35F638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BE 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도메인 관계형 해석에 기반을 둔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대략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그래픽 질의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차원 구문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용자가 요청하는 릴레이션의 틀을 시스템이 생성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질의는 “예”로 표현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165-9500-42D0-9C8B-D1DD6FAFAD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질의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전형적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는 다음과 같은 형식이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는 튜플 변수이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는 릴레이션이다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각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400" spc="-1" strike="noStrike" baseline="-12000">
                <a:solidFill>
                  <a:srgbClr val="000000"/>
                </a:solidFill>
                <a:latin typeface="Arial"/>
              </a:rPr>
              <a:t>j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는 애트리뷰트이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.A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표기는 애트리뷰트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상의 튜플 변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값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미한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54440" y="2133720"/>
            <a:ext cx="476568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etriev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,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,...,t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.A 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7DF-79C6-4FBC-B910-FC8452A7E6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질의 구조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ntersect, unio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minu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같은 관계형 대수 연산자는 포함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는 달리 중첩 부 질의를 허용하지 않는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 안에 내포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etrieve - wher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을 가질 수 없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러한 제약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표현 능력을 감소시키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는 질의 표현을 위한 약간의 대안은 가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347-A3C6-4A72-936C-66FCB1FEF4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단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은행에 대출이 있는 모든 고객의 이름을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elvetica-Bold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중복을 제거하려면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, retrieve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절에 키워드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를 추가해야 한다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47760" y="4768920"/>
            <a:ext cx="594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.customer-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46040" y="2711520"/>
            <a:ext cx="4605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etrie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.customer-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797-A5F6-4BF4-B989-7942180A2B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여러 릴레이션에 대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은행에 대출과 예금을 모두 가진 고객의 이름을 찾아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47960" y="3352680"/>
            <a:ext cx="628164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. customer-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customer-name =s.customer-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52A-5C99-48CD-BAA2-63A0017E81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튜플 변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어떤 질의는 같은 릴레이션에 범위를 두는 두 개의 서로 다른 튜플 변수를 가질 필요가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Jones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와 같은 도시에 살고 있는 모든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29960" y="3886200"/>
            <a:ext cx="64335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. customer-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customer-name = “Jones” </a:t>
            </a:r>
            <a:r>
              <a:rPr b="1" lang="en-US" sz="2800" spc="-1" strike="noStrike">
                <a:solidFill>
                  <a:srgbClr val="000000"/>
                </a:solidFill>
                <a:latin typeface="Helvetica-Bold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customer-city =t.customer-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B6D-3B56-491B-AF74-D5D98F2586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튜플 변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질의가  한  릴레이션에 대한 하나의 튜플 변수만을  필요로  할  때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  range of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문을 생략하고  묵시적으로  선언되는  튜플  변수로서  릴레이션명 자체를 사용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대출과 예금을 모두 가진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22080" y="5029200"/>
            <a:ext cx="83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rrower.customer-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or.customer-name =borrower.custome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F74-2616-4A22-BBC7-63FD593457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의 집성 함수는 튜플들의 그룹에 대한 함수를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룹핑은 각 집성 표현식의 일부로서 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표현식은 다음과 같은 형식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.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.A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.A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s.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s.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s.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함수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ount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sum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vgu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의 하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튜플 변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B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애트리뷰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과 유사한 술어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B07-FDD3-41E1-99F8-76A25A393D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성 함수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countu, sumu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avgu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는 그들의 오퍼랜드에서 중복을 제거한다는 것을 제외하고는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count, sum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avg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각각과 동일하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집성 표현식은 상수가 나타날 수 있는 곳 어디에라도 나타날 수 있다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절 내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A1E-AD6B-49DD-B27B-B3B9C12434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24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모든 예금에 대한 평균 예금 잔고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trieve av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t.balanc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374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.branch-name = “Perryridg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평균 예금 잔고를 초과하는 모든 계좌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t.account-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.balance &gt;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u.balanc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.branch-name = “Perryridg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F9A-CED6-41C6-AD80-0FB00BC9FE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금 계좌가 있는 지점의 평균 예금 잔고를 초과하는 모든 계좌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튜플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.barnch-nam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서의 평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잔고를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튜플의 그룹을 형성하기 위해 집성 표현식 내에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는 다음과 같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triev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t.account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.balance &gt;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u.balance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t.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u.branch-name = t.branch-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F9F-C480-45E3-8C09-2346A50FDE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골격 테이블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ranch     branch-name     branch-city    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ustomer   customer-name   customer-street   customer-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  branch-name     loan-number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286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590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219320" y="1784520"/>
            <a:ext cx="7315200" cy="3853440"/>
            <a:chOff x="1219320" y="1784520"/>
            <a:chExt cx="7315200" cy="3853440"/>
          </a:xfrm>
        </p:grpSpPr>
        <p:grpSp>
          <p:nvGrpSpPr>
            <p:cNvPr id="118" name=""/>
            <p:cNvGrpSpPr/>
            <p:nvPr/>
          </p:nvGrpSpPr>
          <p:grpSpPr>
            <a:xfrm>
              <a:off x="1219320" y="1784520"/>
              <a:ext cx="5943600" cy="1218600"/>
              <a:chOff x="1219320" y="1784520"/>
              <a:chExt cx="5943600" cy="121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7162920" y="2393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19320" y="1784520"/>
                <a:ext cx="594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19320" y="2317680"/>
                <a:ext cx="594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19320" y="2393640"/>
                <a:ext cx="594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6360" y="1784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67440" y="1784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19920" y="1784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6360" y="2393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67440" y="2393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19920" y="2393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62920" y="1784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219320" y="4419360"/>
              <a:ext cx="5943600" cy="1218600"/>
              <a:chOff x="1219320" y="4419360"/>
              <a:chExt cx="5943600" cy="1218600"/>
            </a:xfrm>
          </p:grpSpPr>
          <p:sp>
            <p:nvSpPr>
              <p:cNvPr id="131" name=""/>
              <p:cNvSpPr/>
              <p:nvPr/>
            </p:nvSpPr>
            <p:spPr>
              <a:xfrm>
                <a:off x="1219320" y="4419360"/>
                <a:ext cx="594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19320" y="4952520"/>
                <a:ext cx="594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19320" y="5028840"/>
                <a:ext cx="594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8144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252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764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81440" y="50288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50288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7640" y="50288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6292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62920" y="50288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219320" y="3124080"/>
              <a:ext cx="7315200" cy="1158120"/>
              <a:chOff x="1219320" y="3124080"/>
              <a:chExt cx="7315200" cy="1158120"/>
            </a:xfrm>
          </p:grpSpPr>
          <p:sp>
            <p:nvSpPr>
              <p:cNvPr id="143" name=""/>
              <p:cNvSpPr/>
              <p:nvPr/>
            </p:nvSpPr>
            <p:spPr>
              <a:xfrm>
                <a:off x="1219320" y="36730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14960" y="3139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360" y="3139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05720" y="3139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534520" y="313956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14960" y="36730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2360" y="36730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36730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05720" y="36730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19320" y="31240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19320" y="359676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9FB-BA31-4E53-96D7-CD4251788A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행에 예금은 있으나 대출은 없는 모든 고객의 이름을 찾아라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depo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ange o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etrieve uniqu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t.customer-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here an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(u.loan-number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t.custome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u.cstomer-name = t.customer-name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를 가진 비교의 사용은 관계형 해석의 “존재한다” 한정자와 유사하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45A-C4B4-41C0-BD78-CFCAA1DFDBE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에 위치한 모든 지점에 예금을 가진 고객의 이름을 찾아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먼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내 지점의 수를 결정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이 수를 각 고객이 예금을 가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내 서로 다른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지점의 수와 비교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66840" y="3635280"/>
            <a:ext cx="703908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.customer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countu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s.branch-name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by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.account-number =t.account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nd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.branch-name =s.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nd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.branch-city = “Brooklyn”) 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countu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u.branch-name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.branch-city = “Brookly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323-9601-44A4-A9CD-401395C917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삭제의 형식은 다음과 같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튜플 변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묵시적으로 정의될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술어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어떠한 타당한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술어일 수 있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절이 생략되면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릴레이션내 모든 튜플이 삭제 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53560" y="2546280"/>
            <a:ext cx="2141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dele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0B2-4063-45F9-8CEE-C761F2AC4E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삭제 질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90360" y="1909440"/>
            <a:ext cx="754380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의 모든 튜플을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elet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모든 예금 레코드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elet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customer-name = “Smi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eedha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지점들의 모든 예금 레코드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Helvetica-Bold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Helvetica-Bold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Helvetica-Bold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elet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Helvetica-Bold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branch-name =u.branch-name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.branch-city = “Needha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726-1D2E-405A-A640-AB34C5A792B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삽입은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append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명령을 사용해 표현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지점에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의 잔고를 가진 계좌 번호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A-9732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를 삽입하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              </a:t>
            </a: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append to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account (branch-name = “Perryridge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account-number = A-973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alance = 7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D7A-A0D0-46CC-8171-3CC833AB4B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삽입 질의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 모든  대출  고객에게 새로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의 저축 예금 계좌를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새로운 저축 예금의 계좌 번호는 대출 번호로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ppend to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ccount (branch-name = t.branch-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ccount-number = t.loan-numb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alance = 2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branch-name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ppend to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epositor (customer-name = s.customer-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ccount-number = s.loan-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branch-name = “Perryridge”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and</a:t>
            </a:r>
            <a:r>
              <a:rPr b="0" lang="ko-KR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= s.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85C-CC65-47E0-8E66-A9988BA571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명령을 사용해 표현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계좌의 잔고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이자를 지급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예금 계좌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이자를 지급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외의 계좌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이자를 지급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38280" y="2732040"/>
            <a:ext cx="4597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pl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balance =1.05* t.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12200" y="4164120"/>
            <a:ext cx="43088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pl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balance = 1.06 *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balance </a:t>
            </a:r>
            <a:r>
              <a:rPr b="0" i="1" lang="en-US" sz="2000" spc="-1" strike="noStrike">
                <a:solidFill>
                  <a:srgbClr val="000000"/>
                </a:solidFill>
                <a:latin typeface="CMMI10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pl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(balance = 1.05 *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balance 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19A-C593-4C7B-90E3-BFF7209394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집합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inu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관계형 대수 연산은 포함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합 연산을 필요로 하는 질의를 구성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임시 릴레이션을 생성해야 한다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장을 사용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의 모든 예금주명을 가질 임시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생성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작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o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emp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은 이 질의의 결과를 가질 새로운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생성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72760" y="4403880"/>
            <a:ext cx="5592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trieve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uniq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.customer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DBA-314D-4CD8-ABBB-08587FAE373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에 예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출 또는 모두를 가진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이 없으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의 모든 대출자의 이름을 가지는 새로운 릴레이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생성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의 모든 대출자를 찾아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ppend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명령을 사용해 새로이 생성된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삽입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하여 질의를 완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68520" y="3962520"/>
            <a:ext cx="527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append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uniq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.customer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43040" y="5029200"/>
            <a:ext cx="430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.customer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FC5-1BBA-43CB-8213-BB5891ED1E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에 예금은 있으나 대출은 없는 모든 고객의 이름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작성하여 임시 릴레이션을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etrieve into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emp (u.customer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대출이 있는 고객을 삭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elet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.customer-name =s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em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이제 필요한 고객 리스트만 포함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작성하여 질의를 완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71640" y="5307120"/>
            <a:ext cx="430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.customer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4A7-BB83-4C5E-B65B-D91EB2CD2F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골격 테이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     customer-name  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   branch-name    account-number   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tor   customer-name    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19320" y="1812960"/>
            <a:ext cx="6476760" cy="3825000"/>
            <a:chOff x="1219320" y="1812960"/>
            <a:chExt cx="6476760" cy="3825000"/>
          </a:xfrm>
        </p:grpSpPr>
        <p:grpSp>
          <p:nvGrpSpPr>
            <p:cNvPr id="157" name=""/>
            <p:cNvGrpSpPr/>
            <p:nvPr/>
          </p:nvGrpSpPr>
          <p:grpSpPr>
            <a:xfrm>
              <a:off x="1219320" y="1812960"/>
              <a:ext cx="5715000" cy="1218960"/>
              <a:chOff x="1219320" y="1812960"/>
              <a:chExt cx="5715000" cy="1218960"/>
            </a:xfrm>
          </p:grpSpPr>
          <p:sp>
            <p:nvSpPr>
              <p:cNvPr id="158" name=""/>
              <p:cNvSpPr/>
              <p:nvPr/>
            </p:nvSpPr>
            <p:spPr>
              <a:xfrm>
                <a:off x="1219320" y="1812960"/>
                <a:ext cx="571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2346120"/>
                <a:ext cx="57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19320" y="2422440"/>
                <a:ext cx="57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90920" y="18129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00960" y="18129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90920" y="2422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800960" y="2422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34320" y="24224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934320" y="18129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219320" y="4419360"/>
              <a:ext cx="5715000" cy="1218600"/>
              <a:chOff x="1219320" y="4419360"/>
              <a:chExt cx="5715000" cy="1218600"/>
            </a:xfrm>
          </p:grpSpPr>
          <p:sp>
            <p:nvSpPr>
              <p:cNvPr id="168" name=""/>
              <p:cNvSpPr/>
              <p:nvPr/>
            </p:nvSpPr>
            <p:spPr>
              <a:xfrm>
                <a:off x="1219320" y="4419360"/>
                <a:ext cx="571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19320" y="4952520"/>
                <a:ext cx="57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19320" y="5028480"/>
                <a:ext cx="57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1496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4832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14960" y="5028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8320" y="5028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34320" y="441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4320" y="50284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219320" y="3124080"/>
              <a:ext cx="6476760" cy="1142280"/>
              <a:chOff x="1219320" y="3124080"/>
              <a:chExt cx="6476760" cy="114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1219320" y="3124080"/>
                <a:ext cx="64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19320" y="3580920"/>
                <a:ext cx="64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19320" y="3657240"/>
                <a:ext cx="64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61960" y="31240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67080" y="31240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53080" y="31240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96080" y="31240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61960" y="36572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67080" y="36572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96080" y="36572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3080" y="365724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DE5-533F-447E-A497-EAFA8CC90F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과 튜플 관계형 해석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아래와 같은 튜플 관계형 해석 표현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40200" y="2371680"/>
            <a:ext cx="50781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ange of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etrieve uniqu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,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,...,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Arial"/>
              </a:rPr>
              <a:t> j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876920"/>
            <a:ext cx="678204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{ t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[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A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t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A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^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[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A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t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A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[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A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j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t 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597-AEF7-4BAE-A01D-A385F7B57D2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과 튜플 관계형 해석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각 튜플은 한정된 범위의 릴레이션내 튜플들의 값을 취해야 한다는 제약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[r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= 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=  t[r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t[r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= t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triev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t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내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로 부과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한 허용 가능한 값들의 제약 조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ue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집성 함수와 임시 릴레이션에의 삽입과 삭제라는 수단으로 관계형 대수의 기능을 대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9D9-6016-416A-AECA-78BF854038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규칙의 구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비순환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 시맨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안전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에서의 관계형 연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에서의 순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순환의 능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6F6-6A09-4659-82C1-4DD4ED82873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환 질의를 허용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 논리 기반 언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차 논리에 기반을 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램은 뷰를 정의하는 규칙들의 집합으로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예금의 계좌 번호와 잔고를 포함하는 뷰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정의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계좌 번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-217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잔고를 검색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71600" y="3962520"/>
            <a:ext cx="647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v1( A, B) :- account(“Perryridge”, A, B), B </a:t>
            </a:r>
            <a:r>
              <a:rPr b="0" lang="ko-KR" sz="2400" spc="-1" strike="noStrike">
                <a:solidFill>
                  <a:srgbClr val="000000"/>
                </a:solidFill>
                <a:latin typeface="CMMI10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7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68000" y="5105520"/>
            <a:ext cx="25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v1(“A-217”, 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215-3682-418E-B406-4172E3D4A80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규칙은 뷰 릴레이션이 포함해야 할 튜플들의 집합을 정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릴레이션의 튜플들의 집합은 뷰 릴레이션에 대한 규칙들로 정의된 모든  튜플들의 집합의 합집합으로 정의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에 예금은 있지만 대출은 없는 고객의 이름을 내포하는 뷰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정의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326960" y="3276720"/>
            <a:ext cx="689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-rate( A, 0)  :- account(N, A, B), B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-rate( A, 5)  :- account(N, A, B), B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8320" y="4892760"/>
            <a:ext cx="59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(N) :- depositor(N, A),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-borrower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-borrower(N) :- borrower(N, 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C3F-00B8-4DDE-9411-CAD01CB946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칙의 구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긍정문은 다음과 같은 형식을 갖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개의 애트리뷰트를 가진 릴레이션명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상수 또는 변수이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부정문은 다음과 같은 형식을 갖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6720" y="2666880"/>
            <a:ext cx="2590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 t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52680" y="5334120"/>
            <a:ext cx="2590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t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AB7-F6B3-4307-ACF6-B65DD8147D4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칙의 구문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은 리터럴로 구축되며 다음과 같은 형식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리터럴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머리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리터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(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t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1001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몸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리터럴의 나머지 부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실이란 다음과 같은 형식의 몸체가 없는 규칙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는 튜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있음을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666880" y="2514600"/>
            <a:ext cx="4038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:-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17680" y="4800600"/>
            <a:ext cx="2385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57D-9AFF-4CCD-837C-62EBCA0991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칙의 시맨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의 근본 사례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순히 사례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규칙내의 각 변수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상수로 대치한 결과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정의하고 있는 규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 규칙의 사례화 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 사례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몸체는 다음과 같으면 사실들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베이스 사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만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R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몸체내의 각 긍정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사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포하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R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몸체내의 각 부정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ot q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사실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000" spc="-1" strike="noStrike" baseline="-12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포하지 않으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51460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v1(A, B) :- account(“Perryridge”, A, B), B 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7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66680" y="3276720"/>
            <a:ext cx="7620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v1(“A-217”, 750) :- account(“Perryridge”, “A-217”, 7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750 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7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D72-9AD8-4611-85BC-D949603B9E8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칙의 시맨틱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어진 사실들의 집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부터 추론할 수 있는 사실들의 집합은 다음과 같이 규칙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용해 정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규칙들의 집합 </a:t>
            </a:r>
            <a:r>
              <a:rPr b="0" i="1" lang="ko-KR" sz="24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Brush Script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= {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…, R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주어지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정의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3000" y="2971800"/>
            <a:ext cx="739152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(R, I)  =  {p(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t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| p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t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의 머리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이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의 몸체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내에서 만족되는  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의 사례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가   존재한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06640" y="5334120"/>
            <a:ext cx="7353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fer(</a:t>
            </a:r>
            <a:r>
              <a:rPr b="0" i="1" lang="ko-KR" sz="24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, I) = infer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fer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fer(R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DED-88CD-4DD9-A04B-EF54FB456DA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규칙의 층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각 계좌에 대한 이자를 정의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 릴레이션의 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47320" y="2209680"/>
            <a:ext cx="75765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terest(A, I) :- perryridge-account(A, B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terest-rate(A, R), I = B *</a:t>
            </a:r>
            <a:r>
              <a:rPr b="0" i="1" lang="ko-KR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/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erryridge-account(A, B) :- account(“Perryridge”, A, 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terest-rate(A, 0) :- account(N, A, B), B 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lt;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nterest-rate(A, 5) :- account(N, A, B), B 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gt;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083320" y="4343400"/>
            <a:ext cx="4851000" cy="1931040"/>
            <a:chOff x="2083320" y="4343400"/>
            <a:chExt cx="4851000" cy="1931040"/>
          </a:xfrm>
        </p:grpSpPr>
        <p:grpSp>
          <p:nvGrpSpPr>
            <p:cNvPr id="804" name=""/>
            <p:cNvGrpSpPr/>
            <p:nvPr/>
          </p:nvGrpSpPr>
          <p:grpSpPr>
            <a:xfrm>
              <a:off x="2083320" y="4343400"/>
              <a:ext cx="4851000" cy="1931040"/>
              <a:chOff x="2083320" y="4343400"/>
              <a:chExt cx="4851000" cy="193104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2083320" y="4343400"/>
                <a:ext cx="4851000" cy="1931040"/>
                <a:chOff x="2083320" y="4343400"/>
                <a:chExt cx="4851000" cy="19310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3886200" y="4354200"/>
                  <a:ext cx="3048120" cy="333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886200" y="4955040"/>
                  <a:ext cx="3048120" cy="6674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86200" y="5889960"/>
                  <a:ext cx="3048120" cy="333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spcBef>
                      <a:spcPts val="499"/>
                    </a:spcBef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699440" y="4343400"/>
                  <a:ext cx="1169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158560" y="4343400"/>
                  <a:ext cx="9835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ayer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020840" y="4959360"/>
                  <a:ext cx="2481840" cy="7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interest-ra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perryridge-accou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158560" y="5076000"/>
                  <a:ext cx="9835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ayer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083320" y="5877000"/>
                  <a:ext cx="1285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taba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810320" y="5877000"/>
                  <a:ext cx="11314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ccou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5" name=""/>
              <p:cNvSpPr/>
              <p:nvPr/>
            </p:nvSpPr>
            <p:spPr>
              <a:xfrm flipV="1">
                <a:off x="5410080" y="4687920"/>
                <a:ext cx="0" cy="26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V="1">
              <a:off x="5410440" y="5622480"/>
              <a:ext cx="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8DA-4D4B-48C4-BCB5-88338F0C32B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단일 릴레이션에 대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지점의 모든 대출 번호를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loan    branch-name    loan-number    am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erryridge            P._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 _x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는 변수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선택 사항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 P.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rint (display)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를 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복은 제거 된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loan    branch-name    loan-number    am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Perryridge            P.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중복이 제거 되지 않는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20800" y="2303640"/>
            <a:ext cx="6585120" cy="3222000"/>
            <a:chOff x="1720800" y="2303640"/>
            <a:chExt cx="6585120" cy="3222000"/>
          </a:xfrm>
        </p:grpSpPr>
        <p:grpSp>
          <p:nvGrpSpPr>
            <p:cNvPr id="192" name=""/>
            <p:cNvGrpSpPr/>
            <p:nvPr/>
          </p:nvGrpSpPr>
          <p:grpSpPr>
            <a:xfrm>
              <a:off x="1752480" y="2303640"/>
              <a:ext cx="6553440" cy="990000"/>
              <a:chOff x="1752480" y="2303640"/>
              <a:chExt cx="6553440" cy="990000"/>
            </a:xfrm>
          </p:grpSpPr>
          <p:sp>
            <p:nvSpPr>
              <p:cNvPr id="193" name=""/>
              <p:cNvSpPr/>
              <p:nvPr/>
            </p:nvSpPr>
            <p:spPr>
              <a:xfrm>
                <a:off x="1752480" y="2303640"/>
                <a:ext cx="65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52480" y="2760480"/>
                <a:ext cx="65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52480" y="2836800"/>
                <a:ext cx="65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90920" y="230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00600" y="230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34320" y="230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305920" y="230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90920" y="2836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0600" y="2836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34320" y="2836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05920" y="2836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720800" y="4535640"/>
              <a:ext cx="6553080" cy="990000"/>
              <a:chOff x="1720800" y="4535640"/>
              <a:chExt cx="6553080" cy="990000"/>
            </a:xfrm>
          </p:grpSpPr>
          <p:sp>
            <p:nvSpPr>
              <p:cNvPr id="205" name=""/>
              <p:cNvSpPr/>
              <p:nvPr/>
            </p:nvSpPr>
            <p:spPr>
              <a:xfrm>
                <a:off x="1720800" y="453564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0800" y="499248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800" y="5068800"/>
                <a:ext cx="65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58880" y="4535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68560" y="4535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02280" y="4535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273880" y="4535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58880" y="5068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68560" y="5068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902280" y="5068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273880" y="506880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177-2075-40CB-9D3A-67A6DD6D78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규칙의 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식적으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을 정의하고 있는 규칙들의 몸체에서 사용된 모든 릴레이션들이 데이터베이스에 저장되어 있으면 릴레이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에 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을 정의하고 있는 규칙들의 몸체에서 사용된 모든 릴레이션들이 데이터베이스 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에 저장되어 있으면 릴레이션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에 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으면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+1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에 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 2, …, 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에 존재하지 않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정의하고 있는 규칙들의 몸체에서 사용된 모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들이 데이터베이스 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 2, …, i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에 저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되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CF3-0790-470C-859E-33B830B2BDF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프로그램의 시맨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어진 프로그램내의 층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 2, …, 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ko-KR" sz="20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층 내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릴레이션들을 정의하고 있는 모든 규칙들의 집합을 나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낸다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데이터베이스에 저장된 사실들의 집합으로 정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infer(</a:t>
            </a:r>
            <a:r>
              <a:rPr b="0" i="1" lang="ko-KR" sz="20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정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램에 의해 정의된 뷰 릴레이션내 사실들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램의 시맨틱이라 함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가장 상위층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응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사실들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으로 주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신에 관계형 대수에서 처럼 뷰 확장을 사용해 시맨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정의할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와 같은 정의가 순환 같은 확장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처리하는 데는 보다 낫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845-F9EA-4C2B-B461-F5440E274E3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안정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한한 답을 생성하는 규칙을 작성할 수도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러한 가능성을 피하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atalo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은 다음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500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안전성 조건을 만족해야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의 머리부에 나타나는 모든 변수는 규칙의 몸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 비 산술 긍정문 내에 또한 나타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의 몸체내 부정문에 나타나는 모든 변수는 규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몸체내 어떤 긍정문에 또한 나타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83560" y="2362320"/>
            <a:ext cx="465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gt(X, Y) :- X 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-in-loan(B, L) :- </a:t>
            </a: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not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oan(B,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472-7CDD-4C9D-97FC-98EC50D2465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관계형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애트리뷰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ccount-nam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추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카티전 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합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차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88800" y="2286000"/>
            <a:ext cx="346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(A) :- account(N, A, 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379600" y="3048120"/>
            <a:ext cx="6307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8600" y="4191120"/>
            <a:ext cx="4791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:-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:-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4280" y="5257800"/>
            <a:ext cx="4762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:-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EB3-215E-4DAD-8ABE-5EF0563418B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순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직간접으로 관리하고 있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모든 튜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X, Y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포하는 뷰 릴레이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mp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생성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one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직간접 부하 직원들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mployee-name       manag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lon                         Barin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arinsky                  Esto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rbin                      Du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manager          Duarte                     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stovar                    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Jones                        Kl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nsal                      kl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82440" y="2286000"/>
            <a:ext cx="4720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mpl(X, Y) :- manager(X, 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mpl(X, Y) :- manager(X, Z), empl(Z, 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33920" y="3200400"/>
            <a:ext cx="267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? empl(X, “Jones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684520" y="3675240"/>
            <a:ext cx="4114800" cy="2590200"/>
            <a:chOff x="2684520" y="3675240"/>
            <a:chExt cx="4114800" cy="2590200"/>
          </a:xfrm>
        </p:grpSpPr>
        <p:sp>
          <p:nvSpPr>
            <p:cNvPr id="835" name=""/>
            <p:cNvSpPr/>
            <p:nvPr/>
          </p:nvSpPr>
          <p:spPr>
            <a:xfrm>
              <a:off x="2684520" y="3675240"/>
              <a:ext cx="4114800" cy="259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41920" y="3675240"/>
              <a:ext cx="0" cy="259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84520" y="40478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A5D-5CF6-484F-8659-F05D132BB35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 순환의 시맨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칙들의 집합 </a:t>
            </a:r>
            <a:r>
              <a:rPr b="0" i="1" lang="ko-KR" sz="20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내포하고 있는 순환 프로그램의 뷰 릴레이션들이 반복 프로시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atalog-fix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의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001"/>
              </a:spcAft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산된 사실들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내포하기 위해 정의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시저의 끝에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fer(</a:t>
            </a:r>
            <a:r>
              <a:rPr b="0" i="1" lang="ko-KR" sz="20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I) = 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프로그램의 고정점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atalog-Fix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프로그램내의 규칙에 부정문을 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 않는 한 참인 사실만을 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2955960"/>
            <a:ext cx="53341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procedu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log-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 = set of facts in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d_I =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 = I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nfer(</a:t>
            </a:r>
            <a:r>
              <a:rPr b="0" i="1" lang="ko-KR" sz="2000" spc="-1" strike="noStrike">
                <a:solidFill>
                  <a:srgbClr val="000000"/>
                </a:solidFill>
                <a:latin typeface="Brush Script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until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 = Old_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9CB-4CF5-4FEE-81AD-9DE435D5A6A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순환의 능력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환 뷰는 순환 또는 반복 없이는 작성할 수 없는 이행 폐포 질의와 같은 질의를 작성할 수 있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정의하는데 사용된 표현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은 두 개의 사실들의 집합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주어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단조롭다고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시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atalog-Fixpoi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함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f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단조로우면 건전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자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     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만을 사용해 정의한 관계형 대수 뷰는 단조롭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사용한 뷰는 단조롭지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971440" y="4589280"/>
            <a:ext cx="305280" cy="152640"/>
            <a:chOff x="2971440" y="4589280"/>
            <a:chExt cx="305280" cy="152640"/>
          </a:xfrm>
        </p:grpSpPr>
        <p:sp>
          <p:nvSpPr>
            <p:cNvPr id="844" name=""/>
            <p:cNvSpPr/>
            <p:nvPr/>
          </p:nvSpPr>
          <p:spPr>
            <a:xfrm>
              <a:off x="2971800" y="458964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76720" y="458964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2971800" y="458928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971440" y="4589280"/>
              <a:ext cx="30492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759-FF8C-40AF-A774-1C9BCC4F827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단일 릴레이션에 대한 질의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600200" y="2590920"/>
            <a:ext cx="5791320" cy="707760"/>
            <a:chOff x="1600200" y="2590920"/>
            <a:chExt cx="5791320" cy="707760"/>
          </a:xfrm>
        </p:grpSpPr>
        <p:sp>
          <p:nvSpPr>
            <p:cNvPr id="218" name=""/>
            <p:cNvSpPr/>
            <p:nvPr/>
          </p:nvSpPr>
          <p:spPr>
            <a:xfrm>
              <a:off x="1600200" y="29264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200" y="2988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259092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259092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259092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1520" y="259092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298872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00200" y="25909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280" y="298872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7080" y="298872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298872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600200" y="3637080"/>
            <a:ext cx="5791320" cy="674280"/>
            <a:chOff x="1600200" y="3637080"/>
            <a:chExt cx="5791320" cy="674280"/>
          </a:xfrm>
        </p:grpSpPr>
        <p:sp>
          <p:nvSpPr>
            <p:cNvPr id="230" name=""/>
            <p:cNvSpPr/>
            <p:nvPr/>
          </p:nvSpPr>
          <p:spPr>
            <a:xfrm>
              <a:off x="1600200" y="3957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200" y="40161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363708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63708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2200" y="363708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3637080"/>
              <a:ext cx="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91520" y="40161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00200" y="363708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280" y="40161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7080" y="40161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401616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600200" y="4975200"/>
            <a:ext cx="5791320" cy="696600"/>
            <a:chOff x="1600200" y="4975200"/>
            <a:chExt cx="5791320" cy="696600"/>
          </a:xfrm>
        </p:grpSpPr>
        <p:sp>
          <p:nvSpPr>
            <p:cNvPr id="242" name=""/>
            <p:cNvSpPr/>
            <p:nvPr/>
          </p:nvSpPr>
          <p:spPr>
            <a:xfrm>
              <a:off x="1600200" y="530568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0200" y="536688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38280" y="497520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67080" y="497520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497520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497520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3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0200" y="49752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3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7080" y="53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5366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대출의 상세 내역을 디스플레이 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 branch-name    loan-number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_x                 P._y             P._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법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 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략한 표기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 branch-name    loan-number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7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대출액을 가진 모든 대출의 대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번호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 branch-name    loan-number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             &gt;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1EA-2EC9-4D08-AF61-A5F198BEAF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단일 릴레이션에 대한 질의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Jone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게 공동으로 이루어진 모든 대출의 대출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orrower    customer-name   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mith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P.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Jones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mith, Jone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둘 다에게 이루어진 모든 대출의 대출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orrower    customer-name   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mith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P.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Jones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P._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953400" y="-849240"/>
          <a:ext cx="2450880" cy="22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3400" y="-849240"/>
                    <a:ext cx="2450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1981080" y="2625840"/>
            <a:ext cx="5562720" cy="3166920"/>
            <a:chOff x="1981080" y="2625840"/>
            <a:chExt cx="5562720" cy="3166920"/>
          </a:xfrm>
        </p:grpSpPr>
        <p:grpSp>
          <p:nvGrpSpPr>
            <p:cNvPr id="259" name=""/>
            <p:cNvGrpSpPr/>
            <p:nvPr/>
          </p:nvGrpSpPr>
          <p:grpSpPr>
            <a:xfrm>
              <a:off x="1981080" y="2625840"/>
              <a:ext cx="5562720" cy="1218600"/>
              <a:chOff x="1981080" y="2625840"/>
              <a:chExt cx="5562720" cy="1218600"/>
            </a:xfrm>
          </p:grpSpPr>
          <p:sp>
            <p:nvSpPr>
              <p:cNvPr id="260" name=""/>
              <p:cNvSpPr/>
              <p:nvPr/>
            </p:nvSpPr>
            <p:spPr>
              <a:xfrm>
                <a:off x="1981080" y="262584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1080" y="3006720"/>
                <a:ext cx="55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81080" y="3082680"/>
                <a:ext cx="55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15960" y="26258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6600" y="26258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15960" y="30826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66600" y="30826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43800" y="30826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43800" y="26258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981080" y="4573440"/>
              <a:ext cx="5562720" cy="1219320"/>
              <a:chOff x="1981080" y="4573440"/>
              <a:chExt cx="5562720" cy="1219320"/>
            </a:xfrm>
          </p:grpSpPr>
          <p:sp>
            <p:nvSpPr>
              <p:cNvPr id="270" name=""/>
              <p:cNvSpPr/>
              <p:nvPr/>
            </p:nvSpPr>
            <p:spPr>
              <a:xfrm>
                <a:off x="1981080" y="457344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81080" y="4954680"/>
                <a:ext cx="55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81080" y="5030640"/>
                <a:ext cx="55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15960" y="45734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66600" y="45734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15960" y="5030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6600" y="5030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43800" y="50306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543800" y="45734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8FC-BA04-4628-9453-B2C7F81A3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여러 릴레이션에 대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지점에서 대출을 받은 모든 고객의 이름을 찾아라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an    branch-name    loan-number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ryridge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orrower     customer-name     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._y                      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828800" y="3241800"/>
            <a:ext cx="5791320" cy="2317680"/>
            <a:chOff x="1828800" y="3241800"/>
            <a:chExt cx="5791320" cy="2317680"/>
          </a:xfrm>
        </p:grpSpPr>
        <p:grpSp>
          <p:nvGrpSpPr>
            <p:cNvPr id="282" name=""/>
            <p:cNvGrpSpPr/>
            <p:nvPr/>
          </p:nvGrpSpPr>
          <p:grpSpPr>
            <a:xfrm>
              <a:off x="1828800" y="3241800"/>
              <a:ext cx="5791320" cy="869760"/>
              <a:chOff x="1828800" y="3241800"/>
              <a:chExt cx="5791320" cy="869760"/>
            </a:xfrm>
          </p:grpSpPr>
          <p:sp>
            <p:nvSpPr>
              <p:cNvPr id="283" name=""/>
              <p:cNvSpPr/>
              <p:nvPr/>
            </p:nvSpPr>
            <p:spPr>
              <a:xfrm>
                <a:off x="1828800" y="365436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28800" y="373068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66880" y="324180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95680" y="324180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00800" y="324180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20120" y="3241800"/>
                <a:ext cx="0" cy="41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20120" y="3730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8800" y="324180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66880" y="3730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95680" y="3730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0800" y="3730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28800" y="4568760"/>
              <a:ext cx="5790960" cy="990720"/>
              <a:chOff x="1828800" y="4568760"/>
              <a:chExt cx="5790960" cy="990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828800" y="4568760"/>
                <a:ext cx="579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28800" y="5001840"/>
                <a:ext cx="579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5064120"/>
                <a:ext cx="579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18400" y="456876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57960" y="456876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18400" y="506412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57960" y="506412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19760" y="506412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19760" y="456876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359-6DEF-47FC-A25B-88FF963A2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6:09:58Z</dcterms:created>
  <dc:creator>서울산업대학교 교수 석상기</dc:creator>
  <dc:description/>
  <dc:language>en-US</dc:language>
  <cp:lastModifiedBy>.</cp:lastModifiedBy>
  <dcterms:modified xsi:type="dcterms:W3CDTF">1999-06-16T14:20:18Z</dcterms:modified>
  <cp:revision>56</cp:revision>
  <dc:subject/>
  <dc:title>제 5 장 기타 관계형 언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