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9C90-20D2-4CCF-BC4A-1CB989AC2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A1C-B796-45A6-A0B8-FB702551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2938-774B-4961-995D-55F12677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16DD-E00A-4EF6-A226-35EB450A5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A4F2-444F-4E03-9A15-49B882CF1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0899-7611-4A53-AA28-4EF22E2B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A40C-5F0F-4914-903C-A908A42C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13FA-F703-49BD-B043-01119E78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9344-3E93-4E2D-8A0A-D69133B4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007AB-3658-4E16-8562-F2BCCB72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F616-7F6C-40F3-92CC-BE28CDCD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FEF5-CD7E-4750-B5B1-1B3CFC1C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FFC5-019E-4EB9-B90E-7BDD0DC6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A6DB-FF36-4557-A8D1-EC89A602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05EA-7A63-4328-915C-3AEC41C4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EF9B-4774-492C-B4DD-CFF6FC56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85F0-C54E-4609-B8D1-0F1A02FD2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1FC2-BD1B-4925-B559-FC87BCEF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A7C-93CD-4268-809C-15E9D68E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1AF1-363D-4C03-A8D6-BF7E9024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486B-7B6E-4861-A784-72DB6AC0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9F7F-6D8D-4DA6-8252-FF882545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EFDB-BF09-4492-96B3-6006F1C0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A86-89DD-46FE-8A8C-7BF98648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9C0F-E299-4F97-BCA7-5BF471E60DB4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6503-A388-4B66-8144-2BD2E56B4D34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제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장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본 구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합 연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성 함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널 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중첩 부 질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도 릴레이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베이스의 수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죠인 릴레이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데이터 정의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385-982E-44B9-B265-B3443D785A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튜플 변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튜플 변수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의 사용을 통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에서 정의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같은 지점에 대출이 있는 모든 고객명과 대출 번호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, T.loan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, loa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.loan-number = S.loan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위치한 어떤 지점보다 더 많은 자산을 가진 모든 지점명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.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, bran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.assets &gt; S.asse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.branch-city=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C9F6-C5C3-44F4-9CD8-81E1F08851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스트링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는 문자열 비교를 위한 문자열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매칭 연산자를 내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패턴은 두 개의 특수 문자를 사용해 기술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%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어떠한 부 문자열과 부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_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어떤 문자와 부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거리명에 부 문자열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내포한 모든 고객명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stree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“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%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름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%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와 부합하는 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Main\%”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ca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“\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DA3B-9CC5-4598-9906-F619F40054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튜플 출력의 순서화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대출이 있는 모든 고객명을 알파벳 순서로 나열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in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,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.loan-number = loan.loan-num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name = “Perryrid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 by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애트리뷰트에 대해 내림차순으로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s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오름차순으로는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c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지정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오름차순이 기본 값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요청을 받으면 정렬을 수행해야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많은 수의 튜플을 정렬하는데 비용이 많이 들어가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필요할 때만 정렬하는 것이 바람직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18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B14E-9369-4FC1-8AB0-537F848900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중복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중복이 있는 릴레이션에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은 결과에 얼마나 많은 튜플 사본이 나타나게 할 지를 정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관계형 대수 연산자의 어떤 다중 집합 버전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중 집합 릴레이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주어지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1.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의 튜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사본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개 있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 선택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만족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ko-KR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에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개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본이 존재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의 튜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각 사본에 대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사본이 존재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은 단일 튜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추출을 의미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튜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본이 있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튜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본이 있으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에 튜플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·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개의 사본이 존재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A0CF-0313-4141-B176-1336745C1B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중복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스키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B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가진 릴레이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과 스키마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가진 릴레이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다음과 같은 다중 집합이라 하자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{(1,a),(2,a)}  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{(2),(3),(3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은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),(a)}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되고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아래와 같이 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{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2)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2)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3)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3)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3)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,3)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아래와 같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중복 시맨틱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음과 같은 표현식의 다중 집합 버전과 동등하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 A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FE2B-4670-438A-AB61-D18DD45CCC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집합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합 연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on, 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는 릴레이션에 연산하며 관계형 대수 연산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에 대응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위의 각 연산은 자동으로 종복을 제거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모든 중복을 유지하려면 상응하는 다중 집합 버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on 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 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 al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튜플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번 나타나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번 나타난다고 가정하면 다음과 같이 나타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on 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+ 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s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(m,n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(0, m-n)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E1D-A0F6-4568-9C1B-FF5850F72D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집합연산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금 또는 모두를 가진 고객을 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osi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rr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출과 예금을 모두 가진 고객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osi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s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rr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금은 있으나 대출은 없는 고객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osi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orr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E35-F4CB-4ECF-9810-847D61D11E7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집성 함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이들 함수는 릴레이션의 행의 다중 집합 값에 연산하여 단일 값을 돌려준다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g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평균 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최소 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최대 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총 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t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값의 개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2A1C-C3DB-44D0-8425-0ABE0AA827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집성함수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의 평균 예금 잔고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av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-name = “Perryridg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stome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의 튜플 수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cou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행의 예금자 수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count(distin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ustomer-na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epos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C3E2-006D-4CBE-A677-1A8BED2AAC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집성함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각 지점의 예금자 수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branch-name,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count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distinct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customer-nam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depositor, accou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depositor.account-number =  account.account-numbe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9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r>
              <a:rPr b="0" i="1" lang="en-US" sz="2300" spc="-1" strike="noStrike">
                <a:solidFill>
                  <a:srgbClr val="000000"/>
                </a:solidFill>
                <a:latin typeface="Times New Roman"/>
              </a:rPr>
              <a:t> branch-nam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성 함수 외부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에 있는 애트리뷰트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리스트 내에 나타나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3352-D150-41FD-998E-9803EF8ED6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기본 구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집합과 수정 및 강화된 관계형 연산에 기초를 두고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형적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는 다음과 같은 형식을 갖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애트리뷰트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릴레이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술어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 질의는 다음 관계형 대수 표현식과 동등하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10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의 결과는 릴레이션이다</a:t>
            </a:r>
            <a:r>
              <a:rPr b="0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D8C-2706-4066-955C-E45D60B5C7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집성함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ving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평균 예금 잔고가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을 초과하는 모든 지점명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-name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a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ing av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alance) &gt; 1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유의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의 술어는 그룹이 이루어진 후에 적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"/>
              </a:spcBef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E5F-B430-4B67-842C-A24D7C7B857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널 값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어떤 애트리뷰트에 대해 튜플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l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로 표시되는 널 값을 가질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널은 알려지지 않은 값이나 존재하지 않는 값을 나타낸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널을 내포한 산술 표현식의 결과는 널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대략 말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널을 내포한 모든 비교는 거짓을 돌려준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보다 정확히 말하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널을 가진 어떤 비교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돌려준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ru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unknown) = true,   (fal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unknown) =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unknow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unknown) = unknown,  (tru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unknown) = unknow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fals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unknown) = false,  (unknow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unknown) =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절 술어의 결과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으로 평가하면 거짓으로 취급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s unknow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은 술어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으로 평가하면 참으로 평가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36D-7D42-4387-BA81-23237F7EAF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널 값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 내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널 값이 있는 모든 대출 번호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oan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mou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s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대출액의 총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su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amou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의 문장은 널 값은 무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널이 아닌 금액이 없으면 결과는 널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nt(*)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제외한 모든 집성 연산은 집성 애트리뷰트 상에 널 값을 가진 튜플은 무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807F-F20A-4D36-8150-9AACC14E6D6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중첩 부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서는 중첩 부 질의 기법을 제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부 질의는 다른 질의 내에 내포되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-from-wher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표현식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부 질의의 공통적인 사용은 집합 멤버쉽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집합 비교 및 집합 수의 테스트를 수행하는 것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14C7-B385-4BB9-B2A0-8C2EE67517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집합 멤버쉽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(t =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355120" y="2514600"/>
            <a:ext cx="4186440" cy="3367800"/>
            <a:chOff x="2355120" y="2514600"/>
            <a:chExt cx="4186440" cy="3367800"/>
          </a:xfrm>
        </p:grpSpPr>
        <p:grpSp>
          <p:nvGrpSpPr>
            <p:cNvPr id="156" name=""/>
            <p:cNvGrpSpPr/>
            <p:nvPr/>
          </p:nvGrpSpPr>
          <p:grpSpPr>
            <a:xfrm>
              <a:off x="2355120" y="2520720"/>
              <a:ext cx="4111560" cy="1061640"/>
              <a:chOff x="2355120" y="2520720"/>
              <a:chExt cx="4111560" cy="1061640"/>
            </a:xfrm>
          </p:grpSpPr>
          <p:sp>
            <p:nvSpPr>
              <p:cNvPr id="157" name=""/>
              <p:cNvSpPr/>
              <p:nvPr/>
            </p:nvSpPr>
            <p:spPr>
              <a:xfrm>
                <a:off x="4757400" y="252072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355120" y="2868480"/>
                <a:ext cx="788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(5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890520" y="286200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57400" y="28684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7480" y="2868480"/>
                <a:ext cx="979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u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57400" y="32162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4494240" y="2514600"/>
              <a:ext cx="681120" cy="1041120"/>
              <a:chOff x="4494240" y="2514600"/>
              <a:chExt cx="681120" cy="1041120"/>
            </a:xfrm>
          </p:grpSpPr>
          <p:sp>
            <p:nvSpPr>
              <p:cNvPr id="164" name=""/>
              <p:cNvSpPr/>
              <p:nvPr/>
            </p:nvSpPr>
            <p:spPr>
              <a:xfrm>
                <a:off x="4494240" y="2514600"/>
                <a:ext cx="93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94240" y="25146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94240" y="251460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94240" y="2514600"/>
                <a:ext cx="93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94240" y="25146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494240" y="251460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03600" y="2514600"/>
                <a:ext cx="66204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03600" y="2514600"/>
                <a:ext cx="66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165640" y="2514600"/>
                <a:ext cx="97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165640" y="25146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165640" y="2514600"/>
                <a:ext cx="18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165640" y="2514600"/>
                <a:ext cx="97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165640" y="25146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165640" y="2514600"/>
                <a:ext cx="18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494240" y="2520720"/>
                <a:ext cx="9360" cy="34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494240" y="2520720"/>
                <a:ext cx="144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65640" y="2520720"/>
                <a:ext cx="9720" cy="34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65640" y="2520720"/>
                <a:ext cx="180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94240" y="2862000"/>
                <a:ext cx="93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94240" y="286200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94240" y="286200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503600" y="2862000"/>
                <a:ext cx="66204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503600" y="2862000"/>
                <a:ext cx="6620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165640" y="2862000"/>
                <a:ext cx="97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165640" y="286200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65640" y="286200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494240" y="2868480"/>
                <a:ext cx="9360" cy="33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494240" y="2868480"/>
                <a:ext cx="1440" cy="33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65640" y="2868480"/>
                <a:ext cx="9720" cy="339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165640" y="2868480"/>
                <a:ext cx="1800" cy="33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494240" y="3208320"/>
                <a:ext cx="936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494240" y="32083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494240" y="3208320"/>
                <a:ext cx="14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503600" y="3208320"/>
                <a:ext cx="66204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503600" y="3208320"/>
                <a:ext cx="66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165640" y="3208320"/>
                <a:ext cx="972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65640" y="32083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65640" y="3208320"/>
                <a:ext cx="18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94240" y="3216240"/>
                <a:ext cx="9360" cy="333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494240" y="3216240"/>
                <a:ext cx="1440" cy="3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94240" y="3549600"/>
                <a:ext cx="93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494240" y="35496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494240" y="354960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494240" y="3549600"/>
                <a:ext cx="93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494240" y="35496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94240" y="354960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03600" y="3549600"/>
                <a:ext cx="66204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03600" y="3549600"/>
                <a:ext cx="6620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165640" y="3216240"/>
                <a:ext cx="9720" cy="333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165640" y="3216240"/>
                <a:ext cx="1800" cy="33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165640" y="3549600"/>
                <a:ext cx="97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165640" y="35496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165640" y="3549600"/>
                <a:ext cx="18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165640" y="3549600"/>
                <a:ext cx="972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165640" y="35496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65640" y="3549600"/>
                <a:ext cx="180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2383920" y="3668400"/>
              <a:ext cx="4157640" cy="1068120"/>
              <a:chOff x="2383920" y="3668400"/>
              <a:chExt cx="4157640" cy="1068120"/>
            </a:xfrm>
          </p:grpSpPr>
          <p:sp>
            <p:nvSpPr>
              <p:cNvPr id="221" name=""/>
              <p:cNvSpPr/>
              <p:nvPr/>
            </p:nvSpPr>
            <p:spPr>
              <a:xfrm>
                <a:off x="4775040" y="3668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383920" y="4019400"/>
                <a:ext cx="7887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(5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906360" y="4012920"/>
                <a:ext cx="255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775040" y="4019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460480" y="4019400"/>
                <a:ext cx="10810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al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775040" y="43704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4502160" y="3662280"/>
              <a:ext cx="668160" cy="1052280"/>
              <a:chOff x="4502160" y="3662280"/>
              <a:chExt cx="668160" cy="1052280"/>
            </a:xfrm>
          </p:grpSpPr>
          <p:sp>
            <p:nvSpPr>
              <p:cNvPr id="228" name=""/>
              <p:cNvSpPr/>
              <p:nvPr/>
            </p:nvSpPr>
            <p:spPr>
              <a:xfrm>
                <a:off x="4502160" y="3662280"/>
                <a:ext cx="93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502160" y="36622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02160" y="366228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502160" y="3662280"/>
                <a:ext cx="93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502160" y="36622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502160" y="366228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511520" y="3662280"/>
                <a:ext cx="64944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511520" y="3662280"/>
                <a:ext cx="649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160960" y="3662280"/>
                <a:ext cx="93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160960" y="36622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60960" y="366228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60960" y="3662280"/>
                <a:ext cx="9360" cy="6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160960" y="36622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60960" y="3662280"/>
                <a:ext cx="1440" cy="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502160" y="3668400"/>
                <a:ext cx="9360" cy="34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502160" y="3668400"/>
                <a:ext cx="1440" cy="34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60960" y="3668400"/>
                <a:ext cx="9360" cy="34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60960" y="3668400"/>
                <a:ext cx="1440" cy="34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502160" y="4012920"/>
                <a:ext cx="93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02160" y="401292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502160" y="4012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11520" y="4012920"/>
                <a:ext cx="64944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511520" y="4012920"/>
                <a:ext cx="649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160960" y="4012920"/>
                <a:ext cx="93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60960" y="401292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160960" y="4012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02160" y="4019400"/>
                <a:ext cx="9360" cy="34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502160" y="4019400"/>
                <a:ext cx="1440" cy="34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60960" y="4019400"/>
                <a:ext cx="9360" cy="34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60960" y="4019400"/>
                <a:ext cx="1440" cy="34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502160" y="4363920"/>
                <a:ext cx="93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502160" y="43639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502160" y="4363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511520" y="4363920"/>
                <a:ext cx="64944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511520" y="4363920"/>
                <a:ext cx="649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60960" y="4363920"/>
                <a:ext cx="936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60960" y="43639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363920"/>
                <a:ext cx="144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02160" y="4370400"/>
                <a:ext cx="9360" cy="33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02160" y="4370400"/>
                <a:ext cx="1440" cy="33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02160" y="4706640"/>
                <a:ext cx="936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02160" y="470664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02160" y="4706640"/>
                <a:ext cx="14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02160" y="4706640"/>
                <a:ext cx="936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502160" y="470664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502160" y="4706640"/>
                <a:ext cx="14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511520" y="4706640"/>
                <a:ext cx="64944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511520" y="4706640"/>
                <a:ext cx="649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160960" y="4370400"/>
                <a:ext cx="9360" cy="336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160960" y="4370400"/>
                <a:ext cx="1440" cy="33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160960" y="4706640"/>
                <a:ext cx="936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160960" y="470664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160960" y="4706640"/>
                <a:ext cx="14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160960" y="4706640"/>
                <a:ext cx="936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160960" y="470664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160960" y="4706640"/>
                <a:ext cx="144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3836520" y="516708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2358360" y="4816440"/>
              <a:ext cx="4092480" cy="1065960"/>
              <a:chOff x="2358360" y="4816440"/>
              <a:chExt cx="4092480" cy="1065960"/>
            </a:xfrm>
          </p:grpSpPr>
          <p:sp>
            <p:nvSpPr>
              <p:cNvPr id="286" name=""/>
              <p:cNvSpPr/>
              <p:nvPr/>
            </p:nvSpPr>
            <p:spPr>
              <a:xfrm>
                <a:off x="4770360" y="4816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770360" y="5167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8" name=""/>
              <p:cNvGrpSpPr/>
              <p:nvPr/>
            </p:nvGrpSpPr>
            <p:grpSpPr>
              <a:xfrm>
                <a:off x="2358360" y="5159160"/>
                <a:ext cx="4092480" cy="374040"/>
                <a:chOff x="2358360" y="5159160"/>
                <a:chExt cx="4092480" cy="3740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358360" y="5167080"/>
                  <a:ext cx="5601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(5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350880" y="5159160"/>
                  <a:ext cx="424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no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963600" y="5159160"/>
                  <a:ext cx="255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71640" y="5167080"/>
                  <a:ext cx="9792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ko-KR" sz="2400" spc="-1" strike="noStrike">
                      <a:solidFill>
                        <a:srgbClr val="000000"/>
                      </a:solidFill>
                      <a:latin typeface="Times New Roman"/>
                    </a:rPr>
                    <a:t>) =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tru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4770360" y="55162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4503600" y="4809960"/>
              <a:ext cx="668520" cy="1049400"/>
              <a:chOff x="4503600" y="4809960"/>
              <a:chExt cx="668520" cy="1049400"/>
            </a:xfrm>
          </p:grpSpPr>
          <p:sp>
            <p:nvSpPr>
              <p:cNvPr id="295" name=""/>
              <p:cNvSpPr/>
              <p:nvPr/>
            </p:nvSpPr>
            <p:spPr>
              <a:xfrm>
                <a:off x="4503600" y="4809960"/>
                <a:ext cx="97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3600" y="480996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03600" y="480996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03600" y="4809960"/>
                <a:ext cx="97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03600" y="480996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503600" y="480996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513320" y="4809960"/>
                <a:ext cx="64908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3320" y="4809960"/>
                <a:ext cx="649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162400" y="4809960"/>
                <a:ext cx="97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162400" y="480996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162400" y="480996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162400" y="4809960"/>
                <a:ext cx="9720" cy="6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162400" y="480996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162400" y="4809960"/>
                <a:ext cx="180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503600" y="4816440"/>
                <a:ext cx="972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503600" y="4816440"/>
                <a:ext cx="180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162400" y="4816440"/>
                <a:ext cx="972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62400" y="4816440"/>
                <a:ext cx="180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03600" y="5159160"/>
                <a:ext cx="972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03600" y="515916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03600" y="5159160"/>
                <a:ext cx="18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513320" y="5159160"/>
                <a:ext cx="64908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513320" y="5159160"/>
                <a:ext cx="649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162400" y="5159160"/>
                <a:ext cx="972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62400" y="515916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162400" y="5159160"/>
                <a:ext cx="18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503600" y="5167080"/>
                <a:ext cx="9720" cy="34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503600" y="5167080"/>
                <a:ext cx="180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62400" y="5167080"/>
                <a:ext cx="9720" cy="34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162400" y="5167080"/>
                <a:ext cx="180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03600" y="5508360"/>
                <a:ext cx="972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503600" y="550836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503600" y="5508360"/>
                <a:ext cx="18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13320" y="5508360"/>
                <a:ext cx="64908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513320" y="5508360"/>
                <a:ext cx="649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62400" y="5508360"/>
                <a:ext cx="972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162400" y="550836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162400" y="5508360"/>
                <a:ext cx="18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503600" y="5516280"/>
                <a:ext cx="9720" cy="335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03600" y="5516280"/>
                <a:ext cx="1800" cy="33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03600" y="5851440"/>
                <a:ext cx="972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503600" y="585144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03600" y="5851440"/>
                <a:ext cx="18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03600" y="5851440"/>
                <a:ext cx="972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503600" y="585144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503600" y="5851440"/>
                <a:ext cx="18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513320" y="5851440"/>
                <a:ext cx="64908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513320" y="5851440"/>
                <a:ext cx="649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162400" y="5516280"/>
                <a:ext cx="9720" cy="335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162400" y="5516280"/>
                <a:ext cx="1800" cy="335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162400" y="5851440"/>
                <a:ext cx="972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162400" y="585144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162400" y="5851440"/>
                <a:ext cx="18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162400" y="5851440"/>
                <a:ext cx="9720" cy="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162400" y="585144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162400" y="5851440"/>
                <a:ext cx="1800" cy="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2929-4E2D-4DC6-A197-7A1BD7CE9B5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에 예금과 대출이 모두 있는 고객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(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에 대출은 있으나 예금은 없는 모든 고객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in ( 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8F0-67E4-45F9-AAB5-200B521A66C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에 예금과 대출을 모두 가진 고객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ustomer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orrower,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orrower.loan-number = loan.loan-numb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anch-name =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branch-name, customer-name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-name, customer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epositor, ac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epositor.account-numbe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count.account-num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B35-2392-4A16-9772-B424E5FFD10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집합 비교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위치한 어떤 지점보다 더 많은 자산을 가진 모든 지점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.branch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, bran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.assets &gt; S.asse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.branch-city =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EFC1-691D-432D-A8E7-86CA1714BF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&lt;comp&gt; some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F &lt;comp&gt; t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다음 중 하나일 수 있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&lt;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&gt;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=, 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과 같이 읽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5 &lt;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내의 튜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체"/>
              </a:rPr>
              <a:t>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체"/>
              </a:rPr>
              <a:t>not 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427040" y="2438280"/>
            <a:ext cx="5299920" cy="3592800"/>
            <a:chOff x="1427040" y="2438280"/>
            <a:chExt cx="5299920" cy="3592800"/>
          </a:xfrm>
        </p:grpSpPr>
        <p:grpSp>
          <p:nvGrpSpPr>
            <p:cNvPr id="360" name=""/>
            <p:cNvGrpSpPr/>
            <p:nvPr/>
          </p:nvGrpSpPr>
          <p:grpSpPr>
            <a:xfrm>
              <a:off x="1427040" y="2438280"/>
              <a:ext cx="3781080" cy="815760"/>
              <a:chOff x="1427040" y="2438280"/>
              <a:chExt cx="3781080" cy="81576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1427040" y="2438280"/>
                <a:ext cx="3781080" cy="799920"/>
                <a:chOff x="1427040" y="2438280"/>
                <a:chExt cx="3781080" cy="7999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3328560" y="2438280"/>
                  <a:ext cx="115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427040" y="2701800"/>
                  <a:ext cx="9198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(5 &lt;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om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3328560" y="2701800"/>
                  <a:ext cx="115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471200" y="2701800"/>
                  <a:ext cx="736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) =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3328560" y="2963520"/>
                  <a:ext cx="115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2685960" y="2465280"/>
                <a:ext cx="1352520" cy="788760"/>
                <a:chOff x="2685960" y="2465280"/>
                <a:chExt cx="1352520" cy="7887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2685960" y="2465280"/>
                  <a:ext cx="79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685960" y="246528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685960" y="246528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685960" y="2465280"/>
                  <a:ext cx="79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2685960" y="246528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685960" y="246528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693880" y="2465280"/>
                  <a:ext cx="133524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693880" y="2465280"/>
                  <a:ext cx="13352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029120" y="246528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029120" y="2465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029120" y="246528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029120" y="246528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029120" y="2465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029120" y="246528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685960" y="2469960"/>
                  <a:ext cx="792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685960" y="2469960"/>
                  <a:ext cx="1800" cy="25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029120" y="2469960"/>
                  <a:ext cx="9360" cy="258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029120" y="2469960"/>
                  <a:ext cx="1440" cy="258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685960" y="2728800"/>
                  <a:ext cx="79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2685960" y="27288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685960" y="272880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693880" y="2728800"/>
                  <a:ext cx="133524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693880" y="2728800"/>
                  <a:ext cx="13352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029120" y="272880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029120" y="27288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029120" y="272880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685960" y="2733480"/>
                  <a:ext cx="7920" cy="257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685960" y="2733480"/>
                  <a:ext cx="180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029120" y="2733480"/>
                  <a:ext cx="9360" cy="257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029120" y="2733480"/>
                  <a:ext cx="1440" cy="257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85960" y="2990520"/>
                  <a:ext cx="79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2685960" y="2990520"/>
                  <a:ext cx="79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685960" y="299052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2693880" y="2990520"/>
                  <a:ext cx="133524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2693880" y="2990520"/>
                  <a:ext cx="133524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029120" y="299052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029120" y="2990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029120" y="299052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2685960" y="2995200"/>
                  <a:ext cx="7920" cy="252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2685960" y="2995200"/>
                  <a:ext cx="1800" cy="25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2685960" y="3247920"/>
                  <a:ext cx="792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685960" y="324792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2685960" y="324792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2685960" y="3247920"/>
                  <a:ext cx="792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2685960" y="324792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2685960" y="324792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2693880" y="3247920"/>
                  <a:ext cx="133524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2693880" y="3247920"/>
                  <a:ext cx="133524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029120" y="2995200"/>
                  <a:ext cx="9360" cy="252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029120" y="2995200"/>
                  <a:ext cx="1440" cy="252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029120" y="3247920"/>
                  <a:ext cx="936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029120" y="32479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029120" y="3247920"/>
                  <a:ext cx="144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029120" y="3247920"/>
                  <a:ext cx="936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029120" y="32479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029120" y="3247920"/>
                  <a:ext cx="144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4" name=""/>
            <p:cNvGrpSpPr/>
            <p:nvPr/>
          </p:nvGrpSpPr>
          <p:grpSpPr>
            <a:xfrm>
              <a:off x="1469880" y="3733920"/>
              <a:ext cx="3759480" cy="511920"/>
              <a:chOff x="1469880" y="3733920"/>
              <a:chExt cx="3759480" cy="511920"/>
            </a:xfrm>
          </p:grpSpPr>
          <p:grpSp>
            <p:nvGrpSpPr>
              <p:cNvPr id="425" name=""/>
              <p:cNvGrpSpPr/>
              <p:nvPr/>
            </p:nvGrpSpPr>
            <p:grpSpPr>
              <a:xfrm>
                <a:off x="1469880" y="3738600"/>
                <a:ext cx="3759480" cy="507240"/>
                <a:chOff x="1469880" y="3738600"/>
                <a:chExt cx="3759480" cy="5072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3276360" y="3738600"/>
                  <a:ext cx="1090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1469880" y="3986280"/>
                  <a:ext cx="813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(5 &lt;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o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276360" y="3986280"/>
                  <a:ext cx="1090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464000" y="3986280"/>
                  <a:ext cx="765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) = </a:t>
                  </a: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false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2660760" y="3733920"/>
                <a:ext cx="1328760" cy="495360"/>
                <a:chOff x="2660760" y="3733920"/>
                <a:chExt cx="1328760" cy="49536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2660760" y="373392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2660760" y="37339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2660760" y="373392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2660760" y="373392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2660760" y="37339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60760" y="373392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670120" y="3733920"/>
                  <a:ext cx="130968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2670120" y="3733920"/>
                  <a:ext cx="13096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979800" y="373392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979800" y="3733920"/>
                  <a:ext cx="9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979800" y="373392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979800" y="373392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979800" y="3733920"/>
                  <a:ext cx="9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3979800" y="373392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2660760" y="3738600"/>
                  <a:ext cx="9360" cy="243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660760" y="3738600"/>
                  <a:ext cx="1440" cy="243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979800" y="3738600"/>
                  <a:ext cx="9720" cy="243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979800" y="3738600"/>
                  <a:ext cx="1800" cy="243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660760" y="398160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2660760" y="3981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2660760" y="398160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2670120" y="3981600"/>
                  <a:ext cx="130968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2670120" y="3981600"/>
                  <a:ext cx="13096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3979800" y="398160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979800" y="3981600"/>
                  <a:ext cx="9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979800" y="398160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2660760" y="3986280"/>
                  <a:ext cx="9360" cy="238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2660760" y="3986280"/>
                  <a:ext cx="144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2660760" y="422460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2660760" y="4224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660760" y="422460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2660760" y="422460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2660760" y="4224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2660760" y="422460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670120" y="4224600"/>
                  <a:ext cx="130968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2670120" y="4224600"/>
                  <a:ext cx="1309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979800" y="3986280"/>
                  <a:ext cx="9720" cy="2383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3979800" y="3986280"/>
                  <a:ext cx="1800" cy="23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3979800" y="422460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3979800" y="422460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3979800" y="422460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3979800" y="422460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3979800" y="422460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3979800" y="422460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75" name=""/>
            <p:cNvGrpSpPr/>
            <p:nvPr/>
          </p:nvGrpSpPr>
          <p:grpSpPr>
            <a:xfrm>
              <a:off x="1493640" y="4343400"/>
              <a:ext cx="3619080" cy="473760"/>
              <a:chOff x="1493640" y="4343400"/>
              <a:chExt cx="3619080" cy="47376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1493640" y="4348080"/>
                <a:ext cx="3619080" cy="469080"/>
                <a:chOff x="1493640" y="4348080"/>
                <a:chExt cx="3619080" cy="4690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272760" y="434808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1493640" y="4573440"/>
                  <a:ext cx="81324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(5 =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som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272760" y="457344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4464360" y="4573440"/>
                  <a:ext cx="6483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) =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ru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2660760" y="4343400"/>
                <a:ext cx="1328760" cy="452160"/>
                <a:chOff x="2660760" y="4343400"/>
                <a:chExt cx="1328760" cy="4521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2660760" y="434340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660760" y="4343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660760" y="434340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60760" y="434340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660760" y="4343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660760" y="434340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670120" y="4343400"/>
                  <a:ext cx="130968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670120" y="4343400"/>
                  <a:ext cx="1309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3979800" y="434340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3979800" y="434340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979800" y="434340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979800" y="434340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979800" y="434340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3979800" y="434340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660760" y="4348080"/>
                  <a:ext cx="9360" cy="220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660760" y="4348080"/>
                  <a:ext cx="1440" cy="22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979800" y="4348080"/>
                  <a:ext cx="9720" cy="220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979800" y="4348080"/>
                  <a:ext cx="1800" cy="220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660760" y="456876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660760" y="4568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660760" y="456876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670120" y="4568760"/>
                  <a:ext cx="130968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670120" y="4568760"/>
                  <a:ext cx="1309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3979800" y="456876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3979800" y="456876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979800" y="456876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660760" y="4573440"/>
                  <a:ext cx="9360" cy="217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660760" y="4573440"/>
                  <a:ext cx="144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660760" y="479088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660760" y="47908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660760" y="479088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660760" y="479088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660760" y="47908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660760" y="479088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670120" y="4790880"/>
                  <a:ext cx="130968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670120" y="4790880"/>
                  <a:ext cx="130968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979800" y="4573440"/>
                  <a:ext cx="9720" cy="2174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979800" y="4573440"/>
                  <a:ext cx="1800" cy="217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3979800" y="479088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979800" y="4790880"/>
                  <a:ext cx="9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979800" y="479088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79800" y="4790880"/>
                  <a:ext cx="97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79800" y="4790880"/>
                  <a:ext cx="9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979800" y="479088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26" name=""/>
            <p:cNvGrpSpPr/>
            <p:nvPr/>
          </p:nvGrpSpPr>
          <p:grpSpPr>
            <a:xfrm>
              <a:off x="1475280" y="4876920"/>
              <a:ext cx="5251680" cy="492120"/>
              <a:chOff x="1475280" y="4876920"/>
              <a:chExt cx="5251680" cy="492120"/>
            </a:xfrm>
          </p:grpSpPr>
          <p:sp>
            <p:nvSpPr>
              <p:cNvPr id="527" name=""/>
              <p:cNvSpPr/>
              <p:nvPr/>
            </p:nvSpPr>
            <p:spPr>
              <a:xfrm>
                <a:off x="3276000" y="488160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276000" y="511812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1475280" y="5024520"/>
                <a:ext cx="910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(5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om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520160" y="5100480"/>
                <a:ext cx="22068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) =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ue  (0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 5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이기때문에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1" name=""/>
              <p:cNvGrpSpPr/>
              <p:nvPr/>
            </p:nvGrpSpPr>
            <p:grpSpPr>
              <a:xfrm>
                <a:off x="2660760" y="4876920"/>
                <a:ext cx="1315800" cy="492120"/>
                <a:chOff x="2660760" y="4876920"/>
                <a:chExt cx="1315800" cy="49212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660760" y="487692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660760" y="48769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660760" y="487692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660760" y="487692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660760" y="48769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660760" y="487692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670120" y="4876920"/>
                  <a:ext cx="12985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670120" y="4876920"/>
                  <a:ext cx="12985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968640" y="4876920"/>
                  <a:ext cx="79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968640" y="487692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968640" y="487692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968640" y="4876920"/>
                  <a:ext cx="79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968640" y="487692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968640" y="487692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660760" y="4881600"/>
                  <a:ext cx="9360" cy="231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660760" y="4881600"/>
                  <a:ext cx="1440" cy="23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3968640" y="4881600"/>
                  <a:ext cx="7920" cy="2318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3968640" y="4881600"/>
                  <a:ext cx="1800" cy="231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660760" y="5113440"/>
                  <a:ext cx="936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660760" y="51134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660760" y="5113440"/>
                  <a:ext cx="144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670120" y="5113440"/>
                  <a:ext cx="12985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670120" y="5113440"/>
                  <a:ext cx="12985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3968640" y="5113440"/>
                  <a:ext cx="7920" cy="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968640" y="511344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3968640" y="5113440"/>
                  <a:ext cx="1800" cy="4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660760" y="5118120"/>
                  <a:ext cx="9360" cy="245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660760" y="5118120"/>
                  <a:ext cx="144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660760" y="5364000"/>
                  <a:ext cx="9360" cy="5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660760" y="53640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660760" y="5364000"/>
                  <a:ext cx="144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660760" y="5364000"/>
                  <a:ext cx="9360" cy="5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660760" y="53640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660760" y="5364000"/>
                  <a:ext cx="144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670120" y="5364000"/>
                  <a:ext cx="1298520" cy="5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670120" y="5364000"/>
                  <a:ext cx="12985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968640" y="5118120"/>
                  <a:ext cx="7920" cy="245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968640" y="5118120"/>
                  <a:ext cx="1800" cy="245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968640" y="5364000"/>
                  <a:ext cx="7920" cy="5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3968640" y="5364000"/>
                  <a:ext cx="79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3968640" y="5364000"/>
                  <a:ext cx="180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3968640" y="5364000"/>
                  <a:ext cx="7920" cy="5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3968640" y="5364000"/>
                  <a:ext cx="79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3968640" y="5364000"/>
                  <a:ext cx="1800" cy="5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6" name=""/>
            <p:cNvSpPr/>
            <p:nvPr/>
          </p:nvSpPr>
          <p:spPr>
            <a:xfrm flipH="1">
              <a:off x="3147840" y="5802480"/>
              <a:ext cx="763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4DF8-2966-41AE-99DC-3DECAF4829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위치한 어떤 지점보다 더 많은 자산을 가진 모든 지점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ets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-city =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5DBF-DD73-45E5-8D8C-E6A9BEB6111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은 관계형 대수의 추출 연산에 대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의 결과로 바라는 애트리뷰트를 나열하는데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내의 모든 지점명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순수 관계형 대수  구문에서는 이 질의는 다음과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ranch-nam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loa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7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의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는 “모든 애트리뷰트”를 의미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2030-EF70-4A67-971F-79F3E8FBB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Aft>
                <a:spcPts val="249"/>
              </a:spcAft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&lt;comp&gt;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(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[F &lt;comp&gt; t]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러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(=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체"/>
              </a:rPr>
              <a:t>≡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체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62120" y="4114800"/>
            <a:ext cx="35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254720" y="5187960"/>
            <a:ext cx="41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1482840" y="2362320"/>
            <a:ext cx="5868360" cy="2725560"/>
            <a:chOff x="1482840" y="2362320"/>
            <a:chExt cx="5868360" cy="2725560"/>
          </a:xfrm>
        </p:grpSpPr>
        <p:grpSp>
          <p:nvGrpSpPr>
            <p:cNvPr id="584" name=""/>
            <p:cNvGrpSpPr/>
            <p:nvPr/>
          </p:nvGrpSpPr>
          <p:grpSpPr>
            <a:xfrm>
              <a:off x="1501920" y="2362320"/>
              <a:ext cx="3452760" cy="820800"/>
              <a:chOff x="1501920" y="2362320"/>
              <a:chExt cx="3452760" cy="820800"/>
            </a:xfrm>
          </p:grpSpPr>
          <p:grpSp>
            <p:nvGrpSpPr>
              <p:cNvPr id="585" name=""/>
              <p:cNvGrpSpPr/>
              <p:nvPr/>
            </p:nvGrpSpPr>
            <p:grpSpPr>
              <a:xfrm>
                <a:off x="1501920" y="2377800"/>
                <a:ext cx="3452760" cy="805320"/>
                <a:chOff x="1501920" y="2377800"/>
                <a:chExt cx="3452760" cy="80532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3252240" y="2377800"/>
                  <a:ext cx="1090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501920" y="2650680"/>
                  <a:ext cx="41220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(5 &lt; 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974960" y="2650680"/>
                  <a:ext cx="2278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all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252240" y="2650680"/>
                  <a:ext cx="1090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4189320" y="2650680"/>
                  <a:ext cx="765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) = </a:t>
                  </a: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false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252240" y="2923560"/>
                  <a:ext cx="1090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643120" y="2362320"/>
                <a:ext cx="1328760" cy="812160"/>
                <a:chOff x="2643120" y="2362320"/>
                <a:chExt cx="1328760" cy="8121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643120" y="236232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643120" y="2362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643120" y="236232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643120" y="236232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643120" y="2362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643120" y="236232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652480" y="2362320"/>
                  <a:ext cx="130968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652480" y="2362320"/>
                  <a:ext cx="1309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962160" y="236232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962160" y="236232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3962160" y="236232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962160" y="236232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3962160" y="236232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962160" y="236232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643120" y="2369880"/>
                  <a:ext cx="9360" cy="264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643120" y="2369880"/>
                  <a:ext cx="1440" cy="2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3962160" y="2369880"/>
                  <a:ext cx="9720" cy="2649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3962160" y="2369880"/>
                  <a:ext cx="1800" cy="264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643120" y="263520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643120" y="2635200"/>
                  <a:ext cx="9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643120" y="263520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652480" y="2635200"/>
                  <a:ext cx="130968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652480" y="2635200"/>
                  <a:ext cx="130968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3962160" y="263520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3962160" y="2635200"/>
                  <a:ext cx="9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62160" y="263520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643120" y="2643120"/>
                  <a:ext cx="9360" cy="266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643120" y="2643120"/>
                  <a:ext cx="1440" cy="26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962160" y="2643120"/>
                  <a:ext cx="9720" cy="2660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962160" y="2643120"/>
                  <a:ext cx="1800" cy="26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643120" y="2909520"/>
                  <a:ext cx="936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643120" y="2909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643120" y="2909520"/>
                  <a:ext cx="144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652480" y="2909520"/>
                  <a:ext cx="130968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652480" y="2909520"/>
                  <a:ext cx="1309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962160" y="2909520"/>
                  <a:ext cx="972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3962160" y="290952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3962160" y="290952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643120" y="2916000"/>
                  <a:ext cx="9360" cy="25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643120" y="2916000"/>
                  <a:ext cx="144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643120" y="316692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643120" y="3166920"/>
                  <a:ext cx="9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643120" y="316692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643120" y="316692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643120" y="3166920"/>
                  <a:ext cx="9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643120" y="316692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652480" y="3166920"/>
                  <a:ext cx="130968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652480" y="3166920"/>
                  <a:ext cx="130968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3962160" y="2916000"/>
                  <a:ext cx="9720" cy="250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3962160" y="2916000"/>
                  <a:ext cx="1800" cy="250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962160" y="316692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962160" y="3166920"/>
                  <a:ext cx="9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962160" y="316692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962160" y="316692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3962160" y="3166920"/>
                  <a:ext cx="9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3962160" y="316692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" name=""/>
            <p:cNvGrpSpPr/>
            <p:nvPr/>
          </p:nvGrpSpPr>
          <p:grpSpPr>
            <a:xfrm>
              <a:off x="1498680" y="3276720"/>
              <a:ext cx="3415680" cy="575640"/>
              <a:chOff x="1498680" y="3276720"/>
              <a:chExt cx="3415680" cy="57564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1498680" y="3292200"/>
                <a:ext cx="3415680" cy="560160"/>
                <a:chOff x="1498680" y="3292200"/>
                <a:chExt cx="3415680" cy="560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3254040" y="3292200"/>
                  <a:ext cx="115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1498680" y="3577680"/>
                  <a:ext cx="4366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(5 &lt;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1977480" y="3577680"/>
                  <a:ext cx="243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all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3201480" y="3577680"/>
                  <a:ext cx="229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4177440" y="3577680"/>
                  <a:ext cx="7369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</a:rPr>
                    <a:t>) =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u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2652840" y="3276720"/>
                <a:ext cx="1328760" cy="570960"/>
                <a:chOff x="2652840" y="3276720"/>
                <a:chExt cx="1328760" cy="57096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2652840" y="327672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652840" y="32767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652840" y="327672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652840" y="327672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652840" y="32767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652840" y="327672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662200" y="3276720"/>
                  <a:ext cx="130968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662200" y="3276720"/>
                  <a:ext cx="130968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3971880" y="327672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971880" y="327672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971880" y="327672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971880" y="327672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971880" y="327672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3971880" y="327672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652840" y="3284280"/>
                  <a:ext cx="9360" cy="27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652840" y="3284280"/>
                  <a:ext cx="1440" cy="27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971880" y="3284280"/>
                  <a:ext cx="9720" cy="27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971880" y="3284280"/>
                  <a:ext cx="1800" cy="27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652840" y="356220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652840" y="3562200"/>
                  <a:ext cx="9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652840" y="356220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2662200" y="3562200"/>
                  <a:ext cx="130968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2662200" y="3562200"/>
                  <a:ext cx="130968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971880" y="356220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971880" y="3562200"/>
                  <a:ext cx="9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971880" y="356220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2652840" y="3570120"/>
                  <a:ext cx="936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2652840" y="3570120"/>
                  <a:ext cx="1440" cy="269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652840" y="384012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652840" y="3840120"/>
                  <a:ext cx="9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652840" y="384012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2652840" y="3840120"/>
                  <a:ext cx="936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2652840" y="3840120"/>
                  <a:ext cx="93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2652840" y="3840120"/>
                  <a:ext cx="144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2662200" y="3840120"/>
                  <a:ext cx="130968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662200" y="3840120"/>
                  <a:ext cx="130968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971880" y="3570120"/>
                  <a:ext cx="9720" cy="269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971880" y="3570120"/>
                  <a:ext cx="1800" cy="269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971880" y="384012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971880" y="3840120"/>
                  <a:ext cx="9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971880" y="384012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971880" y="3840120"/>
                  <a:ext cx="9720" cy="75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971880" y="3840120"/>
                  <a:ext cx="972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971880" y="3840120"/>
                  <a:ext cx="1800" cy="7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1" name=""/>
            <p:cNvGrpSpPr/>
            <p:nvPr/>
          </p:nvGrpSpPr>
          <p:grpSpPr>
            <a:xfrm>
              <a:off x="1524240" y="3962520"/>
              <a:ext cx="3438360" cy="531000"/>
              <a:chOff x="1524240" y="3962520"/>
              <a:chExt cx="3438360" cy="531000"/>
            </a:xfrm>
          </p:grpSpPr>
          <p:grpSp>
            <p:nvGrpSpPr>
              <p:cNvPr id="702" name=""/>
              <p:cNvGrpSpPr/>
              <p:nvPr/>
            </p:nvGrpSpPr>
            <p:grpSpPr>
              <a:xfrm>
                <a:off x="1524240" y="3976920"/>
                <a:ext cx="3438360" cy="516600"/>
                <a:chOff x="1524240" y="3976920"/>
                <a:chExt cx="3438360" cy="51660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268080" y="3976920"/>
                  <a:ext cx="1090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1524240" y="4233960"/>
                  <a:ext cx="41220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(5 = 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994400" y="4233960"/>
                  <a:ext cx="2278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all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268080" y="4233960"/>
                  <a:ext cx="10908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4197240" y="4233960"/>
                  <a:ext cx="7653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) = </a:t>
                  </a: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false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2660760" y="3962520"/>
                <a:ext cx="1322280" cy="514440"/>
                <a:chOff x="2660760" y="3962520"/>
                <a:chExt cx="1322280" cy="51444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2660760" y="3962520"/>
                  <a:ext cx="936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2660760" y="3962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2660760" y="3962520"/>
                  <a:ext cx="144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2660760" y="3962520"/>
                  <a:ext cx="936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2660760" y="3962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660760" y="3962520"/>
                  <a:ext cx="144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2670120" y="3962520"/>
                  <a:ext cx="130356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670120" y="3962520"/>
                  <a:ext cx="13035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973680" y="3962520"/>
                  <a:ext cx="936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973680" y="3962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973680" y="3962520"/>
                  <a:ext cx="144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973680" y="3962520"/>
                  <a:ext cx="936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973680" y="396252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973680" y="3962520"/>
                  <a:ext cx="144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660760" y="3970440"/>
                  <a:ext cx="9360" cy="249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2660760" y="3970440"/>
                  <a:ext cx="1440" cy="24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973680" y="3970440"/>
                  <a:ext cx="9360" cy="249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973680" y="3970440"/>
                  <a:ext cx="1440" cy="249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660760" y="4219920"/>
                  <a:ext cx="936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660760" y="42199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2660760" y="4219920"/>
                  <a:ext cx="144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670120" y="4219920"/>
                  <a:ext cx="130356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670120" y="4219920"/>
                  <a:ext cx="13035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973680" y="4219920"/>
                  <a:ext cx="936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973680" y="42199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973680" y="4219920"/>
                  <a:ext cx="144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2660760" y="4227840"/>
                  <a:ext cx="9360" cy="242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2660760" y="4227840"/>
                  <a:ext cx="1440" cy="24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2660760" y="4470480"/>
                  <a:ext cx="936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2660760" y="44704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660760" y="4470480"/>
                  <a:ext cx="144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660760" y="4470480"/>
                  <a:ext cx="936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660760" y="44704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660760" y="4470480"/>
                  <a:ext cx="144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670120" y="4470480"/>
                  <a:ext cx="130356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2670120" y="4470480"/>
                  <a:ext cx="13035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973680" y="4227840"/>
                  <a:ext cx="9360" cy="242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973680" y="4227840"/>
                  <a:ext cx="1440" cy="242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973680" y="4470480"/>
                  <a:ext cx="936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973680" y="44704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973680" y="4470480"/>
                  <a:ext cx="144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973680" y="4470480"/>
                  <a:ext cx="936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973680" y="44704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973680" y="4470480"/>
                  <a:ext cx="144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3" name=""/>
            <p:cNvGrpSpPr/>
            <p:nvPr/>
          </p:nvGrpSpPr>
          <p:grpSpPr>
            <a:xfrm>
              <a:off x="1482840" y="4572000"/>
              <a:ext cx="5868360" cy="515880"/>
              <a:chOff x="1482840" y="4572000"/>
              <a:chExt cx="5868360" cy="515880"/>
            </a:xfrm>
          </p:grpSpPr>
          <p:grpSp>
            <p:nvGrpSpPr>
              <p:cNvPr id="754" name=""/>
              <p:cNvGrpSpPr/>
              <p:nvPr/>
            </p:nvGrpSpPr>
            <p:grpSpPr>
              <a:xfrm>
                <a:off x="1482840" y="4586040"/>
                <a:ext cx="5868360" cy="497880"/>
                <a:chOff x="1482840" y="4586040"/>
                <a:chExt cx="5868360" cy="49788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3276000" y="458604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1482840" y="4800600"/>
                  <a:ext cx="78120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700" spc="-1" strike="noStrike">
                      <a:solidFill>
                        <a:srgbClr val="000000"/>
                      </a:solidFill>
                      <a:latin typeface="Times New Roman"/>
                    </a:rPr>
                    <a:t>(5 </a:t>
                  </a:r>
                  <a:r>
                    <a:rPr b="0" lang="ko-KR" sz="17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</a:t>
                  </a:r>
                  <a:r>
                    <a:rPr b="0" lang="en-US" sz="1700" spc="-1" strike="noStrike">
                      <a:solidFill>
                        <a:srgbClr val="000000"/>
                      </a:solidFill>
                      <a:latin typeface="Times New Roman"/>
                    </a:rPr>
                    <a:t>all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276000" y="4840200"/>
                  <a:ext cx="1029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4388040" y="4784760"/>
                  <a:ext cx="29631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Times New Roman"/>
                    </a:rPr>
                    <a:t>) =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true  (5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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이고이기때문에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9" name=""/>
              <p:cNvGrpSpPr/>
              <p:nvPr/>
            </p:nvGrpSpPr>
            <p:grpSpPr>
              <a:xfrm>
                <a:off x="2658960" y="4572000"/>
                <a:ext cx="1317600" cy="515880"/>
                <a:chOff x="2658960" y="4572000"/>
                <a:chExt cx="1317600" cy="515880"/>
              </a:xfrm>
            </p:grpSpPr>
            <p:sp>
              <p:nvSpPr>
                <p:cNvPr id="760" name=""/>
                <p:cNvSpPr/>
                <p:nvPr/>
              </p:nvSpPr>
              <p:spPr>
                <a:xfrm>
                  <a:off x="2658960" y="4572000"/>
                  <a:ext cx="972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658960" y="457200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2658960" y="457200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2658960" y="4572000"/>
                  <a:ext cx="972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2658960" y="4572000"/>
                  <a:ext cx="97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2658960" y="457200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668680" y="4572000"/>
                  <a:ext cx="129996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668680" y="4572000"/>
                  <a:ext cx="129996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968640" y="4572000"/>
                  <a:ext cx="792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968640" y="4572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968640" y="457200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968640" y="4572000"/>
                  <a:ext cx="7920" cy="61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968640" y="4572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968640" y="4572000"/>
                  <a:ext cx="180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658960" y="4578120"/>
                  <a:ext cx="972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658960" y="4578120"/>
                  <a:ext cx="1800" cy="24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968640" y="4578120"/>
                  <a:ext cx="792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968640" y="4578120"/>
                  <a:ext cx="1800" cy="24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658960" y="4825800"/>
                  <a:ext cx="972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658960" y="4825800"/>
                  <a:ext cx="9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2658960" y="4825800"/>
                  <a:ext cx="18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2668680" y="4825800"/>
                  <a:ext cx="129996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2668680" y="4825800"/>
                  <a:ext cx="12999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968640" y="4825800"/>
                  <a:ext cx="7920" cy="79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968640" y="4825800"/>
                  <a:ext cx="79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968640" y="4825800"/>
                  <a:ext cx="180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2658960" y="4833720"/>
                  <a:ext cx="972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2658960" y="4833720"/>
                  <a:ext cx="1800" cy="24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2658960" y="5081400"/>
                  <a:ext cx="972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2658960" y="5081400"/>
                  <a:ext cx="9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2658960" y="5081400"/>
                  <a:ext cx="180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2658960" y="5081400"/>
                  <a:ext cx="972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2658960" y="5081400"/>
                  <a:ext cx="97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2658960" y="5081400"/>
                  <a:ext cx="180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2668680" y="5081400"/>
                  <a:ext cx="129996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668680" y="5081400"/>
                  <a:ext cx="12999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968640" y="4833720"/>
                  <a:ext cx="7920" cy="247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968640" y="4833720"/>
                  <a:ext cx="1800" cy="24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968640" y="5081400"/>
                  <a:ext cx="792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968640" y="5081400"/>
                  <a:ext cx="79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968640" y="5081400"/>
                  <a:ext cx="180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968640" y="5081400"/>
                  <a:ext cx="7920" cy="64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968640" y="5081400"/>
                  <a:ext cx="792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968640" y="5081400"/>
                  <a:ext cx="1800" cy="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4" name=""/>
          <p:cNvSpPr/>
          <p:nvPr/>
        </p:nvSpPr>
        <p:spPr>
          <a:xfrm flipH="1">
            <a:off x="2895480" y="55627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53D-E93B-4B42-B52B-D307471A4D8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위치한 모든 지점보다 더 많은 자산을 가진 모든 지점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ets &gt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anch-city =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D258-80A2-4C21-A776-3944BA30D2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빈 릴레이션 검사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구조는 매개 변수 부 질의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아니면 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값을 돌려준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exis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r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392-1CC2-4667-B180-89D36177E7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위치한 모든 지점에 예금이 있는 고객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.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not exist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city =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okly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ce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.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, accou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.account-number = R.account-num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.customer-name = T.customer-name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- Y = </a:t>
            </a:r>
            <a:r>
              <a:rPr b="0" lang="ko-KR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임을 유의하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BDED-C7EE-4E51-9C0A-6E4218B666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중복 튜플의 부재 검사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조는 부 질의가 그 결과내에 중복 튜플을 가지고 있는지 여부를 검사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하나의 계좌만 가진 모든 고객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.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uniq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.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, deposit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.customer-name = R.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.account-number = account.account-num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.branch-name =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099D-E46A-4EB3-B42F-BC0D9F2698A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적어도 두 개의 계좌를 가진 모든 고객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distinc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.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not uniqu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.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, depositor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.customer-name = R.customer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.account-number = account.account-num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.branch-name =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B210-B180-431D-BE6B-9C96B0F2641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유도 릴레이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평균 예금 잔고가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지점들의 평균 예금 잔고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anch-name, avg-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anch-name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anch-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sult (branch-name, avg-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vg-balance &gt;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 내에서 임시  릴레이션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계산하고 애트리뷰트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에서 직접 사용될 수 있으므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을 사용할 필요가 없음에 유의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62A2-EDB4-4229-A0BB-57D1C03242E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어떤 사용자의 뷰로부터 어떤 데이터를 숨기는 방법을 제공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를 생성하려면 다음과 같은 명령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view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표현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여기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&l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 표현식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적법한 표현식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뷰명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표현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5BF0-4CC2-44D1-9643-9137F5C90D9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과 그들의 고객으로 구성된 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view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ll-custom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name, 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,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.account-number = account.account-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name, 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,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.loan-number = loan.loan-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의 모든 고객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stomer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ll-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name = “Perryrid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CFBD-4275-4403-B0D3-FA927C52563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삭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의 모든 예금 레코드를 삭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 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name =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ham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위치한 각 지점의 모든 예금 계좌를 삭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nam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city =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h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-num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,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-city =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ha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ranch.branch-name = account.branch-na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C945-2D23-4880-B579-DB62B48E6F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절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질의 결과와 함께 릴레이션내의 중복을 허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중복을 제거하려면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에 키워드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inc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기입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릴레이션내의 모든 지점명을 찾아 중복은 제거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distinct 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키워드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중복이 제거되지 않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a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D5E-75ED-4171-B32F-691A25D78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행의 평균에 미달하는 잔고를 가진 모든 예금 계좌 레코드를 삭제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lete 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alance &lt;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avg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(bala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accou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제점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osi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튜플들을 삭제하므로 평균 잔고가 변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서 사용되는 해결책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먼저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lanc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계산하고 삭제할 모든 튜플을 찾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음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에서 찾은 모든 튜플을 삭제한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g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다시 계산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거나 튜플을 재 검사하지 않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8DA2-7BA7-4E15-B912-7F0F56B4B89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삽입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새로운 튜플을 삽입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Perryridge”, A-9732, 12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위와 동등한 표현은 아래와 같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name, balance, account-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“Perryridge”, 1200, A-973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anc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값이 널로 지정된 튜플을 삽입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“Perryridge”, A-777, nu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9CA4-910F-4729-A55E-508D33B3EEF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삽입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의 모든 대출 고객에게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의 저축 예금 계좌를 제공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새로운 저축 예금의 계좌 번호는 대출 번호로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name, loan-numb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Perryrid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ert 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osi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ustomer-name, loan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an, borr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“Perryrid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an.account-number = borrower.account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4EC6-C626-44FA-A660-5CCE2480712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베이스의 수정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갱신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0,000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모든 예금 계좌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다른 계좌에는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5%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이자를 지급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두 개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으로 작성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lance = 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1.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lance = 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1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순서가 중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장을 사용하면 더 좋다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연습문제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4.11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511-61CC-439F-807E-E95CD0C710D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뷰의 갱신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unt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애트리뷰트를 제외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릴레이션내의 모든 대출 데이터의 뷰를 생성하라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vie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ranch-loa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ranch-name, loan-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-loan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새로운 튜플을 삽입하라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sert into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branch-lo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“Perryridge”, “L-307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 삽입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릴레이션에 다음과 같은  튜플의 삽입으로 표현되어야 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ryridge”, “L-307”, nu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보다 복잡한 뷰에의 갱신은 변환하기가 어렵거나 불가능해 허용되지 않는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5E5-1B54-4F42-9CD4-A88D9137E8C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릴레이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죠인 연산은 두 릴레이션을 취해 또 다른 릴레이션을 결과로 돌려준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들 부가적인 연산은 일반적으로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절 내의 부 질의 표현식으로 사용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죠인 조건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두 릴레이션내의 어떤 튜플들이 부합하고 죠인 결과에 어떤 애트리뷰트가 나타날지를 정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죠인 유형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다른 릴레이션의 어떤 튜플과 부합하지 않는 튜플들을 어떻게 취급할 것인가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죠인 조건에 근거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를 정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5" name=""/>
          <p:cNvGrpSpPr/>
          <p:nvPr/>
        </p:nvGrpSpPr>
        <p:grpSpPr>
          <a:xfrm>
            <a:off x="1452600" y="4572000"/>
            <a:ext cx="6076800" cy="1530360"/>
            <a:chOff x="1452600" y="4572000"/>
            <a:chExt cx="6076800" cy="1530360"/>
          </a:xfrm>
        </p:grpSpPr>
        <p:grpSp>
          <p:nvGrpSpPr>
            <p:cNvPr id="836" name=""/>
            <p:cNvGrpSpPr/>
            <p:nvPr/>
          </p:nvGrpSpPr>
          <p:grpSpPr>
            <a:xfrm>
              <a:off x="1620720" y="4579920"/>
              <a:ext cx="5855760" cy="1492560"/>
              <a:chOff x="1620720" y="4579920"/>
              <a:chExt cx="5855760" cy="1492560"/>
            </a:xfrm>
          </p:grpSpPr>
          <p:sp>
            <p:nvSpPr>
              <p:cNvPr id="837" name=""/>
              <p:cNvSpPr/>
              <p:nvPr/>
            </p:nvSpPr>
            <p:spPr>
              <a:xfrm>
                <a:off x="5495040" y="5216400"/>
                <a:ext cx="208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&lt;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36840" y="5653080"/>
                <a:ext cx="77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397200" y="5653080"/>
                <a:ext cx="115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0" name=""/>
              <p:cNvGrpSpPr/>
              <p:nvPr/>
            </p:nvGrpSpPr>
            <p:grpSpPr>
              <a:xfrm>
                <a:off x="1620720" y="4579920"/>
                <a:ext cx="5790240" cy="1492560"/>
                <a:chOff x="1620720" y="4579920"/>
                <a:chExt cx="5790240" cy="149256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1717200" y="4589280"/>
                  <a:ext cx="3056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굴림체"/>
                      <a:ea typeface="굴림체"/>
                    </a:rPr>
                    <a:t>죠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2104560" y="4579920"/>
                  <a:ext cx="64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2353680" y="4589280"/>
                  <a:ext cx="3056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굴림체"/>
                      <a:ea typeface="굴림체"/>
                    </a:rPr>
                    <a:t>유형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5339880" y="4589280"/>
                  <a:ext cx="3056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굴림체"/>
                      <a:ea typeface="굴림체"/>
                    </a:rPr>
                    <a:t>죠인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5728680" y="4579920"/>
                  <a:ext cx="64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978160" y="4589280"/>
                  <a:ext cx="3056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굴림체"/>
                      <a:ea typeface="굴림체"/>
                    </a:rPr>
                    <a:t>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621440" y="4903920"/>
                  <a:ext cx="10692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inner jo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620720" y="5187960"/>
                  <a:ext cx="1488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left outer jo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628640" y="5483160"/>
                  <a:ext cx="1672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right outer jo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629000" y="5767200"/>
                  <a:ext cx="15019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full outer joi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5236200" y="4903920"/>
                  <a:ext cx="8085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natru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5225040" y="5207040"/>
                  <a:ext cx="270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o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5825520" y="5226120"/>
                  <a:ext cx="3056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굴림체"/>
                      <a:ea typeface="굴림체"/>
                    </a:rPr>
                    <a:t>술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206760" y="5216400"/>
                  <a:ext cx="1440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&gt;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5235480" y="5511600"/>
                  <a:ext cx="5814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using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5760000" y="5521320"/>
                  <a:ext cx="3344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105960" y="5521320"/>
                  <a:ext cx="37728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,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526440" y="5521320"/>
                  <a:ext cx="82512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</a:rPr>
                    <a:t>, . . . ,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7257600" y="5653080"/>
                  <a:ext cx="15336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2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0" name=""/>
              <p:cNvSpPr/>
              <p:nvPr/>
            </p:nvSpPr>
            <p:spPr>
              <a:xfrm>
                <a:off x="7390440" y="5521320"/>
                <a:ext cx="86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"/>
            <p:cNvGrpSpPr/>
            <p:nvPr/>
          </p:nvGrpSpPr>
          <p:grpSpPr>
            <a:xfrm>
              <a:off x="1452600" y="4572000"/>
              <a:ext cx="6076800" cy="1530360"/>
              <a:chOff x="1452600" y="4572000"/>
              <a:chExt cx="6076800" cy="1530360"/>
            </a:xfrm>
          </p:grpSpPr>
          <p:sp>
            <p:nvSpPr>
              <p:cNvPr id="862" name=""/>
              <p:cNvSpPr/>
              <p:nvPr/>
            </p:nvSpPr>
            <p:spPr>
              <a:xfrm>
                <a:off x="1452600" y="45720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452600" y="457200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452600" y="45720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452600" y="45720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452600" y="457200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452600" y="45720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461960" y="4572000"/>
                <a:ext cx="259560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461960" y="4572000"/>
                <a:ext cx="2595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057560" y="45720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057560" y="457200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057560" y="45720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057560" y="45720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057560" y="457200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057560" y="45720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084640" y="45720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084640" y="457200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084640" y="45720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084640" y="45720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084640" y="457200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084640" y="45720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094360" y="4572000"/>
                <a:ext cx="2425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094360" y="4572000"/>
                <a:ext cx="2425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520040" y="45720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520040" y="457200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520040" y="45720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520040" y="45720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520040" y="457200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520040" y="45720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52600" y="4581720"/>
                <a:ext cx="936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452600" y="4581720"/>
                <a:ext cx="144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057560" y="4581720"/>
                <a:ext cx="972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057560" y="4581720"/>
                <a:ext cx="180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084640" y="4581720"/>
                <a:ext cx="972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84640" y="4581720"/>
                <a:ext cx="180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520040" y="4581720"/>
                <a:ext cx="936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520040" y="4581720"/>
                <a:ext cx="144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452600" y="492444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452600" y="492444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452600" y="492444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461960" y="4924440"/>
                <a:ext cx="259560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461960" y="4924440"/>
                <a:ext cx="25956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057560" y="492444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57560" y="492444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57560" y="492444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084640" y="492444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084640" y="492444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084640" y="492444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094360" y="4924440"/>
                <a:ext cx="2425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094360" y="4924440"/>
                <a:ext cx="2425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520040" y="492444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520040" y="492444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520040" y="492444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452600" y="4934160"/>
                <a:ext cx="9360" cy="1158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452600" y="4934160"/>
                <a:ext cx="1440" cy="11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452600" y="609300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452600" y="60930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452600" y="609300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452600" y="609300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452600" y="60930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452600" y="609300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461960" y="6093000"/>
                <a:ext cx="259560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461960" y="6093000"/>
                <a:ext cx="25956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057560" y="4934160"/>
                <a:ext cx="9720" cy="1158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057560" y="4934160"/>
                <a:ext cx="1800" cy="11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4057560" y="609300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4057560" y="60930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4057560" y="609300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4057560" y="609300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057560" y="60930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4057560" y="609300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084640" y="4934160"/>
                <a:ext cx="9720" cy="1158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084640" y="4934160"/>
                <a:ext cx="1800" cy="11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084640" y="609300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084640" y="60930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084640" y="609300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084640" y="609300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084640" y="60930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084640" y="609300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094360" y="6093000"/>
                <a:ext cx="242568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094360" y="6093000"/>
                <a:ext cx="2425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20040" y="4934160"/>
                <a:ext cx="9360" cy="1158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20040" y="4934160"/>
                <a:ext cx="1440" cy="1158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20040" y="609300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20040" y="60930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20040" y="609300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20040" y="609300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20040" y="60930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520040" y="609300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712A-7037-4018-A5FD-DF9B449FD1E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죠인 릴레이션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</a:rPr>
              <a:t>예제 데이터 집합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1593720" y="2286000"/>
            <a:ext cx="5459400" cy="1506600"/>
            <a:chOff x="1593720" y="2286000"/>
            <a:chExt cx="5459400" cy="1506600"/>
          </a:xfrm>
        </p:grpSpPr>
        <p:grpSp>
          <p:nvGrpSpPr>
            <p:cNvPr id="953" name=""/>
            <p:cNvGrpSpPr/>
            <p:nvPr/>
          </p:nvGrpSpPr>
          <p:grpSpPr>
            <a:xfrm>
              <a:off x="1728000" y="2295720"/>
              <a:ext cx="4951080" cy="1428120"/>
              <a:chOff x="1728000" y="2295720"/>
              <a:chExt cx="4951080" cy="1428120"/>
            </a:xfrm>
          </p:grpSpPr>
          <p:sp>
            <p:nvSpPr>
              <p:cNvPr id="954" name=""/>
              <p:cNvSpPr/>
              <p:nvPr/>
            </p:nvSpPr>
            <p:spPr>
              <a:xfrm>
                <a:off x="1734480" y="2295720"/>
                <a:ext cx="16268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739320" y="2295720"/>
                <a:ext cx="15764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763960" y="2295720"/>
                <a:ext cx="9151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728000" y="2665440"/>
                <a:ext cx="135396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735200" y="3006720"/>
                <a:ext cx="11682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731600" y="3357720"/>
                <a:ext cx="128988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rryridg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736440" y="266544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736440" y="300672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736440" y="3357720"/>
                <a:ext cx="7459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-26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763960" y="2665440"/>
                <a:ext cx="686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763960" y="3006720"/>
                <a:ext cx="686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763960" y="3357720"/>
                <a:ext cx="68652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400" spc="-1" strike="noStrike">
                    <a:solidFill>
                      <a:srgbClr val="000000"/>
                    </a:solidFill>
                    <a:latin typeface="Times New Roman"/>
                  </a:rPr>
                  <a:t>17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"/>
            <p:cNvGrpSpPr/>
            <p:nvPr/>
          </p:nvGrpSpPr>
          <p:grpSpPr>
            <a:xfrm>
              <a:off x="1593720" y="2286000"/>
              <a:ext cx="5459400" cy="1506600"/>
              <a:chOff x="1593720" y="2286000"/>
              <a:chExt cx="5459400" cy="1506600"/>
            </a:xfrm>
          </p:grpSpPr>
          <p:sp>
            <p:nvSpPr>
              <p:cNvPr id="967" name=""/>
              <p:cNvSpPr/>
              <p:nvPr/>
            </p:nvSpPr>
            <p:spPr>
              <a:xfrm>
                <a:off x="1593720" y="22860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93720" y="22860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93720" y="22860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593720" y="22860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593720" y="22860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593720" y="22860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603440" y="2286000"/>
                <a:ext cx="1993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603440" y="2286000"/>
                <a:ext cx="199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3597120" y="22860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3597120" y="22860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597120" y="22860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606840" y="2286000"/>
                <a:ext cx="20224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606840" y="2286000"/>
                <a:ext cx="2022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629320" y="22860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629320" y="22860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629320" y="22860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638680" y="2286000"/>
                <a:ext cx="14050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638680" y="2286000"/>
                <a:ext cx="1405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043760" y="22860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043760" y="22860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043760" y="22860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043760" y="22860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043760" y="22860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043760" y="22860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593720" y="2295720"/>
                <a:ext cx="9720" cy="34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593720" y="2295720"/>
                <a:ext cx="180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3597120" y="2295720"/>
                <a:ext cx="9720" cy="34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3597120" y="2295720"/>
                <a:ext cx="180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629320" y="2295720"/>
                <a:ext cx="9360" cy="34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629320" y="2295720"/>
                <a:ext cx="144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043760" y="2295720"/>
                <a:ext cx="9360" cy="341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043760" y="2295720"/>
                <a:ext cx="1440" cy="34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93720" y="264636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593720" y="264636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593720" y="264636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03440" y="2646360"/>
                <a:ext cx="1993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03440" y="2646360"/>
                <a:ext cx="1993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597120" y="264636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597120" y="264636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597120" y="264636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3606840" y="2646360"/>
                <a:ext cx="20224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606840" y="2646360"/>
                <a:ext cx="2022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629320" y="264636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629320" y="264636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629320" y="264636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38680" y="2646360"/>
                <a:ext cx="14050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8680" y="2646360"/>
                <a:ext cx="1405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043760" y="264636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043760" y="264636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043760" y="264636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593720" y="2656080"/>
                <a:ext cx="9720" cy="1126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593720" y="2656080"/>
                <a:ext cx="1800" cy="11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593720" y="37828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593720" y="378288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593720" y="378288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593720" y="37828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593720" y="378288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593720" y="378288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03440" y="3782880"/>
                <a:ext cx="1993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603440" y="3782880"/>
                <a:ext cx="1993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597120" y="2656080"/>
                <a:ext cx="9720" cy="1126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597120" y="2656080"/>
                <a:ext cx="1800" cy="11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597120" y="37828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597120" y="378288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597120" y="378288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606840" y="3782880"/>
                <a:ext cx="20224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606840" y="3782880"/>
                <a:ext cx="20224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629320" y="2656080"/>
                <a:ext cx="9360" cy="1126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629320" y="2656080"/>
                <a:ext cx="1440" cy="11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629320" y="37828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629320" y="378288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629320" y="37828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638680" y="3782880"/>
                <a:ext cx="14050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38680" y="3782880"/>
                <a:ext cx="1405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043760" y="2656080"/>
                <a:ext cx="9360" cy="11268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043760" y="2656080"/>
                <a:ext cx="1440" cy="112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043760" y="37828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043760" y="378288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043760" y="37828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043760" y="37828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043760" y="378288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043760" y="37828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9" name=""/>
          <p:cNvSpPr/>
          <p:nvPr/>
        </p:nvSpPr>
        <p:spPr>
          <a:xfrm>
            <a:off x="1751040" y="4724280"/>
            <a:ext cx="936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751040" y="4724280"/>
            <a:ext cx="936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963960" y="4724280"/>
            <a:ext cx="972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862600" y="4724280"/>
            <a:ext cx="972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862600" y="4724280"/>
            <a:ext cx="972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751040" y="5078520"/>
            <a:ext cx="9360" cy="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963960" y="5078520"/>
            <a:ext cx="9720" cy="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862600" y="5078520"/>
            <a:ext cx="9720" cy="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63960" y="6195960"/>
            <a:ext cx="972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1751040" y="4495680"/>
            <a:ext cx="4121280" cy="1557360"/>
            <a:chOff x="1751040" y="4495680"/>
            <a:chExt cx="4121280" cy="1557360"/>
          </a:xfrm>
        </p:grpSpPr>
        <p:sp>
          <p:nvSpPr>
            <p:cNvPr id="1059" name=""/>
            <p:cNvSpPr/>
            <p:nvPr/>
          </p:nvSpPr>
          <p:spPr>
            <a:xfrm>
              <a:off x="1751040" y="4571640"/>
              <a:ext cx="93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751040" y="457164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751040" y="4571640"/>
              <a:ext cx="93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51040" y="457164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963960" y="4571640"/>
              <a:ext cx="97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963960" y="457164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862600" y="4571640"/>
              <a:ext cx="97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862600" y="4571640"/>
              <a:ext cx="180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62600" y="4571640"/>
              <a:ext cx="97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862600" y="4571640"/>
              <a:ext cx="180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862600" y="4581360"/>
              <a:ext cx="9720" cy="3348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751040" y="4925880"/>
              <a:ext cx="936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751040" y="492588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963960" y="4925880"/>
              <a:ext cx="972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63960" y="492588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862600" y="4925880"/>
              <a:ext cx="972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862600" y="4925880"/>
              <a:ext cx="180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751040" y="6043320"/>
              <a:ext cx="9360" cy="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751040" y="6043320"/>
              <a:ext cx="93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751040" y="604332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751040" y="6043320"/>
              <a:ext cx="9360" cy="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51040" y="6043320"/>
              <a:ext cx="93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751040" y="604332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963960" y="6043320"/>
              <a:ext cx="97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963960" y="604332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1752480" y="4495680"/>
              <a:ext cx="4111920" cy="1519920"/>
              <a:chOff x="1752480" y="4495680"/>
              <a:chExt cx="4111920" cy="151992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1885680" y="4495680"/>
                <a:ext cx="3812760" cy="1415160"/>
                <a:chOff x="1885680" y="4495680"/>
                <a:chExt cx="3812760" cy="14151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1917000" y="4501800"/>
                  <a:ext cx="18813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customer-name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1885680" y="4865400"/>
                  <a:ext cx="67896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on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1887480" y="5200200"/>
                  <a:ext cx="7308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Smith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1890360" y="5544720"/>
                  <a:ext cx="7628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Haye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102920" y="4865400"/>
                  <a:ext cx="745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-17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102920" y="5200200"/>
                  <a:ext cx="745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-23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102920" y="5544720"/>
                  <a:ext cx="745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-15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122000" y="4495680"/>
                  <a:ext cx="15764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oan-numbe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1752480" y="4534920"/>
                <a:ext cx="4111920" cy="1480680"/>
                <a:chOff x="1752480" y="4534920"/>
                <a:chExt cx="4111920" cy="148068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973680" y="4888800"/>
                  <a:ext cx="1888920" cy="90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6" name=""/>
                <p:cNvGrpSpPr/>
                <p:nvPr/>
              </p:nvGrpSpPr>
              <p:grpSpPr>
                <a:xfrm>
                  <a:off x="1752480" y="4534920"/>
                  <a:ext cx="4111920" cy="1480680"/>
                  <a:chOff x="1752480" y="4534920"/>
                  <a:chExt cx="4111920" cy="148068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1760400" y="4888800"/>
                    <a:ext cx="2203560" cy="900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1762200" y="4534920"/>
                    <a:ext cx="2203200" cy="9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9" name=""/>
                  <p:cNvSpPr/>
                  <p:nvPr/>
                </p:nvSpPr>
                <p:spPr>
                  <a:xfrm>
                    <a:off x="3975120" y="4534920"/>
                    <a:ext cx="1889280" cy="9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0" name=""/>
                  <p:cNvSpPr/>
                  <p:nvPr/>
                </p:nvSpPr>
                <p:spPr>
                  <a:xfrm>
                    <a:off x="1752480" y="4544280"/>
                    <a:ext cx="9720" cy="3344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65400" y="4544280"/>
                    <a:ext cx="9720" cy="33444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2" name=""/>
                  <p:cNvSpPr/>
                  <p:nvPr/>
                </p:nvSpPr>
                <p:spPr>
                  <a:xfrm>
                    <a:off x="1752480" y="4898160"/>
                    <a:ext cx="9720" cy="11077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1762200" y="6006240"/>
                    <a:ext cx="2203200" cy="9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3965400" y="4898160"/>
                    <a:ext cx="9720" cy="11077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5" name=""/>
                  <p:cNvSpPr/>
                  <p:nvPr/>
                </p:nvSpPr>
                <p:spPr>
                  <a:xfrm>
                    <a:off x="3975120" y="6006240"/>
                    <a:ext cx="1889280" cy="93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106" name=""/>
            <p:cNvSpPr/>
            <p:nvPr/>
          </p:nvSpPr>
          <p:spPr>
            <a:xfrm>
              <a:off x="5862600" y="4935240"/>
              <a:ext cx="9720" cy="1108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862600" y="6043320"/>
              <a:ext cx="9720" cy="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5862600" y="6043320"/>
              <a:ext cx="97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862600" y="6043320"/>
              <a:ext cx="180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862600" y="6043320"/>
              <a:ext cx="9720" cy="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862600" y="6043320"/>
              <a:ext cx="97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862600" y="6043320"/>
              <a:ext cx="180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867280" y="4582800"/>
              <a:ext cx="0" cy="144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D289-74C5-4FC3-9E1A-F243E2F25A0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릴레이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ner jo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orrow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.loan-number = borrower.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ft outer jo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orrow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b2b2b2"/>
              </a:buClr>
              <a:buSzPct val="75000"/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.loan-number = borrower.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6" name=""/>
          <p:cNvGrpSpPr/>
          <p:nvPr/>
        </p:nvGrpSpPr>
        <p:grpSpPr>
          <a:xfrm>
            <a:off x="993600" y="2590920"/>
            <a:ext cx="7296480" cy="1017000"/>
            <a:chOff x="993600" y="2590920"/>
            <a:chExt cx="7296480" cy="1017000"/>
          </a:xfrm>
        </p:grpSpPr>
        <p:grpSp>
          <p:nvGrpSpPr>
            <p:cNvPr id="1117" name=""/>
            <p:cNvGrpSpPr/>
            <p:nvPr/>
          </p:nvGrpSpPr>
          <p:grpSpPr>
            <a:xfrm>
              <a:off x="1097280" y="2601720"/>
              <a:ext cx="7130520" cy="946080"/>
              <a:chOff x="1097280" y="2601720"/>
              <a:chExt cx="7130520" cy="946080"/>
            </a:xfrm>
          </p:grpSpPr>
          <p:sp>
            <p:nvSpPr>
              <p:cNvPr id="1118" name=""/>
              <p:cNvSpPr/>
              <p:nvPr/>
            </p:nvSpPr>
            <p:spPr>
              <a:xfrm>
                <a:off x="1113120" y="2601720"/>
                <a:ext cx="1363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684520" y="2601720"/>
                <a:ext cx="13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159800" y="2601720"/>
                <a:ext cx="767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112360" y="2601720"/>
                <a:ext cx="1573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907320" y="2601720"/>
                <a:ext cx="13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1097280" y="2950560"/>
                <a:ext cx="113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1099440" y="3242520"/>
                <a:ext cx="979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666160" y="295056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666160" y="324252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155120" y="295056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155120" y="324252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058720" y="295056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057280" y="3242520"/>
                <a:ext cx="608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888600" y="295056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888600" y="324252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993600" y="2590920"/>
              <a:ext cx="7296480" cy="1017000"/>
              <a:chOff x="993600" y="2590920"/>
              <a:chExt cx="7296480" cy="1017000"/>
            </a:xfrm>
          </p:grpSpPr>
          <p:sp>
            <p:nvSpPr>
              <p:cNvPr id="1134" name=""/>
              <p:cNvSpPr/>
              <p:nvPr/>
            </p:nvSpPr>
            <p:spPr>
              <a:xfrm>
                <a:off x="993600" y="259092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993600" y="25909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993600" y="259092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993600" y="259092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993600" y="25909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993600" y="259092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003320" y="2590920"/>
                <a:ext cx="15699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003320" y="2590920"/>
                <a:ext cx="1569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573280" y="259092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573280" y="25909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573280" y="259092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2583000" y="2590920"/>
                <a:ext cx="14745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583000" y="2590920"/>
                <a:ext cx="14745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057560" y="259092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057560" y="25909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057560" y="259092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067280" y="2590920"/>
                <a:ext cx="90324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67280" y="2590920"/>
                <a:ext cx="903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970520" y="259092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4970520" y="25909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970520" y="259092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4979880" y="2590920"/>
                <a:ext cx="181764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4979880" y="2590920"/>
                <a:ext cx="1817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797520" y="2590920"/>
                <a:ext cx="79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797520" y="2590920"/>
                <a:ext cx="7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797520" y="259092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805440" y="2590920"/>
                <a:ext cx="14749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805440" y="2590920"/>
                <a:ext cx="14749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280360" y="259092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280360" y="25909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280360" y="259092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280360" y="259092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8280360" y="25909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8280360" y="259092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993600" y="2600280"/>
                <a:ext cx="972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993600" y="2600280"/>
                <a:ext cx="180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573280" y="2600280"/>
                <a:ext cx="972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573280" y="2600280"/>
                <a:ext cx="180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057560" y="2600280"/>
                <a:ext cx="972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057560" y="2600280"/>
                <a:ext cx="180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970520" y="2600280"/>
                <a:ext cx="936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970520" y="2600280"/>
                <a:ext cx="144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797520" y="2600280"/>
                <a:ext cx="792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797520" y="2600280"/>
                <a:ext cx="180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8280360" y="2600280"/>
                <a:ext cx="972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280360" y="2600280"/>
                <a:ext cx="180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993600" y="29401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993600" y="29401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993600" y="29401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003320" y="2940120"/>
                <a:ext cx="156996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003320" y="2940120"/>
                <a:ext cx="1569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573280" y="29401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573280" y="29401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2573280" y="29401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583000" y="2940120"/>
                <a:ext cx="147456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583000" y="2940120"/>
                <a:ext cx="1474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057560" y="29401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057560" y="29401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057560" y="29401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067280" y="2940120"/>
                <a:ext cx="90324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067280" y="2940120"/>
                <a:ext cx="9032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970520" y="2940120"/>
                <a:ext cx="936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970520" y="2940120"/>
                <a:ext cx="9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970520" y="2940120"/>
                <a:ext cx="14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979880" y="2940120"/>
                <a:ext cx="181764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979880" y="2940120"/>
                <a:ext cx="1817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797520" y="2940120"/>
                <a:ext cx="79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797520" y="2940120"/>
                <a:ext cx="79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97520" y="29401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805440" y="2940120"/>
                <a:ext cx="14749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805440" y="2940120"/>
                <a:ext cx="14749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8280360" y="29401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8280360" y="29401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280360" y="29401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993600" y="2949480"/>
                <a:ext cx="97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993600" y="2949480"/>
                <a:ext cx="1800" cy="6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993600" y="35989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993600" y="35989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993600" y="35989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993600" y="35989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993600" y="35989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993600" y="35989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003320" y="3598920"/>
                <a:ext cx="156996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003320" y="3598920"/>
                <a:ext cx="15699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2573280" y="2949480"/>
                <a:ext cx="97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2573280" y="2949480"/>
                <a:ext cx="1800" cy="6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573280" y="35989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573280" y="35989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2573280" y="35989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583000" y="3598920"/>
                <a:ext cx="147456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2583000" y="3598920"/>
                <a:ext cx="14745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057560" y="2949480"/>
                <a:ext cx="97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057560" y="2949480"/>
                <a:ext cx="1800" cy="6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057560" y="35989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057560" y="35989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057560" y="35989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067280" y="3598920"/>
                <a:ext cx="90324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067280" y="3598920"/>
                <a:ext cx="9032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970520" y="2949480"/>
                <a:ext cx="936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70520" y="2949480"/>
                <a:ext cx="1440" cy="6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970520" y="3598920"/>
                <a:ext cx="936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970520" y="3598920"/>
                <a:ext cx="93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4970520" y="3598920"/>
                <a:ext cx="144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979880" y="3598920"/>
                <a:ext cx="181764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979880" y="3598920"/>
                <a:ext cx="181764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797520" y="2949480"/>
                <a:ext cx="79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797520" y="2949480"/>
                <a:ext cx="1800" cy="6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797520" y="3598920"/>
                <a:ext cx="79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6797520" y="3598920"/>
                <a:ext cx="79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6797520" y="35989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805440" y="3598920"/>
                <a:ext cx="14749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805440" y="3598920"/>
                <a:ext cx="14749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8280360" y="2949480"/>
                <a:ext cx="9720" cy="649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280360" y="2949480"/>
                <a:ext cx="1800" cy="649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8280360" y="35989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280360" y="35989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280360" y="35989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280360" y="3598920"/>
                <a:ext cx="9720" cy="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280360" y="3598920"/>
                <a:ext cx="972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280360" y="3598920"/>
                <a:ext cx="180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4" name=""/>
          <p:cNvGrpSpPr/>
          <p:nvPr/>
        </p:nvGrpSpPr>
        <p:grpSpPr>
          <a:xfrm>
            <a:off x="993600" y="4648320"/>
            <a:ext cx="7305840" cy="1312920"/>
            <a:chOff x="993600" y="4648320"/>
            <a:chExt cx="7305840" cy="1312920"/>
          </a:xfrm>
        </p:grpSpPr>
        <p:grpSp>
          <p:nvGrpSpPr>
            <p:cNvPr id="1255" name=""/>
            <p:cNvGrpSpPr/>
            <p:nvPr/>
          </p:nvGrpSpPr>
          <p:grpSpPr>
            <a:xfrm>
              <a:off x="1140480" y="4686840"/>
              <a:ext cx="7133400" cy="1274400"/>
              <a:chOff x="1140480" y="4686840"/>
              <a:chExt cx="7133400" cy="1274400"/>
            </a:xfrm>
          </p:grpSpPr>
          <p:sp>
            <p:nvSpPr>
              <p:cNvPr id="1256" name=""/>
              <p:cNvSpPr/>
              <p:nvPr/>
            </p:nvSpPr>
            <p:spPr>
              <a:xfrm>
                <a:off x="1149480" y="4686840"/>
                <a:ext cx="1363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2724480" y="4686840"/>
                <a:ext cx="13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4205880" y="4686840"/>
                <a:ext cx="767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164920" y="4686840"/>
                <a:ext cx="1573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953400" y="4686840"/>
                <a:ext cx="13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144800" y="5040000"/>
                <a:ext cx="113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47320" y="5353200"/>
                <a:ext cx="979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140480" y="5655960"/>
                <a:ext cx="1078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rryrid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709000" y="504000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2709000" y="535320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2709000" y="565596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6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201200" y="504000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201200" y="535320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4201200" y="565596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7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114520" y="50400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113080" y="5353200"/>
                <a:ext cx="608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114880" y="565596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938280" y="504000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938280" y="535320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943680" y="565596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993600" y="4648320"/>
              <a:ext cx="7305840" cy="1290600"/>
              <a:chOff x="993600" y="4648320"/>
              <a:chExt cx="7305840" cy="1290600"/>
            </a:xfrm>
          </p:grpSpPr>
          <p:sp>
            <p:nvSpPr>
              <p:cNvPr id="1277" name=""/>
              <p:cNvSpPr/>
              <p:nvPr/>
            </p:nvSpPr>
            <p:spPr>
              <a:xfrm>
                <a:off x="993600" y="464832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993600" y="46483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993600" y="464832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993600" y="464832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993600" y="46483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993600" y="464832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003320" y="4648320"/>
                <a:ext cx="15717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1003320" y="4648320"/>
                <a:ext cx="1571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575080" y="464832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575080" y="46483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575080" y="464832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584440" y="4648320"/>
                <a:ext cx="1476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584440" y="4648320"/>
                <a:ext cx="1476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60800" y="464832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060800" y="46483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4060800" y="464832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4070520" y="4648320"/>
                <a:ext cx="904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4070520" y="4648320"/>
                <a:ext cx="90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4975200" y="464832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4975200" y="46483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4975200" y="464832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4984920" y="4648320"/>
                <a:ext cx="18190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4984920" y="4648320"/>
                <a:ext cx="1819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804000" y="464832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804000" y="46483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804000" y="464832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813720" y="4648320"/>
                <a:ext cx="1476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813720" y="4648320"/>
                <a:ext cx="1476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8290080" y="464832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8290080" y="46483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290080" y="464832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290080" y="464832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290080" y="46483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290080" y="464832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993600" y="4658040"/>
                <a:ext cx="9720" cy="34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993600" y="4658040"/>
                <a:ext cx="1800" cy="3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575080" y="4658040"/>
                <a:ext cx="9360" cy="34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575080" y="4658040"/>
                <a:ext cx="1440" cy="3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060800" y="4658040"/>
                <a:ext cx="9720" cy="34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060800" y="4658040"/>
                <a:ext cx="1440" cy="3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975200" y="4658040"/>
                <a:ext cx="9720" cy="34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975200" y="4658040"/>
                <a:ext cx="1440" cy="3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804000" y="4658040"/>
                <a:ext cx="9720" cy="34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804000" y="4658040"/>
                <a:ext cx="1440" cy="3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290080" y="4658040"/>
                <a:ext cx="9360" cy="3434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290080" y="4658040"/>
                <a:ext cx="1440" cy="3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93600" y="50014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993600" y="500148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993600" y="500148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003320" y="5001480"/>
                <a:ext cx="15717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1003320" y="5001480"/>
                <a:ext cx="1571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575080" y="50014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575080" y="50014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575080" y="50014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584440" y="5001480"/>
                <a:ext cx="1476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584440" y="5001480"/>
                <a:ext cx="1476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4060800" y="50014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4060800" y="500148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4060800" y="50014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4070520" y="5001480"/>
                <a:ext cx="904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4070520" y="5001480"/>
                <a:ext cx="904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975200" y="50014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4975200" y="500148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975200" y="50014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4984920" y="5001480"/>
                <a:ext cx="18190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4984920" y="5001480"/>
                <a:ext cx="1819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804000" y="50014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804000" y="500148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804000" y="50014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813720" y="5001480"/>
                <a:ext cx="1476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813720" y="5001480"/>
                <a:ext cx="1476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290080" y="50014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8290080" y="50014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8290080" y="50014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993600" y="5011560"/>
                <a:ext cx="9720" cy="916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993600" y="5011560"/>
                <a:ext cx="1800" cy="9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993600" y="5928840"/>
                <a:ext cx="972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993600" y="592884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993600" y="5928840"/>
                <a:ext cx="180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993600" y="5928840"/>
                <a:ext cx="972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993600" y="592884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993600" y="5928840"/>
                <a:ext cx="180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1003320" y="5928840"/>
                <a:ext cx="157176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003320" y="5928840"/>
                <a:ext cx="15717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575080" y="5011560"/>
                <a:ext cx="9360" cy="916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2575080" y="5011560"/>
                <a:ext cx="1440" cy="9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2575080" y="5928840"/>
                <a:ext cx="936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2575080" y="592884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2575080" y="5928840"/>
                <a:ext cx="144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2584440" y="5928840"/>
                <a:ext cx="147636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2584440" y="5928840"/>
                <a:ext cx="1476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4060800" y="5011560"/>
                <a:ext cx="9720" cy="916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4060800" y="5011560"/>
                <a:ext cx="1440" cy="9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4060800" y="5928840"/>
                <a:ext cx="972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060800" y="592884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4060800" y="5928840"/>
                <a:ext cx="144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4070520" y="5928840"/>
                <a:ext cx="90468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4070520" y="5928840"/>
                <a:ext cx="904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4975200" y="5011560"/>
                <a:ext cx="9720" cy="916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4975200" y="5011560"/>
                <a:ext cx="1440" cy="9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4975200" y="5928840"/>
                <a:ext cx="972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4975200" y="592884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4975200" y="5928840"/>
                <a:ext cx="144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4984920" y="5928840"/>
                <a:ext cx="181908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984920" y="5928840"/>
                <a:ext cx="18190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804000" y="5011560"/>
                <a:ext cx="9720" cy="916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804000" y="5011560"/>
                <a:ext cx="1440" cy="9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804000" y="5928840"/>
                <a:ext cx="972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804000" y="592884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804000" y="5928840"/>
                <a:ext cx="144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813720" y="5928840"/>
                <a:ext cx="147636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813720" y="5928840"/>
                <a:ext cx="1476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290080" y="5011560"/>
                <a:ext cx="9360" cy="916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290080" y="5011560"/>
                <a:ext cx="1440" cy="9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290080" y="5928840"/>
                <a:ext cx="936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290080" y="592884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8290080" y="5928840"/>
                <a:ext cx="144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8290080" y="5928840"/>
                <a:ext cx="9360" cy="1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8290080" y="592884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290080" y="5928840"/>
                <a:ext cx="1440" cy="1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C1D0-8DFD-4982-8E53-7C0D0DFE980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릴레이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inner jo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right outer jo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orr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914400" y="2411280"/>
            <a:ext cx="7307280" cy="1030320"/>
            <a:chOff x="914400" y="2411280"/>
            <a:chExt cx="7307280" cy="1030320"/>
          </a:xfrm>
        </p:grpSpPr>
        <p:grpSp>
          <p:nvGrpSpPr>
            <p:cNvPr id="1400" name=""/>
            <p:cNvGrpSpPr/>
            <p:nvPr/>
          </p:nvGrpSpPr>
          <p:grpSpPr>
            <a:xfrm>
              <a:off x="1144800" y="2428920"/>
              <a:ext cx="6361920" cy="952920"/>
              <a:chOff x="1144800" y="2428920"/>
              <a:chExt cx="6361920" cy="952920"/>
            </a:xfrm>
          </p:grpSpPr>
          <p:sp>
            <p:nvSpPr>
              <p:cNvPr id="1401" name=""/>
              <p:cNvSpPr/>
              <p:nvPr/>
            </p:nvSpPr>
            <p:spPr>
              <a:xfrm>
                <a:off x="1149480" y="2428920"/>
                <a:ext cx="1363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067200" y="2428920"/>
                <a:ext cx="13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4777560" y="2428920"/>
                <a:ext cx="767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933160" y="2428920"/>
                <a:ext cx="1573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1144800" y="2781000"/>
                <a:ext cx="113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1147320" y="3076560"/>
                <a:ext cx="979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052080" y="278100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052080" y="307656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4772520" y="278100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4772520" y="307656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5916240" y="278100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5914800" y="3076560"/>
                <a:ext cx="608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914400" y="2411280"/>
              <a:ext cx="7307280" cy="1030320"/>
              <a:chOff x="914400" y="2411280"/>
              <a:chExt cx="7307280" cy="1030320"/>
            </a:xfrm>
          </p:grpSpPr>
          <p:sp>
            <p:nvSpPr>
              <p:cNvPr id="1414" name=""/>
              <p:cNvSpPr/>
              <p:nvPr/>
            </p:nvSpPr>
            <p:spPr>
              <a:xfrm>
                <a:off x="914400" y="24112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914400" y="241128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914400" y="241128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914400" y="24112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914400" y="241128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914400" y="241128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924120" y="2411280"/>
                <a:ext cx="19144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924120" y="2411280"/>
                <a:ext cx="1914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838600" y="24112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838600" y="241128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838600" y="24112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848320" y="2411280"/>
                <a:ext cx="17049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2848320" y="2411280"/>
                <a:ext cx="170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553280" y="24112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553280" y="24112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553280" y="24112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562640" y="2411280"/>
                <a:ext cx="11350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562640" y="2411280"/>
                <a:ext cx="1135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697720" y="24112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697720" y="24112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697720" y="24112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707080" y="2411280"/>
                <a:ext cx="250524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07080" y="2411280"/>
                <a:ext cx="2505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8212320" y="24112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8212320" y="24112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8212320" y="24112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8212320" y="24112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8212320" y="241128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8212320" y="24112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914400" y="2421000"/>
                <a:ext cx="972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914400" y="2421000"/>
                <a:ext cx="180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2838600" y="2421000"/>
                <a:ext cx="972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838600" y="2421000"/>
                <a:ext cx="144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553280" y="2421000"/>
                <a:ext cx="936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4553280" y="2421000"/>
                <a:ext cx="144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697720" y="2421000"/>
                <a:ext cx="936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697720" y="2421000"/>
                <a:ext cx="144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8212320" y="2421000"/>
                <a:ext cx="9360" cy="342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8212320" y="2421000"/>
                <a:ext cx="1440" cy="342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914400" y="276372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914400" y="27637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914400" y="276372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924120" y="2763720"/>
                <a:ext cx="191448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924120" y="2763720"/>
                <a:ext cx="1914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838600" y="276372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838600" y="276372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838600" y="276372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848320" y="2763720"/>
                <a:ext cx="17049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848320" y="2763720"/>
                <a:ext cx="170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4553280" y="276372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4553280" y="27637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4553280" y="276372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562640" y="2763720"/>
                <a:ext cx="113508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562640" y="2763720"/>
                <a:ext cx="1135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697720" y="276372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697720" y="27637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697720" y="276372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707080" y="2763720"/>
                <a:ext cx="250524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707080" y="2763720"/>
                <a:ext cx="2505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8212320" y="276372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212320" y="276372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212320" y="276372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914400" y="2773080"/>
                <a:ext cx="9720" cy="65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914400" y="2773080"/>
                <a:ext cx="1800" cy="65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914400" y="343224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914400" y="343224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914400" y="343224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914400" y="343224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914400" y="343224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914400" y="3432240"/>
                <a:ext cx="180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924120" y="3432240"/>
                <a:ext cx="191448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924120" y="3432240"/>
                <a:ext cx="1914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838600" y="2773080"/>
                <a:ext cx="9720" cy="65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838600" y="2773080"/>
                <a:ext cx="1440" cy="65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838600" y="3432240"/>
                <a:ext cx="972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838600" y="343224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838600" y="343224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848320" y="3432240"/>
                <a:ext cx="17049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848320" y="3432240"/>
                <a:ext cx="170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553280" y="2773080"/>
                <a:ext cx="9360" cy="65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53280" y="2773080"/>
                <a:ext cx="1440" cy="65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553280" y="343224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553280" y="343224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553280" y="343224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562640" y="3432240"/>
                <a:ext cx="113508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562640" y="3432240"/>
                <a:ext cx="1135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697720" y="2773080"/>
                <a:ext cx="9360" cy="65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697720" y="2773080"/>
                <a:ext cx="1440" cy="65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697720" y="343224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697720" y="343224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697720" y="343224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707080" y="3432240"/>
                <a:ext cx="250524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707080" y="3432240"/>
                <a:ext cx="25052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212320" y="2773080"/>
                <a:ext cx="9360" cy="659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212320" y="2773080"/>
                <a:ext cx="1440" cy="65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8212320" y="343224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8212320" y="343224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8212320" y="343224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8212320" y="3432240"/>
                <a:ext cx="9360" cy="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8212320" y="343224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8212320" y="3432240"/>
                <a:ext cx="1440" cy="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5" name=""/>
          <p:cNvSpPr/>
          <p:nvPr/>
        </p:nvSpPr>
        <p:spPr>
          <a:xfrm>
            <a:off x="4632480" y="4338720"/>
            <a:ext cx="9360" cy="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632480" y="4691160"/>
            <a:ext cx="9360" cy="9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993600" y="5565600"/>
            <a:ext cx="972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993600" y="5565600"/>
            <a:ext cx="972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2917800" y="5565600"/>
            <a:ext cx="972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4632480" y="5565600"/>
            <a:ext cx="936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776920" y="5565600"/>
            <a:ext cx="936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291520" y="5565600"/>
            <a:ext cx="936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291520" y="5565600"/>
            <a:ext cx="9360" cy="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990720" y="4240080"/>
            <a:ext cx="7310160" cy="1246680"/>
            <a:chOff x="990720" y="4240080"/>
            <a:chExt cx="7310160" cy="1246680"/>
          </a:xfrm>
        </p:grpSpPr>
        <p:sp>
          <p:nvSpPr>
            <p:cNvPr id="1525" name=""/>
            <p:cNvSpPr/>
            <p:nvPr/>
          </p:nvSpPr>
          <p:spPr>
            <a:xfrm>
              <a:off x="993600" y="4240080"/>
              <a:ext cx="972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993600" y="4240080"/>
              <a:ext cx="972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993600" y="4240080"/>
              <a:ext cx="180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993600" y="4240080"/>
              <a:ext cx="972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93600" y="4240080"/>
              <a:ext cx="972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93600" y="4240080"/>
              <a:ext cx="180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917800" y="4240080"/>
              <a:ext cx="972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917800" y="4240080"/>
              <a:ext cx="972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917800" y="424008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4632480" y="4240080"/>
              <a:ext cx="936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632480" y="424008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776920" y="4240080"/>
              <a:ext cx="936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776920" y="4240080"/>
              <a:ext cx="936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76920" y="424008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291520" y="4240080"/>
              <a:ext cx="936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8291520" y="4240080"/>
              <a:ext cx="936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8291520" y="424008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8291520" y="4240080"/>
              <a:ext cx="936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8291520" y="4240080"/>
              <a:ext cx="936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291520" y="424008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993600" y="4249440"/>
              <a:ext cx="9720" cy="343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6" name=""/>
            <p:cNvGrpSpPr/>
            <p:nvPr/>
          </p:nvGrpSpPr>
          <p:grpSpPr>
            <a:xfrm>
              <a:off x="1143000" y="4249440"/>
              <a:ext cx="6363720" cy="1237320"/>
              <a:chOff x="1143000" y="4249440"/>
              <a:chExt cx="6363720" cy="1237320"/>
            </a:xfrm>
          </p:grpSpPr>
          <p:sp>
            <p:nvSpPr>
              <p:cNvPr id="1547" name=""/>
              <p:cNvSpPr/>
              <p:nvPr/>
            </p:nvSpPr>
            <p:spPr>
              <a:xfrm>
                <a:off x="1149480" y="4249440"/>
                <a:ext cx="1363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067200" y="4249440"/>
                <a:ext cx="13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4777560" y="4249440"/>
                <a:ext cx="767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933160" y="4249440"/>
                <a:ext cx="1573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144800" y="4601880"/>
                <a:ext cx="113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147320" y="4895640"/>
                <a:ext cx="979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143000" y="518148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052080" y="460188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052080" y="489564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052080" y="518148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5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772520" y="460188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4772520" y="489564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4774680" y="5181480"/>
                <a:ext cx="525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916240" y="460188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914800" y="4895640"/>
                <a:ext cx="608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905800" y="5181480"/>
                <a:ext cx="63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>
              <a:off x="993600" y="4592520"/>
              <a:ext cx="972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993600" y="4592520"/>
              <a:ext cx="972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993600" y="4592520"/>
              <a:ext cx="180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17800" y="4592520"/>
              <a:ext cx="972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17800" y="4592520"/>
              <a:ext cx="972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17800" y="459252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32480" y="4592520"/>
              <a:ext cx="936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632480" y="459252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776920" y="4592520"/>
              <a:ext cx="936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776920" y="4592520"/>
              <a:ext cx="936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776920" y="459252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8291520" y="4592520"/>
              <a:ext cx="9360" cy="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291520" y="4592520"/>
              <a:ext cx="9360" cy="144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291520" y="4592520"/>
              <a:ext cx="1440" cy="936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993600" y="4601880"/>
              <a:ext cx="9720" cy="865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993600" y="5466960"/>
              <a:ext cx="97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993600" y="5466960"/>
              <a:ext cx="180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993600" y="5466960"/>
              <a:ext cx="97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993600" y="5466960"/>
              <a:ext cx="180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917800" y="5466960"/>
              <a:ext cx="972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17800" y="546696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632480" y="5466960"/>
              <a:ext cx="93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632480" y="546696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776920" y="5466960"/>
              <a:ext cx="93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776920" y="546696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8291520" y="5466960"/>
              <a:ext cx="93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291520" y="546696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8291520" y="5466960"/>
              <a:ext cx="9360" cy="180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8291520" y="5466960"/>
              <a:ext cx="1440" cy="9720"/>
            </a:xfrm>
            <a:prstGeom prst="line">
              <a:avLst/>
            </a:prstGeom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2" name=""/>
            <p:cNvGrpSpPr/>
            <p:nvPr/>
          </p:nvGrpSpPr>
          <p:grpSpPr>
            <a:xfrm>
              <a:off x="990720" y="4240080"/>
              <a:ext cx="7310160" cy="1236600"/>
              <a:chOff x="990720" y="4240080"/>
              <a:chExt cx="7310160" cy="1236600"/>
            </a:xfrm>
          </p:grpSpPr>
          <p:grpSp>
            <p:nvGrpSpPr>
              <p:cNvPr id="1593" name=""/>
              <p:cNvGrpSpPr/>
              <p:nvPr/>
            </p:nvGrpSpPr>
            <p:grpSpPr>
              <a:xfrm>
                <a:off x="1003320" y="4240080"/>
                <a:ext cx="7297560" cy="1236600"/>
                <a:chOff x="1003320" y="4240080"/>
                <a:chExt cx="7297560" cy="12366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1003320" y="4240080"/>
                  <a:ext cx="1914480" cy="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2927520" y="4240080"/>
                  <a:ext cx="1704960" cy="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4641840" y="4240080"/>
                  <a:ext cx="1135080" cy="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5786280" y="4240080"/>
                  <a:ext cx="2505240" cy="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2917800" y="4249440"/>
                  <a:ext cx="9720" cy="343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4632480" y="4249440"/>
                  <a:ext cx="9360" cy="343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5776920" y="4249440"/>
                  <a:ext cx="9360" cy="343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8291520" y="4249440"/>
                  <a:ext cx="9360" cy="343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1003320" y="4592520"/>
                  <a:ext cx="1914480" cy="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2927520" y="4592520"/>
                  <a:ext cx="1704960" cy="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4641840" y="4592520"/>
                  <a:ext cx="1135080" cy="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5786280" y="4592520"/>
                  <a:ext cx="2505240" cy="9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1003320" y="5466960"/>
                  <a:ext cx="1914480" cy="9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2917800" y="4601880"/>
                  <a:ext cx="9720" cy="865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2927520" y="5466960"/>
                  <a:ext cx="1704960" cy="9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4632480" y="4601880"/>
                  <a:ext cx="9360" cy="865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4641840" y="5466960"/>
                  <a:ext cx="1135080" cy="9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5776920" y="4601880"/>
                  <a:ext cx="9360" cy="865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5786280" y="5466960"/>
                  <a:ext cx="2505240" cy="97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8291520" y="4601880"/>
                  <a:ext cx="9360" cy="8650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4" name=""/>
              <p:cNvSpPr/>
              <p:nvPr/>
            </p:nvSpPr>
            <p:spPr>
              <a:xfrm>
                <a:off x="990720" y="4244760"/>
                <a:ext cx="0" cy="121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071-96D8-48B0-8BEA-A8E096EFB3A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죠인 릴레이션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ll outer jo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orrow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loan-numb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은행에 예금이 있거나 대출이 있는 모든 고객을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ustomer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deposit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tural full outer jo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orrow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ccount-numb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ul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an-numb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u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1063800" y="2352600"/>
            <a:ext cx="7308720" cy="1533960"/>
            <a:chOff x="1063800" y="2352600"/>
            <a:chExt cx="7308720" cy="1533960"/>
          </a:xfrm>
        </p:grpSpPr>
        <p:grpSp>
          <p:nvGrpSpPr>
            <p:cNvPr id="1618" name=""/>
            <p:cNvGrpSpPr/>
            <p:nvPr/>
          </p:nvGrpSpPr>
          <p:grpSpPr>
            <a:xfrm>
              <a:off x="1210320" y="2362320"/>
              <a:ext cx="6366240" cy="1524240"/>
              <a:chOff x="1210320" y="2362320"/>
              <a:chExt cx="6366240" cy="1524240"/>
            </a:xfrm>
          </p:grpSpPr>
          <p:sp>
            <p:nvSpPr>
              <p:cNvPr id="1619" name=""/>
              <p:cNvSpPr/>
              <p:nvPr/>
            </p:nvSpPr>
            <p:spPr>
              <a:xfrm>
                <a:off x="1219320" y="2362320"/>
                <a:ext cx="1363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ranch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138840" y="2362320"/>
                <a:ext cx="1320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loan-numb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848840" y="2362320"/>
                <a:ext cx="767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moun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003000" y="2362320"/>
                <a:ext cx="1573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ustomer-nam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214640" y="2711520"/>
                <a:ext cx="113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owntow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217160" y="3004920"/>
                <a:ext cx="979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Redwoo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210320" y="3287520"/>
                <a:ext cx="10782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Perryridg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212840" y="358128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3123360" y="271152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7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3123360" y="300492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3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3123360" y="328752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26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3123360" y="3581280"/>
                <a:ext cx="6256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-15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4844160" y="271152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3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844160" y="300492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4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844160" y="3287520"/>
                <a:ext cx="576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17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4845960" y="3581280"/>
                <a:ext cx="525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986080" y="2711520"/>
                <a:ext cx="5677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o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984640" y="3004920"/>
                <a:ext cx="6087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mit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986440" y="3287520"/>
                <a:ext cx="3970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nul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975640" y="3581280"/>
                <a:ext cx="637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Hay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9" name=""/>
            <p:cNvGrpSpPr/>
            <p:nvPr/>
          </p:nvGrpSpPr>
          <p:grpSpPr>
            <a:xfrm>
              <a:off x="1063800" y="2352600"/>
              <a:ext cx="7308720" cy="1521000"/>
              <a:chOff x="1063800" y="2352600"/>
              <a:chExt cx="7308720" cy="1521000"/>
            </a:xfrm>
          </p:grpSpPr>
          <p:sp>
            <p:nvSpPr>
              <p:cNvPr id="1640" name=""/>
              <p:cNvSpPr/>
              <p:nvPr/>
            </p:nvSpPr>
            <p:spPr>
              <a:xfrm>
                <a:off x="1063800" y="23526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063800" y="23526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063800" y="23526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063800" y="23526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063800" y="23526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063800" y="23526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073160" y="2352600"/>
                <a:ext cx="19162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073160" y="2352600"/>
                <a:ext cx="19162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2989440" y="23526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2989440" y="23526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2989440" y="23526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998800" y="2352600"/>
                <a:ext cx="17049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2998800" y="2352600"/>
                <a:ext cx="17049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4703760" y="23526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4703760" y="23526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4703760" y="23526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4713120" y="2352600"/>
                <a:ext cx="113364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4713120" y="2352600"/>
                <a:ext cx="1133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846760" y="23526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846760" y="2352600"/>
                <a:ext cx="9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846760" y="23526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856120" y="2352600"/>
                <a:ext cx="2506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856120" y="2352600"/>
                <a:ext cx="25066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362800" y="23526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8362800" y="23526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362800" y="23526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8362800" y="23526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8362800" y="2352600"/>
                <a:ext cx="97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362800" y="23526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063800" y="2362320"/>
                <a:ext cx="936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063800" y="2362320"/>
                <a:ext cx="144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989440" y="2362320"/>
                <a:ext cx="936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989440" y="2362320"/>
                <a:ext cx="144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4703760" y="2362320"/>
                <a:ext cx="936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4703760" y="2362320"/>
                <a:ext cx="144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846760" y="2362320"/>
                <a:ext cx="936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846760" y="2362320"/>
                <a:ext cx="144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8362800" y="2362320"/>
                <a:ext cx="9720" cy="3394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362800" y="2362320"/>
                <a:ext cx="1800" cy="339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063800" y="27018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063800" y="270180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063800" y="27018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073160" y="2701800"/>
                <a:ext cx="19162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73160" y="2701800"/>
                <a:ext cx="1916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2989440" y="27018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2989440" y="270180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989440" y="27018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998800" y="2701800"/>
                <a:ext cx="17049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998800" y="2701800"/>
                <a:ext cx="1704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703760" y="27018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703760" y="270180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703760" y="27018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713120" y="2701800"/>
                <a:ext cx="113364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713120" y="2701800"/>
                <a:ext cx="1133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846760" y="270180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846760" y="270180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846760" y="270180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856120" y="2701800"/>
                <a:ext cx="2506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856120" y="2701800"/>
                <a:ext cx="2506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8362800" y="270180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362800" y="270180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362800" y="270180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063800" y="2711520"/>
                <a:ext cx="9360" cy="11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063800" y="2711520"/>
                <a:ext cx="1440" cy="11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063800" y="38638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063800" y="386388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063800" y="38638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063800" y="38638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063800" y="386388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063800" y="38638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073160" y="3863880"/>
                <a:ext cx="19162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073160" y="3863880"/>
                <a:ext cx="1916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2989440" y="2711520"/>
                <a:ext cx="9360" cy="11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2989440" y="2711520"/>
                <a:ext cx="1440" cy="11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989440" y="38638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2989440" y="386388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2989440" y="38638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2998800" y="3863880"/>
                <a:ext cx="17049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2998800" y="3863880"/>
                <a:ext cx="17049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703760" y="2711520"/>
                <a:ext cx="9360" cy="11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703760" y="2711520"/>
                <a:ext cx="1440" cy="11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703760" y="38638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4703760" y="386388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4703760" y="38638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4713120" y="3863880"/>
                <a:ext cx="113364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713120" y="3863880"/>
                <a:ext cx="11336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5846760" y="2711520"/>
                <a:ext cx="9360" cy="11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5846760" y="2711520"/>
                <a:ext cx="1440" cy="11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5846760" y="3863880"/>
                <a:ext cx="936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5846760" y="3863880"/>
                <a:ext cx="936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846760" y="3863880"/>
                <a:ext cx="144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856120" y="3863880"/>
                <a:ext cx="250668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856120" y="3863880"/>
                <a:ext cx="25066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8362800" y="2711520"/>
                <a:ext cx="9720" cy="1152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8362800" y="2711520"/>
                <a:ext cx="1800" cy="115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362800" y="38638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362800" y="386388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8362800" y="386388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8362800" y="3863880"/>
                <a:ext cx="9720" cy="9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8362800" y="3863880"/>
                <a:ext cx="972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362800" y="3863880"/>
                <a:ext cx="1800" cy="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075-AEC1-4EF8-935A-8795EBF16E8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절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에는 연산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+,-,*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내포한 산술 표현식과 상수 또는 튜플의 애트리뷰트 상의 연산을 내포할 수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anch-name, loan-number, amount*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위의 질의는 애트리뷰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곱해진 것을 제외하고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과 같은 릴레이션을 돌려준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6944-51E9-444A-97E7-184997017B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데이터 정의어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다음과 같이 릴레이션 집합 뿐만 아니라 각 릴레이션에 관한 정보의 지정을 허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릴레이션의 스키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애트리뷰트에 관련된 값들의 도메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무결성 제약 조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릴레이션에 유지되어야 할 인덱스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각 릴레이션에 대한 정보 보안과 인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74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디스크 상의 각 릴레이션의 물리적 저장 구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EA2-4DE9-4861-A9BF-D0194A74599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의 도메인 유형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(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자가 지정한 길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가진 고정길이 문자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char(n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자가 지정한 최대 길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을 가진 가변길이 문자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정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계 종속인 정수들의 유한 부분 집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all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작은 정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도메인 유형의 기계 종속 부분 집합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eric(p,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용자가 지정한 정밀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리수와 소수점 이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리를 가진 고정점 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939-6BF6-46ED-8F90-45EFDABBCA7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에서의 도메인 유형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l, double preci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기계 종속 정밀도를 가진 부동 소수점 및 배정도 부동 소수점 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loat(n)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적어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리수의 사용자가 지정한 정밀도를 가진 부동 소수점 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4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자리의 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월 및 일을 내포하는 날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시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분 및 초로 이루어진 하루의 시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널 값은 모든 도메인 유형에서 허용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애트리뷰트를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선언하면 그 애트리뷰트에 널 값이 금지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-92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do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구조는 사용자가 정의한 도메인 유형을 생성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doma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erson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(20) not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43A-4BD2-4F8B-84D7-E293F44EE5E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구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릴레이션은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table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명령을 사용해 정의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. . .,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integrity-constrai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. .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 integrity-constrain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r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은 릴레이션명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각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 릴레이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스키마내의 애트리뷰트명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애트리뷰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도메인내 값들의 데이터 형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branch-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15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-c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(3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598-983B-4632-B411-11BEFCFB107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에서의 무결성 제약 조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. . .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P)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술어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-name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주 키로 하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값은 음수가 안되도록 하라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reate 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branch-nam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(15)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ch-c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(30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er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branch-name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ssets &gt;= 0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25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-92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서는 애트리뷰트상의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imary ke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선언에 의해 자동으로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보장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1DD-6E81-49E9-8832-2DA70AD9C39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op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구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rop 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명령은 데이터베이스로부터 제거될 릴레이션에 관한 모든 정보를 삭제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ter 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명령은 기존 릴레이션에 애트리뷰트를 추가하는데 사용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릴레이션 내의 모든 튜플에는 새로운 애트리뷰트의 값으로  널이 할당된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ter 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명령의 형식은 다음과 같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d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릴레이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에 추가될 애트리뷰트명이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도메인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ter ta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명령은 릴레이션의 애트리뷰트를 제거하는데도 또한 사용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ter tab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dro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여기서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는 릴레이션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의 애트리뷰트명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416-5037-405E-9AD6-91DE1143BF7F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표준에서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cal, PL/I, Fortran, C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bo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과 같은 프로그래밍 언어내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포를 정의하고 있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질의가 내포되는 언어를 주 언어라 하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호스트 언어내의 허용되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구조를 내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라 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들 언어의 기본적인 유형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/I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R 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 내포된 형태를 따른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선처리기에 내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요청을 식별하기 위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 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을 사용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 SQL &lt;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내포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 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537-2ABA-432C-B80E-A20148565E4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예제 질의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주 언어내로 부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어떤 계좌내의 변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unt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을 초과하는 잔고를 가진 고객의 이름과 계좌 번호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로 질의를 작성하고 그에 대한 커서를 선언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 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urs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-name, account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ositor, 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positor.account-number = account.account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unt.balance &gt; :am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-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7B24-2A87-4D11-A3EF-3B5C7F56560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내포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은 질의가 평가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 SQ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 END-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은 질의 결과내의 한 튜플의 값이 주 언어 변수에 위치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 SQ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cn :an END-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반복 호출하여 질의 결과내의 연속 튜플을 얻는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통신 영역내의 변수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-of-file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에 도달했음을 지시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25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은 데이터베이스 시스템으로 하여금 질의 결과를 가진 임시 릴레이션을 삭제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 SQ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 END-EX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C5FA-A7B0-42EE-BBDF-6BC5D7337F7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동적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실행시 프로그램이 구축되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질의를 제기하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그램 내에서 동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의 사용 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sqlprog = 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un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lance = balanc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1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unt-number = ?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 SQ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ynpro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sqlpro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ount[10] = “A-101”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 SQ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ynpro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accou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동적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그램에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포함하고 있는데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것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프로그램이 실행될 때 제공되는 값을 보관하는 장소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47E5-A6D4-4437-B372-0CCFCD3FC71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은 관계형 대수의 선택 술어에 대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에 나타나는 릴레이션의 애트리뷰트를 내포하는 술어로 구성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대출액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1,200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을 초과하는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서 이루어진 대출의 대출 번호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-name = “Perryridge”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mount &gt;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논리 연산자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, or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사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비교 연산자에 오퍼랜드로서 산술 표현식의 사용을 허용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CA3-414B-4085-914C-282B5E0B0C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기타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기능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87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세대 언어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사용자 인터페이스용 화면의 틀을 생성하고 보고서 생성을 위해 데이터를 포매팅하는 어플리케이션 프로그래머를 지원하는 특수 언어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대부분의 상용 데이터베이스 제품에서 이용 가능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세션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라이언트와 서버의 추상화를 제공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원격 가능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클라이언트는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서버에 연결하여 세션을 형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일련의 문장을 실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세션의 단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세션에서 수행된 작업을 완료하거나 복귀할 수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87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환경에는 사용자 식별자와 세션이 사용하고 있는 여러 스키마중의 하나를 식별하는 스키마 등을 포함한 여러 구성 요소를 내포하고 있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204-DEBC-48BA-B7C1-98AFD7E0ACEE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절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에는 어떤 값보다 작거나 같고 다른 값보다 크거나 같음을 나타내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을 단순히 하기 위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비교 연산자를 포함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대출액이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90,0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에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00,000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불 사이인 대출의 대출 번호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an-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moun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0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320-5CFA-4F7C-B983-5B9428DD25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절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절은 관계형 대수의 카티전 곱 연산에 대응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표현식의 계산에서 검색될 릴레이션들을 나열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카티전 곱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rrowe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lo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,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74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지점에 대출이 있는 모든 고객명과 대출 번호를 찾아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, borrower.loan-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,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.loan-number = loan.loan-num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name =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BF67-DEAA-44E3-9E3D-0D58BB636F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재명명 연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릴레이션과 애트리뷰트의 재명명을 위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L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법은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절로 이루어진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ld-nam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w-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ryridge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지점에 대출이 있는 모든 고객명과 대출 번호를 찾아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열 이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-number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-id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로 대치하라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 distinc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customer-name, borrower.loan-num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an-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,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er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borrower.loan-number = loan-number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ranch-name = 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ryridg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ⓒ 1999 서울산업대학교 전자계산학과 석상기 교수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D97D-ECEE-4A04-9BC7-D859823B3E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1T07:21:04Z</dcterms:created>
  <dc:creator>서울산업대학교 교수 석상기</dc:creator>
  <dc:description/>
  <dc:language>en-US</dc:language>
  <cp:lastModifiedBy>.</cp:lastModifiedBy>
  <cp:lastPrinted>1997-02-26T15:00:00Z</cp:lastPrinted>
  <dcterms:modified xsi:type="dcterms:W3CDTF">1999-06-16T14:15:38Z</dcterms:modified>
  <cp:revision>68</cp:revision>
  <dc:subject/>
  <dc:title>제 4 장 SQ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5357798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EncodingType">
    <vt:r8>-99</vt:r8>
  </property>
  <property fmtid="{D5CDD505-2E9C-101B-9397-08002B2CF9AE}" pid="8" name="GraphicType">
    <vt:r8>1</vt:r8>
  </property>
  <property fmtid="{D5CDD505-2E9C-101B-9397-08002B2CF9AE}" pid="9" name="HomePage">
    <vt:lpwstr>http://cat1.snut.ac.kr/~sksuk</vt:lpwstr>
  </property>
  <property fmtid="{D5CDD505-2E9C-101B-9397-08002B2CF9AE}" pid="10" name="LinkColor">
    <vt:r8>16711680</vt:r8>
  </property>
  <property fmtid="{D5CDD505-2E9C-101B-9397-08002B2CF9AE}" pid="11" name="MailAddress">
    <vt:lpwstr>sksuk@duck.snut.ac.kr</vt:lpwstr>
  </property>
  <property fmtid="{D5CDD505-2E9C-101B-9397-08002B2CF9AE}" pid="12" name="NavBtnPos">
    <vt:r8>1</vt:r8>
  </property>
  <property fmtid="{D5CDD505-2E9C-101B-9397-08002B2CF9AE}" pid="13" name="Other">
    <vt:lpwstr/>
  </property>
  <property fmtid="{D5CDD505-2E9C-101B-9397-08002B2CF9AE}" pid="14" name="OutputDir">
    <vt:lpwstr>E:\public_html\data</vt:lpwstr>
  </property>
  <property fmtid="{D5CDD505-2E9C-101B-9397-08002B2CF9AE}" pid="15" name="ScreenSize">
    <vt:r8>4</vt:r8>
  </property>
  <property fmtid="{D5CDD505-2E9C-101B-9397-08002B2CF9AE}" pid="16" name="ScreenUsage">
    <vt:r8>3</vt:r8>
  </property>
  <property fmtid="{D5CDD505-2E9C-101B-9397-08002B2CF9AE}" pid="17" name="ShowNotes">
    <vt:bool>0</vt:bool>
  </property>
  <property fmtid="{D5CDD505-2E9C-101B-9397-08002B2CF9AE}" pid="18" name="TemplateType">
    <vt:r8>2</vt:r8>
  </property>
  <property fmtid="{D5CDD505-2E9C-101B-9397-08002B2CF9AE}" pid="19" name="TextColor">
    <vt:r8>0</vt:r8>
  </property>
  <property fmtid="{D5CDD505-2E9C-101B-9397-08002B2CF9AE}" pid="20" name="TransparentButton">
    <vt:r8>0</vt:r8>
  </property>
  <property fmtid="{D5CDD505-2E9C-101B-9397-08002B2CF9AE}" pid="21" name="UseBrowserColor">
    <vt:bool>0</vt:bool>
  </property>
  <property fmtid="{D5CDD505-2E9C-101B-9397-08002B2CF9AE}" pid="22" name="VisitedColor">
    <vt:r8>64</vt:r8>
  </property>
</Properties>
</file>