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689-7DB2-44F5-BC2C-7BE4A4C0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4E0-2DA8-420F-A823-7C3FC73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9A0-194E-4284-8DD5-92C092D3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1E5-BB04-4291-BEB0-C312F48C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C7B4-9670-4EB4-91B6-1648C614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B8D7-C77B-4430-A98F-F6A39FD4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4CE8-C80C-44FF-9491-3183D80C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B5CB-6C94-42B9-807D-C45901FD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D179-4159-479E-8238-42DEE0D9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CD5-7215-49AE-BC9B-B38F4A2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527A-418A-455B-9288-0C8D534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27C-E5D8-433B-A405-CB7C3E8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12D-B5BF-457D-B16F-AE0E8F3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3903-FDBE-4439-9650-36D1466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88C3-B533-470B-8B65-E2CB6CC7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BF6D-BC7E-4A4B-A330-221A485D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B823-1DA6-42A0-BD7F-12272413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058-B0E4-42DE-A9A4-1ED1BD5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7E4-9835-40E8-B55B-9D901FB6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32B-2ABB-487C-A95D-7600216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4D0-6722-4216-BD7A-32019529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095-FF84-4D92-B462-0F80365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098-A5F2-41CA-9761-92A554C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84B-16EA-49E0-9762-BC65AF7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E279-BC3E-451D-BAA2-49F6CFB5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800-5A5B-45B0-B052-0A7770D28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관계형 모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관계형 데이터베이스의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관계형 대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튜플 관계형 해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도메인 관계형 해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확장 관계형 대수 연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데이터베이스의 수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E27-306B-4068-B499-B78908FFBF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연산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Times New Roman"/>
              </a:rPr>
              <a:t>A=B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Times New Roman"/>
              </a:rPr>
              <a:t>D&gt;5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57600" y="1828800"/>
            <a:ext cx="2057400" cy="3809880"/>
            <a:chOff x="3657600" y="1828800"/>
            <a:chExt cx="2057400" cy="3809880"/>
          </a:xfrm>
        </p:grpSpPr>
        <p:grpSp>
          <p:nvGrpSpPr>
            <p:cNvPr id="135" name=""/>
            <p:cNvGrpSpPr/>
            <p:nvPr/>
          </p:nvGrpSpPr>
          <p:grpSpPr>
            <a:xfrm>
              <a:off x="3657600" y="1828800"/>
              <a:ext cx="2057400" cy="2133360"/>
              <a:chOff x="3657600" y="1828800"/>
              <a:chExt cx="2057400" cy="2133360"/>
            </a:xfrm>
          </p:grpSpPr>
          <p:sp>
            <p:nvSpPr>
              <p:cNvPr id="136" name=""/>
              <p:cNvSpPr/>
              <p:nvPr/>
            </p:nvSpPr>
            <p:spPr>
              <a:xfrm>
                <a:off x="3657600" y="1828800"/>
                <a:ext cx="2057400" cy="2133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    B    C   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1    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5    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12     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23  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91120" y="1828800"/>
                <a:ext cx="0" cy="21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24280" y="1828800"/>
                <a:ext cx="0" cy="21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57800" y="1828800"/>
                <a:ext cx="0" cy="21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57600" y="2242800"/>
                <a:ext cx="20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657600" y="4190760"/>
              <a:ext cx="2057400" cy="1447920"/>
              <a:chOff x="3657600" y="4190760"/>
              <a:chExt cx="2057400" cy="1447920"/>
            </a:xfrm>
          </p:grpSpPr>
          <p:sp>
            <p:nvSpPr>
              <p:cNvPr id="142" name=""/>
              <p:cNvSpPr/>
              <p:nvPr/>
            </p:nvSpPr>
            <p:spPr>
              <a:xfrm>
                <a:off x="3657600" y="4190760"/>
                <a:ext cx="20574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    B    C   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1    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23  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91120" y="4190760"/>
                <a:ext cx="0" cy="144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4640" y="4190760"/>
                <a:ext cx="0" cy="144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57800" y="4190760"/>
                <a:ext cx="0" cy="144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57600" y="4670280"/>
                <a:ext cx="20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B97-80F5-421D-91C5-A895829E07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추출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표기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ko-KR" sz="2800" spc="-1" strike="noStrike" baseline="-28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2, …, </a:t>
            </a:r>
            <a:r>
              <a:rPr b="0" i="1" lang="ko-KR" sz="2800" spc="-1" strike="noStrike" baseline="-14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애트리뷰트명이고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릴레이션명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결과는 명시하지 않은 열을 제외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열의 릴레이션으로 정의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은 집합이기 때문에 중복 행은 결과에서 제거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48C-620C-46B5-AEEC-C7306B1F0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추출 연산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Times New Roman"/>
              </a:rPr>
              <a:t>A, C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746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724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33920" y="1981080"/>
            <a:ext cx="1371600" cy="1828800"/>
            <a:chOff x="3733920" y="1981080"/>
            <a:chExt cx="1371600" cy="1828800"/>
          </a:xfrm>
        </p:grpSpPr>
        <p:sp>
          <p:nvSpPr>
            <p:cNvPr id="154" name=""/>
            <p:cNvSpPr/>
            <p:nvPr/>
          </p:nvSpPr>
          <p:spPr>
            <a:xfrm>
              <a:off x="3733920" y="1981080"/>
              <a:ext cx="13716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B    C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1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2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3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40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760" y="1981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7960" y="1981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920" y="23360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55880" y="3962520"/>
            <a:ext cx="1066680" cy="1523880"/>
            <a:chOff x="3755880" y="3962520"/>
            <a:chExt cx="1066680" cy="1523880"/>
          </a:xfrm>
        </p:grpSpPr>
        <p:sp>
          <p:nvSpPr>
            <p:cNvPr id="159" name=""/>
            <p:cNvSpPr/>
            <p:nvPr/>
          </p:nvSpPr>
          <p:spPr>
            <a:xfrm>
              <a:off x="3755880" y="3962520"/>
              <a:ext cx="1066680" cy="152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   C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89400" y="396252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5880" y="42663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715000" y="3962520"/>
            <a:ext cx="1066680" cy="1295280"/>
            <a:chOff x="5715000" y="3962520"/>
            <a:chExt cx="1066680" cy="1295280"/>
          </a:xfrm>
        </p:grpSpPr>
        <p:sp>
          <p:nvSpPr>
            <p:cNvPr id="163" name=""/>
            <p:cNvSpPr/>
            <p:nvPr/>
          </p:nvSpPr>
          <p:spPr>
            <a:xfrm>
              <a:off x="5715000" y="3962520"/>
              <a:ext cx="10666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   C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396252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000" y="43099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952880" y="44956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774-2896-4AC4-A334-2DEA9E2140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합집합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표기법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음과 같이 정의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s = {t | 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r or 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 가능하려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.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같은 항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애트리뷰트의 수가 같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을 가져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애트리뷰트의 도메인은 양립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두번째 열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두번째 열의 것과 같은 유형의 값을 다룬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6B6-6AFE-4CA7-AA1F-6DF269B61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합집합 연산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,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484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6280" y="2895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62520" y="3733920"/>
            <a:ext cx="1066680" cy="1523880"/>
            <a:chOff x="3962520" y="3733920"/>
            <a:chExt cx="1066680" cy="1523880"/>
          </a:xfrm>
        </p:grpSpPr>
        <p:sp>
          <p:nvSpPr>
            <p:cNvPr id="174" name=""/>
            <p:cNvSpPr/>
            <p:nvPr/>
          </p:nvSpPr>
          <p:spPr>
            <a:xfrm>
              <a:off x="3962520" y="3733920"/>
              <a:ext cx="1066680" cy="152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     B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6040" y="373392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037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62520" y="1905120"/>
            <a:ext cx="1066680" cy="1295280"/>
            <a:chOff x="3962520" y="1905120"/>
            <a:chExt cx="1066680" cy="1295280"/>
          </a:xfrm>
        </p:grpSpPr>
        <p:sp>
          <p:nvSpPr>
            <p:cNvPr id="178" name=""/>
            <p:cNvSpPr/>
            <p:nvPr/>
          </p:nvSpPr>
          <p:spPr>
            <a:xfrm>
              <a:off x="3962520" y="1905120"/>
              <a:ext cx="10666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190512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62520" y="22543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921280" y="1905120"/>
            <a:ext cx="1066680" cy="990360"/>
            <a:chOff x="5921280" y="1905120"/>
            <a:chExt cx="1066680" cy="990360"/>
          </a:xfrm>
        </p:grpSpPr>
        <p:sp>
          <p:nvSpPr>
            <p:cNvPr id="182" name=""/>
            <p:cNvSpPr/>
            <p:nvPr/>
          </p:nvSpPr>
          <p:spPr>
            <a:xfrm>
              <a:off x="5921280" y="1905120"/>
              <a:ext cx="1066680" cy="9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54800" y="19051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21280" y="223524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6DC-DB57-4860-949B-73C07DFBEA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차집합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표기법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r -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음과 같이 정의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r - s = {t | 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r and 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차집합 연산은 양립할 수 있는 릴레이션 간에만 이루어질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같은 항을 가져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애트리뷰트 도메인은 양립해야만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C48-6386-40E7-A6B1-A573411CC7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차집합 연산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,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-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4840" y="3495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70840" y="3124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908520" y="1828800"/>
            <a:ext cx="1066680" cy="1752120"/>
            <a:chOff x="3908520" y="1828800"/>
            <a:chExt cx="1066680" cy="1752120"/>
          </a:xfrm>
        </p:grpSpPr>
        <p:sp>
          <p:nvSpPr>
            <p:cNvPr id="192" name=""/>
            <p:cNvSpPr/>
            <p:nvPr/>
          </p:nvSpPr>
          <p:spPr>
            <a:xfrm>
              <a:off x="3908520" y="1828800"/>
              <a:ext cx="1066680" cy="175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1680" y="182880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08520" y="22269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867280" y="1828800"/>
            <a:ext cx="1066680" cy="1371600"/>
            <a:chOff x="5867280" y="1828800"/>
            <a:chExt cx="1066680" cy="1371600"/>
          </a:xfrm>
        </p:grpSpPr>
        <p:sp>
          <p:nvSpPr>
            <p:cNvPr id="196" name=""/>
            <p:cNvSpPr/>
            <p:nvPr/>
          </p:nvSpPr>
          <p:spPr>
            <a:xfrm>
              <a:off x="5867280" y="1828800"/>
              <a:ext cx="106668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82880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22860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97360" y="4191120"/>
            <a:ext cx="1066680" cy="1371600"/>
            <a:chOff x="3897360" y="4191120"/>
            <a:chExt cx="1066680" cy="1371600"/>
          </a:xfrm>
        </p:grpSpPr>
        <p:sp>
          <p:nvSpPr>
            <p:cNvPr id="200" name=""/>
            <p:cNvSpPr/>
            <p:nvPr/>
          </p:nvSpPr>
          <p:spPr>
            <a:xfrm>
              <a:off x="3897360" y="4191120"/>
              <a:ext cx="106668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30880" y="41911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7360" y="46483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DD0-F949-4D38-848A-E796318FA9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카티전 곱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표기법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다음과 같이 정의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 s = {t q| t </a:t>
            </a:r>
            <a:r>
              <a:rPr b="0" i="1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 r and q </a:t>
            </a:r>
            <a:r>
              <a:rPr b="0" i="1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 s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(R)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s(S)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애트리뷰트가 서로 다르다고 가정하자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(R)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s(S)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애트리뷰트가 서로 다르지 않다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재명명을 사용해야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2AA-763B-4FA6-8ADE-C855C9EF0C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카티전 곱 연산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, 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760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56680" y="3276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86200" y="1828800"/>
            <a:ext cx="1066680" cy="1077840"/>
            <a:chOff x="3886200" y="1828800"/>
            <a:chExt cx="1066680" cy="1077840"/>
          </a:xfrm>
        </p:grpSpPr>
        <p:sp>
          <p:nvSpPr>
            <p:cNvPr id="210" name=""/>
            <p:cNvSpPr/>
            <p:nvPr/>
          </p:nvSpPr>
          <p:spPr>
            <a:xfrm>
              <a:off x="3886200" y="1828800"/>
              <a:ext cx="1066680" cy="107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    B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1828800"/>
              <a:ext cx="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6200" y="21880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867280" y="1828800"/>
            <a:ext cx="1600200" cy="1557360"/>
            <a:chOff x="5867280" y="1828800"/>
            <a:chExt cx="1600200" cy="1557360"/>
          </a:xfrm>
        </p:grpSpPr>
        <p:grpSp>
          <p:nvGrpSpPr>
            <p:cNvPr id="214" name=""/>
            <p:cNvGrpSpPr/>
            <p:nvPr/>
          </p:nvGrpSpPr>
          <p:grpSpPr>
            <a:xfrm>
              <a:off x="5867280" y="1828800"/>
              <a:ext cx="1600200" cy="1557360"/>
              <a:chOff x="5867280" y="1828800"/>
              <a:chExt cx="1600200" cy="1557360"/>
            </a:xfrm>
          </p:grpSpPr>
          <p:sp>
            <p:nvSpPr>
              <p:cNvPr id="215" name=""/>
              <p:cNvSpPr/>
              <p:nvPr/>
            </p:nvSpPr>
            <p:spPr>
              <a:xfrm>
                <a:off x="5867280" y="1828800"/>
                <a:ext cx="1600200" cy="155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C      D      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0 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0 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0  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0 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00800" y="1828800"/>
                <a:ext cx="0" cy="155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34320" y="1828800"/>
                <a:ext cx="0" cy="155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867280" y="21510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02120" y="3657600"/>
            <a:ext cx="2590560" cy="2406240"/>
            <a:chOff x="3102120" y="3657600"/>
            <a:chExt cx="2590560" cy="2406240"/>
          </a:xfrm>
        </p:grpSpPr>
        <p:sp>
          <p:nvSpPr>
            <p:cNvPr id="220" name=""/>
            <p:cNvSpPr/>
            <p:nvPr/>
          </p:nvSpPr>
          <p:spPr>
            <a:xfrm>
              <a:off x="3102120" y="3657600"/>
              <a:ext cx="2590560" cy="240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B     C      D    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1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10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1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10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1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20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1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10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2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10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2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10 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2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20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10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102120" y="3657600"/>
              <a:ext cx="2590560" cy="2405880"/>
              <a:chOff x="3102120" y="3657600"/>
              <a:chExt cx="2590560" cy="2405880"/>
            </a:xfrm>
          </p:grpSpPr>
          <p:sp>
            <p:nvSpPr>
              <p:cNvPr id="222" name=""/>
              <p:cNvSpPr/>
              <p:nvPr/>
            </p:nvSpPr>
            <p:spPr>
              <a:xfrm>
                <a:off x="3635280" y="3657600"/>
                <a:ext cx="0" cy="240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68800" y="3657600"/>
                <a:ext cx="0" cy="240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02320" y="3657600"/>
                <a:ext cx="0" cy="240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35480" y="3657600"/>
                <a:ext cx="0" cy="240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02120" y="400212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A4F-3B2A-4990-AA28-5BDCB36EF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복합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여러 연산을 사용해 표현식을 만들 수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68720" y="2209680"/>
            <a:ext cx="2601720" cy="3962160"/>
            <a:chOff x="3168720" y="2209680"/>
            <a:chExt cx="2601720" cy="3962160"/>
          </a:xfrm>
        </p:grpSpPr>
        <p:grpSp>
          <p:nvGrpSpPr>
            <p:cNvPr id="230" name=""/>
            <p:cNvGrpSpPr/>
            <p:nvPr/>
          </p:nvGrpSpPr>
          <p:grpSpPr>
            <a:xfrm>
              <a:off x="3168720" y="2209680"/>
              <a:ext cx="2590560" cy="2361960"/>
              <a:chOff x="3168720" y="2209680"/>
              <a:chExt cx="2590560" cy="2361960"/>
            </a:xfrm>
          </p:grpSpPr>
          <p:sp>
            <p:nvSpPr>
              <p:cNvPr id="231" name=""/>
              <p:cNvSpPr/>
              <p:nvPr/>
            </p:nvSpPr>
            <p:spPr>
              <a:xfrm>
                <a:off x="3168720" y="2209680"/>
                <a:ext cx="2590560" cy="2361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A      B     C      D     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10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10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20 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10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10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10 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20 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10 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3168720" y="2209680"/>
                <a:ext cx="2590560" cy="2361600"/>
                <a:chOff x="3168720" y="2209680"/>
                <a:chExt cx="2590560" cy="23616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701880" y="2209680"/>
                  <a:ext cx="0" cy="236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35400" y="2209680"/>
                  <a:ext cx="0" cy="236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68920" y="2209680"/>
                  <a:ext cx="0" cy="236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302080" y="2209680"/>
                  <a:ext cx="0" cy="236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168720" y="2548080"/>
                  <a:ext cx="259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3179880" y="4647960"/>
              <a:ext cx="2590560" cy="1523880"/>
              <a:chOff x="3179880" y="4647960"/>
              <a:chExt cx="2590560" cy="1523880"/>
            </a:xfrm>
          </p:grpSpPr>
          <p:sp>
            <p:nvSpPr>
              <p:cNvPr id="239" name=""/>
              <p:cNvSpPr/>
              <p:nvPr/>
            </p:nvSpPr>
            <p:spPr>
              <a:xfrm>
                <a:off x="3179880" y="4647960"/>
                <a:ext cx="2590560" cy="152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A      B     C      D     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10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10     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20     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13040" y="4647960"/>
                <a:ext cx="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79880" y="464796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46560" y="4647960"/>
                <a:ext cx="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80080" y="4647960"/>
                <a:ext cx="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13240" y="4647960"/>
                <a:ext cx="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79880" y="510516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343-77EA-4D10-AF57-EB3888285B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주어지면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부분 집합이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집합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다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customer-name = {Jones, Smith, Curry, Lindsa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customer-street = {Main, North, Park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customer-city = {Harrison, Rye, Pittsfie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nam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street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cit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= {(Jones, Main, Harrison), (Smith, North, Rye), (Curry, North, Harrison), (Smith, North, Rye), (Curry, North, Rye),(Lindsay, Park, Pittsfield)}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릴레이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63C-F5E9-4836-9DF2-EA20E73D6B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재명명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름을 줄 수 있도록 하여 관계형 대수 표현식의 결과를 참조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 이상의 이름으로 릴레이션을 참조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표현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돌려준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대수 표현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항이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x (A1, A2, …,An)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 재명명된 애트리뷰트를 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진 표현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결과를 돌려준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60D-E458-4404-89CE-EC5D3CBBB0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은행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anch(branch-name, branch-city, as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(customer-name, customer-street, customer-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ount(branch-name, account-number, 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(branch-name, loan-number, 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or(customer-name, account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(customer-name, loan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C6E-3951-4531-BF0D-CAAE04C7BD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불을 초과하는 모든 대출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amount &gt;1200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lo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불을 초과하는 각 대출의 대출 번호를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loan-number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amount &gt;1200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loa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3D3-1CAB-46DF-BCFD-4BF7BCB855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예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출 또는 모두를 가진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borrower)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deposit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예금과 대출을 가진 모든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borrower)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deposi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085-B084-4F0E-A4C1-7698981124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대출이 있는 모든 고객의 이름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=“Perryrid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orrower.loan-number=loan.loan-number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borrower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loan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대출이 있으면서 은행의 어떤 지점에도 예금이 없는 모든 고객의 이름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=“Perryrid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orrower.loan-number=loan.loan-number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borrower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loan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depos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CA0-BF95-472A-A61F-746BF56B7A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대출이 있는 모든 고객의 이름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branch-name = “Perry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borrower.loan-number = loan.loan-number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borrower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loan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borrower.loan-number=loan.loan-number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branch-name = “Perryridge”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borrower))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loa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52B-C2A3-44D2-B399-E7F8058AAC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가장 큰 예금 잔고를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을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로 재명명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질의는 다음과 같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account) -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account.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account.balance &lt; d.balance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accoun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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(accoun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32B-327C-4A38-A7F3-4B903467D8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형식적 정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형 대수에서의 기본 표현식은 다음 중 하나 이상으로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내의 릴레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수 릴레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관계형 대수 표현식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은 모두 관계형 대수 표현식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애트리뷰트 상의 술어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어떤 애트리뷰트로 구성된 리스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결과에 대한 새로운 이름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E07-DE06-4BBC-93BC-DAECF75EDE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추가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관계형 대수에 어떠한 능력도 추가되지 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지만 질의를 단순화하는 추가 연산을 정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공통 집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연 죠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나누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배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AAC-B1EF-439F-BE38-8CC2EA3A3C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공통 집합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표기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음과 같이 정의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s = {t | 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r and t </a:t>
            </a:r>
            <a:r>
              <a:rPr b="0" i="1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같은 항을 갖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애트리뷰트는 양립성이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유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s = r - (r -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C0F-9F41-4BA6-BFF9-DF4D633C3D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릴레이션 스키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애트리뷰트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 = (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 릴레이션 스키마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Customer-schema = (customer-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customer-street, customer-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(R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릴레이션 스키마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상의 릴레이션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customer(Customer-sche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594-D12C-459D-833A-6C27D7EE1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공통 집합 연산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,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7120" y="3505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2600" y="3124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071960" y="4648320"/>
            <a:ext cx="1066680" cy="990360"/>
            <a:chOff x="4071960" y="4648320"/>
            <a:chExt cx="1066680" cy="990360"/>
          </a:xfrm>
        </p:grpSpPr>
        <p:sp>
          <p:nvSpPr>
            <p:cNvPr id="271" name=""/>
            <p:cNvSpPr/>
            <p:nvPr/>
          </p:nvSpPr>
          <p:spPr>
            <a:xfrm>
              <a:off x="4071960" y="4648320"/>
              <a:ext cx="1066680" cy="9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05120" y="46483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1960" y="513864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60800" y="1828800"/>
            <a:ext cx="1066680" cy="1752120"/>
            <a:chOff x="4060800" y="1828800"/>
            <a:chExt cx="1066680" cy="1752120"/>
          </a:xfrm>
        </p:grpSpPr>
        <p:sp>
          <p:nvSpPr>
            <p:cNvPr id="275" name=""/>
            <p:cNvSpPr/>
            <p:nvPr/>
          </p:nvSpPr>
          <p:spPr>
            <a:xfrm>
              <a:off x="4060800" y="1828800"/>
              <a:ext cx="1066680" cy="175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93960" y="182880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60800" y="22269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19920" y="1828800"/>
            <a:ext cx="1066680" cy="1371600"/>
            <a:chOff x="6019920" y="1828800"/>
            <a:chExt cx="1066680" cy="1371600"/>
          </a:xfrm>
        </p:grpSpPr>
        <p:sp>
          <p:nvSpPr>
            <p:cNvPr id="279" name=""/>
            <p:cNvSpPr/>
            <p:nvPr/>
          </p:nvSpPr>
          <p:spPr>
            <a:xfrm>
              <a:off x="6019920" y="1828800"/>
              <a:ext cx="106668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B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440" y="182880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9920" y="22860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86D-3E1D-4867-B2D1-A509FAE536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자연 죠인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기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r    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각각 스키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릴레이션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각 쌍을 고려해 얻은 스키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릴레이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 각각에 같은 값을 가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결과에 추가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서 같은 값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서 같은 값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              R = (A, B, C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 = (E, B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 스키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= (A, B, C, D,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과 같이 정의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.A, r.B, r.C, r.D, s.E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.B=s.B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.D=s.D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437920" y="1828440"/>
            <a:ext cx="305280" cy="152640"/>
            <a:chOff x="2437920" y="1828440"/>
            <a:chExt cx="305280" cy="152640"/>
          </a:xfrm>
        </p:grpSpPr>
        <p:sp>
          <p:nvSpPr>
            <p:cNvPr id="285" name=""/>
            <p:cNvSpPr/>
            <p:nvPr/>
          </p:nvSpPr>
          <p:spPr>
            <a:xfrm>
              <a:off x="2438280" y="18288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3200" y="18288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438280" y="182844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2437920" y="182844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447920" y="5638680"/>
            <a:ext cx="304560" cy="152640"/>
            <a:chOff x="1447920" y="5638680"/>
            <a:chExt cx="304560" cy="152640"/>
          </a:xfrm>
        </p:grpSpPr>
        <p:sp>
          <p:nvSpPr>
            <p:cNvPr id="290" name=""/>
            <p:cNvSpPr/>
            <p:nvPr/>
          </p:nvSpPr>
          <p:spPr>
            <a:xfrm>
              <a:off x="1447920" y="56386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2480" y="56386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447920" y="5638680"/>
              <a:ext cx="30456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1447920" y="5638680"/>
              <a:ext cx="30456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E2D-E955-4C52-90FB-C64D64ED1E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자연 죠인 연산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,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2200" y="3581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80360" y="3581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417840" y="1828800"/>
            <a:ext cx="3821040" cy="4191120"/>
            <a:chOff x="3417840" y="1828800"/>
            <a:chExt cx="3821040" cy="4191120"/>
          </a:xfrm>
        </p:grpSpPr>
        <p:grpSp>
          <p:nvGrpSpPr>
            <p:cNvPr id="299" name=""/>
            <p:cNvGrpSpPr/>
            <p:nvPr/>
          </p:nvGrpSpPr>
          <p:grpSpPr>
            <a:xfrm>
              <a:off x="3429000" y="1828800"/>
              <a:ext cx="1752480" cy="1828800"/>
              <a:chOff x="3429000" y="1828800"/>
              <a:chExt cx="1752480" cy="1828800"/>
            </a:xfrm>
          </p:grpSpPr>
          <p:sp>
            <p:nvSpPr>
              <p:cNvPr id="300" name=""/>
              <p:cNvSpPr/>
              <p:nvPr/>
            </p:nvSpPr>
            <p:spPr>
              <a:xfrm>
                <a:off x="3429000" y="1828800"/>
                <a:ext cx="175248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A    B    C    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4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3320" y="18288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7280" y="18288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1960" y="18288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29000" y="214380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791320" y="1828800"/>
              <a:ext cx="1447560" cy="1828800"/>
              <a:chOff x="5791320" y="1828800"/>
              <a:chExt cx="1447560" cy="1828800"/>
            </a:xfrm>
          </p:grpSpPr>
          <p:sp>
            <p:nvSpPr>
              <p:cNvPr id="306" name=""/>
              <p:cNvSpPr/>
              <p:nvPr/>
            </p:nvSpPr>
            <p:spPr>
              <a:xfrm>
                <a:off x="5791320" y="1828800"/>
                <a:ext cx="144756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B    D     E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a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     a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a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b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     b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73360" y="18288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56120" y="18288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91320" y="21438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417840" y="4038840"/>
              <a:ext cx="2590920" cy="1981080"/>
              <a:chOff x="3417840" y="4038840"/>
              <a:chExt cx="2590920" cy="1981080"/>
            </a:xfrm>
          </p:grpSpPr>
          <p:sp>
            <p:nvSpPr>
              <p:cNvPr id="311" name=""/>
              <p:cNvSpPr/>
              <p:nvPr/>
            </p:nvSpPr>
            <p:spPr>
              <a:xfrm>
                <a:off x="3417840" y="4038840"/>
                <a:ext cx="2590920" cy="1981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A      B     C      D     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a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a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 a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 a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b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51360" y="4038840"/>
                <a:ext cx="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84520" y="4038840"/>
                <a:ext cx="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18040" y="4038840"/>
                <a:ext cx="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51560" y="4038840"/>
                <a:ext cx="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17840" y="441972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523520" y="4114440"/>
            <a:ext cx="305280" cy="152640"/>
            <a:chOff x="1523520" y="4114440"/>
            <a:chExt cx="305280" cy="152640"/>
          </a:xfrm>
        </p:grpSpPr>
        <p:sp>
          <p:nvSpPr>
            <p:cNvPr id="318" name=""/>
            <p:cNvSpPr/>
            <p:nvPr/>
          </p:nvSpPr>
          <p:spPr>
            <a:xfrm>
              <a:off x="1523880" y="41148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41148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523880" y="411444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1523520" y="411444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44D-CC44-48ED-8E67-AE02036B75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나누기 계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두에 대한”이라는 구절을 내포한 질의에 적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각각이 다음과 같은 스키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, 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의 릴레이션이라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R = (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S = (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결과는 스키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-S = (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의 릴레이션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s = {t | t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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s(tu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r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F6F-CFF5-4CA0-9278-84C4263568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나누기 연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q = 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만족하는 가장 큰 릴레이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본 대수 연산의 표현으로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(R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(S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릴레이션이라 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s =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) -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s) -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,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이유는 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-S,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단순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를 재배열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) 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-S,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어떤 튜플에 대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u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BB2-59ED-48D8-ACED-BA09C45E45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나누기 연산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, 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8320" y="5486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86640" y="3124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743200" y="1828800"/>
            <a:ext cx="4343040" cy="4191120"/>
            <a:chOff x="2743200" y="1828800"/>
            <a:chExt cx="4343040" cy="4191120"/>
          </a:xfrm>
        </p:grpSpPr>
        <p:grpSp>
          <p:nvGrpSpPr>
            <p:cNvPr id="331" name=""/>
            <p:cNvGrpSpPr/>
            <p:nvPr/>
          </p:nvGrpSpPr>
          <p:grpSpPr>
            <a:xfrm>
              <a:off x="4876920" y="1828800"/>
              <a:ext cx="1066680" cy="3581640"/>
              <a:chOff x="4876920" y="1828800"/>
              <a:chExt cx="1066680" cy="3581640"/>
            </a:xfrm>
          </p:grpSpPr>
          <p:sp>
            <p:nvSpPr>
              <p:cNvPr id="332" name=""/>
              <p:cNvSpPr/>
              <p:nvPr/>
            </p:nvSpPr>
            <p:spPr>
              <a:xfrm>
                <a:off x="4876920" y="1828800"/>
                <a:ext cx="1066680" cy="358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   B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10080" y="182880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76920" y="22100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553080" y="1828800"/>
              <a:ext cx="533160" cy="1219320"/>
              <a:chOff x="6553080" y="1828800"/>
              <a:chExt cx="533160" cy="1219320"/>
            </a:xfrm>
          </p:grpSpPr>
          <p:sp>
            <p:nvSpPr>
              <p:cNvPr id="336" name=""/>
              <p:cNvSpPr/>
              <p:nvPr/>
            </p:nvSpPr>
            <p:spPr>
              <a:xfrm>
                <a:off x="6553080" y="1828800"/>
                <a:ext cx="533160" cy="1219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53080" y="22352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743200" y="4800600"/>
              <a:ext cx="533160" cy="1219320"/>
              <a:chOff x="2743200" y="4800600"/>
              <a:chExt cx="533160" cy="1219320"/>
            </a:xfrm>
          </p:grpSpPr>
          <p:sp>
            <p:nvSpPr>
              <p:cNvPr id="339" name=""/>
              <p:cNvSpPr/>
              <p:nvPr/>
            </p:nvSpPr>
            <p:spPr>
              <a:xfrm>
                <a:off x="2743200" y="4800600"/>
                <a:ext cx="533160" cy="1219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43200" y="52070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C9E-32E2-42F4-9E96-D9C64CC282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또 다른 나누기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36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, 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8000" y="426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40680" y="3276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733920" y="1981080"/>
            <a:ext cx="2590560" cy="2362320"/>
            <a:chOff x="3733920" y="1981080"/>
            <a:chExt cx="2590560" cy="2362320"/>
          </a:xfrm>
        </p:grpSpPr>
        <p:sp>
          <p:nvSpPr>
            <p:cNvPr id="346" name=""/>
            <p:cNvSpPr/>
            <p:nvPr/>
          </p:nvSpPr>
          <p:spPr>
            <a:xfrm>
              <a:off x="3733920" y="1981080"/>
              <a:ext cx="2590560" cy="236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B     C      D    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a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a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b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a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b  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a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b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b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733920" y="1981080"/>
              <a:ext cx="2590560" cy="2361960"/>
              <a:chOff x="3733920" y="1981080"/>
              <a:chExt cx="2590560" cy="2361960"/>
            </a:xfrm>
          </p:grpSpPr>
          <p:sp>
            <p:nvSpPr>
              <p:cNvPr id="348" name=""/>
              <p:cNvSpPr/>
              <p:nvPr/>
            </p:nvSpPr>
            <p:spPr>
              <a:xfrm>
                <a:off x="4267080" y="1981080"/>
                <a:ext cx="0" cy="23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00600" y="1981080"/>
                <a:ext cx="0" cy="23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34120" y="1981080"/>
                <a:ext cx="0" cy="23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7280" y="1981080"/>
                <a:ext cx="0" cy="23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33920" y="231948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6858000" y="1981080"/>
            <a:ext cx="1066680" cy="1371600"/>
            <a:chOff x="6858000" y="1981080"/>
            <a:chExt cx="1066680" cy="1371600"/>
          </a:xfrm>
        </p:grpSpPr>
        <p:sp>
          <p:nvSpPr>
            <p:cNvPr id="354" name=""/>
            <p:cNvSpPr/>
            <p:nvPr/>
          </p:nvSpPr>
          <p:spPr>
            <a:xfrm>
              <a:off x="6858000" y="1981080"/>
              <a:ext cx="106668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   E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91520" y="19810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0" y="2438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733920" y="4876920"/>
            <a:ext cx="1600200" cy="1066680"/>
            <a:chOff x="3733920" y="4876920"/>
            <a:chExt cx="1600200" cy="1066680"/>
          </a:xfrm>
        </p:grpSpPr>
        <p:grpSp>
          <p:nvGrpSpPr>
            <p:cNvPr id="358" name=""/>
            <p:cNvGrpSpPr/>
            <p:nvPr/>
          </p:nvGrpSpPr>
          <p:grpSpPr>
            <a:xfrm>
              <a:off x="3733920" y="4876920"/>
              <a:ext cx="1600200" cy="1066680"/>
              <a:chOff x="3733920" y="4876920"/>
              <a:chExt cx="1600200" cy="1066680"/>
            </a:xfrm>
          </p:grpSpPr>
          <p:sp>
            <p:nvSpPr>
              <p:cNvPr id="359" name=""/>
              <p:cNvSpPr/>
              <p:nvPr/>
            </p:nvSpPr>
            <p:spPr>
              <a:xfrm>
                <a:off x="3733920" y="4876920"/>
                <a:ext cx="160020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    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C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7440" y="4876920"/>
                <a:ext cx="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00960" y="4876920"/>
                <a:ext cx="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733920" y="52912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889-F361-4CD6-88A0-F040995572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배정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정 연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복잡한 질의를 편리하게 표현하는 방법을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를 일련의 배정 연산과 질의의 결과 값이 디스플레이되는 표현식으로 구성된 순차 프로그램으로 작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정은 항상 임시 릴레이션 변수로 작성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과 같이 작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emp1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emp2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(temp1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s) -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R-S,S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esult = temp1 - tem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오른쪽 결과가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왼쪽의 릴레이션 변수에 배정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속 표현식내에 변수를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3B2-C004-408F-8EDF-ECEF98375F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어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owntow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ptow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예금을 가진 모든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N=“Downtown”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depositor        account))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N=“Uptown”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depositor        accoun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나타내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나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customer-name,branch-name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depositor       acc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temp(branch-name)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{(“Downtown”),(“Uptown”)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648320" y="3200040"/>
            <a:ext cx="304560" cy="152640"/>
            <a:chOff x="4648320" y="3200040"/>
            <a:chExt cx="304560" cy="152640"/>
          </a:xfrm>
        </p:grpSpPr>
        <p:sp>
          <p:nvSpPr>
            <p:cNvPr id="368" name=""/>
            <p:cNvSpPr/>
            <p:nvPr/>
          </p:nvSpPr>
          <p:spPr>
            <a:xfrm>
              <a:off x="4648320" y="3200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3200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648320" y="3200040"/>
              <a:ext cx="30456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4648320" y="3200040"/>
              <a:ext cx="30456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070600" y="3539880"/>
            <a:ext cx="304560" cy="152640"/>
            <a:chOff x="5070600" y="3539880"/>
            <a:chExt cx="304560" cy="152640"/>
          </a:xfrm>
        </p:grpSpPr>
        <p:sp>
          <p:nvSpPr>
            <p:cNvPr id="373" name=""/>
            <p:cNvSpPr/>
            <p:nvPr/>
          </p:nvSpPr>
          <p:spPr>
            <a:xfrm>
              <a:off x="5070600" y="354024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75160" y="354024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070600" y="3539880"/>
              <a:ext cx="30456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070600" y="3539880"/>
              <a:ext cx="30456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00240" y="5240160"/>
            <a:ext cx="305280" cy="152640"/>
            <a:chOff x="4800240" y="5240160"/>
            <a:chExt cx="305280" cy="152640"/>
          </a:xfrm>
        </p:grpSpPr>
        <p:sp>
          <p:nvSpPr>
            <p:cNvPr id="378" name=""/>
            <p:cNvSpPr/>
            <p:nvPr/>
          </p:nvSpPr>
          <p:spPr>
            <a:xfrm>
              <a:off x="4800600" y="524016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5520" y="524016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800600" y="524016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4800240" y="524016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D32-5F4E-4664-9AC7-1B20F45E13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에 위치한 모든 지점에 예금을 가진 모든 고객을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-name,branch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depositor      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city=“Brooklyn”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branc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791320" y="3581280"/>
            <a:ext cx="304560" cy="152640"/>
            <a:chOff x="5791320" y="3581280"/>
            <a:chExt cx="304560" cy="152640"/>
          </a:xfrm>
        </p:grpSpPr>
        <p:sp>
          <p:nvSpPr>
            <p:cNvPr id="385" name=""/>
            <p:cNvSpPr/>
            <p:nvPr/>
          </p:nvSpPr>
          <p:spPr>
            <a:xfrm>
              <a:off x="5791320" y="35812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5812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791320" y="3581280"/>
              <a:ext cx="30456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791320" y="3581280"/>
              <a:ext cx="30456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204-DE38-4FDD-B006-0CD15C52D1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릴레이션 사례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의 현재 값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사례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는 테이블로 표현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원소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는 튜플이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테이블에서 행으로 표현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3962520"/>
            <a:ext cx="6781680" cy="2288520"/>
            <a:chOff x="1295280" y="3962520"/>
            <a:chExt cx="6781680" cy="2288520"/>
          </a:xfrm>
        </p:grpSpPr>
        <p:sp>
          <p:nvSpPr>
            <p:cNvPr id="116" name=""/>
            <p:cNvSpPr/>
            <p:nvPr/>
          </p:nvSpPr>
          <p:spPr>
            <a:xfrm>
              <a:off x="4266720" y="579132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295280" y="3962520"/>
              <a:ext cx="6781680" cy="1828800"/>
              <a:chOff x="1295280" y="3962520"/>
              <a:chExt cx="6781680" cy="1828800"/>
            </a:xfrm>
          </p:grpSpPr>
          <p:sp>
            <p:nvSpPr>
              <p:cNvPr id="118" name=""/>
              <p:cNvSpPr/>
              <p:nvPr/>
            </p:nvSpPr>
            <p:spPr>
              <a:xfrm>
                <a:off x="1295280" y="3962520"/>
                <a:ext cx="678168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customer-name     customer-street      customer-c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Jones                     Main                      Harri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Smith                    North                      Ry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Curry        </a:t>
                </a:r>
                <a:r>
                  <a:rPr b="0" lang="ko-KR" sz="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       North                      Ry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Lindsay                 Park                        Pittsfie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03240" y="39625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89240" y="39625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95280" y="4343760"/>
                <a:ext cx="678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28A-A64E-48E6-976F-479936E61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튜플 관계형 해석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질의가 다음과 같은 형식인 비절차식 질의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{ t | P(t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술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대해 참인 모든 튜플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집합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튜플 변수이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t[A]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애트리뷰트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대한 튜플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값을 의미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튜플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 릴레이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속함을 의미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술어 해석의 그것과 유사한 식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F75-E35F-43F1-869F-2C1508B44B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술어 해석 식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와 상수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교 연산자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&lt;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=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&gt;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결자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and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or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not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: x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y, 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참이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 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정자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 (Q(t)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술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(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참인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 (Q(t)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모든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D47-E88D-4FE4-A5BA-6EBB32CD93F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은행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anch (branch-name, branch-city, as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(customer-name, customer-street, customer-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ount(branch-name, account-number, 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(branch-name, loan-number, 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or(customer-name, account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(customer-name, loan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F49-2070-4151-834A-0D4C1E3901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을 초과하는 대출에 대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-name, loan-numb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t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loan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t[amount] &gt; 120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을 초과하는 각 대출의 대출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loan (t[loan-number] = s[loan-numb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[amount] &gt; 1200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키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[customer-name]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의 릴레이션은 질의에 의해 묵시적으로 정의됨에 유의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ABF-5933-4870-AF63-69D30CD3C3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대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금 또는 모두를 가진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borrower(t[customer-name] = s[customer-nam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depositor(t[customer-name] = u[customer-name]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대출과 예금을 가진 모든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borrower(t[customer-name] = s[customer-nam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depositor(t[customer-name] = u[customer-name]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B63-8192-4C94-A49F-17B472C9EE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대출이 있는 모든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orrower(t[customer-name] = s[customer-nam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(u[branch-name]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[loan-number] = s[loan-number]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대출은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의 어떤 지점에도 예금은 없는 모든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orrower(t[customer-name] = s[customer-nam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(u[branch-name]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[loan-number] = s[loan-number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depositor(v[customer-name] = t[customer-name]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288-2F77-4790-98B7-AE3CCFFC8C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서 대출을 받은 고객의 이름과  그들이 살고 있는 도시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loan(s[branch-name] = “Perryrid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borrower(u[loan-number] = s[loan-numb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t[customer-name] = u[customer-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customer(u[customer-name] = v[customer-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t[customer-city] = v[customer-city])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7C8-EA37-4AC7-9590-91E42F74FA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위치한 모든 지점에 예금을 가진 모든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branch(s[branch-city] = “Brooklyn”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account(s[branch-name] = u[branch-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depositor(t[customer-name] = v[customer- 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[account-number] = u[account-number])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196-A064-4FF4-846C-96CBC4F794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현식의 안전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무한 릴레이션을 생성하는 튜플 해석 표현식을 작성할 수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r}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어떤 애트리뷰트 도메인이 무한이면 무한 릴레이션을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러한 문제점을 방지하기 위해 허용 가능한 표현식의 집합을 안전한 표현식으로 한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 관계형 해석내의 표현식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{t | P(t)}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모든 요소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나타나는 릴레이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 또는 상수 중의 하나에 나타나면 안전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5B2-95ED-4BE8-AA7D-6CB327D368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도메인 관계형 해석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 관계형 해석과 능력이 동등한 비절차식 질의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질의는 다음과 같은 형식의 표현식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{&lt;x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, …, x 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&gt; | P(x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, …, x </a:t>
            </a:r>
            <a:r>
              <a:rPr b="0" i="1" lang="ko-K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x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…, x 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도메인 변수를 표현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술어 해석의 그것과 유사한 식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234-BD03-49E0-ABF4-49970150B71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키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라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값이 각각의 가능한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(R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고유한 튜플을 구분하는데 충분하다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수퍼 키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능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란 모델링하고 있는 조직에 존재할 수 있는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의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{customer-name, customer-street}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{customer-name}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어느 두 고객도 같은 이름을 가질 가능성이 없으므로 모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수퍼 키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최소 길이이면 후보 키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{customer-name}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자신이 수퍼 키이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느 두 고객도 같은 이름을 가질 가능성이 없다고 가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부분 집합도 수퍼 키가 아니므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후보 키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845-7D8A-47AD-B82D-E86E06449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대출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, loan-numb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&lt; b, l, a &gt;|&lt; b, l, a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a &gt; 12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대출을 가진 모든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&lt; c &gt; |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, l, a (&lt; c, l &gt; borrowe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&lt; b, l, a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 &gt; 12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서 대출을 받은 모든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&lt; c, a &gt; |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l (&lt; c, l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 (&lt; b, l, a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 = “Perryridge”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30B-C599-4F41-91B0-B9D0205996C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대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금 또는 모두를 가진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&lt; c &gt; |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 (&lt; c, l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, a(&lt; b, l, a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 = “Perryridge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 (&lt; c, a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, n(&lt; b, a, n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 = “Perryridge”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모든 지점에 예금을 가진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&lt; c &gt; |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x, y, z (&lt; x, y, z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y =“Brooklyn”)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, b (&lt; x, a, b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&lt; c, a &gt;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depositor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EDB-FC68-421E-A6F1-0EE52B73DA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현식의 안전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{&lt;x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, …, x 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&gt;| P(x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, …, x 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의 표현식은 다음 조건을 모두 만족하면 안전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현식의 튜플에 나타나는 모든 값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om(P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부터의 값이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언급된 릴레이션의 튜플내에 나타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(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모든 “존재한다”는 부 식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 식이 참인 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 충분 조건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참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om(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 값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존재하는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(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모든 “모든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”이라는 부 식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 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참인 필요 충분 조건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om(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부터의 모든 값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참인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121-A0B5-4030-8F6A-7280D903EA0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확장 관계형 대수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일반화 추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외부 죠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집성 합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BEE-3CCC-4051-9D1F-225AB57AFD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일반화 추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추출 리스트에 산술 함수를 사용 하도록 함으로써 추출 연산을 확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ko-KR" sz="2400" spc="-1" strike="noStrike" baseline="-5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ko-KR" sz="2400" spc="-1" strike="noStrike" baseline="-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, …, F</a:t>
            </a:r>
            <a:r>
              <a:rPr b="0" i="1" lang="ko-KR" sz="2400" spc="-1" strike="noStrike" baseline="-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관계형 대수 표현식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, …, F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각은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스키마 내에 상수와 애트리뷰트를 내포하고 있는 산술 표현식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어진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credit-info(customer-name, limit, credit-balance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해 각 개인이 얼마까지 사용할 수 있는지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-name, limit  –  credit-balance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credit-in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B3F-58C1-4102-8101-BC6E37E329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외부 죠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정보의 손실을 피하는 죠인 연산의 확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죠인을 계산하고 다른 릴레이션의 튜플과 부합하지 않는 어떤 릴레이션의 튜플들을 죠인의 결과에 추가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널 값을 사용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널은 알려지지 않은 값이나 존재하지 않는 값을 의미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널을 내포한 모든 비교는 정의에 의해 거짓이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306-6F11-4247-A8BF-D3841FF1FD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외부 죠인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76520" y="2168640"/>
            <a:ext cx="6069960" cy="3926880"/>
            <a:chOff x="1676520" y="2168640"/>
            <a:chExt cx="6069960" cy="3926880"/>
          </a:xfrm>
        </p:grpSpPr>
        <p:grpSp>
          <p:nvGrpSpPr>
            <p:cNvPr id="424" name=""/>
            <p:cNvGrpSpPr/>
            <p:nvPr/>
          </p:nvGrpSpPr>
          <p:grpSpPr>
            <a:xfrm>
              <a:off x="1899000" y="2168640"/>
              <a:ext cx="5303880" cy="1529640"/>
              <a:chOff x="1899000" y="2168640"/>
              <a:chExt cx="5303880" cy="1529640"/>
            </a:xfrm>
          </p:grpSpPr>
          <p:sp>
            <p:nvSpPr>
              <p:cNvPr id="425" name=""/>
              <p:cNvSpPr/>
              <p:nvPr/>
            </p:nvSpPr>
            <p:spPr>
              <a:xfrm>
                <a:off x="1899000" y="2168640"/>
                <a:ext cx="1594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34080" y="2168640"/>
                <a:ext cx="1561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86320" y="2168640"/>
                <a:ext cx="916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23200" y="2630160"/>
                <a:ext cx="135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14280" y="2981160"/>
                <a:ext cx="1168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2360" y="3332160"/>
                <a:ext cx="1289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Perryrid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42680" y="263016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42680" y="298116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42680" y="333216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2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40040" y="263016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40040" y="298116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40040" y="333216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701080" y="4395960"/>
              <a:ext cx="4197960" cy="1617120"/>
              <a:chOff x="2701080" y="4395960"/>
              <a:chExt cx="4197960" cy="1617120"/>
            </a:xfrm>
          </p:grpSpPr>
          <p:sp>
            <p:nvSpPr>
              <p:cNvPr id="438" name=""/>
              <p:cNvSpPr/>
              <p:nvPr/>
            </p:nvSpPr>
            <p:spPr>
              <a:xfrm>
                <a:off x="2701080" y="4395960"/>
                <a:ext cx="20383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06680" y="4395960"/>
                <a:ext cx="16923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53400" y="4857840"/>
                <a:ext cx="735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24960" y="5237280"/>
                <a:ext cx="791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06960" y="5616720"/>
                <a:ext cx="8265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Haye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45520" y="4857840"/>
                <a:ext cx="811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5520" y="5237280"/>
                <a:ext cx="811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45520" y="5616720"/>
                <a:ext cx="811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L-15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676520" y="2168640"/>
              <a:ext cx="6069960" cy="1612800"/>
              <a:chOff x="1676520" y="2168640"/>
              <a:chExt cx="6069960" cy="1612800"/>
            </a:xfrm>
          </p:grpSpPr>
          <p:sp>
            <p:nvSpPr>
              <p:cNvPr id="447" name=""/>
              <p:cNvSpPr/>
              <p:nvPr/>
            </p:nvSpPr>
            <p:spPr>
              <a:xfrm>
                <a:off x="1676520" y="2168640"/>
                <a:ext cx="46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76520" y="21686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76520" y="21686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676520" y="2168640"/>
                <a:ext cx="46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76520" y="21686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76520" y="21686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81200" y="2168640"/>
                <a:ext cx="199980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681200" y="2168640"/>
                <a:ext cx="1999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81360" y="2168640"/>
                <a:ext cx="61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81360" y="216864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81360" y="2168640"/>
                <a:ext cx="10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87840" y="2168640"/>
                <a:ext cx="20235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87840" y="2168640"/>
                <a:ext cx="2023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11760" y="2168640"/>
                <a:ext cx="61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711760" y="216864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11760" y="2168640"/>
                <a:ext cx="10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8240" y="2168640"/>
                <a:ext cx="20221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18240" y="2168640"/>
                <a:ext cx="2022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40720" y="2168640"/>
                <a:ext cx="57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740720" y="2168640"/>
                <a:ext cx="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40720" y="2168640"/>
                <a:ext cx="10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40720" y="2168640"/>
                <a:ext cx="57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740720" y="2168640"/>
                <a:ext cx="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40720" y="2168640"/>
                <a:ext cx="10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76520" y="2174760"/>
                <a:ext cx="46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76520" y="2174760"/>
                <a:ext cx="14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81360" y="2174760"/>
                <a:ext cx="61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81360" y="2174760"/>
                <a:ext cx="10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11760" y="2174760"/>
                <a:ext cx="61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11760" y="2174760"/>
                <a:ext cx="10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740720" y="2174760"/>
                <a:ext cx="576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740720" y="2174760"/>
                <a:ext cx="10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76520" y="263196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76520" y="263196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76520" y="26319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81200" y="2631960"/>
                <a:ext cx="19998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1200" y="2631960"/>
                <a:ext cx="1999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81360" y="2631960"/>
                <a:ext cx="6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81360" y="263196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681360" y="2631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687840" y="2631960"/>
                <a:ext cx="20235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687840" y="2631960"/>
                <a:ext cx="2023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11760" y="2631960"/>
                <a:ext cx="6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11760" y="263196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11760" y="2631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18240" y="2631960"/>
                <a:ext cx="2022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718240" y="2631960"/>
                <a:ext cx="2022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40720" y="2631960"/>
                <a:ext cx="57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40720" y="2631960"/>
                <a:ext cx="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40720" y="2631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676520" y="2638440"/>
                <a:ext cx="4680" cy="1136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676520" y="2638440"/>
                <a:ext cx="1440" cy="11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676520" y="377496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76520" y="377496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76520" y="37749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76520" y="377496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676520" y="377496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76520" y="37749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81200" y="3774960"/>
                <a:ext cx="19998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681200" y="3774960"/>
                <a:ext cx="1999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81360" y="2638440"/>
                <a:ext cx="6120" cy="1136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81360" y="2638440"/>
                <a:ext cx="1080" cy="11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81360" y="3774960"/>
                <a:ext cx="6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81360" y="377496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81360" y="3774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87840" y="3774960"/>
                <a:ext cx="20235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87840" y="3774960"/>
                <a:ext cx="2023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1760" y="2638440"/>
                <a:ext cx="6120" cy="1136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11760" y="2638440"/>
                <a:ext cx="1080" cy="11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11760" y="3774960"/>
                <a:ext cx="6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11760" y="377496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11760" y="3774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18240" y="3774960"/>
                <a:ext cx="2022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18240" y="3774960"/>
                <a:ext cx="2022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40720" y="2638440"/>
                <a:ext cx="5760" cy="1136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40720" y="2638440"/>
                <a:ext cx="1080" cy="11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40720" y="3774960"/>
                <a:ext cx="57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40720" y="3774960"/>
                <a:ext cx="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740720" y="3774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40720" y="3774960"/>
                <a:ext cx="57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740720" y="3774960"/>
                <a:ext cx="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740720" y="37749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530440" y="4343400"/>
              <a:ext cx="4670280" cy="1752120"/>
              <a:chOff x="2530440" y="4343400"/>
              <a:chExt cx="4670280" cy="1752120"/>
            </a:xfrm>
          </p:grpSpPr>
          <p:sp>
            <p:nvSpPr>
              <p:cNvPr id="530" name=""/>
              <p:cNvSpPr/>
              <p:nvPr/>
            </p:nvSpPr>
            <p:spPr>
              <a:xfrm>
                <a:off x="2530440" y="4343400"/>
                <a:ext cx="46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30440" y="43434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30440" y="434340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30440" y="4343400"/>
                <a:ext cx="46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30440" y="43434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30440" y="434340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35120" y="4343400"/>
                <a:ext cx="23734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35120" y="4343400"/>
                <a:ext cx="2373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908600" y="4343400"/>
                <a:ext cx="46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08600" y="43434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908600" y="434340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13280" y="4343400"/>
                <a:ext cx="228132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13280" y="4343400"/>
                <a:ext cx="228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94600" y="4343400"/>
                <a:ext cx="612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94600" y="434340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194600" y="434340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194600" y="4343400"/>
                <a:ext cx="612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194600" y="434340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194600" y="434340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30440" y="4350240"/>
                <a:ext cx="4680" cy="49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30440" y="4350240"/>
                <a:ext cx="1440" cy="49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908600" y="4350240"/>
                <a:ext cx="4680" cy="49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08600" y="4350240"/>
                <a:ext cx="1440" cy="49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94600" y="4350240"/>
                <a:ext cx="6120" cy="49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94600" y="4350240"/>
                <a:ext cx="1440" cy="49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30440" y="4846320"/>
                <a:ext cx="46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30440" y="48463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30440" y="484632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35120" y="4846320"/>
                <a:ext cx="23734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35120" y="4846320"/>
                <a:ext cx="237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08600" y="4846320"/>
                <a:ext cx="468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08600" y="48463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908600" y="484632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913280" y="4846320"/>
                <a:ext cx="228132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913280" y="4846320"/>
                <a:ext cx="228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194600" y="4846320"/>
                <a:ext cx="6120" cy="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194600" y="484632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94600" y="4846320"/>
                <a:ext cx="144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30440" y="4853520"/>
                <a:ext cx="4680" cy="1236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30440" y="4853520"/>
                <a:ext cx="1440" cy="123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30440" y="6090480"/>
                <a:ext cx="46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30440" y="609048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30440" y="609048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530440" y="6090480"/>
                <a:ext cx="46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30440" y="609048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30440" y="609048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35120" y="6090480"/>
                <a:ext cx="23734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35120" y="6090480"/>
                <a:ext cx="237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08600" y="4853520"/>
                <a:ext cx="4680" cy="1236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08600" y="4853520"/>
                <a:ext cx="1440" cy="123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08600" y="6090480"/>
                <a:ext cx="46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08600" y="609048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08600" y="609048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13280" y="6090480"/>
                <a:ext cx="228132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13280" y="6090480"/>
                <a:ext cx="228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94600" y="4853520"/>
                <a:ext cx="6120" cy="1236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94600" y="4853520"/>
                <a:ext cx="1440" cy="123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94600" y="6090480"/>
                <a:ext cx="612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94600" y="609048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94600" y="609048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94600" y="6090480"/>
                <a:ext cx="612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194600" y="609048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94600" y="609048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237-A4ED-4064-8405-A69AE37E1E1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외부 죠인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an     borr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an       borr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50760" y="2589120"/>
            <a:ext cx="7659720" cy="3583440"/>
            <a:chOff x="950760" y="2589120"/>
            <a:chExt cx="7659720" cy="3583440"/>
          </a:xfrm>
        </p:grpSpPr>
        <p:grpSp>
          <p:nvGrpSpPr>
            <p:cNvPr id="596" name=""/>
            <p:cNvGrpSpPr/>
            <p:nvPr/>
          </p:nvGrpSpPr>
          <p:grpSpPr>
            <a:xfrm>
              <a:off x="1034640" y="2641680"/>
              <a:ext cx="6843240" cy="1179000"/>
              <a:chOff x="1034640" y="2641680"/>
              <a:chExt cx="6843240" cy="1179000"/>
            </a:xfrm>
          </p:grpSpPr>
          <p:sp>
            <p:nvSpPr>
              <p:cNvPr id="597" name=""/>
              <p:cNvSpPr/>
              <p:nvPr/>
            </p:nvSpPr>
            <p:spPr>
              <a:xfrm>
                <a:off x="1112040" y="2641680"/>
                <a:ext cx="1626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10320" y="2641680"/>
                <a:ext cx="157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25440" y="264168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96520" y="2641680"/>
                <a:ext cx="1881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035360" y="3103560"/>
                <a:ext cx="135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34640" y="3454560"/>
                <a:ext cx="1168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51640" y="310356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51640" y="345456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79360" y="310356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79360" y="345456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20560" y="3103560"/>
                <a:ext cx="678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19480" y="3454560"/>
                <a:ext cx="730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950760" y="2589120"/>
              <a:ext cx="7062840" cy="1268640"/>
              <a:chOff x="950760" y="2589120"/>
              <a:chExt cx="7062840" cy="1268640"/>
            </a:xfrm>
          </p:grpSpPr>
          <p:sp>
            <p:nvSpPr>
              <p:cNvPr id="610" name=""/>
              <p:cNvSpPr/>
              <p:nvPr/>
            </p:nvSpPr>
            <p:spPr>
              <a:xfrm>
                <a:off x="950760" y="25891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50760" y="25891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950760" y="25891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50760" y="25891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50760" y="25891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50760" y="25891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55440" y="2589120"/>
                <a:ext cx="19130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55440" y="2589120"/>
                <a:ext cx="1913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68480" y="25891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68480" y="25891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68480" y="25891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4960" y="2589120"/>
                <a:ext cx="18205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74960" y="2589120"/>
                <a:ext cx="1820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95480" y="25891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95480" y="25891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95480" y="25891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01960" y="2589120"/>
                <a:ext cx="11350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01960" y="2589120"/>
                <a:ext cx="1135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37040" y="25891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37040" y="25891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37040" y="25891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43520" y="2589120"/>
                <a:ext cx="21636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3520" y="2589120"/>
                <a:ext cx="2163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007120" y="25891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007120" y="25891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007120" y="25891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07120" y="25891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07120" y="25891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07120" y="25891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50760" y="2595600"/>
                <a:ext cx="46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50760" y="2595600"/>
                <a:ext cx="14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68480" y="2595600"/>
                <a:ext cx="64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68480" y="2595600"/>
                <a:ext cx="14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95480" y="2595600"/>
                <a:ext cx="64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95480" y="2595600"/>
                <a:ext cx="18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37040" y="2595600"/>
                <a:ext cx="64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37040" y="2595600"/>
                <a:ext cx="14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007120" y="2595600"/>
                <a:ext cx="64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007120" y="2595600"/>
                <a:ext cx="18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950760" y="305280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50760" y="305280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950760" y="305280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55440" y="3052800"/>
                <a:ext cx="19130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55440" y="3052800"/>
                <a:ext cx="1913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68480" y="305280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68480" y="305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868480" y="305280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874960" y="3052800"/>
                <a:ext cx="18205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74960" y="3052800"/>
                <a:ext cx="1820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95480" y="305280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95480" y="305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95480" y="305280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701960" y="3052800"/>
                <a:ext cx="11350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01960" y="3052800"/>
                <a:ext cx="113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37040" y="305280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37040" y="305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7040" y="305280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43520" y="3052800"/>
                <a:ext cx="21636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43520" y="3052800"/>
                <a:ext cx="216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007120" y="305280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007120" y="305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007120" y="305280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50760" y="3059280"/>
                <a:ext cx="4680" cy="79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950760" y="3059280"/>
                <a:ext cx="144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50760" y="3852720"/>
                <a:ext cx="46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50760" y="38527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50760" y="385272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950760" y="3852720"/>
                <a:ext cx="46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950760" y="38527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950760" y="385272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55440" y="3852720"/>
                <a:ext cx="191304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55440" y="3852720"/>
                <a:ext cx="1913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868480" y="3059280"/>
                <a:ext cx="6480" cy="79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68480" y="3059280"/>
                <a:ext cx="144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868480" y="3852720"/>
                <a:ext cx="64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68480" y="3852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868480" y="385272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74960" y="3852720"/>
                <a:ext cx="182052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74960" y="3852720"/>
                <a:ext cx="1820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695480" y="3059280"/>
                <a:ext cx="6480" cy="79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695480" y="3059280"/>
                <a:ext cx="180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95480" y="3852720"/>
                <a:ext cx="64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95480" y="3852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95480" y="385272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701960" y="3852720"/>
                <a:ext cx="11350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01960" y="3852720"/>
                <a:ext cx="1135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37040" y="3059280"/>
                <a:ext cx="6480" cy="79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37040" y="3059280"/>
                <a:ext cx="144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37040" y="3852720"/>
                <a:ext cx="64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37040" y="3852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37040" y="3852720"/>
                <a:ext cx="1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43520" y="3852720"/>
                <a:ext cx="216360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43520" y="3852720"/>
                <a:ext cx="2163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07120" y="3059280"/>
                <a:ext cx="6480" cy="79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07120" y="3059280"/>
                <a:ext cx="180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007120" y="3852720"/>
                <a:ext cx="64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07120" y="3852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07120" y="385272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07120" y="3852720"/>
                <a:ext cx="6480" cy="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007120" y="3852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7120" y="385272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033560" y="4829040"/>
              <a:ext cx="7373520" cy="1343520"/>
              <a:chOff x="1033560" y="4829040"/>
              <a:chExt cx="7373520" cy="1343520"/>
            </a:xfrm>
          </p:grpSpPr>
          <p:sp>
            <p:nvSpPr>
              <p:cNvPr id="712" name=""/>
              <p:cNvSpPr/>
              <p:nvPr/>
            </p:nvSpPr>
            <p:spPr>
              <a:xfrm>
                <a:off x="1074600" y="4829040"/>
                <a:ext cx="1363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85960" y="482904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19920" y="4829040"/>
                <a:ext cx="76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188320" y="4829040"/>
                <a:ext cx="1573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6600" y="482904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034640" y="5283360"/>
                <a:ext cx="1200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035360" y="5573880"/>
                <a:ext cx="1043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033560" y="5867280"/>
                <a:ext cx="1142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Perryrid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613240" y="5283360"/>
                <a:ext cx="68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13240" y="5573880"/>
                <a:ext cx="68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13240" y="5867280"/>
                <a:ext cx="68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6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213440" y="528336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213440" y="557388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213440" y="586728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128200" y="5283360"/>
                <a:ext cx="631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128200" y="5573880"/>
                <a:ext cx="67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28560" y="5867280"/>
                <a:ext cx="461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58080" y="5283360"/>
                <a:ext cx="68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58080" y="5573880"/>
                <a:ext cx="68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59160" y="5867280"/>
                <a:ext cx="461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966600" y="4784760"/>
              <a:ext cx="7643880" cy="1384200"/>
              <a:chOff x="966600" y="4784760"/>
              <a:chExt cx="7643880" cy="1384200"/>
            </a:xfrm>
          </p:grpSpPr>
          <p:sp>
            <p:nvSpPr>
              <p:cNvPr id="733" name=""/>
              <p:cNvSpPr/>
              <p:nvPr/>
            </p:nvSpPr>
            <p:spPr>
              <a:xfrm>
                <a:off x="966600" y="478476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966600" y="478476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6660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66600" y="478476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66600" y="478476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96660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971280" y="4784760"/>
                <a:ext cx="15732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71280" y="4784760"/>
                <a:ext cx="1573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544480" y="478476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544480" y="478476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54448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160" y="4784760"/>
                <a:ext cx="15955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549160" y="4784760"/>
                <a:ext cx="1595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44680" y="478476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144680" y="478476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14468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151160" y="4784760"/>
                <a:ext cx="9079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51160" y="4784760"/>
                <a:ext cx="90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059080" y="478476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059080" y="478476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05908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065560" y="4784760"/>
                <a:ext cx="18223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065560" y="4784760"/>
                <a:ext cx="182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887880" y="478476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887880" y="478476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88788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894360" y="4784760"/>
                <a:ext cx="17096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894360" y="4784760"/>
                <a:ext cx="170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604000" y="478476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604000" y="478476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60400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604000" y="478476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604000" y="478476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604000" y="478476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66600" y="4791240"/>
                <a:ext cx="4680" cy="447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966600" y="4791240"/>
                <a:ext cx="1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544480" y="4791240"/>
                <a:ext cx="4680" cy="447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544480" y="4791240"/>
                <a:ext cx="1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44680" y="4791240"/>
                <a:ext cx="6480" cy="447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44680" y="4791240"/>
                <a:ext cx="1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59080" y="4791240"/>
                <a:ext cx="6480" cy="447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59080" y="4791240"/>
                <a:ext cx="1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887880" y="4791240"/>
                <a:ext cx="6480" cy="447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887880" y="4791240"/>
                <a:ext cx="1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04000" y="4791240"/>
                <a:ext cx="6480" cy="447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604000" y="4791240"/>
                <a:ext cx="1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966600" y="52387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966600" y="52387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966600" y="5238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971280" y="5238720"/>
                <a:ext cx="15732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971280" y="5238720"/>
                <a:ext cx="1573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44480" y="52387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544480" y="52387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544480" y="5238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49160" y="5238720"/>
                <a:ext cx="15955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49160" y="5238720"/>
                <a:ext cx="1595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44680" y="5238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144680" y="5238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44680" y="5238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151160" y="5238720"/>
                <a:ext cx="9079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151160" y="5238720"/>
                <a:ext cx="90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059080" y="5238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059080" y="5238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9080" y="5238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065560" y="5238720"/>
                <a:ext cx="18223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65560" y="5238720"/>
                <a:ext cx="1822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887880" y="5238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887880" y="5238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887880" y="5238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94360" y="5238720"/>
                <a:ext cx="17096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94360" y="5238720"/>
                <a:ext cx="1709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604000" y="5238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604000" y="52387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604000" y="5238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66600" y="5245200"/>
                <a:ext cx="4680" cy="9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966600" y="5245200"/>
                <a:ext cx="144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66600" y="6162840"/>
                <a:ext cx="46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66600" y="61628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6660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66600" y="6162840"/>
                <a:ext cx="46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966600" y="61628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96660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971280" y="6162840"/>
                <a:ext cx="157320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971280" y="6162840"/>
                <a:ext cx="1573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44480" y="5245200"/>
                <a:ext cx="4680" cy="9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44480" y="5245200"/>
                <a:ext cx="144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44480" y="6162840"/>
                <a:ext cx="46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44480" y="61628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4448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49160" y="6162840"/>
                <a:ext cx="15955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49160" y="6162840"/>
                <a:ext cx="1595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144680" y="5245200"/>
                <a:ext cx="6480" cy="9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44680" y="5245200"/>
                <a:ext cx="144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144680" y="6162840"/>
                <a:ext cx="64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44680" y="61628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4468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51160" y="6162840"/>
                <a:ext cx="9079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151160" y="6162840"/>
                <a:ext cx="90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59080" y="5245200"/>
                <a:ext cx="6480" cy="9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59080" y="5245200"/>
                <a:ext cx="144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59080" y="6162840"/>
                <a:ext cx="64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59080" y="61628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5908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065560" y="6162840"/>
                <a:ext cx="18223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065560" y="6162840"/>
                <a:ext cx="182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887880" y="5245200"/>
                <a:ext cx="6480" cy="9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887880" y="5245200"/>
                <a:ext cx="144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87880" y="6162840"/>
                <a:ext cx="64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887880" y="61628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8788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94360" y="6162840"/>
                <a:ext cx="170964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94360" y="6162840"/>
                <a:ext cx="170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04000" y="5245200"/>
                <a:ext cx="6480" cy="9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04000" y="5245200"/>
                <a:ext cx="144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04000" y="6162840"/>
                <a:ext cx="64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04000" y="61628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0400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04000" y="6162840"/>
                <a:ext cx="648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04000" y="61628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04000" y="616284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"/>
          <p:cNvGrpSpPr/>
          <p:nvPr/>
        </p:nvGrpSpPr>
        <p:grpSpPr>
          <a:xfrm>
            <a:off x="2091960" y="2023560"/>
            <a:ext cx="457560" cy="2472120"/>
            <a:chOff x="2091960" y="2023560"/>
            <a:chExt cx="457560" cy="2472120"/>
          </a:xfrm>
        </p:grpSpPr>
        <p:grpSp>
          <p:nvGrpSpPr>
            <p:cNvPr id="854" name=""/>
            <p:cNvGrpSpPr/>
            <p:nvPr/>
          </p:nvGrpSpPr>
          <p:grpSpPr>
            <a:xfrm>
              <a:off x="2091960" y="2023560"/>
              <a:ext cx="305280" cy="152640"/>
              <a:chOff x="2091960" y="2023560"/>
              <a:chExt cx="305280" cy="152640"/>
            </a:xfrm>
          </p:grpSpPr>
          <p:sp>
            <p:nvSpPr>
              <p:cNvPr id="855" name=""/>
              <p:cNvSpPr/>
              <p:nvPr/>
            </p:nvSpPr>
            <p:spPr>
              <a:xfrm>
                <a:off x="2092320" y="20239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97240" y="2023920"/>
                <a:ext cx="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2092320" y="2023560"/>
                <a:ext cx="30492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2091960" y="2023560"/>
                <a:ext cx="30492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091960" y="4343040"/>
              <a:ext cx="457560" cy="152640"/>
              <a:chOff x="2091960" y="4343040"/>
              <a:chExt cx="457560" cy="15264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2244240" y="4343040"/>
                <a:ext cx="305280" cy="152640"/>
                <a:chOff x="2244240" y="4343040"/>
                <a:chExt cx="305280" cy="1526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2244600" y="43434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549520" y="43434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2244600" y="434304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2244240" y="434304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 flipH="1">
                <a:off x="2091960" y="434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2091960" y="4495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E0B-E2EA-487C-A458-93D1CC027CF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외부 죠인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       borr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         borr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243080" y="2133720"/>
            <a:ext cx="7062840" cy="4114080"/>
            <a:chOff x="1243080" y="2133720"/>
            <a:chExt cx="7062840" cy="4114080"/>
          </a:xfrm>
        </p:grpSpPr>
        <p:grpSp>
          <p:nvGrpSpPr>
            <p:cNvPr id="870" name=""/>
            <p:cNvGrpSpPr/>
            <p:nvPr/>
          </p:nvGrpSpPr>
          <p:grpSpPr>
            <a:xfrm>
              <a:off x="1312920" y="2184120"/>
              <a:ext cx="6844680" cy="1486800"/>
              <a:chOff x="1312920" y="2184120"/>
              <a:chExt cx="6844680" cy="1486800"/>
            </a:xfrm>
          </p:grpSpPr>
          <p:sp>
            <p:nvSpPr>
              <p:cNvPr id="871" name=""/>
              <p:cNvSpPr/>
              <p:nvPr/>
            </p:nvSpPr>
            <p:spPr>
              <a:xfrm>
                <a:off x="1391760" y="2184120"/>
                <a:ext cx="1626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290040" y="2184120"/>
                <a:ext cx="157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105160" y="218412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276240" y="2184120"/>
                <a:ext cx="1881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315080" y="2629800"/>
                <a:ext cx="135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314360" y="2967840"/>
                <a:ext cx="1168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312920" y="3304800"/>
                <a:ext cx="476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231360" y="262980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231360" y="296784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231360" y="330480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15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059080" y="262980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059080" y="2967840"/>
                <a:ext cx="61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058000" y="3304800"/>
                <a:ext cx="476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200280" y="2629800"/>
                <a:ext cx="678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198840" y="2967840"/>
                <a:ext cx="730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200280" y="33048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y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1243080" y="2133720"/>
              <a:ext cx="7062840" cy="1543680"/>
              <a:chOff x="1243080" y="2133720"/>
              <a:chExt cx="7062840" cy="1543680"/>
            </a:xfrm>
          </p:grpSpPr>
          <p:sp>
            <p:nvSpPr>
              <p:cNvPr id="888" name=""/>
              <p:cNvSpPr/>
              <p:nvPr/>
            </p:nvSpPr>
            <p:spPr>
              <a:xfrm>
                <a:off x="1243080" y="21337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43080" y="21337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243080" y="2133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43080" y="21337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243080" y="21337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43080" y="2133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47760" y="2133720"/>
                <a:ext cx="19130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247760" y="2133720"/>
                <a:ext cx="1913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160800" y="2133720"/>
                <a:ext cx="6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160800" y="213372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160800" y="2133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166920" y="2133720"/>
                <a:ext cx="18208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66920" y="2133720"/>
                <a:ext cx="182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987800" y="2133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87800" y="213372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87800" y="21337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994280" y="2133720"/>
                <a:ext cx="11350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94280" y="2133720"/>
                <a:ext cx="113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29360" y="2133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129360" y="213372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129360" y="2133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135840" y="2133720"/>
                <a:ext cx="21636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135840" y="2133720"/>
                <a:ext cx="216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299440" y="2133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299440" y="213372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299440" y="2133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299440" y="21337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299440" y="213372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299440" y="21337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243080" y="2140200"/>
                <a:ext cx="4680" cy="46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243080" y="2140200"/>
                <a:ext cx="1440" cy="46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160800" y="2140200"/>
                <a:ext cx="6120" cy="46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160800" y="2140200"/>
                <a:ext cx="1440" cy="46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987800" y="2140200"/>
                <a:ext cx="6480" cy="46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987800" y="2140200"/>
                <a:ext cx="1800" cy="46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129360" y="2140200"/>
                <a:ext cx="6480" cy="46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129360" y="2140200"/>
                <a:ext cx="1440" cy="46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299440" y="2140200"/>
                <a:ext cx="6480" cy="46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99440" y="2140200"/>
                <a:ext cx="1440" cy="46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43080" y="2602800"/>
                <a:ext cx="468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243080" y="260280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43080" y="26028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47760" y="2602800"/>
                <a:ext cx="191304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247760" y="2602800"/>
                <a:ext cx="1913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160800" y="2602800"/>
                <a:ext cx="612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60800" y="26028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160800" y="26028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166920" y="2602800"/>
                <a:ext cx="182088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166920" y="2602800"/>
                <a:ext cx="182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87800" y="2602800"/>
                <a:ext cx="648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987800" y="260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987800" y="2602800"/>
                <a:ext cx="18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994280" y="2602800"/>
                <a:ext cx="113508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94280" y="2602800"/>
                <a:ext cx="113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129360" y="2602800"/>
                <a:ext cx="648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129360" y="260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129360" y="26028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135840" y="2602800"/>
                <a:ext cx="216360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135840" y="2602800"/>
                <a:ext cx="216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299440" y="2602800"/>
                <a:ext cx="648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299440" y="2602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299440" y="26028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243080" y="2607480"/>
                <a:ext cx="4680" cy="106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43080" y="2607480"/>
                <a:ext cx="1440" cy="10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243080" y="36709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43080" y="36709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43080" y="3670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243080" y="3670920"/>
                <a:ext cx="46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243080" y="36709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243080" y="3670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247760" y="3670920"/>
                <a:ext cx="19130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247760" y="3670920"/>
                <a:ext cx="1913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160800" y="2607480"/>
                <a:ext cx="6120" cy="106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160800" y="2607480"/>
                <a:ext cx="1440" cy="10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160800" y="3670920"/>
                <a:ext cx="61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160800" y="367092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160800" y="3670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166920" y="3670920"/>
                <a:ext cx="18208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166920" y="3670920"/>
                <a:ext cx="1820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987800" y="2607480"/>
                <a:ext cx="6480" cy="106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987800" y="2607480"/>
                <a:ext cx="1800" cy="10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987800" y="36709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987800" y="36709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987800" y="36709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994280" y="3670920"/>
                <a:ext cx="11350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94280" y="3670920"/>
                <a:ext cx="1135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129360" y="2607480"/>
                <a:ext cx="6480" cy="106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29360" y="2607480"/>
                <a:ext cx="1440" cy="10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129360" y="36709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129360" y="36709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129360" y="3670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135840" y="3670920"/>
                <a:ext cx="216360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135840" y="3670920"/>
                <a:ext cx="2163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299440" y="2607480"/>
                <a:ext cx="6480" cy="106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299440" y="2607480"/>
                <a:ext cx="1440" cy="10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99440" y="36709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299440" y="36709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99440" y="3670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299440" y="3670920"/>
                <a:ext cx="64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299440" y="367092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99440" y="3670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1243080" y="4339440"/>
              <a:ext cx="6831000" cy="1908360"/>
              <a:chOff x="1243080" y="4339440"/>
              <a:chExt cx="6831000" cy="190836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1312560" y="4371480"/>
                <a:ext cx="6673680" cy="1819440"/>
                <a:chOff x="1312560" y="4371480"/>
                <a:chExt cx="6673680" cy="181944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1334520" y="4371480"/>
                  <a:ext cx="1626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ranch-na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174120" y="4371480"/>
                  <a:ext cx="1576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oan-numb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989240" y="4371480"/>
                  <a:ext cx="91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moun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104880" y="4371480"/>
                  <a:ext cx="18813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ustomer-na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315080" y="4816800"/>
                  <a:ext cx="13539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owntow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314360" y="5153760"/>
                  <a:ext cx="1168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edwoo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312560" y="5493600"/>
                  <a:ext cx="1289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Perry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312920" y="5824800"/>
                  <a:ext cx="4762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117240" y="481680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1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117240" y="515376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2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117240" y="549360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2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117240" y="582480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1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943160" y="4816800"/>
                  <a:ext cx="610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943160" y="5153760"/>
                  <a:ext cx="610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943160" y="5493600"/>
                  <a:ext cx="610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7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942080" y="5824800"/>
                  <a:ext cx="4762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084360" y="4816800"/>
                  <a:ext cx="6789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on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082920" y="5153760"/>
                  <a:ext cx="730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mi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083280" y="5493600"/>
                  <a:ext cx="4762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084360" y="582480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ay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1243080" y="4339440"/>
                <a:ext cx="6831000" cy="1908360"/>
                <a:chOff x="1243080" y="4339440"/>
                <a:chExt cx="6831000" cy="190836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1243080" y="4339440"/>
                  <a:ext cx="46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243080" y="43394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243080" y="433944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243080" y="4339440"/>
                  <a:ext cx="46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243080" y="43394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243080" y="433944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247760" y="4339440"/>
                  <a:ext cx="17985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247760" y="4339440"/>
                  <a:ext cx="17985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046320" y="4339440"/>
                  <a:ext cx="504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046320" y="4339440"/>
                  <a:ext cx="50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046320" y="433944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051360" y="4339440"/>
                  <a:ext cx="182052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051360" y="4339440"/>
                  <a:ext cx="18205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871880" y="4339440"/>
                  <a:ext cx="64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871880" y="4339440"/>
                  <a:ext cx="64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71880" y="433944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78360" y="4339440"/>
                  <a:ext cx="11350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878360" y="4339440"/>
                  <a:ext cx="11350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013440" y="4339440"/>
                  <a:ext cx="64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013440" y="4339440"/>
                  <a:ext cx="64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013440" y="433944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019920" y="4339440"/>
                  <a:ext cx="20476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019920" y="4339440"/>
                  <a:ext cx="2047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8067600" y="4339440"/>
                  <a:ext cx="64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8067600" y="4339440"/>
                  <a:ext cx="64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067600" y="433944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067600" y="4339440"/>
                  <a:ext cx="648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067600" y="4339440"/>
                  <a:ext cx="64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067600" y="433944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1243080" y="4345920"/>
                  <a:ext cx="468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1243080" y="4345920"/>
                  <a:ext cx="1440" cy="46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046320" y="4345920"/>
                  <a:ext cx="504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046320" y="4345920"/>
                  <a:ext cx="1800" cy="46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71880" y="4345920"/>
                  <a:ext cx="648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71880" y="4345920"/>
                  <a:ext cx="1800" cy="46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013440" y="4345920"/>
                  <a:ext cx="648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013440" y="4345920"/>
                  <a:ext cx="1440" cy="46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8067600" y="4345920"/>
                  <a:ext cx="648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8067600" y="4345920"/>
                  <a:ext cx="1800" cy="46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243080" y="4809960"/>
                  <a:ext cx="46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243080" y="4809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243080" y="480996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247760" y="4809960"/>
                  <a:ext cx="179856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247760" y="4809960"/>
                  <a:ext cx="1798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046320" y="4809960"/>
                  <a:ext cx="504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046320" y="4809960"/>
                  <a:ext cx="50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046320" y="480996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051360" y="4809960"/>
                  <a:ext cx="18205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051360" y="4809960"/>
                  <a:ext cx="18205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871880" y="480996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871880" y="480996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871880" y="480996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878360" y="4809960"/>
                  <a:ext cx="11350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878360" y="4809960"/>
                  <a:ext cx="1135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013440" y="480996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013440" y="480996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013440" y="480996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019920" y="4809960"/>
                  <a:ext cx="20476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019920" y="4809960"/>
                  <a:ext cx="2047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067600" y="480996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067600" y="480996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8067600" y="480996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243080" y="4816080"/>
                  <a:ext cx="4680" cy="142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243080" y="4816080"/>
                  <a:ext cx="1440" cy="14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243080" y="6241680"/>
                  <a:ext cx="46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243080" y="62416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243080" y="624168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243080" y="6241680"/>
                  <a:ext cx="46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243080" y="62416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243080" y="624168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247760" y="6241680"/>
                  <a:ext cx="179856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247760" y="6241680"/>
                  <a:ext cx="1798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046320" y="4816080"/>
                  <a:ext cx="5040" cy="142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46320" y="4816080"/>
                  <a:ext cx="1800" cy="14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046320" y="6241680"/>
                  <a:ext cx="504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046320" y="6241680"/>
                  <a:ext cx="50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46320" y="624168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051360" y="6241680"/>
                  <a:ext cx="18205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051360" y="6241680"/>
                  <a:ext cx="18205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871880" y="4816080"/>
                  <a:ext cx="6480" cy="142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871880" y="4816080"/>
                  <a:ext cx="1800" cy="14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871880" y="624168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871880" y="624168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871880" y="624168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878360" y="6241680"/>
                  <a:ext cx="11350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878360" y="6241680"/>
                  <a:ext cx="1135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013440" y="4816080"/>
                  <a:ext cx="6480" cy="142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013440" y="4816080"/>
                  <a:ext cx="1440" cy="14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013440" y="624168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013440" y="624168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013440" y="624168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6019920" y="6241680"/>
                  <a:ext cx="20476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019920" y="6241680"/>
                  <a:ext cx="2047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067600" y="4816080"/>
                  <a:ext cx="6480" cy="142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067600" y="4816080"/>
                  <a:ext cx="1800" cy="14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067600" y="624168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067600" y="624168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067600" y="624168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067600" y="6241680"/>
                  <a:ext cx="64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067600" y="6241680"/>
                  <a:ext cx="64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067600" y="624168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3" name=""/>
            <p:cNvSpPr/>
            <p:nvPr/>
          </p:nvSpPr>
          <p:spPr>
            <a:xfrm>
              <a:off x="2309760" y="235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2057400" y="1752120"/>
            <a:ext cx="609120" cy="2472120"/>
            <a:chOff x="2057400" y="1752120"/>
            <a:chExt cx="609120" cy="2472120"/>
          </a:xfrm>
        </p:grpSpPr>
        <p:grpSp>
          <p:nvGrpSpPr>
            <p:cNvPr id="1115" name=""/>
            <p:cNvGrpSpPr/>
            <p:nvPr/>
          </p:nvGrpSpPr>
          <p:grpSpPr>
            <a:xfrm>
              <a:off x="2057400" y="1752120"/>
              <a:ext cx="456480" cy="152640"/>
              <a:chOff x="2057400" y="1752120"/>
              <a:chExt cx="456480" cy="152640"/>
            </a:xfrm>
          </p:grpSpPr>
          <p:grpSp>
            <p:nvGrpSpPr>
              <p:cNvPr id="1116" name=""/>
              <p:cNvGrpSpPr/>
              <p:nvPr/>
            </p:nvGrpSpPr>
            <p:grpSpPr>
              <a:xfrm>
                <a:off x="2057400" y="1752120"/>
                <a:ext cx="304560" cy="152640"/>
                <a:chOff x="2057400" y="1752120"/>
                <a:chExt cx="304560" cy="15264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2057400" y="1752480"/>
                  <a:ext cx="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2361960" y="1752480"/>
                  <a:ext cx="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V="1">
                  <a:off x="2057400" y="1752120"/>
                  <a:ext cx="30456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 flipV="1">
                  <a:off x="2057400" y="1752120"/>
                  <a:ext cx="304560" cy="152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"/>
              <p:cNvSpPr/>
              <p:nvPr/>
            </p:nvSpPr>
            <p:spPr>
              <a:xfrm>
                <a:off x="2361960" y="190476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361960" y="17524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2057400" y="4071600"/>
              <a:ext cx="609120" cy="152640"/>
              <a:chOff x="2057400" y="4071600"/>
              <a:chExt cx="609120" cy="1526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2209320" y="4071600"/>
                <a:ext cx="304560" cy="152640"/>
                <a:chOff x="2209320" y="4071600"/>
                <a:chExt cx="304560" cy="1526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209680" y="4071600"/>
                  <a:ext cx="0" cy="1526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513880" y="4071600"/>
                  <a:ext cx="0" cy="1526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V="1">
                  <a:off x="2209680" y="4071600"/>
                  <a:ext cx="304200" cy="1526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2209320" y="4071600"/>
                  <a:ext cx="304200" cy="1526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>
                <a:off x="2514240" y="422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4240" y="40716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57400" y="40716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057400" y="422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8E6-E93D-43B5-9C6F-C396196D123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연산자     는 값의 모임을 취해 하나의 값을 결과로 돌려준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vg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in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소 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ax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대 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um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unt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의 개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G1, G2, …, G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F1 A1, F2 A2, ..., Fm A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관계형 대수 표현식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그룹핑할 애트리뷰트 리스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F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집성 함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애트리뷰트명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08280" y="1752480"/>
            <a:ext cx="152280" cy="389160"/>
          </a:xfrm>
          <a:custGeom>
            <a:avLst/>
            <a:gdLst/>
            <a:ahLst/>
            <a:rect l="l" t="t" r="r" b="b"/>
            <a:pathLst>
              <a:path w="314" h="476">
                <a:moveTo>
                  <a:pt x="296" y="123"/>
                </a:moveTo>
                <a:cubicBezTo>
                  <a:pt x="284" y="73"/>
                  <a:pt x="246" y="17"/>
                  <a:pt x="196" y="0"/>
                </a:cubicBezTo>
                <a:cubicBezTo>
                  <a:pt x="155" y="4"/>
                  <a:pt x="98" y="5"/>
                  <a:pt x="58" y="16"/>
                </a:cubicBezTo>
                <a:cubicBezTo>
                  <a:pt x="21" y="26"/>
                  <a:pt x="3" y="116"/>
                  <a:pt x="3" y="116"/>
                </a:cubicBezTo>
                <a:cubicBezTo>
                  <a:pt x="13" y="177"/>
                  <a:pt x="0" y="208"/>
                  <a:pt x="58" y="227"/>
                </a:cubicBezTo>
                <a:cubicBezTo>
                  <a:pt x="116" y="283"/>
                  <a:pt x="184" y="230"/>
                  <a:pt x="274" y="223"/>
                </a:cubicBezTo>
                <a:cubicBezTo>
                  <a:pt x="314" y="114"/>
                  <a:pt x="255" y="326"/>
                  <a:pt x="225" y="371"/>
                </a:cubicBezTo>
                <a:cubicBezTo>
                  <a:pt x="210" y="416"/>
                  <a:pt x="198" y="434"/>
                  <a:pt x="158" y="460"/>
                </a:cubicBezTo>
                <a:cubicBezTo>
                  <a:pt x="114" y="456"/>
                  <a:pt x="103" y="476"/>
                  <a:pt x="63" y="456"/>
                </a:cubicBezTo>
                <a:cubicBezTo>
                  <a:pt x="38" y="443"/>
                  <a:pt x="34" y="330"/>
                  <a:pt x="29" y="3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514600" y="4030560"/>
            <a:ext cx="152280" cy="389160"/>
          </a:xfrm>
          <a:custGeom>
            <a:avLst/>
            <a:gdLst/>
            <a:ahLst/>
            <a:rect l="l" t="t" r="r" b="b"/>
            <a:pathLst>
              <a:path w="314" h="476">
                <a:moveTo>
                  <a:pt x="296" y="123"/>
                </a:moveTo>
                <a:cubicBezTo>
                  <a:pt x="284" y="73"/>
                  <a:pt x="246" y="17"/>
                  <a:pt x="196" y="0"/>
                </a:cubicBezTo>
                <a:cubicBezTo>
                  <a:pt x="155" y="4"/>
                  <a:pt x="98" y="5"/>
                  <a:pt x="58" y="16"/>
                </a:cubicBezTo>
                <a:cubicBezTo>
                  <a:pt x="21" y="26"/>
                  <a:pt x="3" y="116"/>
                  <a:pt x="3" y="116"/>
                </a:cubicBezTo>
                <a:cubicBezTo>
                  <a:pt x="13" y="177"/>
                  <a:pt x="0" y="208"/>
                  <a:pt x="58" y="227"/>
                </a:cubicBezTo>
                <a:cubicBezTo>
                  <a:pt x="116" y="283"/>
                  <a:pt x="184" y="230"/>
                  <a:pt x="274" y="223"/>
                </a:cubicBezTo>
                <a:cubicBezTo>
                  <a:pt x="314" y="114"/>
                  <a:pt x="255" y="326"/>
                  <a:pt x="225" y="371"/>
                </a:cubicBezTo>
                <a:cubicBezTo>
                  <a:pt x="210" y="416"/>
                  <a:pt x="198" y="434"/>
                  <a:pt x="158" y="460"/>
                </a:cubicBezTo>
                <a:cubicBezTo>
                  <a:pt x="114" y="456"/>
                  <a:pt x="103" y="476"/>
                  <a:pt x="63" y="456"/>
                </a:cubicBezTo>
                <a:cubicBezTo>
                  <a:pt x="38" y="443"/>
                  <a:pt x="34" y="330"/>
                  <a:pt x="29" y="3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03A-16E3-4C04-A847-AA0EAC267A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합으로부터 키의 결정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강 엔티티 집합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엔티티 집합의 주 키는 릴레이션의 주 키가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약 엔티티 집합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의 주 키는 강 엔티티 집합의 주 키와 약 엔티티 집합의 구별자의 합집합으로 구성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관계 집합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관련된 엔티티 집합의 주 키의 합집합은 릴레이션의 수퍼 키가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진 다 대 다 관계 집합에서는 위의 수퍼 키가 또한 주 키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진 다 대 일 관계 집합에서는 “다”쪽 엔티티 집합의 주 키가 릴레이션의 주 키가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일 대 일 관계 집합에서는 어떤 쪽의 엔티티 집합의 주 키도 릴레이션의 주 키가 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692-465A-48A2-AC43-B93E4C43C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함수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3657600" y="1828800"/>
            <a:ext cx="1676160" cy="1861920"/>
            <a:chOff x="3657600" y="1828800"/>
            <a:chExt cx="1676160" cy="1861920"/>
          </a:xfrm>
        </p:grpSpPr>
        <p:grpSp>
          <p:nvGrpSpPr>
            <p:cNvPr id="1140" name=""/>
            <p:cNvGrpSpPr/>
            <p:nvPr/>
          </p:nvGrpSpPr>
          <p:grpSpPr>
            <a:xfrm>
              <a:off x="3657600" y="1828800"/>
              <a:ext cx="1675800" cy="1861920"/>
              <a:chOff x="3657600" y="1828800"/>
              <a:chExt cx="1675800" cy="1861920"/>
            </a:xfrm>
          </p:grpSpPr>
          <p:sp>
            <p:nvSpPr>
              <p:cNvPr id="1141" name=""/>
              <p:cNvSpPr/>
              <p:nvPr/>
            </p:nvSpPr>
            <p:spPr>
              <a:xfrm>
                <a:off x="3657600" y="1828800"/>
                <a:ext cx="1675800" cy="18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B      C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216320" y="182880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775040" y="182880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3657600" y="2214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3679920" y="4038480"/>
            <a:ext cx="1066680" cy="1077840"/>
            <a:chOff x="3679920" y="4038480"/>
            <a:chExt cx="1066680" cy="1077840"/>
          </a:xfrm>
        </p:grpSpPr>
        <p:sp>
          <p:nvSpPr>
            <p:cNvPr id="1146" name=""/>
            <p:cNvSpPr/>
            <p:nvPr/>
          </p:nvSpPr>
          <p:spPr>
            <a:xfrm>
              <a:off x="3679920" y="4038480"/>
              <a:ext cx="1066680" cy="107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m-C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79920" y="45720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4DF-21EC-4165-8CDC-2B4A1E9F547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함수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으로 그룹핑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 baseline="-25000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600" spc="-1" strike="noStrike" baseline="-10000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ko-KR" sz="2600" spc="-1" strike="noStrike" baseline="-25000">
                <a:solidFill>
                  <a:srgbClr val="000000"/>
                </a:solidFill>
                <a:latin typeface="Times New Roman"/>
              </a:rPr>
              <a:t> balance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905120" y="2257560"/>
            <a:ext cx="5638680" cy="2009520"/>
            <a:chOff x="1905120" y="2257560"/>
            <a:chExt cx="5638680" cy="2009520"/>
          </a:xfrm>
        </p:grpSpPr>
        <p:grpSp>
          <p:nvGrpSpPr>
            <p:cNvPr id="1151" name=""/>
            <p:cNvGrpSpPr/>
            <p:nvPr/>
          </p:nvGrpSpPr>
          <p:grpSpPr>
            <a:xfrm>
              <a:off x="2054520" y="2257560"/>
              <a:ext cx="5296680" cy="1966680"/>
              <a:chOff x="2054520" y="2257560"/>
              <a:chExt cx="5296680" cy="1966680"/>
            </a:xfrm>
          </p:grpSpPr>
          <p:sp>
            <p:nvSpPr>
              <p:cNvPr id="1152" name=""/>
              <p:cNvSpPr/>
              <p:nvPr/>
            </p:nvSpPr>
            <p:spPr>
              <a:xfrm>
                <a:off x="2054520" y="2257560"/>
                <a:ext cx="1594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005000" y="2264760"/>
                <a:ext cx="19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count-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17720" y="2264760"/>
                <a:ext cx="933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2143080" y="2588040"/>
                <a:ext cx="4867920" cy="1636200"/>
                <a:chOff x="2143080" y="2588040"/>
                <a:chExt cx="4867920" cy="16362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2143080" y="2588040"/>
                  <a:ext cx="1289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Perry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143080" y="2906640"/>
                  <a:ext cx="1289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Perry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143440" y="3224520"/>
                  <a:ext cx="1085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Brigh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143440" y="3544920"/>
                  <a:ext cx="1085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Brigh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144880" y="3858120"/>
                  <a:ext cx="1168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edwoo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1" name=""/>
                <p:cNvGrpSpPr/>
                <p:nvPr/>
              </p:nvGrpSpPr>
              <p:grpSpPr>
                <a:xfrm>
                  <a:off x="4200840" y="2588040"/>
                  <a:ext cx="981360" cy="1636200"/>
                  <a:chOff x="4200840" y="2588040"/>
                  <a:chExt cx="981360" cy="16362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4200840" y="2588040"/>
                    <a:ext cx="296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495680" y="258804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647960" y="2588040"/>
                    <a:ext cx="5342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4200840" y="2906640"/>
                    <a:ext cx="296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495680" y="290664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647960" y="2906640"/>
                    <a:ext cx="5342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200840" y="3224520"/>
                    <a:ext cx="296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495680" y="322452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647960" y="3224520"/>
                    <a:ext cx="5342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200840" y="3544920"/>
                    <a:ext cx="296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495680" y="354492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647960" y="3544920"/>
                    <a:ext cx="5342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200840" y="3858120"/>
                    <a:ext cx="296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495680" y="385812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647960" y="3858120"/>
                    <a:ext cx="5342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7" name=""/>
                <p:cNvSpPr/>
                <p:nvPr/>
              </p:nvSpPr>
              <p:spPr>
                <a:xfrm>
                  <a:off x="6553080" y="2588040"/>
                  <a:ext cx="457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6553080" y="2906640"/>
                  <a:ext cx="457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553080" y="3224520"/>
                  <a:ext cx="457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553080" y="3544920"/>
                  <a:ext cx="457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553080" y="3858120"/>
                  <a:ext cx="457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2" name=""/>
            <p:cNvGrpSpPr/>
            <p:nvPr/>
          </p:nvGrpSpPr>
          <p:grpSpPr>
            <a:xfrm>
              <a:off x="1905120" y="2257560"/>
              <a:ext cx="5638680" cy="2009520"/>
              <a:chOff x="1905120" y="2257560"/>
              <a:chExt cx="5638680" cy="2009520"/>
            </a:xfrm>
          </p:grpSpPr>
          <p:sp>
            <p:nvSpPr>
              <p:cNvPr id="1183" name=""/>
              <p:cNvSpPr/>
              <p:nvPr/>
            </p:nvSpPr>
            <p:spPr>
              <a:xfrm>
                <a:off x="1905120" y="2257560"/>
                <a:ext cx="5638680" cy="2009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10240" y="2257560"/>
                <a:ext cx="0" cy="20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248520" y="2257560"/>
                <a:ext cx="0" cy="20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905120" y="2603880"/>
                <a:ext cx="56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2576520" y="5019840"/>
            <a:ext cx="4205160" cy="1248120"/>
            <a:chOff x="2576520" y="5019840"/>
            <a:chExt cx="4205160" cy="1248120"/>
          </a:xfrm>
        </p:grpSpPr>
        <p:sp>
          <p:nvSpPr>
            <p:cNvPr id="1188" name=""/>
            <p:cNvSpPr/>
            <p:nvPr/>
          </p:nvSpPr>
          <p:spPr>
            <a:xfrm>
              <a:off x="2924640" y="5019840"/>
              <a:ext cx="145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ranch-nam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47200" y="5019840"/>
              <a:ext cx="1410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um-bal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62520" y="5327640"/>
              <a:ext cx="118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0000"/>
                  </a:solidFill>
                  <a:latin typeface="Times New Roman"/>
                </a:rPr>
                <a:t>Perryrid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153600" y="5630760"/>
              <a:ext cx="99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0000"/>
                  </a:solidFill>
                  <a:latin typeface="Times New Roman"/>
                </a:rPr>
                <a:t>Bright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15080" y="5932440"/>
              <a:ext cx="1072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edwoo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69120" y="5327640"/>
              <a:ext cx="561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3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84960" y="5638680"/>
              <a:ext cx="561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39320" y="5932440"/>
              <a:ext cx="42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2576520" y="5019840"/>
              <a:ext cx="4205160" cy="1226520"/>
              <a:chOff x="2576520" y="5019840"/>
              <a:chExt cx="4205160" cy="1226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576520" y="5019840"/>
                <a:ext cx="46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576520" y="5019840"/>
                <a:ext cx="46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576520" y="5019840"/>
                <a:ext cx="144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576520" y="5019840"/>
                <a:ext cx="46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576520" y="5019840"/>
                <a:ext cx="46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576520" y="5019840"/>
                <a:ext cx="144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581200" y="5019840"/>
                <a:ext cx="213984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581200" y="5019840"/>
                <a:ext cx="21398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21040" y="5019840"/>
                <a:ext cx="64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21040" y="5019840"/>
                <a:ext cx="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721040" y="5019840"/>
                <a:ext cx="180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727520" y="5019840"/>
                <a:ext cx="20476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27520" y="5019840"/>
                <a:ext cx="20476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775200" y="5019840"/>
                <a:ext cx="64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775200" y="5019840"/>
                <a:ext cx="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775200" y="5019840"/>
                <a:ext cx="180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775200" y="5019840"/>
                <a:ext cx="64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775200" y="5019840"/>
                <a:ext cx="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775200" y="5019840"/>
                <a:ext cx="180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576520" y="5025600"/>
                <a:ext cx="4680" cy="30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576520" y="5025600"/>
                <a:ext cx="1440" cy="3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21040" y="5025600"/>
                <a:ext cx="6480" cy="30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21040" y="5025600"/>
                <a:ext cx="1800" cy="3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775200" y="5025600"/>
                <a:ext cx="6480" cy="30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775200" y="5025600"/>
                <a:ext cx="1800" cy="3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576520" y="5327280"/>
                <a:ext cx="46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576520" y="532728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576520" y="5327280"/>
                <a:ext cx="144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81200" y="5327280"/>
                <a:ext cx="213984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581200" y="5327280"/>
                <a:ext cx="2139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721040" y="5327280"/>
                <a:ext cx="64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21040" y="532728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721040" y="5327280"/>
                <a:ext cx="180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727520" y="5327280"/>
                <a:ext cx="20476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727520" y="5327280"/>
                <a:ext cx="2047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75200" y="5327280"/>
                <a:ext cx="6480" cy="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75200" y="532728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775200" y="5327280"/>
                <a:ext cx="180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576520" y="5333400"/>
                <a:ext cx="4680" cy="90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576520" y="5333400"/>
                <a:ext cx="1440" cy="90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576520" y="6242040"/>
                <a:ext cx="468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576520" y="62420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576520" y="6242040"/>
                <a:ext cx="144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576520" y="6242040"/>
                <a:ext cx="468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576520" y="62420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576520" y="6242040"/>
                <a:ext cx="144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581200" y="6242040"/>
                <a:ext cx="213984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581200" y="6242040"/>
                <a:ext cx="2139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721040" y="5333400"/>
                <a:ext cx="6480" cy="90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721040" y="5333400"/>
                <a:ext cx="1800" cy="90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721040" y="6242040"/>
                <a:ext cx="648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721040" y="62420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21040" y="6242040"/>
                <a:ext cx="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27520" y="6242040"/>
                <a:ext cx="204768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727520" y="6242040"/>
                <a:ext cx="2047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75200" y="5333400"/>
                <a:ext cx="6480" cy="90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75200" y="5333400"/>
                <a:ext cx="1800" cy="90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775200" y="6242040"/>
                <a:ext cx="648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775200" y="62420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775200" y="6242040"/>
                <a:ext cx="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775200" y="6242040"/>
                <a:ext cx="6480" cy="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775200" y="624204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775200" y="6242040"/>
                <a:ext cx="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0" name=""/>
          <p:cNvSpPr/>
          <p:nvPr/>
        </p:nvSpPr>
        <p:spPr>
          <a:xfrm>
            <a:off x="2666880" y="4554360"/>
            <a:ext cx="152640" cy="389160"/>
          </a:xfrm>
          <a:custGeom>
            <a:avLst/>
            <a:gdLst/>
            <a:ahLst/>
            <a:rect l="l" t="t" r="r" b="b"/>
            <a:pathLst>
              <a:path w="314" h="476">
                <a:moveTo>
                  <a:pt x="296" y="123"/>
                </a:moveTo>
                <a:cubicBezTo>
                  <a:pt x="284" y="73"/>
                  <a:pt x="246" y="17"/>
                  <a:pt x="196" y="0"/>
                </a:cubicBezTo>
                <a:cubicBezTo>
                  <a:pt x="155" y="4"/>
                  <a:pt x="98" y="5"/>
                  <a:pt x="58" y="16"/>
                </a:cubicBezTo>
                <a:cubicBezTo>
                  <a:pt x="21" y="26"/>
                  <a:pt x="3" y="116"/>
                  <a:pt x="3" y="116"/>
                </a:cubicBezTo>
                <a:cubicBezTo>
                  <a:pt x="13" y="177"/>
                  <a:pt x="0" y="208"/>
                  <a:pt x="58" y="227"/>
                </a:cubicBezTo>
                <a:cubicBezTo>
                  <a:pt x="116" y="283"/>
                  <a:pt x="184" y="230"/>
                  <a:pt x="274" y="223"/>
                </a:cubicBezTo>
                <a:cubicBezTo>
                  <a:pt x="314" y="114"/>
                  <a:pt x="255" y="326"/>
                  <a:pt x="225" y="371"/>
                </a:cubicBezTo>
                <a:cubicBezTo>
                  <a:pt x="210" y="416"/>
                  <a:pt x="198" y="434"/>
                  <a:pt x="158" y="460"/>
                </a:cubicBezTo>
                <a:cubicBezTo>
                  <a:pt x="114" y="456"/>
                  <a:pt x="103" y="476"/>
                  <a:pt x="63" y="456"/>
                </a:cubicBezTo>
                <a:cubicBezTo>
                  <a:pt x="38" y="443"/>
                  <a:pt x="34" y="330"/>
                  <a:pt x="29" y="3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2B0-1685-4375-8FF8-9EB8E5567CA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데이터베이스의 내용은 다음 연산을 사용해 수정할 수 있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이들 모든 연산은 배정 연산자를 사용해 표현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8D3-A1A0-4FBC-8FB1-86860C7D250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삭제 요청은 사용자에게 튜플을 디스플레이하는 대신 선택한 튜플들이 데이터베이스에서 제거되는 것을 제외하고는 질의와 유사하게 표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을 통째로 삭제할 수 있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특정 애트리뷰트의 값 만을 삭제할 수는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삭제는 관계형 대수로 다음과 같이 표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r -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릴레이션이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관계형 대수 질의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00E-4E41-4DA6-BDE5-1DC8A6DB97A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모든 계좌 레코드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account -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ranch-name = “Perryridge”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acc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의 금액을 가진 모든 대출 레코드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loan -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amount 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 0 and amount 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 50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lo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eedha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지점의 모든 계좌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ranch-city = “Needham”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account       bra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ranch-name, account-number, balance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customer-name, account-number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depos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account - 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deposito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depositor - 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4952520" y="4267080"/>
            <a:ext cx="305280" cy="152640"/>
            <a:chOff x="4952520" y="4267080"/>
            <a:chExt cx="305280" cy="152640"/>
          </a:xfrm>
        </p:grpSpPr>
        <p:sp>
          <p:nvSpPr>
            <p:cNvPr id="1268" name=""/>
            <p:cNvSpPr/>
            <p:nvPr/>
          </p:nvSpPr>
          <p:spPr>
            <a:xfrm>
              <a:off x="4952880" y="42670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57800" y="42670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952880" y="426708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4952520" y="426708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723920" y="4917960"/>
            <a:ext cx="305280" cy="152640"/>
            <a:chOff x="4723920" y="4917960"/>
            <a:chExt cx="305280" cy="152640"/>
          </a:xfrm>
        </p:grpSpPr>
        <p:sp>
          <p:nvSpPr>
            <p:cNvPr id="1273" name=""/>
            <p:cNvSpPr/>
            <p:nvPr/>
          </p:nvSpPr>
          <p:spPr>
            <a:xfrm>
              <a:off x="4724280" y="491796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029200" y="491796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4724280" y="491796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 flipV="1">
              <a:off x="4723920" y="491796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B2B-75AA-49B1-A37E-850B7D51D5F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 데이터를 삽입하려면 다음과 같이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될 튜플을 지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결과가 삽입될 튜플의 집합인 질의를 작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대수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은 다음과 같이 표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r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릴레이션이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관계형 대수 표현식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일 튜플의 삽입은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하나의 튜플을 내포한 상수 릴레이션이 되도록하여 표현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23E-85E4-499B-8928-F85DE7852C7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삽입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의 계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97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가지고 있다는 정보를 삽입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{“Perryridge”, A-973, 12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deposito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deposito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{“Smith”, A-973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모든 대출 고객에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의 저축 예금 계좌를 제공하고자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출 번호를 새로운 저축 계좌의 계좌 번호로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ranch-name = “Perryridge”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(borrower        loa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account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branch-name, loan-number, 200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deposito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depositor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customer-name, loan-number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5181120" y="4724280"/>
            <a:ext cx="305280" cy="152640"/>
            <a:chOff x="5181120" y="4724280"/>
            <a:chExt cx="305280" cy="152640"/>
          </a:xfrm>
        </p:grpSpPr>
        <p:sp>
          <p:nvSpPr>
            <p:cNvPr id="1282" name=""/>
            <p:cNvSpPr/>
            <p:nvPr/>
          </p:nvSpPr>
          <p:spPr>
            <a:xfrm>
              <a:off x="5181480" y="47242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486400" y="47242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5181480" y="472428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5181120" y="472428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7DB-7F37-48C0-8F21-B39E32207EE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 내의 모든 값을 바꾸지 않고 일부 값을 변경하는 기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일반화 추출 연산자를 사용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ko-KR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ko-KR" sz="2400" spc="-1" strike="noStrike" baseline="-5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ko-KR" sz="2400" spc="-1" strike="noStrike" baseline="-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, …, F</a:t>
            </a:r>
            <a:r>
              <a:rPr b="0" i="1" lang="ko-KR" sz="2400" spc="-1" strike="noStrike" baseline="-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번째 애트리뷰트가 갱신되지 않거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갱신될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번째 애트리뷰트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F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애트리뷰트에 새로운 값을 주는 상수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애트리뷰트만을 내포하는 표현식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882-AF77-4169-994D-062B446EFAE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갱신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잔고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이자를 지급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N, AN, BAL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AL*1.05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L, B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각각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lance, branch-nam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나타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을 초과하는 잔고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이자를 지급하고 그 외의 잔고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이자를 지급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N, AN, BAL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 BAL*1.06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AL &gt; 10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ccou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N, AN, BAL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 BAL*1.05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AL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 10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ccou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CCD-FDE6-490F-8009-08D35C609C0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어떤 경우에도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모든 사용자가 전체 논리 모델을 보는 것이 바람직하지 않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데이터베이스에 저장된 모든 실제 릴레이션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고객의 대출 번호는 알 필요가 있으나 대출 금액을 알 필요가 없는 개인을 고려해 보자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이 사람은 다음과 같이 관계형 대수로 기술된 릴레이션을 보아야만 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ko-KR" sz="2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ko-KR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customer-name, loan-number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(borrower        lo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개념적 모델의 일부는 아니지만 사용자에게 “가상 릴레이션”으로 보이는 릴레이션을 뷰라 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5943240" y="4952880"/>
            <a:ext cx="305280" cy="152640"/>
            <a:chOff x="5943240" y="4952880"/>
            <a:chExt cx="305280" cy="152640"/>
          </a:xfrm>
        </p:grpSpPr>
        <p:sp>
          <p:nvSpPr>
            <p:cNvPr id="1293" name=""/>
            <p:cNvSpPr/>
            <p:nvPr/>
          </p:nvSpPr>
          <p:spPr>
            <a:xfrm>
              <a:off x="5943600" y="49528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95288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5943600" y="495288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 flipV="1">
              <a:off x="5943240" y="495288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A79-FC06-4D9C-85B8-F6CDB4198FD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질의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가 데이터베이스로부터 정보를 요청하는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언어의 부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차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절차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순수언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대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 관계형 해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메인 관계형 해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순수 언어는 사람들이 사용하는 질의어의 기본을 이루고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790-0DF7-403B-AE2B-B93E9370D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뷰 정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는 다음과 같은 형식을 갖는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을 사용해 정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 표현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 표현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적법한 관계형 대수 질의 표현식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명은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표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단 뷰가 정의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를 생성하는 가상 릴레이션을 참조하는데 뷰명이 사용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정의는 질의 표현식을 평가함으로써 새로운 릴레이션을 생성하는 것과는 다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정의는 뷰를 사용하는 질의내에 대치될 표현식을 저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BA9-5269-4483-A8F6-FB4564B28CD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의 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과 고객으로 구성된 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명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all-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ate view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all-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, customer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(depositor        account)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, customer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(borrower        loan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모든 고객은 다음과 같이 찾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= “Perryridge”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(all-custom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6171840" y="3200040"/>
            <a:ext cx="305280" cy="152640"/>
            <a:chOff x="6171840" y="3200040"/>
            <a:chExt cx="305280" cy="152640"/>
          </a:xfrm>
        </p:grpSpPr>
        <p:sp>
          <p:nvSpPr>
            <p:cNvPr id="1302" name=""/>
            <p:cNvSpPr/>
            <p:nvPr/>
          </p:nvSpPr>
          <p:spPr>
            <a:xfrm>
              <a:off x="6172200" y="3200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477120" y="3200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172200" y="320004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6171840" y="320004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6629040" y="3616200"/>
            <a:ext cx="305280" cy="152640"/>
            <a:chOff x="6629040" y="3616200"/>
            <a:chExt cx="305280" cy="152640"/>
          </a:xfrm>
        </p:grpSpPr>
        <p:sp>
          <p:nvSpPr>
            <p:cNvPr id="1307" name=""/>
            <p:cNvSpPr/>
            <p:nvPr/>
          </p:nvSpPr>
          <p:spPr>
            <a:xfrm>
              <a:off x="6629400" y="36162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34320" y="36162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6629400" y="361620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6629040" y="3616200"/>
              <a:ext cx="30492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5DE-C054-4B13-AAA4-3382A4E26F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를 통한 갱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로서 표현된 데이터베이스 수정은 데이터베이스의 실제 릴레이션의 수정으로 변환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서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제외한 모든 대출 데이터를 필요로 하는 개인을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 사람에게 제공되는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branch-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는 다음과 같이 정의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branch-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, loan-number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(lo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명이 허용되는 어느 곳에나 뷰명이 나타날 수 있으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 사람은 다음과 같이 작성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branch-loan </a:t>
            </a: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branch-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{(“Perryridge”, L-37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4A1-36A4-4550-B118-9B0C9C72DE6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를 통한 갱신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761760" y="178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앞의 삽입은 뷰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branch-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구축된 실제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의 삽입으로 표현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의 삽입은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값을 필요로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은 다음 둘 중 하나로 취급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을 거절하고 사용자에게 에러 메시지를 돌려준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 튜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“Perryridge”, L-37,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삽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4FA-5ED1-47BE-834C-8B95F18431A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다른 뷰를 사용해 정의한 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의 뷰는 다른 뷰를 정의하는 표현식에 사용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정의하고 있는 표현식에 사용된다면 뷰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직접 종속한다고 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종속 그래프내에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의 경로가 존재하면 뷰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종속한다고 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릴레이션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그 자신에 종속하면 순환적이라 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A5A-9B5A-4E50-82CB-3244B2524C0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뷰 확장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른 뷰의 용어로 정의된 뷰의 의미를 정의하는 방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그 자신이 뷰 릴레이션의 사용을 내포할 수 있는 표현식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으로 정의된다 하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표현식의 뷰 확장은 다음과 같은 대치 절차를 반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어떠한 뷰 릴레이션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찾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 릴레이션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정의하고 있는 표현식으로 대치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더 이상의 뷰 릴레이션이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에 존재하지 않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 릴레이션이 순환적이지 않은 한 이 루프는 종료할 것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622-A2E9-47A1-A880-5024D61ABF1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관계형 대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차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지 기본 연산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선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추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합집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집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카티전 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재명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자는 입력으로서 하나 이상의 릴레이션을 취해 그 결과로 새로운 릴레이션을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597-8D93-428B-B210-4C151D251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기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정의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 ={ t | t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 and P(t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과 같은 유형의 표현을 다루는 명제 해석에서의 식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= &l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nd)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or)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no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연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2D4-1E2C-4286-9FED-9E115CD44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2:46:06Z</dcterms:created>
  <dc:creator>서울산업대학교 교수 석상기</dc:creator>
  <dc:description/>
  <dc:language>en-US</dc:language>
  <cp:lastModifiedBy>.</cp:lastModifiedBy>
  <dcterms:modified xsi:type="dcterms:W3CDTF">1999-06-15T19:00:31Z</dcterms:modified>
  <cp:revision>175</cp:revision>
  <dc:subject/>
  <dc:title>제 3 장 관계형 모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