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7D80-B7AB-4090-A4E6-CD1EA2E4F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0E49-7982-45F4-A7CA-551C3753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FDE4-C9DB-41AD-997B-1350D1A3E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BB4C-5823-417F-9EDE-EDF653550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DA8F-2EAA-4124-9B5B-8B8CAB764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1016-CC8E-4B70-85DF-9FC77020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561A-9761-4EC9-BC3D-0FDA408A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837D-539F-41EE-B0E0-8CBED610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650B3-C0B1-4467-AB9A-24B00936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C264-B6B2-4797-8A0C-569C9BDE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DB0C-29D3-49EB-8342-A7EC8F0E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9913-E8DB-42ED-A0FD-3BD33A22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3E7B-771F-48A0-8C61-8BB0B73A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76D4-1AC4-47FE-8F02-F21AC226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131F-F0F4-435F-84BA-2A14AEAA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8A02-29FA-40B8-A37E-1916EA1D6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61F2-1387-44DC-AD63-C500FCA54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D682-C641-4D27-BC77-478DF996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4F9D-CADC-489B-A634-A0386C88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8EFF-F4EF-476C-AB12-03981970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A274-2908-4D75-A62F-5D3231CD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7C0C-1AAB-4174-BCE9-C8FABBDF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59DE-F5BA-4DDB-9E28-2C8D2729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D574-0B8D-4A64-98D6-F8DB8B9F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F7AD-BC4A-40D0-8352-AAF4D352F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826E-CC2D-4388-8392-05CEB0602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장 새로운 응용 분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의사 결정 지원 시스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데이터 분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데이터 마이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데이터 웨어하우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공간 및 지리 데이터베이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이동 및 개인 데이터베이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정보 검색 시스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분산 정보 시스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월드 와이드 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4C7F-9EFB-466B-B2C9-7240ABCA894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분류 규칙의 발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훈련 집합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각 튜플에 대한 그룹핑이 이미 알려진 데이터 샘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분류 트리의 하향식 생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트리의 각 노드는 데이터를 한 애트리뷰트에 근거한 그룹으로 분할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트리내 경로의 구축은 애트리뷰가 데이트를 적절히 분류했거나 모든 애트리뷰트가 고려되었으면 중단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신용도 예제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학위에 근거한 각 분할 내에서 수입으로 정의된 분할들은 튜플을 적절히 분류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여기서 트리 구축은 학위에 근거한 각 분할에 대해 중단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일반적으로 트리의 다른 가지들은 서로 다른 층으로 증가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E7BB-C8FC-458F-B655-A58E34E4D0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연관 규칙의 발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transactions T,buys(T,bread)=&gt;buys(T,mil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상점에서 관심있는 물품당 한 비트를 가진 비트맵을 각 트랜잭션에 연관시킴으로써 규칙을 추출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일반적으로 거래에서 중요 비율로 판매되는 물품들만을 내포할 강한 지원을 가진 규칙들이 요구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transactions T, buys(T,i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and … and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buys(T,i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) =&gt; buys(T,i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적합한 물품 집합 중 모든 부분 집합을 고려해 각 집합에 대해 집합 내 판매된 모든 물품들이 충분한 거래의 수가 있는가를 체크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5680-D71C-4808-B3DF-6CEE94448B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연관 규칙의 발견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소수의 집합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단일 패스를 통해 지원 계층을 결정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집합에 대해 카운트를 유지하는데 처음에는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으로 설정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트랜잭션이 불리어지면 물품들의 각 집합에 대해 카운트가 증가하며 물품의 모든 비트가 거래의 비트맵에 설정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패스의 끝에서 높은 카운트를 가진 집합들이 높은 연관성을 가진 물품에 대응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다수의 집합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각 거래 처리 비용이 상대적으로 크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패스 내에서 부분 집합만을 고려한 다중 패스를 사용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거래중의 너무 작은 부분이 발생해 일단 집합이 제거되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 초 집합 중 어느 것도 고려할 필요가 없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0DAE-85C1-4499-81AE-5AE5CA1353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데이터 웨어하우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사 결정 지원 질의를 보다 쉽게 작성하도록 하면서 데이터에 단일 통합 인터페이스를 제공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데이터 웨어하우스로부터 의사 결정 지원을 위한 정보를 액세스함으로써 의사 결정자는 온라인 트랜잭션 처리 시스템이 의사 결정 지원 작업 부담에 의해 영향을 받지 않도록 보장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웨어하우징 구축에 있어서 고려 사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언제 어떻게 데이터를 수집할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어떤 스키마를 사용할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갱신을 어떻게 전파할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어떤 데이터를 요약할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1D41-5BBC-4862-976B-2A0CFBF700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공간 및 지리 데이터베이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공간 데이터베이스는 공간 위치에 관한 정보를 저장하고 공간 데이터의 효율적인 저장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인덱싱 및 질의를 지원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특수 목적의 인덱스 구조가 공간 데이터 액세싱과 공간 죠인 질의 처리에 중요하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설계 데이터베이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(CAD)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는 객체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예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빌딩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비행기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들이 어떻게 구축되고 집적 회로의 레이아웃에 관한 설계 정보를 저장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지리 데이터베이스는 지리 정보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예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지도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를 저장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흔히 지리 정보 시스템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(GIS)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이라 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8447-4BE3-448A-878F-D6F2CD5454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기하 정보의 표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다양한 기하 구조체들이 정규화 유형으로 데이터베이스에 표현될 수 있다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선분은 그 끝 점의 좌표로 표현한다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커브는 일련의 선분으로 분할해 근사화 한다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각 선분은 커브의 식별자를 가진 별개의 튜플로 표현한다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도로와 같은 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2D 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모양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폐쇄 다각형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시작 정점이 끝 정점과 같은 정점들을 순서대로 나열한다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대안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삼각형화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다각형에 식별자를 제공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식별자를 가지고 분할된 각각의 삼각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859A-4B5D-4155-99F0-9C668ACF70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기하 정보의 표현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의 점과 선분의 표현은 별도의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요소를 가진 점을 제외하고는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와 유사하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임의 다면체는 삼각형과 다각형 같은 사면체로 분할해 표현한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대안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면의 어느 쪽이 다면체의 내부에 있다는 표시를 가진 각각이 다각형인 면들을 나열한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9BD1-0FEC-4D75-94B9-1DEC7611D3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기하 구조체의 표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ne segment                                   {(x1,y1),(x2,y2)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iangle                                           {(x1,y1),(x2,y2),(x3,y3)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lygon                                          {(x1,y1),(x2,y2),(x3,y3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x4,y4),(x5,y5)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lygon                                          {(x1,y1),(x2,y2),(x3,y3),ID1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(x1,y1),(x3,y3),(x4,y4),ID1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(x1,y1),(x4,y4),(x5,y5),ID1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pres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200400" y="17524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38480" y="16765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71800" y="21337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71800" y="44197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95480" y="312408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57600" y="297180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0" y="228600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53341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53341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72428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90920" y="403848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52680" y="403848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35053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38280" y="297180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0" y="48769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0" y="358128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514600" y="335232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335268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429000" y="3581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742840" y="4038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2514240" y="3657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514600" y="46483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46483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581280" y="4876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819520" y="5334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2514240" y="495252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514600" y="4876560"/>
            <a:ext cx="15238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14600" y="4952880"/>
            <a:ext cx="10666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666880" y="251460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57600" y="2514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2666880" y="3047760"/>
            <a:ext cx="9907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06C1-BF95-4262-BBAF-B0E5933E1F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설계 데이터베이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설계 요소를 객체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일반적으로 기하 객체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로 표현한다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객체간의 연결은 설계가 어떻게 구성되었는가를 가리킨다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단순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차원 객체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점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선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삼각형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사각형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다각형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복합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차원 객체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합집합 및 차 집합 연산을 통해 단순 객체로부터 생성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복합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차원 객체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합집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공통 집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차 집합 연산으로 구체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실린더 및 입방체 같은 단순 객체로부터 생성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와이어프레임 모델은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차원 표면을 단순 객체의 집합으로 표현한다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9B56-A6A6-4C61-A4C0-2B3BDC4A56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지리 데이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래스터 데이터는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차원 이상의 비트맵 또는 픽셀 맵으로 구성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차원 래스터 이미지의 예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각 픽셀이 특정 지역의 구름 모양을 저장하는 구름 층의 인공위성 이미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추가 차원으로 서로 다른 지역의 서로 다른 위도상 또는 서로 다른 시간에 측정한 온도를 내포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설계 데이터베이스에는 일반적으로 래스터 데이터를 저장하지 않는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170C-2497-42AE-A19F-D6031D0AD9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의사 결정 지원 시스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사 결정 지원 시스템은 온라인 트랜잭션 처리 시스템이 수집한 데이터를 이용해 요약 데이터를 생성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사 결정 지원을 위한 정보는 단순한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QL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질의와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QL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확장으로 추출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데이터베이스를 가진 통계 분석 패키지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S++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와 인터페이스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데이터 마이닝은 대형 데이터베이스로부터 통계적인 규칙과 패턴의 유형으로 지식을 자동으로 발견하기 위해 탐색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데이터 웨어하우스는 여러 소스로부터 수집한 정보를 구축하고 단일 사이트의 통합 스키마하에 저장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20FF-FE12-42C6-A655-A26AAB9D5D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지리 데이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벡터 데이터는 기본적인 기하 객체로부터 구축된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차원인 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선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삼각형 및 기타 다각형과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차원인 실린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구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입방체 및 기타 다면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벡터 형식은 주로 지도 데이터를 표현하는데 사용된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도로는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차원으로 고려할 수 있으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선과 커브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표현한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강과 같은 어떤 모양은 폭이 적절한가에 따라 복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커브 또는 복합 다각형으로 표현될 수 있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지역과 호수 같은 모양은 다각형으로 표현될 수 있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BB9D-8968-44F4-8257-51901A3332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지리 데이터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지리 정보 시스템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(GIS)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은 위치 정보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제공한다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차량 운행 시스템은 도로와 운전자의 사용을 위한 서비스에 관한 정보를 저장한다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전역 위치 확인 시스템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(GPS)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장치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-  10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미터 이내의 정확도로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GPS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인공위성으로부터 방송된 정보를 사용해 현재 위치를 찾는다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AB96-1980-4BF5-ADBC-5AC1D29322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공간 질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근접 질의는 특정 위치 근처에 있는 객체를 요청한다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영역 질의는 공간 영역을 다루는데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예를 들어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특정 영역 내에 부분적으로 또는 완전히 놓인 객체를 요청한다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영역의 공통 집합을 계산하는 질의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죠인 애트리뷰트의 역할을 하는 위치를 가진 두 공간 릴레이션의 공간 죠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5069-2226-44B4-AA78-811E18D784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공간 질의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공간 데이터는 전형적으로 그래픽 질의어를 사용해 질의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결과 또한 그래픽으로 디스플레이 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그래픽 인터페이스는 전처리를 구성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선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다각형 및 비트맵 같은 추상 데이터형을 가진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의 확장이 후 처리로 제안되었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75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관계형 데이터베이스가 공간 정보를 저장하고 검색하도록 한다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75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질의는 공간 및 비공간 조건을 혼합할 수 있다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75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확장에는 또한 공간 조건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(contains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또는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overlaps)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을 내포하고 허용한다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320D-2236-4905-82B2-7C8D30F8F5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공간 데이터의 인덱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k-d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트리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다차원 인덱싱으로 사용한 초기 구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k-d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트리의 각 계층은 공간을 두 부분으로 분할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트리의 상위 계층에 있는 노드에서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른 차원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차원을 통해 순환하면서 다음 계층 등의 노드에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각 노드에서 점들의 대략 반이 부 트리 의 한 쪽에 위치하고 다른 쪽에 반이 위치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노드가 주어진 최대 점의 수보다 작게 가질 때 분할은 중단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k-d-B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트리는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k-d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트리 를 확장하여 각 내부 노드에 대해 여러 자식 노드를 가지도록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; 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차 저장 장치로 적합하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F3AE-41C8-44ED-83D7-94531864B98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k-d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트리에 의한 공간 분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선은 트리 내의 노드에 대응하며 잎 노드 내 최대 점의 수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 설정되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림내의 각 선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외곽 박스 이외의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k-d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트리 내 노드에 대응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림에서 선의 숫자는 대응하는 노드 가 나타나는 트리의 계층을 나타낸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1828800"/>
            <a:ext cx="304776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2520" y="1828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19520" y="2819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1828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28195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3809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483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00600" y="18288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971800" y="1981080"/>
            <a:ext cx="304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228600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62520" y="182880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95480" y="312408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373392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10080" y="320040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43400" y="3886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76920" y="403848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14600" y="27432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158436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648320" y="1600200"/>
            <a:ext cx="30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51440" y="368928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27720" y="4267080"/>
            <a:ext cx="30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25720" y="426708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08400" y="428292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ED44-2CAD-43C0-A5E9-8B1EA72DD6A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사분위 트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각 노드는 공간의 사각형 영역과 연관된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상위 노드는 전체 목적 공간에 연관된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잎이 아닌 각 노드는 그의 영역을 같은 크기의 사분원으로 나누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그에 따라 그러한 각 노드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개의 사분원에 상응하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개의 자식 노드를 갖는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잎 노드는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에서부터 어떤 최대 점의 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예에서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로 설정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를 갖는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95480" y="1676520"/>
            <a:ext cx="27432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2819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267080" y="1676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81280" y="1676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5480" y="341316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2819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2286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17880" y="1676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81280" y="1981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267080" y="36734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16280" y="3429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8120" y="19051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97120" y="205740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010040" y="16891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971800" y="297180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33920" y="35053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30481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267080" y="365760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724280" y="37339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39D3-B729-4B24-AB4B-8205FD59873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사분위 트리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PR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사분위 트리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점들을 저장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공간은 저장된 실제 점들의 집합이 아닌 영역에 근거해 분할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영역 사분위 트리는 배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래스터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정보를 저장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영역 내 모든 배열 값들이 같으면 그 노드는 잎 노드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렇지 않으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것은 다시 같은 크기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개의 자식으로 분할되어 내부노드가 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노드는 값들의 부 배열에 대응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잎에 대응하는 부 배열은 단일 배열 요소를 내포하거나 모두가 같은 값인 다중 배열 요소를 갖는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k-d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트리와 사분위 트리의 확장으로 선분과 다각형의 인덱싱을 처리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9EF4-B68B-47D1-9530-1B60FDFD16D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 -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트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트리와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* 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트리와 같은 변형을  가진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B 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트리 의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차원 확장인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 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트리 는 사각형과 기타 다각형을 인덱싱하는데 유용하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사각형 경계 박스는 각 트리 노드와 연관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잎이 아닌 노드에 관련한 경계 박스는 그의 자식들과 연관된  경계 박스를 내포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다각형은 하나의 노드에만 저장되며 그 노드의 경계 박스에는 다각형을 내포해야만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다각형이 한번만 저장되므로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 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트리의 저장 장치 효율이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k-d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트리 또는 사분위 트리보다 더 좋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21B8-97C3-46B1-B76C-73BEE3279B3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R -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트리의 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사각형의 집합에 대한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트리 노드의 사각형 집합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실선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과 경계 박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점선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트리는 오른쪽에 보이고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990720" y="2851200"/>
            <a:ext cx="3429000" cy="3429000"/>
            <a:chOff x="990720" y="2851200"/>
            <a:chExt cx="3429000" cy="3429000"/>
          </a:xfrm>
        </p:grpSpPr>
        <p:sp>
          <p:nvSpPr>
            <p:cNvPr id="256" name=""/>
            <p:cNvSpPr/>
            <p:nvPr/>
          </p:nvSpPr>
          <p:spPr>
            <a:xfrm>
              <a:off x="990720" y="3156120"/>
              <a:ext cx="3429000" cy="3124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43000" y="3308400"/>
              <a:ext cx="2133720" cy="1295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43000" y="4832280"/>
              <a:ext cx="2590920" cy="1371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71800" y="3917880"/>
              <a:ext cx="1295280" cy="152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95280" y="3384720"/>
              <a:ext cx="38124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905120" y="3384720"/>
              <a:ext cx="1218960" cy="304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05120" y="3765600"/>
              <a:ext cx="304560" cy="533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295280" y="4984920"/>
              <a:ext cx="1981440" cy="60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D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981080" y="5518080"/>
              <a:ext cx="457200" cy="457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362320" y="5746680"/>
              <a:ext cx="83808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124080" y="4680000"/>
              <a:ext cx="1067040" cy="533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29000" y="4908600"/>
              <a:ext cx="228600" cy="457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05320" y="4070520"/>
              <a:ext cx="533160" cy="68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990720" y="3765600"/>
              <a:ext cx="1522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990720" y="5137200"/>
              <a:ext cx="152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581280" y="3537000"/>
              <a:ext cx="38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438280" y="2851200"/>
              <a:ext cx="304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4648320" y="3276720"/>
            <a:ext cx="3962160" cy="2209680"/>
            <a:chOff x="4648320" y="3276720"/>
            <a:chExt cx="3962160" cy="2209680"/>
          </a:xfrm>
        </p:grpSpPr>
        <p:grpSp>
          <p:nvGrpSpPr>
            <p:cNvPr id="274" name=""/>
            <p:cNvGrpSpPr/>
            <p:nvPr/>
          </p:nvGrpSpPr>
          <p:grpSpPr>
            <a:xfrm>
              <a:off x="6095880" y="3581280"/>
              <a:ext cx="1219320" cy="304920"/>
              <a:chOff x="6095880" y="3581280"/>
              <a:chExt cx="1219320" cy="304920"/>
            </a:xfrm>
          </p:grpSpPr>
          <p:sp>
            <p:nvSpPr>
              <p:cNvPr id="275" name=""/>
              <p:cNvSpPr/>
              <p:nvPr/>
            </p:nvSpPr>
            <p:spPr>
              <a:xfrm>
                <a:off x="6095880" y="3581280"/>
                <a:ext cx="1219320" cy="3049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521400" y="358128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918480" y="358128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4648320" y="5181480"/>
              <a:ext cx="1218960" cy="304920"/>
              <a:chOff x="4648320" y="5181480"/>
              <a:chExt cx="1218960" cy="304920"/>
            </a:xfrm>
          </p:grpSpPr>
          <p:sp>
            <p:nvSpPr>
              <p:cNvPr id="279" name=""/>
              <p:cNvSpPr/>
              <p:nvPr/>
            </p:nvSpPr>
            <p:spPr>
              <a:xfrm>
                <a:off x="4648320" y="5181480"/>
                <a:ext cx="1218960" cy="3049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073480" y="518148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470560" y="518148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6019920" y="5181480"/>
              <a:ext cx="1218960" cy="304920"/>
              <a:chOff x="6019920" y="5181480"/>
              <a:chExt cx="1218960" cy="304920"/>
            </a:xfrm>
          </p:grpSpPr>
          <p:sp>
            <p:nvSpPr>
              <p:cNvPr id="283" name=""/>
              <p:cNvSpPr/>
              <p:nvPr/>
            </p:nvSpPr>
            <p:spPr>
              <a:xfrm>
                <a:off x="6019920" y="5181480"/>
                <a:ext cx="1218960" cy="3049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445080" y="518148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842160" y="518148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7391520" y="5181480"/>
              <a:ext cx="1218960" cy="304920"/>
              <a:chOff x="7391520" y="5181480"/>
              <a:chExt cx="1218960" cy="304920"/>
            </a:xfrm>
          </p:grpSpPr>
          <p:sp>
            <p:nvSpPr>
              <p:cNvPr id="287" name=""/>
              <p:cNvSpPr/>
              <p:nvPr/>
            </p:nvSpPr>
            <p:spPr>
              <a:xfrm>
                <a:off x="7391520" y="5181480"/>
                <a:ext cx="1218960" cy="3049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816680" y="518148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213760" y="518148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4648320" y="518148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29200" y="518148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10080" y="518148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19920" y="518148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400800" y="518148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81680" y="518148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91520" y="518148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772400" y="518148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153280" y="518148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16640" y="4876920"/>
              <a:ext cx="457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848720" y="4876920"/>
              <a:ext cx="457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477120" y="3276720"/>
              <a:ext cx="457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029200" y="4876920"/>
              <a:ext cx="457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222960" y="3792600"/>
              <a:ext cx="493920" cy="1379520"/>
            </a:xfrm>
            <a:custGeom>
              <a:avLst/>
              <a:gdLst/>
              <a:ahLst/>
              <a:rect l="l" t="t" r="r" b="b"/>
              <a:pathLst>
                <a:path w="311" h="869">
                  <a:moveTo>
                    <a:pt x="311" y="0"/>
                  </a:moveTo>
                  <a:cubicBezTo>
                    <a:pt x="301" y="78"/>
                    <a:pt x="283" y="143"/>
                    <a:pt x="259" y="217"/>
                  </a:cubicBezTo>
                  <a:cubicBezTo>
                    <a:pt x="253" y="236"/>
                    <a:pt x="233" y="304"/>
                    <a:pt x="228" y="311"/>
                  </a:cubicBezTo>
                  <a:cubicBezTo>
                    <a:pt x="214" y="332"/>
                    <a:pt x="201" y="352"/>
                    <a:pt x="187" y="373"/>
                  </a:cubicBezTo>
                  <a:cubicBezTo>
                    <a:pt x="180" y="383"/>
                    <a:pt x="166" y="404"/>
                    <a:pt x="166" y="404"/>
                  </a:cubicBezTo>
                  <a:cubicBezTo>
                    <a:pt x="163" y="414"/>
                    <a:pt x="161" y="426"/>
                    <a:pt x="156" y="435"/>
                  </a:cubicBezTo>
                  <a:cubicBezTo>
                    <a:pt x="144" y="457"/>
                    <a:pt x="114" y="497"/>
                    <a:pt x="114" y="497"/>
                  </a:cubicBezTo>
                  <a:cubicBezTo>
                    <a:pt x="100" y="540"/>
                    <a:pt x="77" y="584"/>
                    <a:pt x="52" y="621"/>
                  </a:cubicBezTo>
                  <a:cubicBezTo>
                    <a:pt x="23" y="708"/>
                    <a:pt x="0" y="776"/>
                    <a:pt x="0" y="86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26200" y="3792600"/>
              <a:ext cx="525600" cy="1395360"/>
            </a:xfrm>
            <a:custGeom>
              <a:avLst/>
              <a:gdLst/>
              <a:ahLst/>
              <a:rect l="l" t="t" r="r" b="b"/>
              <a:pathLst>
                <a:path w="331" h="879">
                  <a:moveTo>
                    <a:pt x="0" y="0"/>
                  </a:moveTo>
                  <a:cubicBezTo>
                    <a:pt x="4" y="38"/>
                    <a:pt x="4" y="76"/>
                    <a:pt x="11" y="114"/>
                  </a:cubicBezTo>
                  <a:cubicBezTo>
                    <a:pt x="22" y="175"/>
                    <a:pt x="53" y="241"/>
                    <a:pt x="73" y="300"/>
                  </a:cubicBezTo>
                  <a:cubicBezTo>
                    <a:pt x="82" y="328"/>
                    <a:pt x="88" y="369"/>
                    <a:pt x="104" y="393"/>
                  </a:cubicBezTo>
                  <a:cubicBezTo>
                    <a:pt x="138" y="445"/>
                    <a:pt x="173" y="496"/>
                    <a:pt x="207" y="548"/>
                  </a:cubicBezTo>
                  <a:cubicBezTo>
                    <a:pt x="214" y="558"/>
                    <a:pt x="221" y="569"/>
                    <a:pt x="228" y="579"/>
                  </a:cubicBezTo>
                  <a:cubicBezTo>
                    <a:pt x="235" y="590"/>
                    <a:pt x="249" y="611"/>
                    <a:pt x="249" y="611"/>
                  </a:cubicBezTo>
                  <a:cubicBezTo>
                    <a:pt x="273" y="685"/>
                    <a:pt x="257" y="655"/>
                    <a:pt x="290" y="704"/>
                  </a:cubicBezTo>
                  <a:cubicBezTo>
                    <a:pt x="311" y="767"/>
                    <a:pt x="331" y="814"/>
                    <a:pt x="331" y="87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811760" y="3792600"/>
              <a:ext cx="1493640" cy="1379520"/>
            </a:xfrm>
            <a:custGeom>
              <a:avLst/>
              <a:gdLst/>
              <a:ahLst/>
              <a:rect l="l" t="t" r="r" b="b"/>
              <a:pathLst>
                <a:path w="941" h="869">
                  <a:moveTo>
                    <a:pt x="941" y="0"/>
                  </a:moveTo>
                  <a:cubicBezTo>
                    <a:pt x="915" y="76"/>
                    <a:pt x="875" y="161"/>
                    <a:pt x="807" y="207"/>
                  </a:cubicBezTo>
                  <a:cubicBezTo>
                    <a:pt x="770" y="262"/>
                    <a:pt x="745" y="238"/>
                    <a:pt x="693" y="290"/>
                  </a:cubicBezTo>
                  <a:cubicBezTo>
                    <a:pt x="665" y="318"/>
                    <a:pt x="628" y="334"/>
                    <a:pt x="600" y="362"/>
                  </a:cubicBezTo>
                  <a:cubicBezTo>
                    <a:pt x="563" y="399"/>
                    <a:pt x="526" y="429"/>
                    <a:pt x="476" y="445"/>
                  </a:cubicBezTo>
                  <a:cubicBezTo>
                    <a:pt x="429" y="477"/>
                    <a:pt x="375" y="499"/>
                    <a:pt x="321" y="517"/>
                  </a:cubicBezTo>
                  <a:cubicBezTo>
                    <a:pt x="310" y="521"/>
                    <a:pt x="300" y="524"/>
                    <a:pt x="289" y="528"/>
                  </a:cubicBezTo>
                  <a:cubicBezTo>
                    <a:pt x="279" y="531"/>
                    <a:pt x="258" y="538"/>
                    <a:pt x="258" y="538"/>
                  </a:cubicBezTo>
                  <a:cubicBezTo>
                    <a:pt x="160" y="603"/>
                    <a:pt x="98" y="646"/>
                    <a:pt x="31" y="745"/>
                  </a:cubicBezTo>
                  <a:cubicBezTo>
                    <a:pt x="19" y="783"/>
                    <a:pt x="0" y="828"/>
                    <a:pt x="0" y="86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29040" y="5105520"/>
              <a:ext cx="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51800" y="5121360"/>
              <a:ext cx="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232680" y="5121360"/>
              <a:ext cx="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4D82-C70E-4D45-8D20-7BD684C5485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데이터 분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집성 함수는 단순한 데이터 분석을 지원하기 위해 대용량의 데이터를 요약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히스토그램은 애트리뷰트에서 취한 값을 범위로 분할하고 각 범위 내 값들에 대한 집성 값을 계산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스키마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ales(color,size,number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가진 예제 릴레이션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ales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ize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colo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 의한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십자형 테이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소계를 나타내기 위해서는 값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을 사용해 관계형 형식 내에 데이터를 표현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600200" y="3962520"/>
            <a:ext cx="6172200" cy="1371600"/>
            <a:chOff x="1600200" y="3962520"/>
            <a:chExt cx="6172200" cy="1371600"/>
          </a:xfrm>
        </p:grpSpPr>
        <p:sp>
          <p:nvSpPr>
            <p:cNvPr id="114" name=""/>
            <p:cNvSpPr/>
            <p:nvPr/>
          </p:nvSpPr>
          <p:spPr>
            <a:xfrm>
              <a:off x="1600200" y="3962520"/>
              <a:ext cx="6172200" cy="137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Small       Medium       Large        To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                </a:t>
              </a: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8                  35            10            5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20                  10              5            3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28                  45             15           88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00200" y="431136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00200" y="501516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38280" y="3962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33920" y="3962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181480" y="3962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77120" y="3962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00200" y="5030280"/>
              <a:ext cx="838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00200" y="4250880"/>
              <a:ext cx="838080" cy="79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31D4-682E-4FD3-885E-E772709294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멀티미디어 데이터베이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인덱싱과 일관성과 같은 데이터베이스 기능을 제공하려면 데이터베이스 내에 멀티미디어 데이터를 저장하는 것이 바람직하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데이터베이스 외부에 파일 시스템으로 저장하는 것보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데이터베이스는 대형 객체 표현을 처리해야만 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유사성 기반 검색이 특수한 인덱스 구조로 제공되어야 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연속 매체 데이터를 위한 보장된 지속적 검색 율을 제공해야 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2C2A-8323-4B50-B09E-7CF06D00CD2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유사성 기반 검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그림 데이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데이터베이스에 표현된 약간 다른 두 개의 그림 또는 이미지를 사용자는 같은 것으로 간주할 수 있다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새로운 상표 등록을 위해 비슷한 디자인을 구별하고자 할 때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오디오 데이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음성 기반 사용자 인터페이스는 사용자가 말로 명령을 하거나 데이터 항목을 식별하도록 한다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저장된 명령에 대해 사용자 입력을 테스트한다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수기 데이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데이터베이스에 저장된 수기 데이터 항목 또는 명령을 식별한다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유사성 검사가 필요하다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5493-622A-45D9-9031-BF91A2C1A9B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연속 매체 데이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Times New Roman"/>
              </a:rPr>
              <a:t>가장 중요한 유형이 비디오와 오디오 데이터이다</a:t>
            </a:r>
            <a:r>
              <a:rPr b="0" lang="ko-KR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Times New Roman"/>
              </a:rPr>
              <a:t>대용량의 데이터와 실시간 정보 전달 요구 조건으로 특징 된다</a:t>
            </a:r>
            <a:r>
              <a:rPr b="0" lang="ko-KR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오디오 또는 비디오 결과에 간격이 없는 충분한 빠르기로 데이터가 전달되어야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시스템 버퍼의 오버플로를 야기하지 않는 비율로 데이터가 전달되어야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상이한 데이터 흐름간의 동기화가 유지되어야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말하는 사람의 비디오는 입의 움직임이 오디오와 함께 동시에 보여야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C61B-7BB0-4AD1-98DC-933342D388C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멀티미디어 데이터 형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멀티미디어 데이터를 압축 형식으로 저장하고 전송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이미지 데이터에는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JPEG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이 가장 널리 사용되는 형식이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비디오의 연속 프레임은 흔히 거의 같으므로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JPEG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을 사용해 비디오의 각 프레임을 인코딩하는 것은 낭비이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상당한 정도의 압축을 얻기 위해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MPEG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표준은 일련의 프레임중 공통성을 사용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MPEG-1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은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분에 초당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프레임의 비디오와 대략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12.5MB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의 오디오를 저장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(JPEG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만을 사용한 비디오는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75MB);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화질은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VHS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비디오 테이프와 유사하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디지털 방송 시스템과 디지털 비디오 디스크용으로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MPEG-2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가 설계됨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비디오 화질은 상당히 좋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 1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분간의 오디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비디오를 대략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2.25MB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로 압축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293C-8BC6-4164-B1B0-4F79CEA39F6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비디오 서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현재의 주문형 비디오 서버는 파일 시스템에 근거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기존의 데이터베이스 시스템은 실시간 응답 요구 사항을 만족치 못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비디오 서버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멀티미디어 데이터는 여러 디스크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RAID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구성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 저장되거나 자주 액세스되지 않는 데이터는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차 저장 장치에 저장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터미널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멀티미디어 데이터를 보는데 사용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셋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톱 박스라는 작고 값싼 컴퓨터에 연결된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PC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또는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네트워크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서버로부터 여러 터미널로의 멀티미디어 데이터 전송은 대용량의 네트워크를 필요로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흔히 비동기 전송 모드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ATM)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네트워크를 사용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D368-7DA7-42A6-B4BA-599A6EFAC21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이동 및 개인 데이터베이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이동 컴퓨팅 환경은 이동 호스트라고 하는 이동 컴퓨터와 유선 컴퓨터 네트워크로 구성된다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이동 호스트들은 이동 지원국이라는 컴퓨터들을 통한 유선 네트워크와 통신한다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각 이동 지원국은 이들 이동 호스트들을 자기의 셀 내에서 관리한다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이동 호스트들은 셀 간을 이동할 수 있으므로 한 이동 지원국에서 다른 지원국으로 제어를 인계할 필요가 있다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고정된 위치와 정해진 네트워크가 없으면 질의 결과를 구체화할 최적의 위치를 결정하기가 어려울 수 있다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사용자의 위치가 질의의 매개 변수가 된다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B596-AE7C-4DD7-B454-31E264D8748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라우팅 및 질의 처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다음 경쟁 비용들을 고려해야 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사용자 시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연결 시간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어떤 셀룰러 시스템에서 요금을 부과하는데 사용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전송되는 바이트 또는 패킷의 수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디지털 셀룰러 시스템에서 요금을 계산하는데 사용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시간 기반 요금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바쁜 시간과 그렇지 않은 시간대에 따라 변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에너지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배터리 전력 사용을 최적화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서로 다른 유형의 데이터 전송이 서로 다른 전력 요구를 나타낸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무선 신호를 보내는 것보다 받는데 에너지가 덜 사용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0CEC-EBEF-4140-8625-CF693638495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방송 데이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동 지원국은 자주 요청 받는 데이터를 방송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요청을 전송하는데 에너지를 소비하지 않고 이동 호스트가 필요한 데이터를 기다리도록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동 호스트는 질의가 캐쉬된 데이터만을 사용해 응답할 수 있는 것인지를 결정함으로써 에너지 비용을 최적화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렇지 않다면 다음 중 하나를 수행해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방송될 데이터를 기다린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데이터 요청을 전송하고 적절한 데이터가 언제 방송될지를 알아야 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방송 데이터는 고정 스케쥴 또는 변경 가능 스케쥴에 따라 전송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변경 가능 스케쥴에 대해서는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잘 알려진 시간대에 잘 알려진 무선 주파수로 방송 스케쥴 자신이 방송되어야 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2FEA-0D52-44C3-A0B1-19A53202B5A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연결 중단과 일관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이동 호스트는 연결 중단 시에도 운영 상태에 있을 수 있다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이동 호스트의 사용자가 지역적으로 존재하거나 캐쉬된 데이터에 질의와 갱신을 제기할 때 생성되는 문제점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회복성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연결이 중단된 컴퓨터에 입력된 갱신을 이동 호스트가 고장 나면 잃을 수 있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이동 호스트는 고장의 한 점만을 표현하기 때문에 안정 저장 장치는 잘 맞지 않을 수 있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일관성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캐쉬된 데이터가 최신의 것이 아닐 수 있지만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이동 호스트는 재연결 될 때까지 이를 발견할 수 없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D9FA-B07A-413D-A7F4-52AC131E37F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이동 갱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연결 중단으로 인한 분할은 이동 컴퓨팅에서는 정상적인 운영 모드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동 호스트만에 의해 갱신된 데이터에 대해서는 이동 호스트가 재연결될 때 갱신을 전파하기가 쉽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른 경우에는 데이터가 부적합할 수 있고 갱신에 모순이 있을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른 컴퓨터에 의해 데이터가 갱신될 때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무효 보고서는 재연결된 이동 호스트가 구 캐쉬 엔트리를 가지고 있음을  알린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러나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동 호스트는 보고서를 받지 못할 수도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버전  숫자 기반 기법은 두 호스트가 독립적으로 문서의 같은 버전을 갱신하는 것만을 보장하며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호스트들이 직접 또는 공동 호스트를 통해 정보를 교환하면 궁극적으로 모순은 탐지될 것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불일치 데이터 사본의 조정을 용이하게 하기 위한 연구가 현재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진행중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E541-F811-4074-A6A9-2BD1D45FAAF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데이터 분석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서로 다른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iz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값을 가진 개별 튜플들을 제거하고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number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값을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sum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으로 대치 하여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Light,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53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Dark,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35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얻는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81080" y="1600200"/>
            <a:ext cx="48769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81080" y="1600200"/>
            <a:ext cx="14479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29000" y="1600200"/>
            <a:ext cx="17524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1600200"/>
            <a:ext cx="1676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98108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AE1F-962F-450E-9BF5-B7383B3ACF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정보 검색 시스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정보 검색 시스템은 데이터베이스 시스템보다는 단순한 데이터 모델을 사용하지만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제한된 모델 내에서 보다 강력한 질의 기능을 제공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예를 들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관심있는 문서를 찾으려는 질의는 키워드의 집합을 지정하여 행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사용자의 의중에 있는 질의는 통상 아주 정확하게 언급할 수 없으므로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정보 검색 시스템은 적합 가능성에 근거한 답을 요구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유사성 기반 검색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유사성은 키워드 또는 다른 기준에 근거해 정의 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즉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미지 데이터베이스 내 이미지의 유사성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CA01-0F63-4FCB-B1D8-E1F4C19C958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문서의 인덱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특정 키워드를 내포한 문서들은 각 키워드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가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를 내포한 문서들의 집합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로 대응되는 역 인덱스를 사용해 찾을 수 있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개략적인 검색을 위한 인덱스를 저장하여 공간을 절약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false drop 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일부 관련있는 문서들이 검색되지 않을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false positive 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일부 관련없는 문서들이 검색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인덱스는 어떠한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false drop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도 허용해서는 안되지만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약간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false positive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허용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적합한 성능 기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정확도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검색된 문서가 질의에 몇 퍼센트 관련이 있는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재현도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질의에 관련된 문서들 중 몇 퍼센트가 검색되는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CCA9-3A0E-4428-B2EA-ED33F230084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문서의 인덱싱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연산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키워드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…,K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모든 집합을 내포한 문서를 찾는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문서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…,S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상응하는 집합을 검색한다  공통집합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은 원하는 문서의 집합을 구성한다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연산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집합들의 합집합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을 계산하여 키워드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…,K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중 적어도 하나를 내포한 모든 문서 집합을 찾는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but not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연산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특정 키워드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내포하지 않은 문서를 찾는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문서 식별자들의 집합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 주어지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차집합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-S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계산해 특정 키워드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내포한 문서들을 제거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여기서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키워드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내포한 문서 식별자들의 집합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B383-AF56-4647-9861-D52C82597D8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브라우징과 하이퍼텍스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하이퍼텍스트 시스템은 문서 식별자 또는 포인터를 저장하는 개념을 택해 사용자가 쉽게 한 문서에서 다른 문서로 옮겨 다닐 수 있는 기능을 제공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전형적으로 가리켜서 클릭하는 인터페이스를 사용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참조하고자 하는 문서 상단의 디스플레이 스크린에서 단순한 마우스 클릭으로 문서를 검색하고 디스플레이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하이퍼미디어 시스템은 텍스트 뿐만이 아니라 이미지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비디오 및 오디오 클립 같은 다른 매체도 제공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분산 하이퍼텍스트 시스템은 월드 와이드 웹 같은 분산 시스템 내 다른 사이트에 저장된 문서 참조를 허용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4801-DE8A-4E2B-9FFC-9E11C6CEF0D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분산 정보 시스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인터넷상에서 실행되는 분산 정보 시스템이 최근 폭발적으로 증가하고 있다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월드 와이드 웹 시스템은 하이퍼텍스트의 패러다임을 사용한 안내 같은 브라우징을 지원한다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그러한 분산 이질 시스템내의 정보를 찾고 인덱싱하는 자동화 도구들이 또한 개발되었다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데이터를 액세스하는 표준화된 방법과 표준화된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GUI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를 제공한다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09F3-D40E-4FE2-8DC5-1A5A1E0DC5E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pher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Gopher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시스템은 서버와 클라이언트로 구성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서버는 데이터를 디렉토리로 구축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클라이언트는 처음에 서버와 통신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서버 계층의 상층 디렉토리는 메뉴로 디스플레이 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메뉴 항목은 계층 내 다른 디렉토리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문서 또는 다른 서버상의 디렉토리로의 링크일 수 있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원격 서버로 매끄럽게 연결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Gopher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의 정보 검색은 디렉토리 계층의 브라우징과 네비게이팅에 근거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광역 정보 시스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WAIS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은 인덱싱 기법에 근거한 강력한 키워드를 통해 정보를 검색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사이트는 사이트 명세를 유지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른 사이트에 저장된 정보의 종류와 액세스하는 방법을 기술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90B1-4E77-465B-81DC-A91DF664D5D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월드 와이드 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하이퍼텍스트에 기반을 둔 분산 정보 시스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대부분의 웹 문서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GML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근거한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을 통해 형식을 갖춘 하이퍼텍스트 문서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HTML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문서는 폰트 명세와 기타 포매팅 명령과 함께 텍스트를 내포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른 문서로의 링크는 텍스트의 영역에 연관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디스플레이 되는 문서는 하이퍼텍스트 문서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적절한 브라우저를 가지고 사용자는 연관된 링크를 가진 영역에서 클릭할 수 있고 링크가 가리키는 문서가 디스플레이 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프로그래밍 언어 자바는 문서에 사용자의 사이트에서 실행되는 프로그램을 내포하도록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따라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문서는 수동적이지 않고 능동적일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572C-AAD2-43C3-A837-495F9816579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versal Resource Loc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웹에서 포인터의 기능은 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Universal Resource Locator (URL)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로 제공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URL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의 예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: http://www.bell-labs.com/foo/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첫번째 부분은 문서가 어떻게 액세스 되는가를 가리킨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; “http”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문서가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HyperText Trasfer Protocol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을 사용해 액세스됨을 가리킨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두 번째 부분은 인터넷상의 유일한 컴퓨터 명을 가리킨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URL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나머지는 컴퓨터상 파일의 경로명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89AC-34B4-4CEC-8290-6B9CA8751B0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iversal Resource Locator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pher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에서는 디스플레이 되는 것이 문서이거나 디렉토리이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HTML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문서 디스플레이는 문서이자 디렉토리이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pher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시스템은 시스템 관리자가 만들고 제어한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인터넷에 연결된 어느 누구도 웹상에 문서를 생성할 수 있고 어느 누구에게도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을 제공한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홈 페이지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사용자와 관련 업무에 관한 정보를 내포한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D582-4E29-4DE5-BD7C-E998CDA954D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웹 서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웹 서버는 다양한 정보 서비스에 쉽게 전처리 역할을 할 수 있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URL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내의 문서명은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HTML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문서를 생성하고 실행 가능 프로그램을 식별할 수 있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HTTP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서버가 그러한 문서에 대한 요청을 받으면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프로그램을 실행해 생성한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HTML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문서를 되 보낸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웹 클라이언트는 문서 명을 가진 별도의 매개 변수를 보낼 수 있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웹상에 새로운 서비스를 설치하려면 그 서비스를 제공하는 실행 가능 프로그램을 간단히 생성해 설치할 필요가 있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웹이 지원하는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HTML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언어는 정보 서비스에의 그래픽 사용자 인터페이스를 제공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6FD9-7C0B-4291-AD68-64161FF4174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데이터 분석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롤업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집성 수단으로 작은 단위의 데이터를 큰 단위로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옮기는 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드릴 다운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큰 단위의 데이터를 작은 단위의 데이터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옮기는 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cube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연산과 같이 제안된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QL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확장이 요약 데이터 생성의 지원을 돕는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다음 질의로 앞 장과 같은 테이블을 생성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color, size,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sum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numb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groupby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color, size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87A0-6DC6-492E-AA97-7CE97161CD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디스플레이 언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SGML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같은 텍스트 표시 언어는 보통의 텍스트와 페이지 설명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텍스트 포매팅 언어 사이를 공란으로 채운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SGML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은 표준 표시 주석에 기반을 둔 문서 형식을 지정하기 위한 문법을 제공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포매팅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하이퍼텍스트 링크 및 이미지 디스플레이 명령 외에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은 약간의 한정된 입력 기능을 제공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ACBA-5493-4F36-AB17-F5CD59AB710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자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자바 언어는 문서가 능동적이도록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예를 들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지역 사이트에서 프로그램 실행으로 얻는 애니메이션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자바 프로그램은 서버 사이트에 저장될 수 있으며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HTML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문서와 같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어떤 클라이언트 사이트에서도 다운받아 실행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자바의 이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사용자와의 융통성 있는 상호 작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처리를 위해 무든 상호 작용이 서버에 보내지는 것에 비해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클라이언트 사이트에서 프로그램을 실행함으로써 상호 작용의 속도를 크게 높인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자바의 보안 시스템은 자바 코드가 어떤 시스템 호출도 직접 하지 못하도록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파일 쓰기와 같은 위험 가능성이 있는 행위에 관해 사용자에게 통보하고 프로그램을 중단시키거나 실행을 계속하도록 하는 옵션을 허용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EAA2-A362-4640-8E4E-E2AF9F0E68D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데이터베이스의 웹 인터페이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웹에서의 트랜잭션 처리를 위해 사용되는 데이터베이스에 링크하는 것이 상당히 유용하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예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HTML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주문 양식에 채워진 정보는 데이터베이스의 트랜잭션으로 실행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결과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 형식을 갖추어 사용자에게 디스플레이 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사용자에게 디스플레이 되는 고정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HTML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소스는 다음과 같은 제한이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고정 웹 문서를 각각의  사용자에게 맞출 수 없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특히 여러 웹 문서가 중복 데이터를 가지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웹 문서를 갱신하는데 문제가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67CB-80C8-45CC-AB3F-D34DDFC5CB2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데이터베이스의 웹 인터페이스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웹 문서를 동적으로 생성한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문서 요청은 데이터베이스 상에서의 질의를 수행하는 프로그램을 실행시키고 결과에 근거한 문서를 생성하는 프로그램을 실행시킨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데이터베이스에 저장된 사용자 정보에 따라 적절하게 디스플레이 한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데이터베이스 상의 질의로 웹 문서 내 데이터를 정의한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데이터베이스 내 적절한 데이터가 갱신될 때마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문서 또한 갱신될 것이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EEC8-8337-4631-A6EF-AF56BBBEDB0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데이터베이스의 웹 인터페이스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데이터베이스에의 웹 인터페이스는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로   부터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로의 형식 변환 업무와 데이터베이스 결과를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로의 변환 업무를 간단히 해 준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내포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SQL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질의를 가진 매크로 언어로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HTML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문서를 정의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HTML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형식 내에 정의된 변수는 내포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SQL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질의 내에 직접 사용될 수 있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문서를 요청하면 매크로 처리기는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SQL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질의를 실행하고 사용자에게 보낼 실제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HTML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문서를 생성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9CE8-D818-4ABE-ABA7-1DF4BADF201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웹상의 정보 찾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chie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시스템은 정보를 찾기 위해 자동으로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opher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링크를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따라가서 여러 사이트에서 발견한 정보의 중앙 집중 인덱스를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생성한다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웹 사냥꾼들은 다른 문서를  찾기 위해 문서내의 하이퍼텍스트 링크를 따라가 문서에 대한 인덱스를 구축한다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이들 시스템은 다음을 위해 백그라운드 프로세스를 실행한다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새로운 사이트 찾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알려진 사이트로부터 갱신된 정보 얻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기능하지 않는 사이트 버리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문서를 등록하는데 중앙 통제자가 없기 때문에 사용자들은 새로운 문서를 쉽게 생성하고 인덱스를 통해 쉽게 문서를 찾을 수 있다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7E32-A7E2-41A6-BA95-0A47526E61A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데이터 마이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인공 지능에서의 지식 발견과 같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데이터 마이닝은 통계적 규칙과 패턴을 발견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주로 디스크에 저장된 대용량의 데이터를 다루는 기계 학습과는 다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데이터베이스로부터 발견한 지식은 규칙들의 집합으로 표현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다음 두 모델 중 하나를 사용해 규칙을 발견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사용자가 규칙 발견 절차에 직접 참여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시스템이 데이터 내의 패턴과 상관 관계를 탐지해 데이터베이스로부터 자동으로 지식을 발견할 책임이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1158-262D-4A86-8393-813273F7C3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규칙을 사용한 지식 표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규칙의 일반적인 형태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Xantecedent =&gt; consequ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관련된 범위를 가진 하나 이상의 변수 리스트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규칙  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transactions T, buys(T, bread) =&gt;  buys(T, milk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다음을 의미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릴레이션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내에 튜플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bread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 있으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릴레이션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buys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내에 튜플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milk)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또한 존재해야만 한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모집단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규칙 내 변수들의 범위의 교차 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지원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모집단의 어느 정도가 규칙의 추정과 귀결을 모두 만족하는지의 척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신뢰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추측이 참일 때 귀결은 얼마나 참인가의 척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16280" y="1692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17600" y="2117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5B6E-C141-4961-B4C1-73B89D1F45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데이터 마이닝 문제점의 부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분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주어진 데이터를 의사 결정을 하는데 적절한 분리된 그룹으로 분할하는 규칙을 발견하는 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예를 들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몇 가지 요인들이 개인의 신용 등급을 분류하는데 도움이 된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서로 다른 항목간의 연관성을 결정하는 것이 유용하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예를 들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빵을 사는 사람들은 우유 또한 살 가능성이 많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순서 상관 관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정보와 관련 순서 데이터간의 상관 관계를 결정한다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예를 들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채권 율이 오르면 주가는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일 이내에 하락한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E23C-A5D5-4C64-8805-D5CF12366D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사용자 안내 데이터 마이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규칙을 발견하는 주된 책임이 가설이 옳은지 그른지를 데이터베이스 상에서 테스트할 수 있는 사용자에게 있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데이터베이스로부터 가설을 표현하고 있는 규칙과 신뢰와 지원을 추출한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석사 학위를 가진 사람들이 거의 대부분 신용도가 탁월하다”는 가설을 규칙으로 다듬는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P, P.degree = Master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.inco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7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credit = excel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데이터 시각화는 지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차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칼라 코딩 및 기타 그래픽 표현을 통해 대용량의 데이터에서 패턴을 탐지한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3E79-31FE-4361-BBB1-C416785269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0T08:56:17Z</dcterms:created>
  <dc:creator>서울산업대학교 교수 석상기</dc:creator>
  <dc:description/>
  <dc:language>en-US</dc:language>
  <cp:lastModifiedBy>.</cp:lastModifiedBy>
  <dcterms:modified xsi:type="dcterms:W3CDTF">1999-06-18T07:43:34Z</dcterms:modified>
  <cp:revision>45</cp:revision>
  <dc:subject/>
  <dc:title>제21장 새로운 응용 분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5357798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EncodingType">
    <vt:r8>-99</vt:r8>
  </property>
  <property fmtid="{D5CDD505-2E9C-101B-9397-08002B2CF9AE}" pid="8" name="GraphicType">
    <vt:r8>1</vt:r8>
  </property>
  <property fmtid="{D5CDD505-2E9C-101B-9397-08002B2CF9AE}" pid="9" name="HomePage">
    <vt:lpwstr>http://cat1.snut.ac.kr/~sksuk/main.htm</vt:lpwstr>
  </property>
  <property fmtid="{D5CDD505-2E9C-101B-9397-08002B2CF9AE}" pid="10" name="LinkColor">
    <vt:r8>16711680</vt:r8>
  </property>
  <property fmtid="{D5CDD505-2E9C-101B-9397-08002B2CF9AE}" pid="11" name="MailAddress">
    <vt:lpwstr>sksuk@duck.snut.ac.kr</vt:lpwstr>
  </property>
  <property fmtid="{D5CDD505-2E9C-101B-9397-08002B2CF9AE}" pid="12" name="NavBtnPos">
    <vt:r8>1</vt:r8>
  </property>
  <property fmtid="{D5CDD505-2E9C-101B-9397-08002B2CF9AE}" pid="13" name="Other">
    <vt:lpwstr/>
  </property>
  <property fmtid="{D5CDD505-2E9C-101B-9397-08002B2CF9AE}" pid="14" name="OutputDir">
    <vt:lpwstr>E:\public_html\data</vt:lpwstr>
  </property>
  <property fmtid="{D5CDD505-2E9C-101B-9397-08002B2CF9AE}" pid="15" name="ScreenSize">
    <vt:r8>4</vt:r8>
  </property>
  <property fmtid="{D5CDD505-2E9C-101B-9397-08002B2CF9AE}" pid="16" name="ScreenUsage">
    <vt:r8>3</vt:r8>
  </property>
  <property fmtid="{D5CDD505-2E9C-101B-9397-08002B2CF9AE}" pid="17" name="ShowNotes">
    <vt:bool>0</vt:bool>
  </property>
  <property fmtid="{D5CDD505-2E9C-101B-9397-08002B2CF9AE}" pid="18" name="TemplateType">
    <vt:r8>2</vt:r8>
  </property>
  <property fmtid="{D5CDD505-2E9C-101B-9397-08002B2CF9AE}" pid="19" name="TextColor">
    <vt:r8>0</vt:r8>
  </property>
  <property fmtid="{D5CDD505-2E9C-101B-9397-08002B2CF9AE}" pid="20" name="TransparentButton">
    <vt:r8>0</vt:r8>
  </property>
  <property fmtid="{D5CDD505-2E9C-101B-9397-08002B2CF9AE}" pid="21" name="UseBrowserColor">
    <vt:bool>0</vt:bool>
  </property>
  <property fmtid="{D5CDD505-2E9C-101B-9397-08002B2CF9AE}" pid="22" name="VisitedColor">
    <vt:r8>64</vt:r8>
  </property>
</Properties>
</file>