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0B4-4DB5-4A76-916D-AEE2CDBC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B28-BAFA-4E24-9919-C8BF40B5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D64-9B27-4397-AFEB-8ABD0C61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0DA-E03C-49CE-93D1-A40AF6D7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FEB-4567-4397-A4D9-33D33C9D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5857-17BC-47E4-83D0-C1FBB06F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C1A5-8F33-48A4-91BA-8A0CF4C3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932B-54EF-4B2B-ACCA-B8F7BB7C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56B-44BA-415D-AC46-6A76551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5AF-0C41-4BEC-B04B-D3848EED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4D44-D7CE-4DFF-B562-9C1FEBA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A7F-3EF4-4F2E-832F-341DB517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37F9-DA5B-4D92-9B4B-49B74D0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A31C-E52C-43D6-9DDE-EE05A34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54CE-D46B-45BF-A943-2AACE8D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E63-779F-47F5-A39B-C3008232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A8BD-180F-4BF3-87DE-121FFFC7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951-D7D6-4441-B6E5-C70502D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00A-F445-40D8-B73D-5AA89ED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90E-1831-42D9-B5AC-1156D09F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AB7-DA44-4DD9-8DCF-537D816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FA0-8685-47FA-B91B-5F8C471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525-DA42-470C-B7AC-A982D93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94A-F46C-42BE-B462-4513F25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5AB-783E-450C-90D1-20B0ED82044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0C43-1763-4884-B98F-1CC6C0FAF48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 고급 트랜잭션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원격 예비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트랜잭션 처리 모니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고성능 트랜잭션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장기 트랜잭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실시간 트랜잭션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일관성의  약성 단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트랜잭션형 작업흐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437-9F97-497C-A18A-7962D02F40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3400" spc="-1" strike="noStrike">
                <a:solidFill>
                  <a:srgbClr val="000000"/>
                </a:solidFill>
                <a:latin typeface="Times New Roman"/>
              </a:rPr>
              <a:t>모니터를 이용한 어플리케이션 조정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니터는 각 서브 시스템을 어떤 자원의 집합에 트랜잭션 같은 액세스를 제공하는 자원 매니저로 취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니터와 자원 매니저간의 인터페이스는 트랜잭션 프리미티브의 집합으로 정의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원 매니저 인터페이스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/Open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분산 트랜잭션 처리 표준으로 정의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니터 시스템은 그들의 서비스에 트랜잭션형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PC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인터페이스를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PC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기법은 일련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PC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호출을 트랜잭션내에 내포시키기 위한 호출을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PC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수행된 갱신은 트랜잭션의 범위 내에서 수행되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고장이 있으면 복귀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26D-815E-41D8-8584-61383AEFD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고성능 트랜잭션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성능 하드웨어와 병렬화가 트랜잭션 처리의 비율을 높이는데 도움을 주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성능을 얻기에는 불충분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디스크 입출력이 병목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기 속도 증가에 비해 입출력 시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감소하지는 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 트랜잭션들이 동일 데이터 항목을 읽고 쓰기를 시도하면서 효율적인 병렬화를 감소시키는 데이터 충돌을 야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버퍼의 크기를 증가 시킴으로써 데이터베이스 시스템이 디스크에 의존하는 정도를 줄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5AB-D910-4980-8310-70C76D647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메인 메모리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상용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트 시스템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B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까지의 메인 메모리를 지원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모리에 거주하는 데이터는 보다 빠른 데이터 처리를 허용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 관련 제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깅이 병목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룹 완료 개념하에서는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안정 저장 장치로의 출력의 수가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감소될 수 있어 이러한 병목을 해소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정된 버퍼 블록에 대한 갱신 비율이 높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 데이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전송율이 병목이 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스템 이상이 발생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인 메모리의 모든 내용을 잃게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97F-C5A5-447A-8F1D-0D5E97CC6E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메인 메모리 데이터베이스 최적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인 메모리 데이터베이스에서는 여러 페이지에 걸쳐 포인터를 가질 수 있는 내부 데이터 구조를 필요로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공간 비용을 줄이기 위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 데이터베이스에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여러 페이지를 순회하기 위한 입출력 비용이 상당히 높을 것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버퍼 페이지는 결코 대치되지 않을 것이므로 데이터가 액세스 되기 전에 메모리내의 버퍼 페이지를 고정 시킬 필요가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공간 비용을 최소화하기 위한 질의 처리 기법의 설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질의 평가시 메인 메모리 한도 초과를 피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킹과 래칭 같은 연산 수행을 향상시킴으로써 병목이 되지 않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른 페이지에 공간을 내주기 위해 페이지를 출력할 필요가 거의 없으므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회복 알고리즘을 최적화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C5A-BCAF-4A5F-96EC-0A1AACD25A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그룹 완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룹 완료 기법은 거의 꽉 찬 블록만이 출력되도록 보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것은 완료한 트랜잭션당 출력 연산 회수를 줄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룹 완료가 로깅 비용은 줄이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충분히 큰 트랜잭션 그룹이 완료 준비가 될 때까지 트랜잭션 완료가 지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의 그룹이 완료 준비가 되는데는 많은 시간이 걸리지 않으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성능 트랜잭션 시스템에서 이러한 지연은 허용할 만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12F-92F4-45C8-BF3C-341A54E6E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기 트랜잭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최하위 단계의 원자적 데이터 베이스 연산을 가진 내포 트랜잭션으로 표현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이 실패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활동중인 단기 트랜잭션만이 중단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떠한 단기 트랜잭션들이 일단 회복되면 활동 장기 트랜잭션은 재개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장기간의 기다림과 중단의 가능성으로 인해 장기 대화형 트랜잭션의 관리는 보다 복잡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기다림 과 중단에 대한 대안이 필요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체 기법들은 직렬성을 요구하지 않고도 정확성을 보장해야만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D52-6560-4FDD-965A-CCCC000DE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동시성 제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직렬성 없는 정확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확성은 데이터베이스에 대한 특정 일관성 제약 조건에 의존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확성은 각 트랜잭션이 수행하는 연산의 속성에 의존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를 동시성이 별개로 관리될수 있는 서브 데이터베이스로 분리할 때 데이터베이스 일관성 제약 조건을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외의 몇몇 연산을 기본적인 저급 연산으로 취급해 동시성 제어를 확장하여 그들을 다룬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BB6-5D40-49D9-B1CA-718332D16C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동시성 제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합계가 보존되는 비충돌 직렬 가능 스케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971800" y="2286000"/>
            <a:ext cx="3809880" cy="3809880"/>
            <a:chOff x="2971800" y="2286000"/>
            <a:chExt cx="3809880" cy="3809880"/>
          </a:xfrm>
        </p:grpSpPr>
        <p:sp>
          <p:nvSpPr>
            <p:cNvPr id="293" name=""/>
            <p:cNvSpPr/>
            <p:nvPr/>
          </p:nvSpPr>
          <p:spPr>
            <a:xfrm>
              <a:off x="2971800" y="28195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28600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06040" y="2389320"/>
            <a:ext cx="2890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:=A-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:=B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:=B+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:=A+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B85-D5EB-4E59-8048-43195F412F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및 다단계 트랜잭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포 또는 다단계 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아래와 같은 서브 트랜잭션의 집합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상의 부분 순서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표현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={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….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의 서브 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중단시키지 않고도 중단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재시작하도록 하거나 실행시키지 않을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완료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것으로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영구적이도록 하지는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15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장에서의 상황과 다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완료하고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중단되면 여전히 중단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또한 보상을 요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실행은 부분 순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위배해서는 안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선행 그래프 내에 간선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나타나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전이 내포 내에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있어서는 안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E72-BC71-4F10-BB03-61DDADEBFE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및 다단계 트랜잭션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포의 최하위 단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표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단계 트랜잭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서브 트랜잭션은 종료시 로크를 해제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ga: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단계 장기 트랜잭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포 트랜잭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서브 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소유한 로크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종료시 자동으로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배정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포는 동시성을 강화할 수 있는 고급 연산을 생성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867-D0E5-4994-8F4A-400E7FDFAC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원격 예비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원격 예비 시스템은 주 사이트가 파손되더라도 트랜잭션 처리가 계속되도록 하여 높은 가용도를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처리는 중복 분산 시스템에서 보다 더 빠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원격 사이트는 주 사이트가 고장 날 때 탐지해야만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 사이트와 원격 예비사이트 간에 여려 통신 링크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지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사이트가 처리를 인수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것이 새로운 주 사이트가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제어를 이전하려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전 주 사이트가 이전 예비 사이트로부터 재실행 로그를 받아 지역적으로 모든 갱신을 적용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B8A-9805-4278-8264-CB5C39CBC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증가 또는 감소 연산을 수행하는 서브 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사용해 재작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은 다음으로 구성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빼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B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더하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증가 또는 감소 연산을 수행하는 서브 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사용해 재작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다음으로 구성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빼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A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더하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브 트랜잭션에 순서는 지정되지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떠한 실행도 정확한 결과를 생성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E21-7AEA-4B03-BCE3-014588275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보상 트랜잭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에 대한 대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상 트랜잭션으로 연쇄 복귀 문제를 다룬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패한 트랜잭션이 생성한 모든 변경을 취소하는 대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패에 대한 보상 행위를 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행기 예약을 하는 서브 트랜잭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렌터카를 예약하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호텔을 예약하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이루어진 여행 예약의 장기 트랜잭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호텔에서 예약을 취소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두를 취소하는 대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전 호텔 예약을 삭제하고 새로운 예약을 생성함으로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실패를 보상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패한 트랜잭션의 의미 사용을 필요로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2DE-1BD7-4562-B7F9-EC0C7AF5D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구현상의 문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장기 트랜잭션이 시스템 이상시 생존하기 위해서는 데이터베이스의 변경 뿐만이 아니라 이들 트랜잭션에 속한 내부 시스템 데이터의 변경 또한 로깅해야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물리적으로 큰 데이터 항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설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서 텍스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인해 갱신의 로깅은 보다 복잡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전 값과 새로운 값 모두를 저장하는 것은 바람직하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큰 데이터 항목의 회복을 보장하는 비용을 줄이기 위한 두 가지 방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연산 로깅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항목에 수행된 연산과 데이터 항목명만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저장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로깅과 그림자 페이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작은 데이터 항목으로부터 로깅 사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항목에 대해서는 그림자 페이징 사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정된 페이지만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중으로 저장될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C9C-6F67-47AC-8982-46AA6F802C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실시간 트랜잭션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실시간 제약 조건을 가진 시스템에서는 실행의 정확성에 데이터베이스 일관성과 데드라인의 만족 모두를 포함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하드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데드라인 후에 태스크가 종료하면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값을 가진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소프트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데드라인 후에 태스크가 종료하면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값을 갖는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연산 실행 시간의 넓은 분산은 시간의 제약을 받는 시스템에 있어 트랜잭션 관리 문제를 복잡하게 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따라서 메인 메모리 데이터베이스가 흔히 사용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실시간 시스템의 설계에는 과다한 하드웨어 자원을 필요로 하지 않고도 데드라인을 충족할 수 있는 충분한 처리 능력이 존재하도록 보장함을 내포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0F4-282B-4EE4-8AC7-B37F443CCB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관성의 약성 단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성능 향상을 위해 직렬성을 보장하지 않는 일관성의 대체 개념을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 일관성은 반드시 직렬성을 보장할 필요는 없이 연쇄 복귀를 피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계 로킹과는 달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크는 언제라도 해제될 수 있고 언제라도 얻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크는 트랜잭션이 완료하거나 중단될 때까지 해제 될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CE4-11E4-45F2-BB90-43E43777BF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차 일관성을 가진 스케줄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값을 쓰기 전후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값을 읽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 일관성을 가진 비직렬 가능 스케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19520" y="2666880"/>
            <a:ext cx="3581280" cy="3581280"/>
            <a:chOff x="2819520" y="2666880"/>
            <a:chExt cx="3581280" cy="3581280"/>
          </a:xfrm>
        </p:grpSpPr>
        <p:sp>
          <p:nvSpPr>
            <p:cNvPr id="313" name=""/>
            <p:cNvSpPr/>
            <p:nvPr/>
          </p:nvSpPr>
          <p:spPr>
            <a:xfrm>
              <a:off x="2819520" y="304776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8320" y="2666880"/>
              <a:ext cx="0" cy="35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049560" y="2627280"/>
            <a:ext cx="31492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ck-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ck-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ck-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814-2194-4131-B12C-FC2C09385D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커서 일관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범용 레코드 지향 언어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ASCAL, COBOL, C, PL/I, FORTRAN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등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로 작성된 프로그램용으로 설계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차 일관성의 유형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릴레이션 전체에 로킹하지 않고 커서 안정성은 다음을 보장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현재 반복 처리중인 튜플은 공유 유형으로 로크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어떤 수정된 튜플들은 트랜잭션이 완료할 때까지 배타 유형으로 로크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동시성을 증가시키고 시스템 성능 향상의 수단으로 과다하게 액세스 되는 릴레이션에 사용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그 사용은 단순한 동시성 제약 조건을 가진 특수한 상황으로 한정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F8D-3E9E-425C-8403-566D367067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 작업 흐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작업 흐름은 서로 다른 처리 주체가 수행하는 여러 태스크의 상호 협조 실행을 내포하는 행위이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네트워크와 자치적인 데이터베이스 시스템의 증가에 따라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작업 흐름은 여러 시스템을 내포하는 태스크들을 편리하게 수행하는 방법을 제공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작업 흐름을 전산화하려면 다음과 같은 사항을 언급해야 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작업 흐름의 명세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수행되어야 할 태스크를 상세화하고 실행 요구 사항을 정의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작업 흐름의 실행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계산의 정확성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데이터 무결성 및 지속성에 관련된 전통적인 데이터베이스 보호를 제공하는 동시에 작업흐름내에 지정된 트랜잭션을 실행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트랜잭션의 개념을 작업 흐름의 문맥으로 확장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571-F614-41C5-A1B3-B88CA213FD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 명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업 흐름의 상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업 흐름을 구성하고 있는 태스크들의 상태 집합과 실행 계획내 모든 변수의 상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값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구성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적 명세에 의한 태스크들의 상호 협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태스크와 그들 간의 종속이 작업 흐름 시작 전에 정의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업 흐름 내 각 태스크의 실행을 위한 사전 조건 수립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가능한 태스크와 그들의 종속이 미리 알려지지만 사전 조건을 만족하는 태스크들만이 실행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2D0-07D4-4843-8951-1100A4CA9F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 명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종속을 통한 사전 조건 정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른 태스크의 실행 상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태스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끝날 때까지 태스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시작할 수 없다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른 태스크의 출력 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태스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보다 큰 값을 돌려주면 태스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시작할 수 있다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외부 사건에 의해 수정되는 외부 변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태스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완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내에 태스크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시작되어야 한다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동적 태스크 스케쥴링 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전자 메일 라우팅 시스템 내에서 주어진 메일 메시지를 스케줄할 다음 태스크는 목적 주소와 가동중인 중간 라우터에 따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307-5D0F-4910-8572-85CE9D6AE6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원격 예비 시스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사이트는 주기적으로 재실행 로그 레코드를 처리하고 검사점을 수행하며 로그의 이전 부분을 삭제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사이트에 의한 작업 인수시 지연을 줄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긴급 예비 구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사이트는 지역적으로 갱신을 적용하면서 도달하는 즉시 재실행 로그 레코드를 계속해서 처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 사이트의 고장을 탐지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사이트는 끝나지 않은 트랜잭션을 복귀시키고 새로운 트랜잭션을 처리할 준비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7C9-E539-4A10-AFF9-249E4DDAED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작업 흐름의 고장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원자성 요구사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통상의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ID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 요구 사항이 작업 흐름 어플리케이션에 너무 강하고 구현 가능하지 않더라도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작업 흐름은 프로세스가 불일치 상태에 놓이지 않도록 보장하는 제한된 트랜잭션형 속성은 만족해야 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허용 가능한 종료 상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작업 흐름의 모든 실행은 설계자가 정의한 고장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원자성을 만족하는 상태로 종료할 것이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완료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작업 흐름의 목적을 달성하였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중단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작업 흐름이 목적을 달성하는 데는 실패한 타당한 종료 상태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작업 흐름은 시스템 고장에 관계없이 허용 가능한 종료 상태에 도달해야만 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41E-3FC7-4A00-B598-B4ED8ABE50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의 실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업 흐름 관리 시스템은 다음을  포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케쥴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양한 사건의 모니터 및 태스크간 종속에 관련된 조건 평가를 위한 다양한 태스크로 제기된 작업 흐름을 처리하는 프로그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태스크 에이전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 주체에 의한 태스크 실행을 제어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업 흐름 시스템의 상태를 질의하기 위한 기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B03-46CE-43B9-B33E-B943F30F17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 관리 시스템의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중앙집중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일 스케쥴러가 동시 실행되는 작업 흐름의 태스크들을 스케쥴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가 중앙 데이터베이스에 저장된 작업 흐름 시스템에서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작업 흐름의 상태를 추적하기가 보다 쉽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부분 분산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작업 흐름마다 하나의 스케쥴러를 가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완전 분산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스케쥴러를 가지지 않지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태스크 에이전트가 태스크 종속성과 기타 작업 흐름 실행 요구 사항을 만족하기 위해 서로 통신함으로써 그들의 실행을 조정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장 단순한 작업 흐름 실행 시스템에서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전자 메일에 근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77F-58C9-4BFA-96C4-CB56299D3E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 스케쥴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작업 흐름을 실행하기 전에 스케쥴러는 작업 흐름이 허용 가능하지 않은 상태로 종료하는지를 결정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허용 가능한 종료가 보장 될 수 없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작업 흐름은 실행되어서는 안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든 서브 트랜잭션이 완료하든지 또는 그렇지 않든지 하는 고장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원자성 요구 사항을 가진 서브 트랜잭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표현된 두개의 태스크로 구성된 작업 흐름을 고려해 보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완료할 준비 상태를 제공하지 않고 보상 트랜잭션을 가지고 있지 않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한 서브 트랜잭션은 완료되고 다른 서브 트랜잭션은 중단될 가능성이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양 서브 트랜잭션이 같은 상태에 돌입할 수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작업 흐름 명세가 불안하고 거절되어야 한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F74-F84E-4FF6-AFD3-CE61159E27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의 회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작업 흐름 처리 요소 중 어디에서 실패가 발생한다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작업 흐름이 궁극적으로 허용 가능 종료 상태에 도달하도록 보장하라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고장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회복 루틴은 고장시 각 태스크의 실행 상태에 관한 정보를 포함해 스케쥴러의 상태 정보를 복구할 필요가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안정 저장 장치에 상태 정보를 로깅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영속 파이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시지가 영구 저장 장치에 저장되므로 고장시 잃지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이전트가 완료하기 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시지를 내보낼 필요가 있던 없던 간에 영속 메시지 큐에 기록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영속 메시지 시스템은 궁극적으로는 메시지가 전달되도록 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0A8-1727-45CB-98A4-8C29793571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작업 흐름의 회복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휘발성 저장 장치 내 메시지 큐에 대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큐의 내용을 회복하는 대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스케쥴러는 그들의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요청을 다시 보낸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요청을 여러 번 수령하는가를 탐지하기 위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받는 측의 안정 저장 장치에 요청이 로깅되어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83B-0B60-4E87-980F-9DE2000D9C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원격 예비 시스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이 예비 사이트에 로깅될 때까지 트랜잭션 완료를 지연시킴으로써 갱신의 지속성을 보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속성의 정도를 낮게 하여 이러한 지연을 피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의 안전은 트랜잭션의  완료 로그 레코드가 주 사이트에 기록되는 즉시 완료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비 사이트가 인수하기 전에 갱신이 예비 사이트에 도달하지 않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개의 완전 안전은 트랜잭션의  완료 로그 레코드가 주 사이트와 예비사이트에 기록되면 완료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 사이트가 모두 고장나면 가용도가 감소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개의 안전은 주 사이트와 예비 사이트가 모두 활동 중이면 두개의 완전 안전처럼 처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 사이트만이 활동 중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완료 로그 레코드가 주 사이트에 기록되는 즉시 완료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개의 완전 안전보다 가용도가 높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의 안전에서의 트랜잭션 잃음의 문제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3EB-EBC0-41F4-BCF4-49CC1DF93C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 처리 모니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니터는 단일 프로세스로부터 수 많은 터미널을 지원하기 위한 다중 스레드 서버를 위해 처음 개발되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 많은 클라이언트와 여러 서버를 가진 복합 트랜잭션 처리 시스템을 구축하고 관리하기 위한 하부 구조를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음과 같은 서비스를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인터페이스 어플리케이션 작성을 손쉽게 하는 프리젠테이션 기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클라이언트 요청과 서버 응답의 영속적인 큐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클라이언트에서 서버로의 메시지 라우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이 여러 서버를 액세스할 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계 완료의 조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FA0-1601-4A6C-922C-025C35131D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모니터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클라이언트당 프로세스 모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터미널당 개별적인 로그인 세션 대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버 프로세스가 터미널과 통신하여 인증 처리하고 행위를 실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모리 요구 사항이 높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중 태스킹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프로세스간 문맥 교환에 높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U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일 프로세스 모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든 원격 터미널을 단일 서버 프로세스에 연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버 환경에서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버 프로세스는 다중 스레드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스레드 연결 비용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낮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플리케이션 간에 보호가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병렬 또는 분산 데이터베이스에는 부적합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DC1-E909-4907-82C9-A52AB2264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모니터 구조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중 서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일 라우터 모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여러 어플리케이션 서버 프로세스가 공통 데이터베이스를 액세스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클라이언트들은 요청을 보내는 단일 통신 프로세스를 통해 어플리케이션과 통신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여러 어플리케이션에 대해 독립 서버 프로세스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중 스레드 서버 프로세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병렬 또는 분산 데이터베이스에서 실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수 서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수 라우터 모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여러 프로세스가 클라이언트들과 통신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클라이언트 통신 프로세스들은 요청을 적절한 서버에 보내는 라우터 프로세스들과 상호 작용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제어기 프로세스는 다른 프로세스를 가동시키고 제어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804-94E2-4D34-A76F-876183323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모니터 구조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429000" y="4079880"/>
            <a:ext cx="609480" cy="1371240"/>
            <a:chOff x="3429000" y="4079880"/>
            <a:chExt cx="609480" cy="1371240"/>
          </a:xfrm>
        </p:grpSpPr>
        <p:sp>
          <p:nvSpPr>
            <p:cNvPr id="123" name=""/>
            <p:cNvSpPr/>
            <p:nvPr/>
          </p:nvSpPr>
          <p:spPr>
            <a:xfrm>
              <a:off x="3429000" y="5014800"/>
              <a:ext cx="609480" cy="43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9000" y="4578480"/>
              <a:ext cx="609480" cy="374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4079880"/>
              <a:ext cx="609480" cy="43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391520" y="4114800"/>
            <a:ext cx="609480" cy="1371240"/>
            <a:chOff x="7391520" y="4114800"/>
            <a:chExt cx="609480" cy="1371240"/>
          </a:xfrm>
        </p:grpSpPr>
        <p:sp>
          <p:nvSpPr>
            <p:cNvPr id="127" name=""/>
            <p:cNvSpPr/>
            <p:nvPr/>
          </p:nvSpPr>
          <p:spPr>
            <a:xfrm>
              <a:off x="7391520" y="5049720"/>
              <a:ext cx="609480" cy="43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4613400"/>
              <a:ext cx="609480" cy="374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4114800"/>
              <a:ext cx="609480" cy="43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62120" y="4079880"/>
            <a:ext cx="228600" cy="1523520"/>
            <a:chOff x="762120" y="4079880"/>
            <a:chExt cx="228600" cy="1523520"/>
          </a:xfrm>
        </p:grpSpPr>
        <p:sp>
          <p:nvSpPr>
            <p:cNvPr id="131" name=""/>
            <p:cNvSpPr/>
            <p:nvPr/>
          </p:nvSpPr>
          <p:spPr>
            <a:xfrm>
              <a:off x="762120" y="4397400"/>
              <a:ext cx="228600" cy="25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4079880"/>
              <a:ext cx="2286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4714920"/>
              <a:ext cx="2286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5032080"/>
              <a:ext cx="2286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5349960"/>
              <a:ext cx="228600" cy="25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48320" y="4038480"/>
            <a:ext cx="228600" cy="1599840"/>
            <a:chOff x="4648320" y="4038480"/>
            <a:chExt cx="228600" cy="1599840"/>
          </a:xfrm>
        </p:grpSpPr>
        <p:sp>
          <p:nvSpPr>
            <p:cNvPr id="137" name=""/>
            <p:cNvSpPr/>
            <p:nvPr/>
          </p:nvSpPr>
          <p:spPr>
            <a:xfrm>
              <a:off x="4648320" y="4371840"/>
              <a:ext cx="22860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4038480"/>
              <a:ext cx="228600" cy="26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4705200"/>
              <a:ext cx="228600" cy="26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48320" y="5038560"/>
              <a:ext cx="228600" cy="26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8320" y="5371920"/>
              <a:ext cx="22860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95280" y="461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38280" y="4232160"/>
            <a:ext cx="533520" cy="1218960"/>
            <a:chOff x="2438280" y="4232160"/>
            <a:chExt cx="533520" cy="1218960"/>
          </a:xfrm>
        </p:grpSpPr>
        <p:sp>
          <p:nvSpPr>
            <p:cNvPr id="144" name=""/>
            <p:cNvSpPr/>
            <p:nvPr/>
          </p:nvSpPr>
          <p:spPr>
            <a:xfrm>
              <a:off x="2438280" y="5085360"/>
              <a:ext cx="533520" cy="36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4658760"/>
              <a:ext cx="533520" cy="36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4232160"/>
              <a:ext cx="533520" cy="36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57800" y="4419720"/>
            <a:ext cx="609480" cy="837720"/>
            <a:chOff x="5257800" y="4419720"/>
            <a:chExt cx="609480" cy="837720"/>
          </a:xfrm>
        </p:grpSpPr>
        <p:sp>
          <p:nvSpPr>
            <p:cNvPr id="148" name=""/>
            <p:cNvSpPr/>
            <p:nvPr/>
          </p:nvSpPr>
          <p:spPr>
            <a:xfrm>
              <a:off x="5257800" y="4870800"/>
              <a:ext cx="609480" cy="38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4419720"/>
              <a:ext cx="609480" cy="38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0800" y="4191120"/>
            <a:ext cx="533520" cy="1294920"/>
            <a:chOff x="6400800" y="4191120"/>
            <a:chExt cx="533520" cy="1294920"/>
          </a:xfrm>
        </p:grpSpPr>
        <p:sp>
          <p:nvSpPr>
            <p:cNvPr id="151" name=""/>
            <p:cNvSpPr/>
            <p:nvPr/>
          </p:nvSpPr>
          <p:spPr>
            <a:xfrm>
              <a:off x="6400800" y="4191120"/>
              <a:ext cx="533520" cy="38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5097600"/>
              <a:ext cx="533520" cy="38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0800" y="4644360"/>
              <a:ext cx="533520" cy="38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14400" y="1676520"/>
            <a:ext cx="6857640" cy="1447200"/>
            <a:chOff x="914400" y="1676520"/>
            <a:chExt cx="6857640" cy="1447200"/>
          </a:xfrm>
        </p:grpSpPr>
        <p:grpSp>
          <p:nvGrpSpPr>
            <p:cNvPr id="155" name=""/>
            <p:cNvGrpSpPr/>
            <p:nvPr/>
          </p:nvGrpSpPr>
          <p:grpSpPr>
            <a:xfrm>
              <a:off x="7175880" y="1748880"/>
              <a:ext cx="596160" cy="1302120"/>
              <a:chOff x="7175880" y="1748880"/>
              <a:chExt cx="596160" cy="1302120"/>
            </a:xfrm>
          </p:grpSpPr>
          <p:sp>
            <p:nvSpPr>
              <p:cNvPr id="156" name=""/>
              <p:cNvSpPr/>
              <p:nvPr/>
            </p:nvSpPr>
            <p:spPr>
              <a:xfrm>
                <a:off x="7175880" y="2637000"/>
                <a:ext cx="596160" cy="414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75880" y="2222280"/>
                <a:ext cx="596160" cy="354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75880" y="1748880"/>
                <a:ext cx="596160" cy="414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001680" y="1676520"/>
              <a:ext cx="596160" cy="1302120"/>
              <a:chOff x="3001680" y="1676520"/>
              <a:chExt cx="596160" cy="1302120"/>
            </a:xfrm>
          </p:grpSpPr>
          <p:sp>
            <p:nvSpPr>
              <p:cNvPr id="160" name=""/>
              <p:cNvSpPr/>
              <p:nvPr/>
            </p:nvSpPr>
            <p:spPr>
              <a:xfrm>
                <a:off x="3001680" y="2564280"/>
                <a:ext cx="596160" cy="414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01680" y="2150280"/>
                <a:ext cx="596160" cy="354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01680" y="1676520"/>
                <a:ext cx="596160" cy="414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716000" y="1676520"/>
              <a:ext cx="223560" cy="1447200"/>
              <a:chOff x="4716000" y="1676520"/>
              <a:chExt cx="223560" cy="144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4716000" y="1978200"/>
                <a:ext cx="223560" cy="24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16000" y="167652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16000" y="227952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16000" y="258120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16000" y="2882880"/>
                <a:ext cx="223560" cy="24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032560" y="1676520"/>
              <a:ext cx="223560" cy="1447200"/>
              <a:chOff x="2032560" y="1676520"/>
              <a:chExt cx="223560" cy="1447200"/>
            </a:xfrm>
          </p:grpSpPr>
          <p:sp>
            <p:nvSpPr>
              <p:cNvPr id="170" name=""/>
              <p:cNvSpPr/>
              <p:nvPr/>
            </p:nvSpPr>
            <p:spPr>
              <a:xfrm>
                <a:off x="2032560" y="1978200"/>
                <a:ext cx="223560" cy="24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32560" y="167652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32560" y="227952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32560" y="258120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32560" y="2882880"/>
                <a:ext cx="223560" cy="24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914400" y="1676520"/>
              <a:ext cx="223560" cy="1447200"/>
              <a:chOff x="914400" y="1676520"/>
              <a:chExt cx="223560" cy="1447200"/>
            </a:xfrm>
          </p:grpSpPr>
          <p:sp>
            <p:nvSpPr>
              <p:cNvPr id="176" name=""/>
              <p:cNvSpPr/>
              <p:nvPr/>
            </p:nvSpPr>
            <p:spPr>
              <a:xfrm>
                <a:off x="914400" y="1978200"/>
                <a:ext cx="223560" cy="24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14400" y="167652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14400" y="227952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4400" y="2581200"/>
                <a:ext cx="22356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4400" y="2882880"/>
                <a:ext cx="223560" cy="24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535720" y="2183040"/>
              <a:ext cx="969120" cy="50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7960" y="1791000"/>
              <a:ext cx="8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37960" y="2400120"/>
              <a:ext cx="8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37960" y="2689560"/>
              <a:ext cx="8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37960" y="2979000"/>
              <a:ext cx="8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7960" y="2110680"/>
              <a:ext cx="8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256120" y="1893600"/>
              <a:ext cx="745560" cy="10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256120" y="2255040"/>
              <a:ext cx="74556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256120" y="2761560"/>
              <a:ext cx="74556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256120" y="1893600"/>
              <a:ext cx="74556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256120" y="2327400"/>
              <a:ext cx="745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56120" y="2689560"/>
              <a:ext cx="7455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256120" y="1893600"/>
              <a:ext cx="74556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56120" y="2327760"/>
              <a:ext cx="74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56120" y="2400120"/>
              <a:ext cx="7455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256120" y="1893240"/>
              <a:ext cx="74556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56120" y="2110680"/>
              <a:ext cx="74556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56120" y="2183040"/>
              <a:ext cx="74556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56120" y="1748880"/>
              <a:ext cx="6706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56120" y="1821240"/>
              <a:ext cx="74556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56120" y="1893600"/>
              <a:ext cx="74556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39560" y="2400120"/>
              <a:ext cx="5961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39560" y="2400120"/>
              <a:ext cx="5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9560" y="2038320"/>
              <a:ext cx="5961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939560" y="1820880"/>
              <a:ext cx="59616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939560" y="2400120"/>
              <a:ext cx="59616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05200" y="1965960"/>
              <a:ext cx="67068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05200" y="240012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05200" y="2400120"/>
              <a:ext cx="67068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981080" y="484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4842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981080" y="446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23216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990720" y="46130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30240" y="484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914400" y="484200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90720" y="484200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38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76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529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7692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876920" y="4495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76920" y="4572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76920" y="50292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8769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867280" y="44193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86728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867280" y="48002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50292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0200" y="31240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원격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서버              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당 프로세스 모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95920" y="3124080"/>
            <a:ext cx="307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원격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서버                      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단일 프로세스 모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20240" y="5562720"/>
            <a:ext cx="26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원격   라우터           서버           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다수 서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단일 라우터 모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26160" y="5575320"/>
            <a:ext cx="282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원격      라우터           서버            파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다수 서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다수 라우터 모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3973680"/>
            <a:ext cx="9144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모니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283-F374-425C-9C0A-1E9DAC962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6200" y="3352680"/>
            <a:ext cx="1600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모니터의 상세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209680"/>
            <a:ext cx="83808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1752480"/>
            <a:ext cx="5029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182880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51460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57150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352680"/>
            <a:ext cx="2286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388620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64832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5334120"/>
            <a:ext cx="24386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080" y="53751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4760" y="18288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6160" y="25146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4400" y="380988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7720" y="5653080"/>
            <a:ext cx="15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55280" y="32767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06960" y="3851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31960" y="46134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5257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209320" y="4419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429000" y="213336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429000" y="2743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581280" y="5486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58092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81280" y="4419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42864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00C-0F90-4A50-8BFE-EADD2DAB7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20:46:27Z</dcterms:created>
  <dc:creator>서울산업대학교 교수 석상기</dc:creator>
  <dc:description/>
  <dc:language>en-US</dc:language>
  <cp:lastModifiedBy>.</cp:lastModifiedBy>
  <cp:lastPrinted>1997-02-26T15:00:00Z</cp:lastPrinted>
  <dcterms:modified xsi:type="dcterms:W3CDTF">1999-06-18T07:34:25Z</dcterms:modified>
  <cp:revision>38</cp:revision>
  <dc:subject/>
  <dc:title>제20장 고급 트랜잭션 처리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