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63E-612C-4974-8364-122EE4FB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769-5B33-4851-B4A7-28B1459A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E63-C0A7-4EA9-B4CD-B219F603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0C2-451E-4243-AC1C-7B2B2E8E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FCF-9AC5-4827-AA61-B46CE32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1CEF-BC65-4DD7-BACD-FA3BA8E1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BC6-4B2E-492F-9BA2-37F71E1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7DC-BF74-4C42-B333-93155D7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662-3994-4FCF-8D7C-99DA99BC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576D-BE26-4F18-AC04-93E5D5E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8F0-BDBC-4B92-836C-994C8AE9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257-D3F1-4461-BA2A-832D845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93E1-05E3-4F32-82D2-C91B85D1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36A-7EEB-4FEE-BE1F-A562FB7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082B-5A4F-4773-8735-9AD6014B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F245-39E1-4217-B361-21C1AADF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D91F-8EC0-49A5-A8FD-384F1F8A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EB0-8D97-407C-877A-E873A67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0BF-9EF5-43D7-8A0B-7F0075C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78A-BC35-47AA-A0E6-7C90161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5FA7-0996-4AF4-AB57-521345B3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CD6-EC06-45F3-9B77-757960B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8C2-EFC6-4A42-9B87-C9F2A5B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789-121F-4A6E-BDA7-F1AD7A8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2FB9-B127-428B-BFAC-8DBACBB4F11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D486-ECBD-46B4-B2DA-8EB28C3C21FD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엔티티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모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 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설계 논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응 제약 조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확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키마의 설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스키마를 테이블로 변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2DD-66FD-482F-895D-3171BBF41D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 대 일 관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은 관계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기껏해야 하나의 대출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기껏해야 하나의 고객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8080" y="2041560"/>
            <a:ext cx="7772040" cy="2225160"/>
            <a:chOff x="838080" y="2041560"/>
            <a:chExt cx="7772040" cy="2225160"/>
          </a:xfrm>
        </p:grpSpPr>
        <p:sp>
          <p:nvSpPr>
            <p:cNvPr id="161" name=""/>
            <p:cNvSpPr/>
            <p:nvPr/>
          </p:nvSpPr>
          <p:spPr>
            <a:xfrm>
              <a:off x="4718160" y="2971440"/>
              <a:ext cx="1249200" cy="12952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orr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29040" y="3300120"/>
              <a:ext cx="13230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0400" y="3384360"/>
              <a:ext cx="13230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07800" y="2241360"/>
              <a:ext cx="110232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8680" y="2241360"/>
              <a:ext cx="170568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n-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58400" y="2041560"/>
              <a:ext cx="161676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cial-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2400" y="2041560"/>
              <a:ext cx="169020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727000"/>
              <a:ext cx="161676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3080" y="2727000"/>
              <a:ext cx="154332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733480" y="2469600"/>
              <a:ext cx="36720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439360" y="2469600"/>
              <a:ext cx="2937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733480" y="3155760"/>
              <a:ext cx="5878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218680" y="3155760"/>
              <a:ext cx="5144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680" y="2698560"/>
              <a:ext cx="6613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72000" y="2698560"/>
              <a:ext cx="735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28560" y="3620880"/>
              <a:ext cx="13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4920" y="3620880"/>
              <a:ext cx="58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D77-B994-417D-AA83-4A1919BB03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 대 다 및 다 대 일 관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38080" y="1812960"/>
            <a:ext cx="7760880" cy="4359240"/>
            <a:chOff x="838080" y="1812960"/>
            <a:chExt cx="7760880" cy="4359240"/>
          </a:xfrm>
        </p:grpSpPr>
        <p:grpSp>
          <p:nvGrpSpPr>
            <p:cNvPr id="181" name=""/>
            <p:cNvGrpSpPr/>
            <p:nvPr/>
          </p:nvGrpSpPr>
          <p:grpSpPr>
            <a:xfrm>
              <a:off x="838080" y="1812960"/>
              <a:ext cx="7760880" cy="4359240"/>
              <a:chOff x="838080" y="1812960"/>
              <a:chExt cx="7760880" cy="4359240"/>
            </a:xfrm>
          </p:grpSpPr>
          <p:sp>
            <p:nvSpPr>
              <p:cNvPr id="182" name=""/>
              <p:cNvSpPr/>
              <p:nvPr/>
            </p:nvSpPr>
            <p:spPr>
              <a:xfrm>
                <a:off x="6622560" y="3071880"/>
                <a:ext cx="13197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99160" y="2013120"/>
                <a:ext cx="10998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24360" y="2013120"/>
                <a:ext cx="17017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25280" y="1812960"/>
                <a:ext cx="16862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stre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57640" y="2438280"/>
                <a:ext cx="15397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c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04200" y="2470320"/>
                <a:ext cx="659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7264080" y="2469960"/>
                <a:ext cx="7333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23920" y="2971800"/>
                <a:ext cx="1246320" cy="83808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orrow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15000" y="5433840"/>
                <a:ext cx="13197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37880" y="5518080"/>
                <a:ext cx="13197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91600" y="4375080"/>
                <a:ext cx="10998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16800" y="4375080"/>
                <a:ext cx="17017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58040" y="4175280"/>
                <a:ext cx="16128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ocial-secur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17720" y="4175280"/>
                <a:ext cx="16862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stre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38080" y="4861080"/>
                <a:ext cx="16128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37680" y="4861080"/>
                <a:ext cx="153972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c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728800" y="4603680"/>
                <a:ext cx="3664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2435040" y="4603680"/>
                <a:ext cx="29340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728800" y="5289120"/>
                <a:ext cx="5864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2215440" y="5289120"/>
                <a:ext cx="5133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96640" y="4832280"/>
                <a:ext cx="659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256520" y="4832280"/>
                <a:ext cx="7333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51880" y="5753160"/>
                <a:ext cx="65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5334120"/>
                <a:ext cx="1246320" cy="83808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orrow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257280" y="5753160"/>
                <a:ext cx="146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70240" y="3390840"/>
                <a:ext cx="65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330720" y="3390840"/>
                <a:ext cx="139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58040" y="1828800"/>
                <a:ext cx="16862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ocial-secur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38080" y="2438280"/>
                <a:ext cx="168624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37880" y="3124080"/>
                <a:ext cx="13197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1717920" y="2895120"/>
                <a:ext cx="87984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597760" y="2895120"/>
                <a:ext cx="139284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597760" y="2133360"/>
                <a:ext cx="73080" cy="9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2597760" y="2209680"/>
                <a:ext cx="58644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809880" y="3413160"/>
              <a:ext cx="533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35440" y="577548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BCC-0CFE-410F-B200-1A229A9B6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 대 다 및 다 대 일 관계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5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 대 다 관계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대출은 기껏해야 하나의 고객과 연관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은 여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 대 일 관계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대출은 여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포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과 연관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은 기껏해야 하나의 대출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88B-E24A-4B10-A9A5-22BA74C46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다 대 다 관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여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0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통해 여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0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고객과 연관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838080" y="1905120"/>
            <a:ext cx="7760880" cy="1996920"/>
            <a:chOff x="838080" y="1905120"/>
            <a:chExt cx="7760880" cy="1996920"/>
          </a:xfrm>
        </p:grpSpPr>
        <p:sp>
          <p:nvSpPr>
            <p:cNvPr id="223" name=""/>
            <p:cNvSpPr/>
            <p:nvPr/>
          </p:nvSpPr>
          <p:spPr>
            <a:xfrm>
              <a:off x="6620760" y="3164040"/>
              <a:ext cx="13208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38960" y="3248280"/>
              <a:ext cx="13208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8080" y="2105280"/>
              <a:ext cx="11008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21480" y="2105280"/>
              <a:ext cx="170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oan-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58040" y="1905120"/>
              <a:ext cx="16142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cial-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19520" y="1905120"/>
              <a:ext cx="1687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2590920"/>
              <a:ext cx="16142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39840" y="2590920"/>
              <a:ext cx="1541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ustomer-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730960" y="2333880"/>
              <a:ext cx="366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2436840" y="2333880"/>
              <a:ext cx="2934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730960" y="3019320"/>
              <a:ext cx="586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216520" y="3019320"/>
              <a:ext cx="513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02400" y="2562480"/>
              <a:ext cx="660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262640" y="2562120"/>
              <a:ext cx="7340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251880" y="3478320"/>
              <a:ext cx="146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19960" y="3063960"/>
              <a:ext cx="1247400" cy="8380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orr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7720" y="348300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997-41F7-4D18-9C54-B735B4653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존재 종속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있어야만 엔티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존재할 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존재 종속되었다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지배 엔티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아래 예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종속 엔티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아래 예에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가 삭제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그에 연관된 모든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또한 삭제되어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523880" y="3733920"/>
            <a:ext cx="6477120" cy="1066680"/>
            <a:chOff x="1523880" y="3733920"/>
            <a:chExt cx="6477120" cy="1066680"/>
          </a:xfrm>
        </p:grpSpPr>
        <p:sp>
          <p:nvSpPr>
            <p:cNvPr id="243" name=""/>
            <p:cNvSpPr/>
            <p:nvPr/>
          </p:nvSpPr>
          <p:spPr>
            <a:xfrm>
              <a:off x="3276720" y="3733920"/>
              <a:ext cx="2590560" cy="10666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oan-pa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9400" y="403884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a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23880" y="4038840"/>
              <a:ext cx="8384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62320" y="42674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67280" y="42674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924-2774-49FF-B21E-191A0D4BAA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키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엔티티 집합의 수퍼 키는 그 값이 각 엔티티를 유일하게 결정하는 하나 이상의 애트리뷰트 집합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집합의 후보 키는 최소 길이로 이루어진 수퍼 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-security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후보 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-numb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후보 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러 개의 후보 키가 존재할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 중의 하나가 주 키로 선택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참여하는 엔티티 집합의 주 키의 결합이 관계 집합의 후보 키를 이룬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 키를 선택할 때 대응 수와 관계 집합의 의미를 고려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al-security, account-number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주 키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65E-9D2B-43B1-B7C5-143DDD41B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도 구성 요소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각형은 엔티티 집합을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타원은 애트리뷰트를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마름모는 관계 집합을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은 애트리뷰트와 엔티티 집합 및 엔티티 집합과 관계 집합을 연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중 타원은 다중 값 애트리뷰트를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점 애트리뷰트는 유도 애트리뷰트를 의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주 키 애트리뷰트에는 밑줄을 긋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D5A-F175-45C5-A800-3E908F415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약 엔티티 집합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6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주 키를 갖지 않는 엔티티 집합을 약 엔티티 집합이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6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강 엔티티 집합이 있어야만 약 엔티티 집합이 존재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약 엔티티 집합은 일 대 다 관계 집합을 통해 강 엔티티 집합에 연결해야 한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6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약 엔티티 집합의 구별자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또는 부분 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는 약 엔티티 집합 내의 엔티티들을 구분하는 애트리뷰트의 집합이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6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약 엔티티 집합의 주 키는 약 엔티티 집합이 존재 종속 관계에 있는 강 엔티티 집합의 주 키와 약 엔티티 집합의 구별자가 합쳐져 이루어진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F50-F728-4E1B-8288-02313D6E91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약 엔티티 집합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약 엔티티 집합은 이중 사각형으로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약 엔티티 집합의 구별자에는 점선으로 밑줄을 긋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yment-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payme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집합의 구별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주 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-number, payment-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4648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62120" y="3886200"/>
            <a:ext cx="7924320" cy="2133720"/>
            <a:chOff x="762120" y="3886200"/>
            <a:chExt cx="7924320" cy="2133720"/>
          </a:xfrm>
        </p:grpSpPr>
        <p:sp>
          <p:nvSpPr>
            <p:cNvPr id="258" name=""/>
            <p:cNvSpPr/>
            <p:nvPr/>
          </p:nvSpPr>
          <p:spPr>
            <a:xfrm>
              <a:off x="3809880" y="4419720"/>
              <a:ext cx="1524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loan-pay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762120" y="3886200"/>
              <a:ext cx="7924320" cy="2133720"/>
              <a:chOff x="762120" y="3886200"/>
              <a:chExt cx="7924320" cy="2133720"/>
            </a:xfrm>
          </p:grpSpPr>
          <p:sp>
            <p:nvSpPr>
              <p:cNvPr id="260" name=""/>
              <p:cNvSpPr/>
              <p:nvPr/>
            </p:nvSpPr>
            <p:spPr>
              <a:xfrm>
                <a:off x="3683880" y="4388400"/>
                <a:ext cx="1766520" cy="163152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265800" y="4969800"/>
                <a:ext cx="1562760" cy="43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365160" y="5028840"/>
                <a:ext cx="1358640" cy="313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y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94360" y="3886200"/>
                <a:ext cx="1358640" cy="37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yment-d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24040" y="4325400"/>
                <a:ext cx="1562400" cy="37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yment-am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8960" y="4325400"/>
                <a:ext cx="1562400" cy="37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yment-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09480" y="4953240"/>
                <a:ext cx="1562400" cy="43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2120" y="4325400"/>
                <a:ext cx="1426680" cy="37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96680" y="4325400"/>
                <a:ext cx="1359000" cy="37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324880" y="4701600"/>
                <a:ext cx="7470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848960" y="4701600"/>
                <a:ext cx="475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45000" y="5189760"/>
                <a:ext cx="81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40320" y="5272200"/>
                <a:ext cx="81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08960" y="5203800"/>
                <a:ext cx="5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45480" y="4262400"/>
                <a:ext cx="0" cy="69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6945480" y="4701600"/>
                <a:ext cx="7470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6265440" y="4701600"/>
                <a:ext cx="67932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3887280" y="4576680"/>
                <a:ext cx="1358640" cy="1254600"/>
                <a:chOff x="3887280" y="4576680"/>
                <a:chExt cx="1358640" cy="1254600"/>
              </a:xfrm>
            </p:grpSpPr>
            <p:sp>
              <p:nvSpPr>
                <p:cNvPr id="278" name=""/>
                <p:cNvSpPr/>
                <p:nvPr/>
              </p:nvSpPr>
              <p:spPr>
                <a:xfrm flipH="1">
                  <a:off x="3887280" y="4576680"/>
                  <a:ext cx="679320" cy="62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887640" y="5203800"/>
                  <a:ext cx="679320" cy="62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4566960" y="5203440"/>
                  <a:ext cx="678960" cy="62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flipV="1">
                  <a:off x="4566960" y="4576680"/>
                  <a:ext cx="678960" cy="62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49B-F2EE-40C1-9167-8EFFF6900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세분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향식 설계 절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내의 서로 다른 엔티티와 구분되는 엔티티 집합내의 서브 그룹핑으로 지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들 서브 그룹핑은 상위 단계 엔티티 집합에는 적용되지 않는 애트리뷰트를 가지거나 관계에 참여하는 하위단계 엔티티 집합이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라는 라벨을 가진 역삼각형으로 나타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vings-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is an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C50-50B5-44DB-B254-6F9F42C8D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엔티티</a:t>
            </a:r>
            <a:r>
              <a:rPr b="0" i="1" lang="ko-K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합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는 다음으로 모델링할 수 있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간의 관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는 다른 객체와는 구분되며 존재하는 객체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특정한 사람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식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이란 같은 속성을 가지는 같은 유형의 엔티티들의 집합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사람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회사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나무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휴일들의 집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622-522A-4ECD-AAA0-600263BEA3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세분화의 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19320" y="1676520"/>
            <a:ext cx="1628640" cy="363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count-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34040" y="1681200"/>
            <a:ext cx="162720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357720" y="2263680"/>
            <a:ext cx="1366560" cy="3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800000">
            <a:off x="3357720" y="2919240"/>
            <a:ext cx="1301760" cy="581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24200" y="3586320"/>
            <a:ext cx="1758960" cy="36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vings-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34040" y="3586320"/>
            <a:ext cx="1822320" cy="36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ecking-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0800000">
            <a:off x="4594320" y="4150800"/>
            <a:ext cx="1301760" cy="582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5105520"/>
            <a:ext cx="1143000" cy="36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9320" y="5079960"/>
            <a:ext cx="976320" cy="3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9360" y="5079960"/>
            <a:ext cx="978120" cy="36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89000" y="5808600"/>
            <a:ext cx="136872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-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3160" y="5808600"/>
            <a:ext cx="149688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est-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75160" y="5808600"/>
            <a:ext cx="136872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-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9000" y="5808600"/>
            <a:ext cx="136692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e-of-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008600" y="2049120"/>
            <a:ext cx="91116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097080" y="2049120"/>
            <a:ext cx="9115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008600" y="26586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770200" y="3260880"/>
            <a:ext cx="91296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34040" y="3260880"/>
            <a:ext cx="8460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45200" y="2895480"/>
            <a:ext cx="162864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verdraft-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2895480"/>
            <a:ext cx="162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terest-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924200" y="3260520"/>
            <a:ext cx="8460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80040" y="3260520"/>
            <a:ext cx="91116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80040" y="39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45200" y="4716360"/>
            <a:ext cx="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073040" y="4424400"/>
            <a:ext cx="84636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70640" y="4424400"/>
            <a:ext cx="780840" cy="65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639880" y="5443560"/>
            <a:ext cx="143352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398480" y="5443560"/>
            <a:ext cx="84636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45200" y="5443560"/>
            <a:ext cx="7808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51480" y="5443560"/>
            <a:ext cx="123840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26A-D2A7-4B99-8974-1343F7658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반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상향식 설계 절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동일한 기능을 공유하는 여러 엔티티 집합을 상위 단계 엔티티 집합으로 결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세분화와 일반화는 서로가 단순한 역 관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에서는 같은 방법으로 표현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 상속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위 단계 엔티티 집합은 연결된 상위 단계 엔티티 집합의 모든 애트리뷰트와 관계 참여를 상속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C9A-6CD4-4D8D-9D71-14323751EE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반화에서의 설계 제약 조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엔티티들이 주어진 하위 단계 엔티티 집합의 멤버가 될 수 있는가에 대한 제약 조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조건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 정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일반화 내에서 엔티티들이 하나 이상의 하위 단계 엔티티 집합에 속할 수 있는가에 대한 제약 조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전성 제약 조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반화 내에서 상위 단계 엔티티 집합내의 엔티티가 적어도 하나의 하위 단계 엔티티 집합에 속해야만 하는가 여부를 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완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DDE-1DD7-4B2D-B618-C4A90707E3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통합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 고객은 대출 담당 직원의 조언을 받을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248616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cial-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48616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-st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248616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248616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-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96064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05320" y="296064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-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3435480"/>
            <a:ext cx="1523880" cy="498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164120"/>
            <a:ext cx="1523880" cy="498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an-offi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4994280"/>
            <a:ext cx="17524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81480" y="5400720"/>
            <a:ext cx="2057400" cy="363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-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5400720"/>
            <a:ext cx="1752480" cy="33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social-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5834160"/>
            <a:ext cx="175248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-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14600" y="3527280"/>
            <a:ext cx="1143000" cy="33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3527280"/>
            <a:ext cx="1143000" cy="33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048120" y="2782800"/>
            <a:ext cx="53316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590920" y="2782800"/>
            <a:ext cx="45720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3324240"/>
            <a:ext cx="99036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057400" y="3324240"/>
            <a:ext cx="99072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6858000" y="2849040"/>
            <a:ext cx="83808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6019920" y="2849040"/>
            <a:ext cx="838080" cy="6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638680" y="3664080"/>
            <a:ext cx="68580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3657600" y="3664080"/>
            <a:ext cx="45720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6958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53160" y="5289480"/>
            <a:ext cx="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53160" y="5289480"/>
            <a:ext cx="76176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43320" y="5289480"/>
            <a:ext cx="6098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36831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780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71800" y="563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3FBC-AECA-439A-A3E9-244A5A8DFC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통합화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관계 집합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an-officer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는 같은 정보를 표현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이러한 중복을 통합화를 통해 제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관계를 추상적인 엔티티로 취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관계간의 관계를 허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관계의 추상화를 새로운 엔티티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중복을 도입하지 않고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다음 도표는 아래와 같은 내용을 표현한다</a:t>
            </a:r>
            <a:r>
              <a:rPr b="0" lang="ko-KR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고객이 대출을 받고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직원은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-loan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쌍에 대해 대출 담당자일 수 있다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603-178A-42A6-9496-AAC4704938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400" spc="-1" strike="noStrike">
                <a:solidFill>
                  <a:srgbClr val="000000"/>
                </a:solidFill>
                <a:latin typeface="Times New Roman"/>
              </a:rPr>
              <a:t>통합화의 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62120" y="1752480"/>
            <a:ext cx="7924680" cy="4419720"/>
            <a:chOff x="762120" y="1752480"/>
            <a:chExt cx="7924680" cy="4419720"/>
          </a:xfrm>
        </p:grpSpPr>
        <p:sp>
          <p:nvSpPr>
            <p:cNvPr id="356" name=""/>
            <p:cNvSpPr/>
            <p:nvPr/>
          </p:nvSpPr>
          <p:spPr>
            <a:xfrm>
              <a:off x="1616400" y="182880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cial-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3400" y="2362320"/>
              <a:ext cx="169704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6920" y="1828800"/>
              <a:ext cx="169884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06880" y="1905120"/>
              <a:ext cx="169884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62280" y="2438280"/>
              <a:ext cx="169884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51440" y="327672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1050120" y="1828800"/>
              <a:ext cx="7423920" cy="1943280"/>
              <a:chOff x="1050120" y="1828800"/>
              <a:chExt cx="7423920" cy="1943280"/>
            </a:xfrm>
          </p:grpSpPr>
          <p:sp>
            <p:nvSpPr>
              <p:cNvPr id="363" name=""/>
              <p:cNvSpPr/>
              <p:nvPr/>
            </p:nvSpPr>
            <p:spPr>
              <a:xfrm>
                <a:off x="1398240" y="1828800"/>
                <a:ext cx="169812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75920" y="1905120"/>
                <a:ext cx="169812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93600" y="3276720"/>
                <a:ext cx="155628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68160" y="3276720"/>
                <a:ext cx="155664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70040" y="3086280"/>
                <a:ext cx="1202400" cy="68580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64160" y="2743200"/>
                <a:ext cx="6364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601000" y="2209680"/>
                <a:ext cx="7056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2601000" y="2209680"/>
                <a:ext cx="848880" cy="106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601000" y="2819520"/>
                <a:ext cx="15566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6775920" y="2286000"/>
                <a:ext cx="84888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26680" y="2286000"/>
                <a:ext cx="84888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449520" y="3429000"/>
                <a:ext cx="91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572800" y="342900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50120" y="2362320"/>
                <a:ext cx="143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85440" y="1828800"/>
                <a:ext cx="143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ustomer-stre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79360" y="2438280"/>
                <a:ext cx="129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ustomer-c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88760" y="1905120"/>
                <a:ext cx="121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203600" y="1905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94760" y="327672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0200" y="32637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81200" y="2133720"/>
              <a:ext cx="11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61120" y="2209680"/>
              <a:ext cx="106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27760" y="5410080"/>
              <a:ext cx="169704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5470560"/>
              <a:ext cx="1698480" cy="350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57640" y="5821200"/>
              <a:ext cx="1698480" cy="351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16560" y="420840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an-offic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4880" y="480060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2120" y="1752480"/>
              <a:ext cx="7924680" cy="215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41680" y="4049640"/>
              <a:ext cx="1202040" cy="62712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67080" y="4800600"/>
              <a:ext cx="1555920" cy="34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043600" y="3911400"/>
              <a:ext cx="0" cy="13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043600" y="5165640"/>
              <a:ext cx="0" cy="62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006520" y="5165640"/>
              <a:ext cx="127476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592440" y="5165640"/>
              <a:ext cx="1414440" cy="2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90080" y="544356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-social-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46720" y="579276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loyee-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01560" y="5445000"/>
              <a:ext cx="165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lephone-num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43600" y="4660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1800" y="5715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696-345C-44AD-884E-F13A371FA0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설계 결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를 표현하기 위해 애트리뷰트를 사용할 것인가 엔티티 집합을 사용할 것인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세계의 개념을 엔티티 집합으로 나타낼 것인가 관계 집합으로 나타낼 것인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삼진 관계를 사용할 것인가 이진 관계의 쌍을 사용할 것인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강 엔티티를 사용할 것인가 약 엔티티를 사용할 것인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화의 사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설계시 모듈화에 기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합화의 사용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부 구조의 상세 사항에는 관여하지 않고 통합 엔티티 집합을 단일 단위로 취급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596-A5CD-4015-90D0-889999ABE5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은행 기관의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38080" y="1905120"/>
            <a:ext cx="7695720" cy="3961800"/>
            <a:chOff x="838080" y="1905120"/>
            <a:chExt cx="7695720" cy="3961800"/>
          </a:xfrm>
        </p:grpSpPr>
        <p:sp>
          <p:nvSpPr>
            <p:cNvPr id="406" name=""/>
            <p:cNvSpPr/>
            <p:nvPr/>
          </p:nvSpPr>
          <p:spPr>
            <a:xfrm>
              <a:off x="3130560" y="1905120"/>
              <a:ext cx="106380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ranch-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11560" y="207000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cc00ff"/>
                  </a:solidFill>
                  <a:uFillTx/>
                  <a:latin typeface="Times New Roman"/>
                </a:rPr>
                <a:t>branch-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49200" y="207000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e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48480" y="2317680"/>
              <a:ext cx="1064160" cy="16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4000" y="2647800"/>
              <a:ext cx="654840" cy="32976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an-bra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92920" y="281268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cc00ff"/>
                  </a:solidFill>
                  <a:uFillTx/>
                  <a:latin typeface="Times New Roman"/>
                </a:rPr>
                <a:t>social-secur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83600" y="306036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-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93640" y="2977920"/>
              <a:ext cx="106380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-stre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39160" y="3225240"/>
              <a:ext cx="106380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-c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8440" y="3555720"/>
              <a:ext cx="1064160" cy="16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94000" y="3472920"/>
              <a:ext cx="654840" cy="33012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orrow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94720" y="3555720"/>
              <a:ext cx="1064160" cy="16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0920" y="289548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cc00ff"/>
                  </a:solidFill>
                  <a:uFillTx/>
                  <a:latin typeface="Times New Roman"/>
                </a:rPr>
                <a:t>loan-numb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1640" y="306036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m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04760" y="3388680"/>
              <a:ext cx="982440" cy="495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33080" y="3555720"/>
              <a:ext cx="1064160" cy="16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1000" y="3472920"/>
              <a:ext cx="1227960" cy="33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77880" y="3060360"/>
              <a:ext cx="1063800" cy="247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ff"/>
                  </a:solidFill>
                  <a:latin typeface="Times New Roman"/>
                </a:rPr>
                <a:t>payment-numb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33080" y="264780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yment-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469640" y="2977920"/>
              <a:ext cx="106416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yment-am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58520" y="4215960"/>
              <a:ext cx="654840" cy="33012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posi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94720" y="3885840"/>
              <a:ext cx="1064160" cy="164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cess-d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32360" y="4298760"/>
              <a:ext cx="1063800" cy="16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59240" y="3968280"/>
              <a:ext cx="106416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cc00ff"/>
                  </a:solidFill>
                  <a:uFillTx/>
                  <a:latin typeface="Times New Roman"/>
                </a:rPr>
                <a:t>account-numb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87200" y="3968280"/>
              <a:ext cx="106416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al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14080" y="4793760"/>
              <a:ext cx="736560" cy="24732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77160" y="5206320"/>
              <a:ext cx="1064160" cy="16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avings-acc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49920" y="5701680"/>
              <a:ext cx="106380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terest-r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96520" y="5701680"/>
              <a:ext cx="1064160" cy="165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verdraft-am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9280" y="5206320"/>
              <a:ext cx="1063800" cy="165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cking-acco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41680" y="3225240"/>
              <a:ext cx="7365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21960" y="207000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621600" y="2152440"/>
              <a:ext cx="3272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76080" y="2152440"/>
              <a:ext cx="24552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66040" y="3225240"/>
              <a:ext cx="24552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29480" y="2977920"/>
              <a:ext cx="8172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311560" y="3143160"/>
              <a:ext cx="163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2311560" y="3308040"/>
              <a:ext cx="32760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2802960" y="3638520"/>
              <a:ext cx="49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2802960" y="3638160"/>
              <a:ext cx="163728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311560" y="37202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21960" y="24825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703320" y="2977560"/>
              <a:ext cx="49104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3949200" y="363852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4604400" y="3060000"/>
              <a:ext cx="8136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685760" y="3224880"/>
              <a:ext cx="32760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59240" y="363852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23760" y="355572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23760" y="372060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520" y="3308040"/>
              <a:ext cx="40932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306200" y="3060360"/>
              <a:ext cx="24552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24120" y="2812680"/>
              <a:ext cx="8172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85760" y="4051080"/>
              <a:ext cx="0" cy="16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5013720" y="4381200"/>
              <a:ext cx="81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2360" y="4133520"/>
              <a:ext cx="4910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6323760" y="4133520"/>
              <a:ext cx="24552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3760" y="446364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5668560" y="4876560"/>
              <a:ext cx="4093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487200" y="4876560"/>
              <a:ext cx="5731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142040" y="5371920"/>
              <a:ext cx="24552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341320" y="5371920"/>
              <a:ext cx="327240" cy="32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838080" y="4051080"/>
              <a:ext cx="3192480" cy="1733040"/>
              <a:chOff x="838080" y="4051080"/>
              <a:chExt cx="3192480" cy="17330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84320" y="4051080"/>
                <a:ext cx="654480" cy="33012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ust-bank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02600" y="4133520"/>
                <a:ext cx="1064160" cy="16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yp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38800" y="4628880"/>
                <a:ext cx="1063800" cy="16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76080" y="4546080"/>
                <a:ext cx="654480" cy="330120"/>
              </a:xfrm>
              <a:prstGeom prst="flowChartDecis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works-f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4959000"/>
                <a:ext cx="1064160" cy="16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cc00ff"/>
                    </a:solidFill>
                    <a:uFillTx/>
                    <a:latin typeface="Times New Roman"/>
                  </a:rPr>
                  <a:t>e-social-securit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9800" y="5289120"/>
                <a:ext cx="1064160" cy="16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dependent-na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65320" y="5619240"/>
                <a:ext cx="1064160" cy="164880"/>
              </a:xfrm>
              <a:prstGeom prst="ellipse">
                <a:avLst/>
              </a:prstGeom>
              <a:noFill/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employment-lengt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93640" y="5619240"/>
                <a:ext cx="1064160" cy="164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rt-dat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557080" y="5289120"/>
                <a:ext cx="1064160" cy="16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elephone-numb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802600" y="5041440"/>
                <a:ext cx="1064160" cy="165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employee-nam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38080" y="5206680"/>
                <a:ext cx="1227960" cy="329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2311560" y="4380840"/>
                <a:ext cx="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9160" y="4216320"/>
                <a:ext cx="16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02600" y="4628880"/>
                <a:ext cx="73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802240" y="4793760"/>
                <a:ext cx="65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2066040" y="4793400"/>
                <a:ext cx="245520" cy="82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2311200" y="4793400"/>
                <a:ext cx="163800" cy="82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2311200" y="4793400"/>
                <a:ext cx="32724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2311200" y="4793400"/>
                <a:ext cx="654840" cy="24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1902240" y="4793760"/>
                <a:ext cx="40896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738440" y="4793760"/>
                <a:ext cx="572760" cy="16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2900160" y="4471920"/>
              <a:ext cx="53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99080" y="4719240"/>
              <a:ext cx="474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ork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68560" y="3472920"/>
              <a:ext cx="655200" cy="330120"/>
            </a:xfrm>
            <a:prstGeom prst="flowChartDecision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oan-pa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10C-C371-4F3F-99D8-DC364FF2E1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키마를 테이블로 변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 키는 엔티티 집합과 관계 집합이 데이터베이스의 내용을 표현하는 테이블로 균일하게 나타나도록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에 상응하는 데이터베이스는 테이블의 모임으로 표현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엔티티 집합과 관계 집합에 대해 그에 상응하는 이름이 할당된 유일한 테이블이 존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테이블에는 고유한 이름을 가진 여러 개의 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으로 애트리뷰트에 대응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가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를 테이블 형식으로 변환하는 것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로 부터 관계형 데이터베이스 설계를 유도하는 기본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6D7-2614-41D2-B224-221CC88720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일반화를 테이블로 표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반화 엔티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대한 테이블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반화되는 각 엔티티 집합에 대한 테이블 작성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반화 엔티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집합의 주 키 포함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테이블                                  테이블 애트리뷰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2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 :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반화되는 각 엔티티 집합에 대한 테이블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테이블                                  테이블 애트리뷰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방법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는 일반화 엔티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대한 테이블이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65640" y="3522600"/>
            <a:ext cx="172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143000" y="3124080"/>
            <a:ext cx="6513480" cy="952560"/>
            <a:chOff x="1143000" y="3124080"/>
            <a:chExt cx="6513480" cy="952560"/>
          </a:xfrm>
        </p:grpSpPr>
        <p:grpSp>
          <p:nvGrpSpPr>
            <p:cNvPr id="498" name=""/>
            <p:cNvGrpSpPr/>
            <p:nvPr/>
          </p:nvGrpSpPr>
          <p:grpSpPr>
            <a:xfrm>
              <a:off x="1380240" y="3176280"/>
              <a:ext cx="6020640" cy="809640"/>
              <a:chOff x="1380240" y="3176280"/>
              <a:chExt cx="6020640" cy="809640"/>
            </a:xfrm>
          </p:grpSpPr>
          <p:sp>
            <p:nvSpPr>
              <p:cNvPr id="499" name=""/>
              <p:cNvSpPr/>
              <p:nvPr/>
            </p:nvSpPr>
            <p:spPr>
              <a:xfrm>
                <a:off x="1392840" y="3176280"/>
                <a:ext cx="726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cc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84920" y="3443040"/>
                <a:ext cx="1488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avings-acc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80240" y="3711240"/>
                <a:ext cx="1617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hecking-acc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59480" y="3176280"/>
                <a:ext cx="364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ccount-number, balance, account-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66320" y="3443040"/>
                <a:ext cx="2748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ccount-number, interest-r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55520" y="3711240"/>
                <a:ext cx="322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ccount-number, overdraft-amou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143000" y="3124080"/>
              <a:ext cx="22068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9800" y="3141360"/>
              <a:ext cx="17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49800" y="3124080"/>
              <a:ext cx="1728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49800" y="3124080"/>
              <a:ext cx="17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9800" y="3124080"/>
              <a:ext cx="1440" cy="17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67080" y="3124080"/>
              <a:ext cx="4289400" cy="1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49800" y="3141360"/>
              <a:ext cx="17280" cy="9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1143000" y="3124080"/>
              <a:ext cx="6513480" cy="952560"/>
              <a:chOff x="1143000" y="3124080"/>
              <a:chExt cx="6513480" cy="95256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1143000" y="3124080"/>
                <a:ext cx="6513480" cy="1440"/>
                <a:chOff x="1143000" y="3124080"/>
                <a:chExt cx="6513480" cy="14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143000" y="3124080"/>
                  <a:ext cx="22068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67080" y="3124080"/>
                  <a:ext cx="42894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3349800" y="3141360"/>
                <a:ext cx="1440" cy="9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3365640" y="5349960"/>
            <a:ext cx="172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158840" y="4952880"/>
            <a:ext cx="6943680" cy="588960"/>
            <a:chOff x="1158840" y="4952880"/>
            <a:chExt cx="6943680" cy="588960"/>
          </a:xfrm>
        </p:grpSpPr>
        <p:grpSp>
          <p:nvGrpSpPr>
            <p:cNvPr id="519" name=""/>
            <p:cNvGrpSpPr/>
            <p:nvPr/>
          </p:nvGrpSpPr>
          <p:grpSpPr>
            <a:xfrm>
              <a:off x="1441800" y="5003640"/>
              <a:ext cx="6293880" cy="511920"/>
              <a:chOff x="1441800" y="5003640"/>
              <a:chExt cx="6293880" cy="511920"/>
            </a:xfrm>
          </p:grpSpPr>
          <p:sp>
            <p:nvSpPr>
              <p:cNvPr id="520" name=""/>
              <p:cNvSpPr/>
              <p:nvPr/>
            </p:nvSpPr>
            <p:spPr>
              <a:xfrm>
                <a:off x="1441800" y="5003640"/>
                <a:ext cx="1404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avings-accoun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454760" y="5256000"/>
                <a:ext cx="1524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checking-accoun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908880" y="5003640"/>
                <a:ext cx="3386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ccount-number, balance, interest-r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889800" y="5256000"/>
                <a:ext cx="3845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account-number, balance, overdraft-amoun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1158840" y="4952880"/>
              <a:ext cx="22068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65640" y="4968720"/>
              <a:ext cx="17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65640" y="4952880"/>
              <a:ext cx="172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65640" y="4952880"/>
              <a:ext cx="17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65640" y="4952880"/>
              <a:ext cx="1440" cy="15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2920" y="4952880"/>
              <a:ext cx="47196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65640" y="4970160"/>
              <a:ext cx="17280" cy="5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1158840" y="4952880"/>
              <a:ext cx="6943680" cy="588960"/>
              <a:chOff x="1158840" y="4952880"/>
              <a:chExt cx="6943680" cy="588960"/>
            </a:xfrm>
          </p:grpSpPr>
          <p:sp>
            <p:nvSpPr>
              <p:cNvPr id="532" name=""/>
              <p:cNvSpPr/>
              <p:nvPr/>
            </p:nvSpPr>
            <p:spPr>
              <a:xfrm>
                <a:off x="1158840" y="4952880"/>
                <a:ext cx="2206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82920" y="4952880"/>
                <a:ext cx="471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365640" y="4970160"/>
                <a:ext cx="1440" cy="57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BA4-9338-4A70-9248-34531F3932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애트리뷰트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는 엔티티 집합의 모든 멤버가 소유하는 설명 속성인 애트리뷰트의 집합으로 표현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= (customer-name, social-securi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-street, customer-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= (account-number, 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메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애트리뷰트에 허용되는 값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 유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순 및 복합 애트리뷰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단일 값 및 다중 값 애트리뷰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널 애트리뷰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도 애트리뷰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7FB-264E-46CA-BDFE-E3411902E9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통합화에 상응하는 릴레이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-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838080" y="2209680"/>
            <a:ext cx="7848720" cy="457200"/>
            <a:chOff x="838080" y="2209680"/>
            <a:chExt cx="7848720" cy="457200"/>
          </a:xfrm>
        </p:grpSpPr>
        <p:grpSp>
          <p:nvGrpSpPr>
            <p:cNvPr id="538" name=""/>
            <p:cNvGrpSpPr/>
            <p:nvPr/>
          </p:nvGrpSpPr>
          <p:grpSpPr>
            <a:xfrm>
              <a:off x="931320" y="2255760"/>
              <a:ext cx="7694280" cy="335520"/>
              <a:chOff x="931320" y="2255760"/>
              <a:chExt cx="7694280" cy="335520"/>
            </a:xfrm>
          </p:grpSpPr>
          <p:sp>
            <p:nvSpPr>
              <p:cNvPr id="539" name=""/>
              <p:cNvSpPr/>
              <p:nvPr/>
            </p:nvSpPr>
            <p:spPr>
              <a:xfrm>
                <a:off x="931320" y="2255760"/>
                <a:ext cx="172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812320" y="2255760"/>
                <a:ext cx="21862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ust-social-secur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199840" y="2255760"/>
                <a:ext cx="17352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ustomer-stree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107120" y="2255760"/>
                <a:ext cx="15184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customer-c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838080" y="2209680"/>
              <a:ext cx="78487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0684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9868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4196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838080" y="3048120"/>
            <a:ext cx="3200400" cy="457200"/>
            <a:chOff x="838080" y="3048120"/>
            <a:chExt cx="3200400" cy="457200"/>
          </a:xfrm>
        </p:grpSpPr>
        <p:grpSp>
          <p:nvGrpSpPr>
            <p:cNvPr id="548" name=""/>
            <p:cNvGrpSpPr/>
            <p:nvPr/>
          </p:nvGrpSpPr>
          <p:grpSpPr>
            <a:xfrm>
              <a:off x="1129320" y="3094200"/>
              <a:ext cx="2758320" cy="335520"/>
              <a:chOff x="1129320" y="3094200"/>
              <a:chExt cx="2758320" cy="335520"/>
            </a:xfrm>
          </p:grpSpPr>
          <p:sp>
            <p:nvSpPr>
              <p:cNvPr id="549" name=""/>
              <p:cNvSpPr/>
              <p:nvPr/>
            </p:nvSpPr>
            <p:spPr>
              <a:xfrm>
                <a:off x="1129320" y="3094200"/>
                <a:ext cx="1445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47040" y="3094200"/>
                <a:ext cx="840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838080" y="3048120"/>
              <a:ext cx="3200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59120" y="3048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838080" y="3962520"/>
            <a:ext cx="4267440" cy="457200"/>
            <a:chOff x="838080" y="3962520"/>
            <a:chExt cx="4267440" cy="457200"/>
          </a:xfrm>
        </p:grpSpPr>
        <p:grpSp>
          <p:nvGrpSpPr>
            <p:cNvPr id="554" name=""/>
            <p:cNvGrpSpPr/>
            <p:nvPr/>
          </p:nvGrpSpPr>
          <p:grpSpPr>
            <a:xfrm>
              <a:off x="1014480" y="4003560"/>
              <a:ext cx="3981240" cy="340200"/>
              <a:chOff x="1014480" y="4003560"/>
              <a:chExt cx="3981240" cy="340200"/>
            </a:xfrm>
          </p:grpSpPr>
          <p:sp>
            <p:nvSpPr>
              <p:cNvPr id="555" name=""/>
              <p:cNvSpPr/>
              <p:nvPr/>
            </p:nvSpPr>
            <p:spPr>
              <a:xfrm>
                <a:off x="1014480" y="4003560"/>
                <a:ext cx="21862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ust-social-secur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50320" y="4008240"/>
                <a:ext cx="1445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838080" y="3962520"/>
              <a:ext cx="42674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52680" y="3962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838080" y="4800600"/>
            <a:ext cx="6172200" cy="457200"/>
            <a:chOff x="838080" y="4800600"/>
            <a:chExt cx="6172200" cy="457200"/>
          </a:xfrm>
        </p:grpSpPr>
        <p:grpSp>
          <p:nvGrpSpPr>
            <p:cNvPr id="560" name=""/>
            <p:cNvGrpSpPr/>
            <p:nvPr/>
          </p:nvGrpSpPr>
          <p:grpSpPr>
            <a:xfrm>
              <a:off x="949320" y="4846680"/>
              <a:ext cx="5945040" cy="335520"/>
              <a:chOff x="949320" y="4846680"/>
              <a:chExt cx="5945040" cy="335520"/>
            </a:xfrm>
          </p:grpSpPr>
          <p:sp>
            <p:nvSpPr>
              <p:cNvPr id="561" name=""/>
              <p:cNvSpPr/>
              <p:nvPr/>
            </p:nvSpPr>
            <p:spPr>
              <a:xfrm>
                <a:off x="949320" y="4846680"/>
                <a:ext cx="2201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mp-social-secur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23160" y="4846680"/>
                <a:ext cx="175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employee-nam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62840" y="4846680"/>
                <a:ext cx="1631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phone-numb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838080" y="4800600"/>
              <a:ext cx="6172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4800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81480" y="4800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838080" y="5715000"/>
            <a:ext cx="6324840" cy="457200"/>
            <a:chOff x="838080" y="5715000"/>
            <a:chExt cx="6324840" cy="457200"/>
          </a:xfrm>
        </p:grpSpPr>
        <p:grpSp>
          <p:nvGrpSpPr>
            <p:cNvPr id="568" name=""/>
            <p:cNvGrpSpPr/>
            <p:nvPr/>
          </p:nvGrpSpPr>
          <p:grpSpPr>
            <a:xfrm>
              <a:off x="909720" y="5753160"/>
              <a:ext cx="6177960" cy="370440"/>
              <a:chOff x="909720" y="5753160"/>
              <a:chExt cx="6177960" cy="370440"/>
            </a:xfrm>
          </p:grpSpPr>
          <p:sp>
            <p:nvSpPr>
              <p:cNvPr id="569" name=""/>
              <p:cNvSpPr/>
              <p:nvPr/>
            </p:nvSpPr>
            <p:spPr>
              <a:xfrm>
                <a:off x="909720" y="5753160"/>
                <a:ext cx="2201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mp-social-secur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287520" y="5753160"/>
                <a:ext cx="21862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cust-social-security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42280" y="5788080"/>
                <a:ext cx="1445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oan-number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838080" y="5715000"/>
              <a:ext cx="6324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00400" y="571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62720" y="5715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F3E-D7B5-4767-8770-2D9A43BD2A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엔티티 집합을 테이블로 표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강 엔티티 집합은 같은 애트리뷰트를 가진 테이블로 변환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약 엔티티 집합은 강 엔티티 집합을 식별하는 주 키의 행을 포함한 테이블이 된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768320" y="2209680"/>
            <a:ext cx="5351760" cy="1068480"/>
            <a:chOff x="1768320" y="2209680"/>
            <a:chExt cx="5351760" cy="1068480"/>
          </a:xfrm>
        </p:grpSpPr>
        <p:grpSp>
          <p:nvGrpSpPr>
            <p:cNvPr id="578" name=""/>
            <p:cNvGrpSpPr/>
            <p:nvPr/>
          </p:nvGrpSpPr>
          <p:grpSpPr>
            <a:xfrm>
              <a:off x="1954080" y="2209680"/>
              <a:ext cx="5041080" cy="1068480"/>
              <a:chOff x="1954080" y="2209680"/>
              <a:chExt cx="5041080" cy="1068480"/>
            </a:xfrm>
          </p:grpSpPr>
          <p:sp>
            <p:nvSpPr>
              <p:cNvPr id="579" name=""/>
              <p:cNvSpPr/>
              <p:nvPr/>
            </p:nvSpPr>
            <p:spPr>
              <a:xfrm>
                <a:off x="1954080" y="2209680"/>
                <a:ext cx="1413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641400" y="2209680"/>
                <a:ext cx="1337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ocial-secur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7920" y="2209680"/>
                <a:ext cx="675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-stre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336000" y="2209680"/>
                <a:ext cx="52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-c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06600" y="2477880"/>
                <a:ext cx="508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386800" y="2741400"/>
                <a:ext cx="54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7800" y="3003480"/>
                <a:ext cx="57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ay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17720" y="2477880"/>
                <a:ext cx="1181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321-12-312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17720" y="2741400"/>
                <a:ext cx="1181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019-28-374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722400" y="3003480"/>
                <a:ext cx="1181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Times New Roman"/>
                  </a:rPr>
                  <a:t>677-89-901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324040" y="2477880"/>
                <a:ext cx="48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300280" y="2741400"/>
                <a:ext cx="53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o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24040" y="3003480"/>
                <a:ext cx="48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94160" y="2477880"/>
                <a:ext cx="801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arris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16280" y="2741400"/>
                <a:ext cx="369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y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194160" y="3003480"/>
                <a:ext cx="801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Harris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768320" y="2209680"/>
              <a:ext cx="5351760" cy="1066680"/>
              <a:chOff x="1768320" y="2209680"/>
              <a:chExt cx="5351760" cy="1066680"/>
            </a:xfrm>
          </p:grpSpPr>
          <p:sp>
            <p:nvSpPr>
              <p:cNvPr id="596" name=""/>
              <p:cNvSpPr/>
              <p:nvPr/>
            </p:nvSpPr>
            <p:spPr>
              <a:xfrm>
                <a:off x="1773360" y="2209680"/>
                <a:ext cx="1685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65360" y="2209680"/>
                <a:ext cx="159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065560" y="2209680"/>
                <a:ext cx="90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981760" y="2209680"/>
                <a:ext cx="113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68320" y="22158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59240" y="2215800"/>
                <a:ext cx="144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60880" y="22158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75280" y="22158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18280" y="2215800"/>
                <a:ext cx="1800" cy="263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73360" y="2479320"/>
                <a:ext cx="1685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65360" y="2479320"/>
                <a:ext cx="1595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65560" y="2479320"/>
                <a:ext cx="90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81760" y="2479320"/>
                <a:ext cx="1136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8320" y="2485800"/>
                <a:ext cx="1800" cy="78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73360" y="3274920"/>
                <a:ext cx="1685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59240" y="2485800"/>
                <a:ext cx="1440" cy="78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465360" y="3274920"/>
                <a:ext cx="1595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60880" y="2485800"/>
                <a:ext cx="1800" cy="78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065560" y="3274920"/>
                <a:ext cx="90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975280" y="2485800"/>
                <a:ext cx="1800" cy="78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981760" y="3274920"/>
                <a:ext cx="1136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18280" y="2485800"/>
                <a:ext cx="1800" cy="789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1360440" y="4648320"/>
            <a:ext cx="6519960" cy="1068480"/>
            <a:chOff x="1360440" y="4648320"/>
            <a:chExt cx="6519960" cy="1068480"/>
          </a:xfrm>
        </p:grpSpPr>
        <p:sp>
          <p:nvSpPr>
            <p:cNvPr id="619" name=""/>
            <p:cNvSpPr/>
            <p:nvPr/>
          </p:nvSpPr>
          <p:spPr>
            <a:xfrm>
              <a:off x="1392120" y="4648320"/>
              <a:ext cx="149544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92600" y="4648320"/>
              <a:ext cx="178416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83240" y="4648320"/>
              <a:ext cx="147780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67520" y="4648320"/>
              <a:ext cx="170640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87440" y="4656240"/>
              <a:ext cx="4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7560" y="4656240"/>
              <a:ext cx="50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76760" y="4656240"/>
              <a:ext cx="6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61040" y="4656240"/>
              <a:ext cx="6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92120" y="4919760"/>
              <a:ext cx="149544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92600" y="4919760"/>
              <a:ext cx="178416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83240" y="4919760"/>
              <a:ext cx="147780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67520" y="4919760"/>
              <a:ext cx="170640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87440" y="4925880"/>
              <a:ext cx="46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87560" y="4925880"/>
              <a:ext cx="504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76760" y="4925880"/>
              <a:ext cx="6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61040" y="4925880"/>
              <a:ext cx="6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873920" y="4925880"/>
              <a:ext cx="6480" cy="7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11640" y="4648320"/>
              <a:ext cx="117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an-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60640" y="4648320"/>
              <a:ext cx="156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yment-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57400" y="4648320"/>
              <a:ext cx="1248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yment-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01720" y="4648320"/>
              <a:ext cx="155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yment-am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74520" y="491652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-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74520" y="518004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-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74520" y="544212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-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5680" y="49165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31680" y="5180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627000" y="5442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71080" y="4916520"/>
              <a:ext cx="122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1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 1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71080" y="5180040"/>
              <a:ext cx="122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 1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71080" y="5442120"/>
              <a:ext cx="1221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23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 1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62320" y="4916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2320" y="5180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06880" y="5442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65120" y="4648320"/>
              <a:ext cx="149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5600" y="4648320"/>
              <a:ext cx="178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56240" y="4648320"/>
              <a:ext cx="147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40520" y="4648320"/>
              <a:ext cx="170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60440" y="4654440"/>
              <a:ext cx="1800" cy="26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60560" y="4654440"/>
              <a:ext cx="1800" cy="26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49760" y="4654440"/>
              <a:ext cx="1440" cy="26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134040" y="4654440"/>
              <a:ext cx="1800" cy="26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60440" y="4924440"/>
              <a:ext cx="1800" cy="78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65120" y="5713560"/>
              <a:ext cx="149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60560" y="4924440"/>
              <a:ext cx="1800" cy="78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65600" y="5713560"/>
              <a:ext cx="178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49760" y="4924440"/>
              <a:ext cx="1440" cy="78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656240" y="5713560"/>
              <a:ext cx="147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134040" y="4924440"/>
              <a:ext cx="1800" cy="78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40520" y="5713560"/>
              <a:ext cx="1706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371600" y="4915080"/>
              <a:ext cx="647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48720" y="46483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3793320" y="5866560"/>
            <a:ext cx="178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yment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FDF-A0E0-4589-AA40-7B9EEDC6CA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집합을 테이블로 표현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 대 다 관계 집합은 참여하는 두 엔티티 집합의 주 키와 관계 집합의 어떤 설명 애트리뷰트에 대한 열을 가진 테이블로 표현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약 엔티티 집합에 그를 식별하고 있는 강 엔티티 집합을 연결하는 관계 집합에 상응하는 테이블은 중복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블에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-payme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블에 나타난 정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- numbe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-numbe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이미 가지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752120" y="2774880"/>
            <a:ext cx="5297040" cy="617040"/>
            <a:chOff x="1752120" y="2774880"/>
            <a:chExt cx="5297040" cy="617040"/>
          </a:xfrm>
        </p:grpSpPr>
        <p:sp>
          <p:nvSpPr>
            <p:cNvPr id="674" name=""/>
            <p:cNvSpPr/>
            <p:nvPr/>
          </p:nvSpPr>
          <p:spPr>
            <a:xfrm>
              <a:off x="1752120" y="2774880"/>
              <a:ext cx="1404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ocial-securit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8920" y="2774880"/>
              <a:ext cx="1566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ccount-numbe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54040" y="2774880"/>
              <a:ext cx="109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access-da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27040" y="310212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344840" y="310212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75240" y="3102120"/>
              <a:ext cx="24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777840" y="3718080"/>
            <a:ext cx="17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테이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447920" y="2743200"/>
            <a:ext cx="5943600" cy="914400"/>
            <a:chOff x="1447920" y="2743200"/>
            <a:chExt cx="5943600" cy="914400"/>
          </a:xfrm>
        </p:grpSpPr>
        <p:sp>
          <p:nvSpPr>
            <p:cNvPr id="682" name=""/>
            <p:cNvSpPr/>
            <p:nvPr/>
          </p:nvSpPr>
          <p:spPr>
            <a:xfrm>
              <a:off x="1447920" y="2743200"/>
              <a:ext cx="5943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47920" y="3200400"/>
              <a:ext cx="594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358080" y="274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93040" y="274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C1E0-020C-4638-AA4E-84061D7DA6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는 여러 엔티티간의 연관성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y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posi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-1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    관계집합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집합은 각각을 다음의 엔티티 집합으로 취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간의 수학적인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|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관계이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    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A-10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집합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F18-85E6-46BF-A129-E1363464EB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집합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애트리뷰트는 또한 관계 집합의 속성일 수도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간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sito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 집합에 애트리뷰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-date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가질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838080" y="3733920"/>
            <a:ext cx="7848360" cy="2361600"/>
            <a:chOff x="838080" y="3733920"/>
            <a:chExt cx="7848360" cy="2361600"/>
          </a:xfrm>
        </p:grpSpPr>
        <p:sp>
          <p:nvSpPr>
            <p:cNvPr id="118" name=""/>
            <p:cNvSpPr/>
            <p:nvPr/>
          </p:nvSpPr>
          <p:spPr>
            <a:xfrm>
              <a:off x="4486680" y="4876560"/>
              <a:ext cx="1307880" cy="121896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epos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03880" y="3733920"/>
              <a:ext cx="144576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ess-d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27760" y="5181480"/>
              <a:ext cx="12391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0560" y="5257440"/>
              <a:ext cx="123912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53960" y="4114440"/>
              <a:ext cx="103248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11760" y="4114440"/>
              <a:ext cx="187308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o-KR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ccount-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92440" y="3914640"/>
              <a:ext cx="166644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ocial-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6760" y="3914640"/>
              <a:ext cx="158328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stomer-str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080" y="4600440"/>
              <a:ext cx="151452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stomer-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400" y="4600440"/>
              <a:ext cx="1445760" cy="45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ustomer-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80520" y="5486040"/>
              <a:ext cx="103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2920" y="5486040"/>
              <a:ext cx="135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13600" y="4342680"/>
              <a:ext cx="3441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338200" y="4342680"/>
              <a:ext cx="27504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613600" y="5028840"/>
              <a:ext cx="5508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131920" y="5028840"/>
              <a:ext cx="48168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13360" y="4571640"/>
              <a:ext cx="6195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432920" y="4571280"/>
              <a:ext cx="6883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137920" y="419076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478-F7CC-4BFC-9CFC-464D9FBDF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관계 집합의 차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 집합에 참여하는 엔티티 집합의 수를 의미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두 엔티티 집합을 내포하는 관계 집합은 이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일반적으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 내의 대부분의 관계 집합은 이진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 집합에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상의 엔티티 집합을 내포할 수도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엔티티 집합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, 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삼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차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 집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B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연결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2E5-E38F-42F5-BD7E-7D7E8B9F7D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역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의 엔티티 집합들이 반드시 구분될 필요는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라벨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r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역할이라 하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들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-fo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집합을 통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가 어떻게 상호 작용하는지를 명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역할은 사각형과 마름모를 연결하는 선에 라벨을 붙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도에 표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역할 라벨은 선택적이며 관계의 의미를 명확히 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2362320"/>
            <a:ext cx="6477120" cy="1676160"/>
            <a:chOff x="1371600" y="2362320"/>
            <a:chExt cx="6477120" cy="1676160"/>
          </a:xfrm>
        </p:grpSpPr>
        <p:sp>
          <p:nvSpPr>
            <p:cNvPr id="142" name=""/>
            <p:cNvSpPr/>
            <p:nvPr/>
          </p:nvSpPr>
          <p:spPr>
            <a:xfrm>
              <a:off x="2819520" y="2362320"/>
              <a:ext cx="19810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mployee-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28954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-social-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2895480"/>
              <a:ext cx="198108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elephone-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3429000"/>
              <a:ext cx="16002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3200400"/>
              <a:ext cx="1524240" cy="83808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ks-f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809880" y="27428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809880" y="3200040"/>
              <a:ext cx="838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971800" y="32000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64832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3733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0600" y="3202200"/>
              <a:ext cx="1600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3697200"/>
              <a:ext cx="144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or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E75-4BA8-4F5E-BBE0-3B2525031D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설계 논점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집합과 애트리뷰트의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택은 주로 모델링하고 있는 조직의 구조와 해당 애트리뷰트에 연관된 의미에 따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 집합과 관계 집합의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능한 지침은 엔티티 간에 발생하는 행위를 기술하기 위한 관계 집합을 지정하는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 관계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비이진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&gt;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집합을 여러 개의 관계 집합으로 대치할 수 있지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항 관계 집합은 하나의 관계내에 여러 엔티티들이 참여함을 보다 명백히 보여준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D24-743B-4C2D-972E-6A0140CA89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대응 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집합을 통해 다른 엔티티와 연관될 수 있는 엔티티의 수를 나타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관계 집합을 기술하는데 가장 유용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진 관계 집합에 대한 대응 수는 다음 유형 중 하나이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 대 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일 대 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 대 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 대 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집합과 엔티티 집합간의 “일”을 나타내는 데는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”를 나타내는 데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—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해 이들 유형을 구분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49E-FDF5-4988-B28F-98FF3571C5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08:46:41Z</dcterms:created>
  <dc:creator>서울산업대학교 전자계산학과 교수 석상기</dc:creator>
  <dc:description/>
  <dc:language>en-US</dc:language>
  <cp:lastModifiedBy>.</cp:lastModifiedBy>
  <cp:lastPrinted>1999-05-23T07:33:01Z</cp:lastPrinted>
  <dcterms:modified xsi:type="dcterms:W3CDTF">1999-06-15T18:17:18Z</dcterms:modified>
  <cp:revision>53</cp:revision>
  <dc:subject/>
  <dc:title>제2장 엔티티-관계 모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2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