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C38-8813-474F-AA8B-5B185705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CEA-39CC-4C23-A221-FCD01015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ADF-766D-434B-9B6D-AA5ACF1D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491-1393-4D45-927C-9D4EAE81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358B-5CCF-458A-9C63-18D4DDA7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8BA2-7AEA-4FB0-AA3E-1DB871E6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9FFE-55E3-4E79-90C2-A0945315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F4EB-83F1-4909-B468-D78817FB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CFAF-C99D-4A05-A92F-806026F3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081C-FC6B-4091-991E-7FCFF872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FFDB-13C3-475D-B779-6FAB5593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B11-48B9-4412-8E18-327074F2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8144-2EA9-4AE0-AB2D-D59F56F9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FA4B-0415-4DAF-91FA-9AD725A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3CA6-629E-404F-BBEF-FEBD4FA9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C3C8-BD0E-4882-B1BB-36045B0E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6D62-0A5F-4596-800C-A4EDD1FF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CAB-74DE-4E9E-99DA-D0CDBE98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CA2-B4B8-4F93-B474-3BD9E5CE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9A2-ADA3-423F-9065-B388A859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8B0-9159-4F2D-A746-04828475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76A-7E4D-4C4B-8860-E049D3D5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E2C-77EE-4868-B8DC-08807D03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6E5-1694-4462-898F-76208CE2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7AE7-DDAE-43AA-9CBD-355C3D4B4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BD12-B648-46CF-BBFA-FB35343FD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장 특별 주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보안과 무결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표준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성능 벤치마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성능 조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데이터베이스에서의 시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사용자 인터페이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능동 데이터베이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41B-1FE8-475F-8A69-EEFE71E876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권한과 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뷰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사용자에게 자신의 데이터베이스 모델을 제공하는 수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를 감추기 위한 뷰의 기능은 시스템 사용의 단순화와 보안 강화 모두를 제공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릴레이션 단계의 보안과 뷰 단계의 보안을 결합해 사용자의 액세스를 사용자가 요구하는 데이터에만 정확히 제한하는데 사용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DDA-B7E3-4053-9ECB-52435DA284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뷰의 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뷰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create view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명령을 사용해 정의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create view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질의 표현식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어떤 은행원이 각 지점의 고객명을 알 필요는 있지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특정 대출 정보를 볼 권한은 없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loan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으로의 직접 액세스는 거절되지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대출이 있는 지점과 고객명 만으로 구성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cust-loan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뷰에의 액세스는 허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cust-loan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뷰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다음과 같이 정의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create view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cust-loan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branch-name,customer-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borrower,lo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borrower.loan-number=loan.loan-nu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4AF-D8DB-49DE-8FF6-BADE7CAADB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뷰의 예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행원에게 질의의 결과를 볼 권한은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cust-lo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 처리기가 결과를 데이터베이스 내 실제 릴레이션 상의 질의로 변환할 때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borrowe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의 질의를 얻는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 처리를 시작하기 전 행원의 질의에 권한 검사가 이루어져야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0C1-6657-4F0B-930B-6CE6A12D97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뷰 상의 권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뷰의 생성은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esource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권한을 요구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뷰의 생성자는 자기가 이미 가지고 권한만을 갖는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뷰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cust-loa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생성자가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권한만을 가지고 있다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그는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cust-loa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권한만을 갖는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D9B-A46A-44B1-813D-54103E475F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권한 부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한 사용자로부터 다른 사용자로의 권한 전달이 권한 그래프로 표현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 그래프의 노드는 사용자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그래프의 뿌리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loa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의 갱신 권한에 대한 그래프를 고려해 보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간선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사용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게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갱신 권한을 부여했음을 나타낸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495288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56272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53200" y="5094360"/>
            <a:ext cx="76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21280" y="441972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51814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21280" y="594360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24560" y="51814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92880" y="441972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334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72428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55627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76720" y="4648320"/>
            <a:ext cx="8380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B60-CE1B-4FD7-86F3-C75F7A9929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권한 부여 그래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요구 사항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권한 그래프 내의 모든 간선은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서 시작하는 어떤 경로의 일부이어야 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으로부터 권한을 취소하면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이 더 이상 권한을 갖지 않기 때문에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로부터 권한을 취소해야 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를 통해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부터 또 다른 권한 경로를 가지기 때문에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로부터 권한을 취소해서는 안 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뿌리로부터 경로를 갖지 않은 권한 부여 순환을 방지해야 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DBA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게 권한 부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게 권한 부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게 권한 부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DBA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로부터 권한 취소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로부터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로 더 이상 경로가 없기 때문에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로의 권한이 취소되어야 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FDC-8664-475D-9D6D-764E59D550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에서의 보안 명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권한을 부여하는데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grant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문을 사용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grant &l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권한 리스트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on &l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 명 또는 뷰 명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 to &l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용자 리스트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용자 리스트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다음 중 하나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user -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public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모든 적법한 사용자에게 권한을 부여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뷰에 권한을 부여하는 것은 기존의 릴레이션 상에 어떤 권한 부여를 내포하지 않는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권한 부여자는 이미 특정 항목에 권한을 가지고 있어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거나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08D-CCA8-4604-8852-0C86D0B643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에서의 권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elect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을 읽거나 뷰를 사용해 질의할 수 있도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용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게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branch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 상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권한을 부여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grant select o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branch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insert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튜플을 삽입할 수 있도록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update : SQL update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문을 사용해 갱신할 수 있도록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delete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튜플을 삭제할 수 있도록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eferences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을 생성할 때 외래 키를 선언할 수 있도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BF6-7CE1-4C1C-B8AC-B60962D885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에서의 권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all privileges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모든 허용 가능한 권한에 대해 간략한 형식으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usage : SQL-9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용자들이 특정 도메인을 사용할 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있도록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with grant option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권한을 부여 받은 사용자가 다른 사용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게 권한을 부여할 수 있도록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grant select o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branch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with grant o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게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상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권한을 부여하고 이 권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다른 사용자에게 부여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15F-3919-47CA-8C5F-3B2490AA44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에서의 권한 취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evoke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문은 권한을 취소하는데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evoke  &l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권한 리스트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on &l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 명 또는 뷰 명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 from &l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용자 리스트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revoke select o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branch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casc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어떤 사용자로부터의 권한 취소가 또한 다른 사용자들의 권한 취소를 야기할 수 도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를 연쇄 취소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estric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지정하여 연쇄 취소를 막는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revoke select o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branch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restri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estric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가지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쇄 취소를 요구할 때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evoke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명령이 무시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67C-3355-4CDE-BBD9-478A35BDE3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보안과 무결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무결성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우발적인 일관성 손실로부터의 보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 처리중의 이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시성 제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러 컴퓨터에 데이터 분산으로 야기되는 이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 일관성의 가정을 위배하는 논리적 오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를 훔치거나 수정하려는 악의적인 시도로부터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물리 단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간 단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운영체제 단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 시스템 단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0FB-EA3A-4233-B8FD-C51FCBD2E1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에서의 권한 취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권한 리스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을 지정하면 취소자가 가지고 있는 모든 권한을 취소할 수 있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취소자 리스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을 가지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명시적으로 부여된 권한을 제외하고 모든 사용자들이 권한을 잃는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같은 사용자에게 같은 권한이 다른 부여자로부터 두 번 부여되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그 사용자는 취소 후에 권한을 유지할 수 있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취소중인 권한에 의존하는 모든 권한들은 또한 취소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52E-DA79-4040-ACC3-F2F28C13C9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- 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확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QL - 3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는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role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개념을 제공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권한은 사용자와 같이 역할로부터 허용되고 취소 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역할은 사용자에게 배정될 수 있으며 다른 역할에도 배정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create role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te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create role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grant select o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branch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te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gran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teller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al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gran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teller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A71-2A8A-404D-B761-19FB2E5B51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암호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데이터베이스 인증 제공이 충분한 보호를 제공하지 못할 때 데이터는 암호화될 수 있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좋은 암호화 기법의 속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권한 있는 사용자들이 데이터를 암호화하고 해독하기가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상대적으로 단순하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암호화 기법은 알고리즘의 보안 뿐만 아니라 암호화 키라는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알고리즘의 매개 변수의 보안에도 의존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침입자가 암호화 키를 결정하기는 지극히 어렵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EEF-B4FF-4D9F-AB8C-B44119983F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암호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데이터 암호화 표준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DES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에서는 문자들을 대치해 안전한 기법으로 권한 있는 사용자들에게 제공된 암호화 키에 따라 그 순서를 재배열한다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기법이 키 전용 기법보다 더 안전하지는 않다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두 개의 키를 가진 각 사용자에 근거한 공용 키 암호화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공용 키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데이터를 암호화하는데 사용되는 알려진 키이지만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데이터를 해독 하는 데는 사용될 수 없다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개인 키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사용자 개개인에게만 알려진 키로 데이터를 해독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하는데 사용된다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암호화 기법은 공용 키만 제공된 데이터를 해독하기가 불가능하거나 지극히 어려운 그러한 것이다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SA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공용 키 암호화 기법은 매우 큰 수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100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자리 수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에서 소인자를 발견하기가 어렵다는데 기반을 두고 있다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372-DE3A-4577-8DB8-F9CA9F16EB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통계 데이터베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문제점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통계 목적으로 데이터를 사용하도록 하면서 개인의 사생활을 어떻게 보호할 것인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예를 들어 수입의 중위 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평균 은행 잔고를 찾는 등의 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해결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시스템에서 미리 정한 개인보다 적은 수를 내포하는 질의는 거절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하지만 여전히 개인에 관한 데이터를 유추하기 위해 여러 중첩된 질의의 결과를 사용할 가능성이 있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데이터 오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질의에 대한 응답으로 제공된 데이터의 임의 변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질의 자체의 임의 수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정확성과 보안간에 손익 비교가 존재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9AE-062C-4843-9418-D053F5F29C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표준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동시대 데이터베이스 시스템의 복잡성과 그들 상호간 연산의 필요성이 다양한 표준을 요구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프로그래밍 언어의 구문과 시맨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어플리케이션 프로그램 인터페이스 내의 함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 모델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객체 지향 데이터베이스 표준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형식적 표준은 표준 기구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ANSI, ISO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또는 공식 절차를 통해 산업체에서 개발한 표준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실상의 표준은 일반적으로 공식적인 인증 없이 표준으로 수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장을 주도하는 업체가 정의한 표준이 흔히 사실상의 표준이 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BCC-89AA-47C8-AF85-74D4077C55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표준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예상 표준은 시장을 주도하며 업체들이 구현하는 기능들을 정의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미래 제품들의 호환성을 보장한다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표준 규격이 구현의 용이성에서 큰 주목을 받지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못하면 크게 사용되지 않는다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SQL-92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또는 미래의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QL-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보수 표준은 업체들이 서로 다른 방법으로 이미 구현한 기능들을 표준화하는 것이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이미 구현한 기능들을 변경하도록 업체들을 납득시키기가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어려울 수 있다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사실상의 표준이 종종 공식적인 인증 절차를 거쳐 공식적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표준이 된다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1F2-1456-4060-A0C3-1CB5DF150B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표준의 역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년대 말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/1980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년대 초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에서 개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QL - 86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이 첫번째 공식 표준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1987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년에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AA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표준 발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QL-89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는 이미 많은 시스템에서 구현된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QL-86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에 기능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추가함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보수 표준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QL-92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QL-89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에 새로운 많은 기능을 추가함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예상 표준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적응 단계를 정의함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초기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중간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완전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1997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년 까지도 완전 단계의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QL-92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구현을 갖춘 데이터베이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스 업체는 거의 없었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QL-3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표준은 현재 개발 중에 있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새로운 많은 기능을 추가함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확장 데이터 형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객체 지향성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프로시저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트리거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멀티미디어 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00D-9D10-48C9-8F4E-8ADB6A483C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타 표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내부 연결을 위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Open DataBase Connectivity(ODBC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표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X/Open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콘소시엄에서 개발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Call Level Interface(CLI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근거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어플리케이션 프로그래밍 인터페이스와 서로 다른 계층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서 지원되어야 할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기능을 정의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X/Open XA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표준은 분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단계 완료를 지원하기 위한 트랜잭션 관리 표준을 정의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84F-1DC1-4092-9FE5-8C23628669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 지향 데이터베이스 표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 지향 데이터베이스를 위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bject Database Management Group(ODMG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표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199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년에 버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, 1997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년에 버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발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러 특정 언어 바인딩과 함께 언어 독립적인 객체 정의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O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제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에 근거한 분산 소프트웨어를 위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bject Management Group(O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Object Request Broker(ORB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분산 객체에 은밀한 메시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내기를 제공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언어 독립적인 데이터 형을 정의하기 위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terface Defin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anguage(I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Common Object Request Broker Architecture(CORBA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D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명세를 정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162-6393-4661-8552-FB77C58EC6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물리 단계의 보안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홍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정전 등으로부터 장비의 보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도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침입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물리적 손상 등으로부터 디스크의 보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도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전자 도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물리적 손상 등으로부터 네트워크와 터미널 케이블의 보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해결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하드웨어의 중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거울형 디스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이중 버스 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각 장치 쌍간의 다중 액세스 경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물리적 보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자물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경찰 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물리적 보안 파괴를 탐지하는 소프트웨어 기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DBC-1378-4B25-995B-6F88F5C464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성능 벤치마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소프트웨어 시스템의 성능을 정량화 하는데 사용되는 태스크의 모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베이스 시스템을 비교하는데 중요하며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특히 시스템들이 보다 표준을 따르고 있을 때 중요하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베이스 어플리케이션 부류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온라인 트랜잭션 처리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OLTP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는 고도의 동시성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갱신 트랜잭션의 고 비율을 지원하는 완료 처리 속도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증가 시키기 위한 우수한 기법을 요구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사 결정 지원 어플리케이션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온라인 분석 처리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OLA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포함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는 좋은 질의 평가 알고리즘과 질의 최적화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요구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15B-CB4C-444F-8F0A-DFE33AE6B8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성능 벤치마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로 사용되는 성능 측정 도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율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초당 트랜잭션 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T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응답 시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이 제기되어 결과를 반환하기까지의 지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성능 평가에 사용되는 태스크들의 모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복합 시스템에 있어서 단일 태스크로는 부족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평균 처리율을 계산해서는 안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시스템에서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형의 트랜잭션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99tp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형의 트랜잭션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tp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실행한다 가정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형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동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조합이 제공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율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99+1)/2=50 tp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아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유형의 트랜잭션을 실행하는데 걸리는 시간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+1/99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율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98tp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조화 평균을 사용해야만 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n/(1/t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+1/t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+…+1/t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6DD-363E-41F9-9AEB-2B8D4090B5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벤치마크 모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 처리 위원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PC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벤치마크가 널리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TPC-A 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터미널과의 통신을 포함한 점대점 측정을 가진 은행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텔레 어플리케이션을 모델링하는 단순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LTP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플리케이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TPC-B : TPC-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같은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통신은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TPC-C 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재고 시스템을 모델링하는 보다 복잡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L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플리케이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TPC-D 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복잡한 의사 결정 지원 어플리케이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많은 집성 함수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포함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PC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성능 측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응답시간의 특정 제약 조건을 가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ps(transactions per seco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소유중인 시스템의 비용에 대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당 비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ransactions 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cond per dollor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계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111-A779-43EA-B443-816C3F7734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벤치마크 모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TPC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벤치마크 데이터베이스 크기는 실세계 어플리케이션을 반영하기 위해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tps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를 증가시켜 규모를 증대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TPC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성능의 외부 감사는 의무적인 것으로 간주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(TPC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성능은 신뢰할 수 있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OODB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트랜잭션은 다른 벤치마크를 필요로 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OO7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벤치마크는 여러 개의 다른 연산을 가지고 있으며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산의 종류에 대해 별개의 벤치마크 번호를 제공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E16-FCD8-4105-8884-CC9C04FA7B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성능 조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특정 어플리케이션의 시스템 성능을 증가 시키기 위해 다양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매개 변수와 설계 대안을 조정하는 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조율은 병목을 인지하여 그것을 제거함으로써 가장 잘 이룰 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 시스템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계로 조율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드웨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를 추가하여 입출력 속도를 높이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를 추가하여 버퍼 적중률을 높이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빠른 처리기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동하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 시스템 매개 변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버퍼 크기를 늘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버퍼 페이징 줄이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검사점 간격을 조정하여 로그 크기 제한하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자동 조율을 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키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스 및 트랜잭션과 같은 고급 수준의 데이터베이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설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373-2D28-4872-BADD-11AADEF3C6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병목 인지하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는 복잡한 시스템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은 일련의 서비스를 요청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CPU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입출력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크 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시 실행 트랜잭션이 있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트랜잭션이 처리되는 동안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에서 요청한 서비스를 받기 위해 기다려야 하기도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는 각 서비스에 대한 큐를 가진 큐잉 시스템으로 모델링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은 다음을 반복적으로 수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비스를 요청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큐에서 서비스를 기다리다가 서비스를 받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 시스템내의 병목은 일반적으로 특정 서비스에 대해 매우 높은 이용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와 관련해 매우 긴 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보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큐잉 모델을 사용한 성능 모의 실험은 실제 시스템에 액세스하지 않고도 조율 변경의 효과와 함께 병목을 예측하는데 유용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4F1-980D-43C5-964E-4F7120AE5F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 시스템 내의 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2520" y="1600200"/>
            <a:ext cx="2144880" cy="15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73720" y="1600200"/>
            <a:ext cx="1937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975200" y="2036880"/>
            <a:ext cx="444600" cy="1015560"/>
            <a:chOff x="4975200" y="2036880"/>
            <a:chExt cx="444600" cy="1015560"/>
          </a:xfrm>
        </p:grpSpPr>
        <p:sp>
          <p:nvSpPr>
            <p:cNvPr id="195" name=""/>
            <p:cNvSpPr/>
            <p:nvPr/>
          </p:nvSpPr>
          <p:spPr>
            <a:xfrm>
              <a:off x="4975200" y="2181600"/>
              <a:ext cx="44460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75200" y="247212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5200" y="232704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975200" y="20368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419800" y="20368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97320" y="2617200"/>
              <a:ext cx="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49000" y="2762640"/>
              <a:ext cx="296280" cy="289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384800" y="290844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45000" y="2036880"/>
            <a:ext cx="444240" cy="1015560"/>
            <a:chOff x="3645000" y="2036880"/>
            <a:chExt cx="444240" cy="1015560"/>
          </a:xfrm>
        </p:grpSpPr>
        <p:sp>
          <p:nvSpPr>
            <p:cNvPr id="204" name=""/>
            <p:cNvSpPr/>
            <p:nvPr/>
          </p:nvSpPr>
          <p:spPr>
            <a:xfrm>
              <a:off x="3645000" y="2181600"/>
              <a:ext cx="44424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5000" y="24721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45000" y="232704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645000" y="20368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089240" y="20368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67120" y="2617200"/>
              <a:ext cx="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18800" y="2762640"/>
              <a:ext cx="296280" cy="289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014720" y="3633840"/>
            <a:ext cx="960480" cy="8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14720" y="5086440"/>
            <a:ext cx="960480" cy="8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07200" y="3198960"/>
            <a:ext cx="16272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37120" y="4869000"/>
            <a:ext cx="2292480" cy="13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44720" y="3270240"/>
            <a:ext cx="1552680" cy="159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30080" y="3706920"/>
            <a:ext cx="1182600" cy="434880"/>
            <a:chOff x="730080" y="3706920"/>
            <a:chExt cx="1182600" cy="434880"/>
          </a:xfrm>
        </p:grpSpPr>
        <p:sp>
          <p:nvSpPr>
            <p:cNvPr id="217" name=""/>
            <p:cNvSpPr/>
            <p:nvPr/>
          </p:nvSpPr>
          <p:spPr>
            <a:xfrm>
              <a:off x="730080" y="3706920"/>
              <a:ext cx="946080" cy="43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160" y="3852000"/>
              <a:ext cx="23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675800" y="3996720"/>
              <a:ext cx="23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497400" y="3780000"/>
            <a:ext cx="51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497040" y="3997440"/>
            <a:ext cx="51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75200" y="3780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975200" y="399744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309920" y="312552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54520" y="312588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09920" y="450540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754520" y="450540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75200" y="537696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975200" y="559440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62040" y="3342960"/>
            <a:ext cx="443160" cy="1017720"/>
            <a:chOff x="2462040" y="3342960"/>
            <a:chExt cx="443160" cy="1017720"/>
          </a:xfrm>
        </p:grpSpPr>
        <p:sp>
          <p:nvSpPr>
            <p:cNvPr id="231" name=""/>
            <p:cNvSpPr/>
            <p:nvPr/>
          </p:nvSpPr>
          <p:spPr>
            <a:xfrm>
              <a:off x="2462040" y="3488400"/>
              <a:ext cx="443160" cy="43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62040" y="3779280"/>
              <a:ext cx="44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62040" y="3634200"/>
              <a:ext cx="44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462040" y="3342960"/>
              <a:ext cx="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905200" y="3342960"/>
              <a:ext cx="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83440" y="3924720"/>
              <a:ext cx="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35480" y="4070160"/>
              <a:ext cx="295560" cy="29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564320" y="5159520"/>
            <a:ext cx="443160" cy="1015560"/>
            <a:chOff x="7564320" y="5159520"/>
            <a:chExt cx="443160" cy="1015560"/>
          </a:xfrm>
        </p:grpSpPr>
        <p:sp>
          <p:nvSpPr>
            <p:cNvPr id="239" name=""/>
            <p:cNvSpPr/>
            <p:nvPr/>
          </p:nvSpPr>
          <p:spPr>
            <a:xfrm>
              <a:off x="7564320" y="5304240"/>
              <a:ext cx="44316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64320" y="5594760"/>
              <a:ext cx="44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4320" y="5449680"/>
              <a:ext cx="44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564320" y="515952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007480" y="515952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85720" y="5739840"/>
              <a:ext cx="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37760" y="5885280"/>
              <a:ext cx="295560" cy="289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159600" y="5159520"/>
            <a:ext cx="442800" cy="1015560"/>
            <a:chOff x="6159600" y="5159520"/>
            <a:chExt cx="442800" cy="1015560"/>
          </a:xfrm>
        </p:grpSpPr>
        <p:sp>
          <p:nvSpPr>
            <p:cNvPr id="247" name=""/>
            <p:cNvSpPr/>
            <p:nvPr/>
          </p:nvSpPr>
          <p:spPr>
            <a:xfrm>
              <a:off x="6159600" y="5304240"/>
              <a:ext cx="44280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59600" y="5594760"/>
              <a:ext cx="44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59600" y="5449680"/>
              <a:ext cx="44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159600" y="515952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602400" y="515952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1000" y="5739840"/>
              <a:ext cx="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33040" y="5885280"/>
              <a:ext cx="295200" cy="289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899400" y="3633480"/>
            <a:ext cx="442800" cy="1017360"/>
            <a:chOff x="6899400" y="3633480"/>
            <a:chExt cx="442800" cy="1017360"/>
          </a:xfrm>
        </p:grpSpPr>
        <p:sp>
          <p:nvSpPr>
            <p:cNvPr id="255" name=""/>
            <p:cNvSpPr/>
            <p:nvPr/>
          </p:nvSpPr>
          <p:spPr>
            <a:xfrm>
              <a:off x="6899400" y="3778920"/>
              <a:ext cx="442800" cy="43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99400" y="4069800"/>
              <a:ext cx="44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99400" y="3924360"/>
              <a:ext cx="44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899400" y="3633480"/>
              <a:ext cx="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342200" y="3633480"/>
              <a:ext cx="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800" y="4214880"/>
              <a:ext cx="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72840" y="4360680"/>
              <a:ext cx="295200" cy="29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972480" y="603108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09240" y="4289400"/>
            <a:ext cx="1166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22560" y="3708360"/>
            <a:ext cx="11102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5305320"/>
            <a:ext cx="939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88480" y="3211560"/>
            <a:ext cx="1622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54800" y="4870440"/>
            <a:ext cx="136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k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70120" y="4579920"/>
            <a:ext cx="8146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45160" y="4599000"/>
            <a:ext cx="63612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23160" y="5086440"/>
            <a:ext cx="750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97680" y="5595840"/>
            <a:ext cx="63612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80120" y="3184560"/>
            <a:ext cx="750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25440" y="3214800"/>
            <a:ext cx="602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F61-D3CA-4E48-82BB-C8F10C3D6D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 설계 조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시스템 조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수직으로 분할한 릴레이션은 가장 흔히 액세스 되는 데이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로 고립시킨다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필요한 정보를 가져오는 것 만으로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(account-number,branch-name)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(account-number, balance)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로 분리된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릴레이션을 고려해 보자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지점명이 필요치 않으면 가져올 필요가 없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역정규화 릴레이션을 저장해 성능을 향상시킨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account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depositor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의 죠인을 저장하면 지점명과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잔고 정보가 각 예금 소유자에 중복되지만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죠인을 반복해서 계산할 필요가 없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빈번히 함께 죠인되어 부합될 레코드들이 같은 디스크 페이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지에 있도록 군집 시킨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필요할 때 매우 효율적으로 죠인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수행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0C6-5DBA-48B7-9254-3A37BDA428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 설계 조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인덱스 조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속도가 느린 질의의 속도 향상을 위해 적절한 인덱스를 생성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다한 인덱스를 제거하여 속도가 느린 갱신의 속도를 향상시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와 갱신간 손익 비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장 빈번한 질의 유형에 따라 적절한 인덱스 유형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B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해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선택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D59-81A6-4030-8ECA-C66DA39463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 설계 조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 조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빈번한 호출들을 하나의 집합 지향 질의로 결합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보다 적은 호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저장된 프로시저를 사용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질의의 재구문 분석과 재최적화의 필요성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없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미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뱃치 트랜잭션을 사용해 단일 트랜잭션이 수행할 수 있는 갱신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수를 제한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하나의 큰 트랜잭션에서 매우 큰 릴레이션의 모든 레코드를 갱신하면 로그가 매우 커질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거대한 트랜잭션을 각각이 갱신의 일부를 수행하는 “미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트랜잭션”의 뱃치로 분리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미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뱃치 내 트랜잭션들에 걸쳐 로크를 유지하여 직렬성을 보장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미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뱃치 실행중 고장이 발생하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원자성을 보장하기 위해 회복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나머지 부분을 완료해야만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8B2-C31A-4E2F-BF5F-501CC92EB5A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인간 단계의 보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암호 도난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사보타지 등으로부터의 보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주로 관리상의 문제이다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암호의 수시 변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예측 불가능한 암호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모든 적법하지 않은 액세스 시도의 로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 감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주의 깊은 고용 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608-DADF-4CE6-8754-33869E1595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에서의 시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대부분의 데이터베이스가 일정 시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현재 시간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의 현실을 모델링하는 경향이 있는데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 데이터베이스에서는 시간에 걸쳐 실세계의 상태를 모델링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 릴레이션에서의 사실은 간격의 합집합으로 표현될 수 있는 유효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valid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할 때의 시간과 연관이 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실에 대한 트랜잭션 시간은 데이터베이스 시스템 내에서 사실이 현재인 동안의 시간 간격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 릴레이션에서는 각 튜플이 참일 때의 연관 시간을 가진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은 유효 시간이거나 트랜잭션 시간일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양 시간 릴레이션에는 유효시간과 트랜잭션 시간 모두를 저장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7DD-E07D-44F3-849D-5FA5CB9CF5F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데이터베이스에서의 시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간 릴레이션의 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71640" y="2209680"/>
            <a:ext cx="7696080" cy="2667240"/>
            <a:chOff x="971640" y="2209680"/>
            <a:chExt cx="7696080" cy="2667240"/>
          </a:xfrm>
        </p:grpSpPr>
        <p:grpSp>
          <p:nvGrpSpPr>
            <p:cNvPr id="285" name=""/>
            <p:cNvGrpSpPr/>
            <p:nvPr/>
          </p:nvGrpSpPr>
          <p:grpSpPr>
            <a:xfrm>
              <a:off x="1066680" y="2209680"/>
              <a:ext cx="7239240" cy="380880"/>
              <a:chOff x="1066680" y="2209680"/>
              <a:chExt cx="7239240" cy="380880"/>
            </a:xfrm>
          </p:grpSpPr>
          <p:sp>
            <p:nvSpPr>
              <p:cNvPr id="286" name=""/>
              <p:cNvSpPr/>
              <p:nvPr/>
            </p:nvSpPr>
            <p:spPr>
              <a:xfrm>
                <a:off x="1066680" y="2209680"/>
                <a:ext cx="1600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19520" y="2209680"/>
                <a:ext cx="1600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account-nu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95680" y="2247840"/>
                <a:ext cx="1143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43600" y="2209680"/>
                <a:ext cx="9907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r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09680"/>
                <a:ext cx="9907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971640" y="2209680"/>
              <a:ext cx="7696080" cy="2667240"/>
              <a:chOff x="971640" y="2209680"/>
              <a:chExt cx="7696080" cy="2667240"/>
            </a:xfrm>
          </p:grpSpPr>
          <p:sp>
            <p:nvSpPr>
              <p:cNvPr id="292" name=""/>
              <p:cNvSpPr/>
              <p:nvPr/>
            </p:nvSpPr>
            <p:spPr>
              <a:xfrm>
                <a:off x="971640" y="2209680"/>
                <a:ext cx="7696080" cy="2667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971640" y="2590920"/>
                <a:ext cx="7696080" cy="1904760"/>
                <a:chOff x="971640" y="2590920"/>
                <a:chExt cx="7696080" cy="19047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971640" y="2590920"/>
                  <a:ext cx="769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971640" y="2971800"/>
                  <a:ext cx="769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71640" y="3352680"/>
                  <a:ext cx="769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971640" y="3733920"/>
                  <a:ext cx="769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971640" y="4114800"/>
                  <a:ext cx="769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971640" y="4495680"/>
                  <a:ext cx="769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724120" y="2209680"/>
                <a:ext cx="0" cy="266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76600" y="2209680"/>
                <a:ext cx="0" cy="266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19600" y="2209680"/>
                <a:ext cx="0" cy="266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43840" y="2209680"/>
                <a:ext cx="0" cy="266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66680" y="2666880"/>
              <a:ext cx="152424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Downt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Downt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Mian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Mian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Mian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Brigh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19520" y="2666880"/>
              <a:ext cx="15238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-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-10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-2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-2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-2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-2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8320" y="2666880"/>
              <a:ext cx="7617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8680" y="2666880"/>
              <a:ext cx="144792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4/1/1 09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4/1/24 11: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5/6/2 15: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5/8/8 10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5/9/5 08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4/7/5 11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62920" y="2666880"/>
              <a:ext cx="14475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4/1/24 11: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5/8/8 10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5/9/5 08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5/5/1 16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38080" y="5334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시간 질의어가 시간에 관련한 질의와 함께 시간의 모델링을 단순화하기 위해 제안되었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D84-F27A-4112-8BB0-C6F5B94DBB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-9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에서의 시간 명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date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년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자리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1-9999)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자리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1-12)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일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자리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1-3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ime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자리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자리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초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자리와 선택적인 지수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자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imestamp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초 필드에 대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개의 지수 자리수를 가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으로 이루어진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은 천체 표준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universal coordinated time : UTC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지정된다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time with time zone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지원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interval 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작 기간의 특정 시간을 명시하지 않으면 시간 기간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일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의미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spa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라는 용어가 보다 정확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3D5-6265-49FB-8638-7D3CE32CE0F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시간 질의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술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precedes, overlaps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시간 간격에 적용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두 간격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intersec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적용해 하나의 간격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공집합 가능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얻을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두 간격의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은 하나의 간격일 수도 있고 아닐 수도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의 시간 릴레이션의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napsho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은 추출된 시간 간격 애트리뷰트를 가진 시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참인 튜플들로 구성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 선택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 애트리뷰트를 내포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 추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추출내의 튜플들은 원래 릴레이션내 튜플들로 부터 시간 간격을 상속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간 죠인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결과 내 튜플의 시간 간격은 죠인이 추출된 튜플들의 시간 간격의 공통 집합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공통 집합이 공집합이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튜플은 죠인에서 제거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354-DA49-4AF9-A5AE-644DC2F076A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시간 질의어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함수적 종속은 주의 깊게 사용해야 한다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시간 필드의 추가로 함수적 종속을 무효로 할 수 있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의 모든 적법한 사례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에 대해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의 모든 스냅샷이 함수적 종속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를 만족하면 시간 함수적 종속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ko-K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가 릴레이션 스키마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에 존재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시간 데이터 지원을 향상시키기 위해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SQL-92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의 확장으로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TSQL2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가 제안되었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46200" y="394164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F49-6236-4851-9481-F13D8B3B29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사용자 인터페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에의 사용자 인터페이스에 여러 부류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라인 지향 인터페이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부분의 기본 인터페이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사용한 특별한 질의에는 좋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입력 같은 반복 작업에는 좋지 않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폼 인터페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입력 및 이와 유사한 반복 업무에 널리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행위는 사용자 입력과 관련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객 번호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입력 함으로써 고객명과 주소를 불러 채워 넣을 수도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순한 에러 체크는 폼 인터페이스 내에서 수행 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폼 에디터 프로그램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패키지는 프로그램하지 않고 간단한 선언 방식으로 폼이 생성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래픽 사용자 인터페이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뉴와 아이콘 같은 기능을 사용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리켜서 클릭하는 패러다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HTM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기반을 둔 웹 인터페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08A-3531-4A7B-ACCD-83A1C36AD01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주문 입력 양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1752480"/>
            <a:ext cx="8077320" cy="20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Acme Supply Company Inc.                                                                Component Order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ustomer Name: </a:t>
            </a:r>
            <a:r>
              <a:rPr b="0" lang="ko-KR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Date:</a:t>
            </a:r>
            <a:r>
              <a:rPr b="0" lang="ko-KR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Customer Number:</a:t>
            </a:r>
            <a:r>
              <a:rPr b="0" lang="ko-KR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Order No: </a:t>
            </a:r>
            <a:r>
              <a:rPr b="0" lang="ko-KR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Address:</a:t>
            </a:r>
            <a:r>
              <a:rPr b="0" lang="ko-KR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       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hone Number:</a:t>
            </a:r>
            <a:r>
              <a:rPr b="0" lang="ko-KR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3505320"/>
          <a:ext cx="8004240" cy="3147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05320"/>
                    <a:ext cx="800424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523880" y="31240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7400" y="3429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2362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D72-18F9-47A2-B955-DA4BDF4740C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사용자 인터페이스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보고서 작성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데이터베이스 내 데이터에 근거한 정기 보고서를 생성하는데 사용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me Supply Company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rterly Sales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iod: Jan. 1 to March 31,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42240" y="32130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45560" y="3213000"/>
            <a:ext cx="84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09600" y="3213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06040" y="3213000"/>
            <a:ext cx="76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16160" y="32036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16160" y="32036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16160" y="3203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16160" y="32036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16160" y="32036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16160" y="3203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20840" y="3203640"/>
            <a:ext cx="1112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20840" y="3203640"/>
            <a:ext cx="1112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33600" y="32036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3600" y="32036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33600" y="3203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38280" y="3203640"/>
            <a:ext cx="285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3203640"/>
            <a:ext cx="285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89480" y="3203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89480" y="3203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89480" y="3203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95960" y="3203640"/>
            <a:ext cx="1312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95960" y="3203640"/>
            <a:ext cx="131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08880" y="32036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08880" y="32036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08880" y="3203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13560" y="3203640"/>
            <a:ext cx="1757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13560" y="3203640"/>
            <a:ext cx="17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70720" y="3203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70720" y="3203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70720" y="3203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70720" y="3203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70720" y="3203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70720" y="3203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16160" y="3209760"/>
            <a:ext cx="4680" cy="32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16160" y="3209760"/>
            <a:ext cx="1440" cy="32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33600" y="3209760"/>
            <a:ext cx="4680" cy="32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3600" y="3209760"/>
            <a:ext cx="1800" cy="32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89480" y="3209760"/>
            <a:ext cx="6480" cy="32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89480" y="3209760"/>
            <a:ext cx="1800" cy="32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08880" y="3209760"/>
            <a:ext cx="4680" cy="32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08880" y="3209760"/>
            <a:ext cx="1440" cy="32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70720" y="3209760"/>
            <a:ext cx="6480" cy="32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70720" y="3209760"/>
            <a:ext cx="1800" cy="32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03440" y="3538440"/>
            <a:ext cx="146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r 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55720" y="3538440"/>
            <a:ext cx="71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16160" y="3532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16160" y="3532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16160" y="3532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20840" y="3532320"/>
            <a:ext cx="1112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20840" y="3532320"/>
            <a:ext cx="1112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3532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33600" y="3532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3600" y="3532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3532320"/>
            <a:ext cx="285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38280" y="3532320"/>
            <a:ext cx="285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89480" y="3532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89480" y="3532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89480" y="3532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95960" y="3532320"/>
            <a:ext cx="1312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95960" y="3532320"/>
            <a:ext cx="131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08880" y="3532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08880" y="3532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3532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13560" y="3532320"/>
            <a:ext cx="1757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13560" y="3532320"/>
            <a:ext cx="17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70720" y="3532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70720" y="3532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0720" y="3532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16160" y="3538440"/>
            <a:ext cx="4680" cy="31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16160" y="3538440"/>
            <a:ext cx="1440" cy="31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33600" y="3538440"/>
            <a:ext cx="4680" cy="31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3600" y="3538440"/>
            <a:ext cx="1800" cy="31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89480" y="3538440"/>
            <a:ext cx="6480" cy="31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89480" y="3538440"/>
            <a:ext cx="1800" cy="31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08880" y="3538440"/>
            <a:ext cx="4680" cy="31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08880" y="3538440"/>
            <a:ext cx="1440" cy="31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70720" y="3538440"/>
            <a:ext cx="6480" cy="31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70720" y="3538440"/>
            <a:ext cx="1800" cy="31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02360" y="3862440"/>
            <a:ext cx="140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r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3160" y="386244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16160" y="38559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16160" y="385596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16160" y="3855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3600" y="38559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33600" y="385596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433600" y="38559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3855960"/>
            <a:ext cx="285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55960"/>
            <a:ext cx="285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89480" y="3855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89480" y="385596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89480" y="38559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95960" y="3855960"/>
            <a:ext cx="1312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95960" y="3855960"/>
            <a:ext cx="131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8880" y="38559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08880" y="385596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08880" y="3855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370720" y="3855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70720" y="385596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70720" y="38559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16160" y="3862440"/>
            <a:ext cx="46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16160" y="3862440"/>
            <a:ext cx="144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33600" y="3862440"/>
            <a:ext cx="46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33600" y="3862440"/>
            <a:ext cx="180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89480" y="3862440"/>
            <a:ext cx="64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08880" y="3862440"/>
            <a:ext cx="46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08880" y="3862440"/>
            <a:ext cx="144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70720" y="3862440"/>
            <a:ext cx="64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70720" y="3862440"/>
            <a:ext cx="180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84200" y="353844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03440" y="418788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categ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675120" y="4148280"/>
            <a:ext cx="71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5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16160" y="41814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16160" y="41814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16160" y="41814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33600" y="41814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33600" y="41814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33600" y="41814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38280" y="4181400"/>
            <a:ext cx="285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38280" y="4181400"/>
            <a:ext cx="285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89480" y="418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89480" y="41814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89480" y="41814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95960" y="4181400"/>
            <a:ext cx="1312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95960" y="4181400"/>
            <a:ext cx="131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8880" y="41814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08880" y="41814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08880" y="41814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70720" y="418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70720" y="41814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70720" y="41814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16160" y="4187880"/>
            <a:ext cx="46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16160" y="4187880"/>
            <a:ext cx="144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3600" y="4187880"/>
            <a:ext cx="46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33600" y="4187880"/>
            <a:ext cx="180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89480" y="4187880"/>
            <a:ext cx="64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08880" y="4187880"/>
            <a:ext cx="46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08880" y="4187880"/>
            <a:ext cx="144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70720" y="4187880"/>
            <a:ext cx="64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70720" y="4187880"/>
            <a:ext cx="180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03440" y="4516560"/>
            <a:ext cx="146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r 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3160" y="451656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16160" y="45100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16160" y="451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16160" y="45100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20840" y="4510080"/>
            <a:ext cx="1112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20840" y="4510080"/>
            <a:ext cx="1112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33600" y="45100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33600" y="451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33600" y="45100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438280" y="4510080"/>
            <a:ext cx="285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4510080"/>
            <a:ext cx="285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89480" y="4510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89480" y="45100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89480" y="45100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95960" y="4510080"/>
            <a:ext cx="1312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95960" y="4510080"/>
            <a:ext cx="131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608880" y="45100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608880" y="451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08880" y="45100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13560" y="4510080"/>
            <a:ext cx="1757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13560" y="4510080"/>
            <a:ext cx="17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370720" y="4510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70720" y="45100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70720" y="45100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6160" y="4516560"/>
            <a:ext cx="46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6160" y="4516560"/>
            <a:ext cx="144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33600" y="4516560"/>
            <a:ext cx="46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33600" y="4516560"/>
            <a:ext cx="180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89480" y="4516560"/>
            <a:ext cx="64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294160" y="3862440"/>
            <a:ext cx="4680" cy="952560"/>
            <a:chOff x="5294160" y="3862440"/>
            <a:chExt cx="4680" cy="952560"/>
          </a:xfrm>
        </p:grpSpPr>
        <p:sp>
          <p:nvSpPr>
            <p:cNvPr id="499" name=""/>
            <p:cNvSpPr/>
            <p:nvPr/>
          </p:nvSpPr>
          <p:spPr>
            <a:xfrm>
              <a:off x="5294160" y="3862440"/>
              <a:ext cx="1800" cy="31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97400" y="4187880"/>
              <a:ext cx="1440" cy="31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97400" y="4495680"/>
              <a:ext cx="1440" cy="31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608880" y="4516560"/>
            <a:ext cx="46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08880" y="4516560"/>
            <a:ext cx="144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70720" y="4516560"/>
            <a:ext cx="6480" cy="3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370720" y="4516560"/>
            <a:ext cx="1800" cy="31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02360" y="4840200"/>
            <a:ext cx="140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r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83160" y="484020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16160" y="4835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16160" y="48355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16160" y="483552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33600" y="4835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3600" y="48355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33600" y="483552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38280" y="4835520"/>
            <a:ext cx="285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38280" y="4835520"/>
            <a:ext cx="285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89480" y="48355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89480" y="48355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89480" y="483552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295960" y="4835520"/>
            <a:ext cx="1312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95960" y="4835520"/>
            <a:ext cx="131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08880" y="4835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08880" y="48355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08880" y="483552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370720" y="48355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370720" y="48355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70720" y="483552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16160" y="4840200"/>
            <a:ext cx="468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16160" y="4840200"/>
            <a:ext cx="1440" cy="3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33600" y="4840200"/>
            <a:ext cx="468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3600" y="4840200"/>
            <a:ext cx="1800" cy="3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89480" y="4840200"/>
            <a:ext cx="648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89480" y="4840200"/>
            <a:ext cx="1800" cy="3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8880" y="4840200"/>
            <a:ext cx="468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4840200"/>
            <a:ext cx="1440" cy="3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370720" y="4840200"/>
            <a:ext cx="648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70720" y="4840200"/>
            <a:ext cx="1800" cy="3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22720" y="4516560"/>
            <a:ext cx="41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36560" y="516564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categ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10480" y="512604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16160" y="51595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16160" y="51595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6160" y="51595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33600" y="51595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33600" y="51595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3600" y="51595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5159520"/>
            <a:ext cx="285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38280" y="5159520"/>
            <a:ext cx="285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289480" y="51595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89480" y="51595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89480" y="51595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95960" y="5159520"/>
            <a:ext cx="1312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95960" y="5159520"/>
            <a:ext cx="131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08880" y="51595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08880" y="51595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08880" y="51595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70720" y="51595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370720" y="51595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70720" y="51595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316160" y="5165640"/>
            <a:ext cx="468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16160" y="5165640"/>
            <a:ext cx="1440" cy="3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16160" y="5484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16160" y="5484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16160" y="5484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16160" y="5484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16160" y="5484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16160" y="5484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20840" y="5484960"/>
            <a:ext cx="1112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20840" y="5484960"/>
            <a:ext cx="1112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5165640"/>
            <a:ext cx="468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33600" y="5165640"/>
            <a:ext cx="1800" cy="3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433600" y="5484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3600" y="5484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33600" y="5484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5484960"/>
            <a:ext cx="285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8280" y="5484960"/>
            <a:ext cx="285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89480" y="5165640"/>
            <a:ext cx="648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92720" y="5165640"/>
            <a:ext cx="1440" cy="3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89480" y="54849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89480" y="5484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89480" y="5484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5960" y="5484960"/>
            <a:ext cx="1312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295960" y="5484960"/>
            <a:ext cx="131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08880" y="5165640"/>
            <a:ext cx="468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08880" y="5165640"/>
            <a:ext cx="1440" cy="3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08880" y="5484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08880" y="5484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08880" y="5484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13560" y="5484960"/>
            <a:ext cx="1757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13560" y="5484960"/>
            <a:ext cx="17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70720" y="5165640"/>
            <a:ext cx="648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70720" y="5165640"/>
            <a:ext cx="1800" cy="31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70720" y="54849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70720" y="5484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70720" y="5484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70720" y="54849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70720" y="5484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370720" y="5484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97800" y="5584680"/>
            <a:ext cx="10440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56991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세대 언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GL) 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어플리케이션 개발 도구들의 모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폼 패키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보고서 작성기 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2360" y="5486400"/>
            <a:ext cx="205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Sa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2,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306-1A14-4E39-8C05-2FFAF89869E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능동 데이터베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데이터베이스 내 규칙의 지정과 실행을 지원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사건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조건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행위 모델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규칙은 사건으로 기동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시스템은 기동된 규칙들의 조건을 체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건을 만족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시스템은 지정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행위를 실행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B0E-44EF-49CC-BA5F-6253DA7B500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능동 데이터베이스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규칙은 다양한 목적으로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용자에게 예외적인 행위에 경고하기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재고 주문하기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무결성 제약 조건의 수행 등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종업원 급여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관리자 급여”라는 제약 조건을 수행하는 트리거의 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employee-s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employee.salary 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E.salary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E.name=employee.manag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877-6A70-4F7A-B83B-9CC6E7FE1D3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운영체제 단계의 보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부적절한 로그인으로 부터의 보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파일 계층 액세스 보호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데이터베이스 보안에는 그다지 도움이 되지는 않는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최고 사용자” 권한의 부적절한 사용으로부터의 보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특수 권한 컴퓨터 명령어의 부적절한 사용으로부터의 보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AE1-69F5-47D7-9686-F56CB1AE53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능동 데이터베이스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규칙의 행위가 같은 규칙을 기동시키는 사건을 야기할 수 있다면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규칙의 집합이 종료되도록 보장해야 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여러 규칙은 그들의 우선 순위 값의 순서로 실행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사건 실행 바인딩은 규칙이 언제 실행될 것인가를 지정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immediate :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사건이 발생하자마자 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deferred :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트랜잭션이 완료하기 전 끝에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decoupled :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트랜잭션이 끝난 후 어떤 시간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immediate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deferred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사건 실행 바인딩을 가진 에러 처리는 트랜잭션 회복의 일부로서 처리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decoupled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실행에 대한 에러 회복은 매우 어렵다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규칙 시스템은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decoupled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규칙 실행 중 실행 시간 에러가 발생하지 않도록 설계되어야 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471-0D2E-47D6-BE8F-7BCCFFDB0F0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네트워크 단계의 보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각 사이트는 신뢰할 수 있는 사이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침입자가 아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와만 통신하도록 보장해야 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링크는 메시지 도둑 또는 변경으로부터 보호되어야 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기법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식별 규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암호 기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암호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A80-7FFF-4C08-AA17-40BF90C8CF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 단계 보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네트워크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운영체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인간 및 물리 단계에서의 보안은 가정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베이스에 특정한 고려 사항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각 사용자는 데이터의 일부에만 읽고 쓸 권한을 가진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용자 권한은 전체 파일 또는 릴레이션에 대응할 수도 있지만 또한 파일 또는 릴레이션의 일부에만 대응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지역 자치성은 분산 데이터베이스 내에 사이트 단계의 권한 제어를 제시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전역 제어는 중앙 집중 제어를 제시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4BD-E075-4517-88EB-E9833B6195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권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데이터베이스 부분에 대한 권한의 유형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권한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데이터를 읽기는 하지만 수정은 할 수 없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권한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새로운 데이터를 삽입할 수는 있지만 기존 데이터 수정은 할 수 없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권한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수정은 하지만 데이터 삭제는 할 수 없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e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권한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데이터를 삭제할 수 있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201-F6E3-4046-B992-1906D75F16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권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데이터베이스 스키마를 수정하는 권한의 유형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권한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인덱스의 생성과 삭제를 허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Resource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권한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새로운 릴레이션 생성의 허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Alteration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권한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릴레이션내 애트리뷰트의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추가 또는 삭제 허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Drop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권한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릴레이션 삭제의 허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579-EEFC-482D-AA2B-48BFE69B4F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7T15:59:14Z</dcterms:created>
  <dc:creator>서울산업대학교 교수 석상기</dc:creator>
  <dc:description/>
  <dc:language>en-US</dc:language>
  <cp:lastModifiedBy>.</cp:lastModifiedBy>
  <dcterms:modified xsi:type="dcterms:W3CDTF">1999-06-18T07:31:25Z</dcterms:modified>
  <cp:revision>70</cp:revision>
  <dc:subject/>
  <dc:title>제20장 고급 트랜잭션 처리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/main.htm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