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D8E-96C2-4491-B3E3-98C17FE6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DCA-49B8-47D1-82E9-1DB3B4AA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EEC-B0A9-4F93-BE56-17641332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6AF-D6A1-4E5D-AB73-98F29F9A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0C28-1E40-4A7E-8991-94751DD9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AC4B-DDEB-4A19-8CF7-2AB4FF36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C6B9-ED7D-4B3C-A50E-D6674750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C857-EE49-4C16-96EC-7B56DB2D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1517-DF34-4B1B-962D-CD75E1BC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3C29-62C3-4C22-AAC7-05AEE615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700E-0DCD-48A9-A070-F11F1E42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5CB-6450-434C-95BD-020E4DFF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4011-0EFE-47DA-870D-41FD8C1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164F-8792-46E1-B04D-6EF065CF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9692-1160-4B2C-A3E6-42B9959D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7569-A26C-4CF0-91FF-F3E591EB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EF34-F47A-4062-82F2-91B33356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124-5267-48D0-BAFC-C04B55DA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FE9-823B-4A32-8493-8A87FD67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CFF-BF00-40AB-88FB-A31FD1D4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0B6-DF0A-454D-9AD0-506B091F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0F2-C0D4-4BE8-A6D6-D6C2150B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6EC-D073-4066-A488-71472E26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101-85F2-410D-882E-690E9774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CD7D-E541-4C87-87AA-1A92319B6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A039-DAAA-4D5D-91ED-E15EB0EAB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장 분산 데이터베이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산 데이터 저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네트워크 은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산 질의 처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산 트랜잭션 모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완료 규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정자 선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시성 제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교착상태 처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중 데이터베이스 시스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6D3-57E1-4523-8EAF-2FE71ED188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네트워크 은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시스템 사용자들로 하여금 데이터 항목이 분산 시스템 내에 어떻게 어디에 저장되어 있는가에 대한 상세 사항을 알지 못하도록 하는 정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릴레이션 내의 다음에 대한 은폐 문제를 고려해 보자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 항목의 명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 항목의 중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 항목의 분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단편과 중복의 위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B68-D142-4E3D-B16A-9B49459CBE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9440" y="342720"/>
            <a:ext cx="7961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항목의 명명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평가 기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각 데이터 항목은 시스템 전체에서 유일한     이름을 가져야 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데이터 항목의 위치를 효율적으로 찾을 수       있어야 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데이터 항목의 위치를 드러나지 않게 변경할 수 있어야 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각 사이트는 새로운 데이터 항목을 자치적으로 생성할 수 있어야 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05C-E80E-4FBF-B312-1AB946D81B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중앙 집중 기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이름 서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52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구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이름 서버는 모든 이름을 배정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각 사이트는 지역 데이터 항목을 기록 유지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사이트에서는 비지역 데이터 항목을 찾기 위해 이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서버에 문의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장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명명 평가 기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~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을 만족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단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명명 평가 기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를 만족하지 않는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이름 서버에 성능 병목의 가능성이 있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이름 서버가 고장의 유일한 요소이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AD6-FCF6-4188-984B-EB4B6A76C6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별명의 사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중앙 집중 기법에의 대안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사이트는 자신이 생성한   어떠한 이름에 자신의 사이트 식별자를 붙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site17.acc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처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유일한 식별자를 가지게 되고 중앙 집중과 관련한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제가 해결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네트워크 은폐 달성은 실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해결책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항목에 대한 별명의 집합을 생성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사이트에 별명과 실제 이름과의  매핑을 저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용자는 데이터 항목의 물리적 위치를 모를 수 있으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항목의 한 사이트에서 다른 사이트로 이동되더라도 영향을 받지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7B6-179F-4B8A-A9FE-D1482B0D45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별명의 사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항목의 각 사본과 단편은 유일한 이름을 가져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같은 데이터 항목의 사본들과 단편들을 결정하는데 후위 표기를 사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같은 데이터 항목의 단편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“.f1”, “.f2”,…, “.f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같은 데이터 항목의 사본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“.r1”, “.r2”,…, “.r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ite17.account.f3.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위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단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사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의미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항목은 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생성되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61A-8232-4725-B809-BE753FC5E6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이름 변환 알고리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85960" y="159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s in the alias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 := map(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 :=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nction map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s in the replica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ul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name of replica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ears in the fragmen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ul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expression to construct frag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ul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p(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78F-BC3E-4F88-AC15-F9664EBEF6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이름 변환 기법의 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576080"/>
            <a:ext cx="7979040" cy="45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Hillside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지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사용자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의 지역 단편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account.f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local-accoun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라는 별명을 사용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 사용자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local-account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참조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질의 처리 부 시스템은 별명 테이블에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local-accoun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찾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1.account.f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으로 대치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1.account.f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 중복되었으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스템은 사본을 선택하기     위해 중복 테이블을 참조해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 사본이 분할되었으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스템은 릴레이션을 재구축하는  방법을 알기 위해 분할 테이블을 검사해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일반적으로는 한 두개의 테이블만 참조하면 되므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알고리즘은 릴레이션의 어떤 조합의 연속적인 중복과 분할도 다룰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F29-1674-41D8-8E73-0A3D8C6720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은폐와 갱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2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항목의 모든 사본이 갱신되고 영향 받는 모든 단편이 갱신되도록 보장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에 다음 튜플의 삽입을 고려해 보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“Valleyview”, A-733, 6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수평 분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 = “Hillside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ccount)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ko-K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 = “Valleyview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c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술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번째 단편과 관련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술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튜플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“Valleyview”, A-733, 600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적용해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튜플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번째 단편에 삽입되어야 할지를 테스트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튜플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삽입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323-8B58-4C34-8F61-4F8A43FBFE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은폐와 갱신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4680" y="1752480"/>
            <a:ext cx="819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수직 분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튜플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“Valleyview”,A-733,”Jones”,600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두 개의 단편으로 분리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나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삽입되도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나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삽입되도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중복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튜플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“Valleyview”,A-733, “Jones”,600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모든 사본에 삽입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제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deposi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동시에 액세스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한 사본이 다른 것 보다 먼저 갱신될 것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시성 제어 참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9AC-8EB9-44FC-BB17-0C0DC4E06F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분산 질의 처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중앙 집중시스템에서는 특정 전략의 비용 산정에 대한 주요 기준이 디스크 액세스의 수이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분산 시스템에서는 다른 사항을 고려해야 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네트워크를 통한 데이터 전송 비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질의의 일부를 다른 사이트들이 병렬로 처리함으로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얻는 성능 향상의 가능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809-510E-4AA8-9481-AD36385055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분산 데이터베이스 시스템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광역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전화선 또는 근거리망 같은 매체를 통해 통신하는 여러 컴퓨터에 데이터베이스가 저장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사용자에게는 단일 시스템으로 보인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복잡한 질의를 처리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처리가 요청을 시작한 다른 사이트에서 이루어질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트랜잭션 관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자동으로 제공되는 질의 최적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4BB-2EE9-48D9-8137-0D718FB896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변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수 질의를 단편상의 질의로 변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단편들로부터 릴레이션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을 구축할 수 있어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을 단편들로부터 릴레이션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을 구축하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는 표현식으로 대치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 처리를 위한 사이트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8B1-6D7B-483C-A844-8CB4496106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의 아래와 같은 수평 분할을 고려해 보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  = “Hillside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(ac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  = “Valleyview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(ac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  = “Hillside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(account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다음과 같이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  = “Hillside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(accoun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U  accoun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것은 아래와 같이 최적화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  = “Hillside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(accoun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 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  = “Hillside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ccoun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286-6B64-486C-A4D8-4E101D5BE9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95240" y="1752480"/>
            <a:ext cx="7602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oun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illsid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에 속한 튜플만을 가지고    있으므로 선택 연산을 제거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정의를 적용해 다음을 얻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  = “Hillside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branch-name  =  “Valleyview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(account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표현식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의 내용에 관계없이    공집합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최종 전략은 질의의 결과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illsid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에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oun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돌려주는 것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605-5091-4A7D-9C51-25684A3B1D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단순 죠인 처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세개의 릴레이션이 중복되지도 않고 분할되지도 않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형 대수 표현식을 고려해 보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o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ran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저장되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o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제기된 질의에 대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ko-KR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결과를 생성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89160" y="3160800"/>
            <a:ext cx="287280" cy="331560"/>
            <a:chOff x="3089160" y="3160800"/>
            <a:chExt cx="287280" cy="331560"/>
          </a:xfrm>
        </p:grpSpPr>
        <p:sp>
          <p:nvSpPr>
            <p:cNvPr id="206" name=""/>
            <p:cNvSpPr/>
            <p:nvPr/>
          </p:nvSpPr>
          <p:spPr>
            <a:xfrm>
              <a:off x="3089160" y="316080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76440" y="316080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089160" y="3160800"/>
              <a:ext cx="28728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89160" y="3160800"/>
              <a:ext cx="28728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957560" y="3160800"/>
            <a:ext cx="308160" cy="331560"/>
            <a:chOff x="4957560" y="3160800"/>
            <a:chExt cx="308160" cy="331560"/>
          </a:xfrm>
        </p:grpSpPr>
        <p:sp>
          <p:nvSpPr>
            <p:cNvPr id="211" name=""/>
            <p:cNvSpPr/>
            <p:nvPr/>
          </p:nvSpPr>
          <p:spPr>
            <a:xfrm>
              <a:off x="4957920" y="316080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65720" y="316080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957560" y="3160800"/>
              <a:ext cx="30780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7920" y="3160800"/>
              <a:ext cx="30780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F32-14C1-48C5-891E-C91932199C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가능한 질의 처리 전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6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세 릴레이션의 모든 사본을 사이트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지역적으로 전체 질의를 처리하는 전략을 선택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의 사본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보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= account       depositor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계산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보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= tem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branch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계산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결과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보낸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역할을 바꾸어 유사한 전략을 세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음과 같은 요인을 고려해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보내는 데이터의 양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이트간의 데이터 블록 전송 비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각 사이트에서의 상대적인 처리 속도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195360" y="3005280"/>
            <a:ext cx="308160" cy="187200"/>
            <a:chOff x="3195360" y="3005280"/>
            <a:chExt cx="308160" cy="187200"/>
          </a:xfrm>
        </p:grpSpPr>
        <p:sp>
          <p:nvSpPr>
            <p:cNvPr id="218" name=""/>
            <p:cNvSpPr/>
            <p:nvPr/>
          </p:nvSpPr>
          <p:spPr>
            <a:xfrm>
              <a:off x="3195720" y="300528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3520" y="300528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195360" y="3005280"/>
              <a:ext cx="307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95720" y="3005280"/>
              <a:ext cx="307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967440" y="3416400"/>
            <a:ext cx="308160" cy="187200"/>
            <a:chOff x="6967440" y="3416400"/>
            <a:chExt cx="308160" cy="187200"/>
          </a:xfrm>
        </p:grpSpPr>
        <p:sp>
          <p:nvSpPr>
            <p:cNvPr id="223" name=""/>
            <p:cNvSpPr/>
            <p:nvPr/>
          </p:nvSpPr>
          <p:spPr>
            <a:xfrm>
              <a:off x="6967440" y="34164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75600" y="34164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967440" y="3416400"/>
              <a:ext cx="30816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67440" y="3416400"/>
              <a:ext cx="30816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C6E-7C34-4EDC-95AB-469E61FABA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세미죠인 전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사이트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저장된 스키마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가진 릴레이션이라 하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사이트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저장된 스키마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가진 릴레이션이라 하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평가해 결과는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생성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1. 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200" spc="-1" strike="noStrike" baseline="-5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   R</a:t>
            </a:r>
            <a:r>
              <a:rPr b="0" lang="ko-KR" sz="2200" spc="-1" strike="noStrike" baseline="-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계산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. 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보낸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3. 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계산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4. 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으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보낸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5. 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temp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계산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것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1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결과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103560" y="320364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170160" y="401328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084560" y="3925800"/>
            <a:ext cx="308160" cy="216000"/>
            <a:chOff x="4084560" y="3925800"/>
            <a:chExt cx="308160" cy="216000"/>
          </a:xfrm>
        </p:grpSpPr>
        <p:sp>
          <p:nvSpPr>
            <p:cNvPr id="232" name=""/>
            <p:cNvSpPr/>
            <p:nvPr/>
          </p:nvSpPr>
          <p:spPr>
            <a:xfrm>
              <a:off x="4084560" y="39258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92720" y="39258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084560" y="392580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84560" y="392580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493640" y="2739960"/>
            <a:ext cx="308160" cy="216000"/>
            <a:chOff x="1493640" y="2739960"/>
            <a:chExt cx="308160" cy="216000"/>
          </a:xfrm>
        </p:grpSpPr>
        <p:sp>
          <p:nvSpPr>
            <p:cNvPr id="237" name=""/>
            <p:cNvSpPr/>
            <p:nvPr/>
          </p:nvSpPr>
          <p:spPr>
            <a:xfrm>
              <a:off x="1494000" y="27399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01800" y="27399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493640" y="2739960"/>
              <a:ext cx="307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94000" y="2739960"/>
              <a:ext cx="307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620800" y="4699080"/>
            <a:ext cx="308160" cy="216000"/>
            <a:chOff x="2620800" y="4699080"/>
            <a:chExt cx="308160" cy="216000"/>
          </a:xfrm>
        </p:grpSpPr>
        <p:sp>
          <p:nvSpPr>
            <p:cNvPr id="242" name=""/>
            <p:cNvSpPr/>
            <p:nvPr/>
          </p:nvSpPr>
          <p:spPr>
            <a:xfrm>
              <a:off x="2620800" y="46990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28960" y="46990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0800" y="469908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20800" y="469908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459480" y="4699080"/>
            <a:ext cx="308160" cy="216000"/>
            <a:chOff x="6459480" y="4699080"/>
            <a:chExt cx="308160" cy="216000"/>
          </a:xfrm>
        </p:grpSpPr>
        <p:sp>
          <p:nvSpPr>
            <p:cNvPr id="247" name=""/>
            <p:cNvSpPr/>
            <p:nvPr/>
          </p:nvSpPr>
          <p:spPr>
            <a:xfrm>
              <a:off x="6459480" y="46990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67640" y="46990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459480" y="469908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59480" y="469908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47F-5434-4BCE-B42C-8C6B24FAE2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형식적 정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세미죠인은 아래와 같이 표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것은 다음과 같이 정의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5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기여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 튜플만을 선택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앞장의 절차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러 릴레이션의 죠인에 대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위의 전략은 일련의     세미죠인 절차로 확장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192200" y="2368440"/>
            <a:ext cx="308160" cy="216000"/>
            <a:chOff x="4192200" y="2368440"/>
            <a:chExt cx="308160" cy="216000"/>
          </a:xfrm>
        </p:grpSpPr>
        <p:sp>
          <p:nvSpPr>
            <p:cNvPr id="254" name=""/>
            <p:cNvSpPr/>
            <p:nvPr/>
          </p:nvSpPr>
          <p:spPr>
            <a:xfrm>
              <a:off x="4192560" y="23684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192200" y="2368440"/>
              <a:ext cx="307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92560" y="2368440"/>
              <a:ext cx="307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614840" y="3246480"/>
            <a:ext cx="308160" cy="216000"/>
            <a:chOff x="4614840" y="3246480"/>
            <a:chExt cx="308160" cy="216000"/>
          </a:xfrm>
        </p:grpSpPr>
        <p:sp>
          <p:nvSpPr>
            <p:cNvPr id="258" name=""/>
            <p:cNvSpPr/>
            <p:nvPr/>
          </p:nvSpPr>
          <p:spPr>
            <a:xfrm>
              <a:off x="4614840" y="32464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23000" y="32464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4614840" y="324648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14840" y="324648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413240" y="3666960"/>
            <a:ext cx="308160" cy="216000"/>
            <a:chOff x="4413240" y="3666960"/>
            <a:chExt cx="308160" cy="216000"/>
          </a:xfrm>
        </p:grpSpPr>
        <p:sp>
          <p:nvSpPr>
            <p:cNvPr id="263" name=""/>
            <p:cNvSpPr/>
            <p:nvPr/>
          </p:nvSpPr>
          <p:spPr>
            <a:xfrm>
              <a:off x="4413240" y="36669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21400" y="36669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413240" y="366696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13240" y="366696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723760" y="3638520"/>
            <a:ext cx="308160" cy="216000"/>
            <a:chOff x="2723760" y="3638520"/>
            <a:chExt cx="308160" cy="216000"/>
          </a:xfrm>
        </p:grpSpPr>
        <p:sp>
          <p:nvSpPr>
            <p:cNvPr id="268" name=""/>
            <p:cNvSpPr/>
            <p:nvPr/>
          </p:nvSpPr>
          <p:spPr>
            <a:xfrm>
              <a:off x="2724120" y="36385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723760" y="3638520"/>
              <a:ext cx="307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24120" y="3638520"/>
              <a:ext cx="307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262120" y="4462560"/>
            <a:ext cx="308160" cy="215640"/>
            <a:chOff x="5262120" y="4462560"/>
            <a:chExt cx="308160" cy="215640"/>
          </a:xfrm>
        </p:grpSpPr>
        <p:sp>
          <p:nvSpPr>
            <p:cNvPr id="272" name=""/>
            <p:cNvSpPr/>
            <p:nvPr/>
          </p:nvSpPr>
          <p:spPr>
            <a:xfrm>
              <a:off x="5262480" y="4462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262120" y="4462560"/>
              <a:ext cx="3078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62480" y="4462560"/>
              <a:ext cx="3078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1C9-E9BE-480A-A573-9577C0E014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병렬화를 사용하는 죠인  전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7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저장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고려해 보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결과는 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나타나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파이프 라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죠인 전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보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계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시에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보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계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튜플이 생성되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보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튜플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보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튜플들이 일단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도달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계산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계산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함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        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병렬로 계산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552920" y="3579840"/>
            <a:ext cx="308160" cy="216000"/>
            <a:chOff x="4552920" y="3579840"/>
            <a:chExt cx="308160" cy="216000"/>
          </a:xfrm>
        </p:grpSpPr>
        <p:sp>
          <p:nvSpPr>
            <p:cNvPr id="278" name=""/>
            <p:cNvSpPr/>
            <p:nvPr/>
          </p:nvSpPr>
          <p:spPr>
            <a:xfrm>
              <a:off x="4552920" y="35798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61080" y="35798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552920" y="357984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2920" y="357984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487600" y="4029120"/>
            <a:ext cx="308160" cy="216000"/>
            <a:chOff x="2487600" y="4029120"/>
            <a:chExt cx="308160" cy="216000"/>
          </a:xfrm>
        </p:grpSpPr>
        <p:sp>
          <p:nvSpPr>
            <p:cNvPr id="283" name=""/>
            <p:cNvSpPr/>
            <p:nvPr/>
          </p:nvSpPr>
          <p:spPr>
            <a:xfrm>
              <a:off x="2487600" y="40291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95760" y="40291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87600" y="402912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87600" y="402912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660400" y="4492800"/>
            <a:ext cx="308160" cy="215640"/>
            <a:chOff x="2660400" y="4492800"/>
            <a:chExt cx="308160" cy="215640"/>
          </a:xfrm>
        </p:grpSpPr>
        <p:sp>
          <p:nvSpPr>
            <p:cNvPr id="288" name=""/>
            <p:cNvSpPr/>
            <p:nvPr/>
          </p:nvSpPr>
          <p:spPr>
            <a:xfrm>
              <a:off x="2660760" y="44928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68560" y="44928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660400" y="4492800"/>
              <a:ext cx="3078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60760" y="4492800"/>
              <a:ext cx="3078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17800" y="3143160"/>
            <a:ext cx="308160" cy="216000"/>
            <a:chOff x="4717800" y="3143160"/>
            <a:chExt cx="308160" cy="216000"/>
          </a:xfrm>
        </p:grpSpPr>
        <p:sp>
          <p:nvSpPr>
            <p:cNvPr id="293" name=""/>
            <p:cNvSpPr/>
            <p:nvPr/>
          </p:nvSpPr>
          <p:spPr>
            <a:xfrm>
              <a:off x="4718160" y="31431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25960" y="31431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717800" y="3143160"/>
              <a:ext cx="307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18160" y="3143160"/>
              <a:ext cx="307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797520" y="1940040"/>
            <a:ext cx="308160" cy="215640"/>
            <a:chOff x="6797520" y="1940040"/>
            <a:chExt cx="308160" cy="215640"/>
          </a:xfrm>
        </p:grpSpPr>
        <p:sp>
          <p:nvSpPr>
            <p:cNvPr id="298" name=""/>
            <p:cNvSpPr/>
            <p:nvPr/>
          </p:nvSpPr>
          <p:spPr>
            <a:xfrm>
              <a:off x="6797520" y="1940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05680" y="1940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797520" y="1940040"/>
              <a:ext cx="3081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97520" y="1940040"/>
              <a:ext cx="3081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70440" y="1940040"/>
            <a:ext cx="308160" cy="215640"/>
            <a:chOff x="7570440" y="1940040"/>
            <a:chExt cx="308160" cy="215640"/>
          </a:xfrm>
        </p:grpSpPr>
        <p:sp>
          <p:nvSpPr>
            <p:cNvPr id="303" name=""/>
            <p:cNvSpPr/>
            <p:nvPr/>
          </p:nvSpPr>
          <p:spPr>
            <a:xfrm>
              <a:off x="7570800" y="1940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8600" y="1940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70440" y="1940040"/>
              <a:ext cx="3078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70800" y="1940040"/>
              <a:ext cx="3078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991120" y="1940040"/>
            <a:ext cx="308160" cy="215640"/>
            <a:chOff x="5991120" y="1940040"/>
            <a:chExt cx="308160" cy="215640"/>
          </a:xfrm>
        </p:grpSpPr>
        <p:sp>
          <p:nvSpPr>
            <p:cNvPr id="308" name=""/>
            <p:cNvSpPr/>
            <p:nvPr/>
          </p:nvSpPr>
          <p:spPr>
            <a:xfrm>
              <a:off x="5991120" y="1940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99280" y="1940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991120" y="1940040"/>
              <a:ext cx="3081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91120" y="1940040"/>
              <a:ext cx="3081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952280" y="4923000"/>
            <a:ext cx="308160" cy="215640"/>
            <a:chOff x="1952280" y="4923000"/>
            <a:chExt cx="308160" cy="215640"/>
          </a:xfrm>
        </p:grpSpPr>
        <p:sp>
          <p:nvSpPr>
            <p:cNvPr id="313" name=""/>
            <p:cNvSpPr/>
            <p:nvPr/>
          </p:nvSpPr>
          <p:spPr>
            <a:xfrm>
              <a:off x="1952640" y="4923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60440" y="4923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952280" y="4923000"/>
              <a:ext cx="3078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52640" y="4923000"/>
              <a:ext cx="3078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619440" y="4923000"/>
            <a:ext cx="308160" cy="215640"/>
            <a:chOff x="3619440" y="4923000"/>
            <a:chExt cx="308160" cy="215640"/>
          </a:xfrm>
        </p:grpSpPr>
        <p:sp>
          <p:nvSpPr>
            <p:cNvPr id="318" name=""/>
            <p:cNvSpPr/>
            <p:nvPr/>
          </p:nvSpPr>
          <p:spPr>
            <a:xfrm>
              <a:off x="3619440" y="4923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27600" y="4923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619440" y="4923000"/>
              <a:ext cx="3081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19440" y="4923000"/>
              <a:ext cx="3081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487600" y="5780160"/>
            <a:ext cx="308160" cy="216000"/>
            <a:chOff x="2487600" y="5780160"/>
            <a:chExt cx="308160" cy="216000"/>
          </a:xfrm>
        </p:grpSpPr>
        <p:sp>
          <p:nvSpPr>
            <p:cNvPr id="323" name=""/>
            <p:cNvSpPr/>
            <p:nvPr/>
          </p:nvSpPr>
          <p:spPr>
            <a:xfrm>
              <a:off x="2487600" y="57801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95760" y="57801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487600" y="578016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87600" y="578016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561000" y="5348160"/>
            <a:ext cx="308160" cy="216000"/>
            <a:chOff x="6561000" y="5348160"/>
            <a:chExt cx="308160" cy="216000"/>
          </a:xfrm>
        </p:grpSpPr>
        <p:sp>
          <p:nvSpPr>
            <p:cNvPr id="328" name=""/>
            <p:cNvSpPr/>
            <p:nvPr/>
          </p:nvSpPr>
          <p:spPr>
            <a:xfrm>
              <a:off x="6561000" y="53481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69160" y="53481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61000" y="534816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61000" y="534816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039840" y="5334120"/>
            <a:ext cx="308160" cy="215640"/>
            <a:chOff x="3039840" y="5334120"/>
            <a:chExt cx="308160" cy="215640"/>
          </a:xfrm>
        </p:grpSpPr>
        <p:sp>
          <p:nvSpPr>
            <p:cNvPr id="333" name=""/>
            <p:cNvSpPr/>
            <p:nvPr/>
          </p:nvSpPr>
          <p:spPr>
            <a:xfrm>
              <a:off x="3040200" y="53341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48000" y="53341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039840" y="5334120"/>
              <a:ext cx="3078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40200" y="5334120"/>
              <a:ext cx="3078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476520" y="5781600"/>
            <a:ext cx="308160" cy="216000"/>
            <a:chOff x="3476520" y="5781600"/>
            <a:chExt cx="308160" cy="216000"/>
          </a:xfrm>
        </p:grpSpPr>
        <p:sp>
          <p:nvSpPr>
            <p:cNvPr id="338" name=""/>
            <p:cNvSpPr/>
            <p:nvPr/>
          </p:nvSpPr>
          <p:spPr>
            <a:xfrm>
              <a:off x="3476520" y="57816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84680" y="57816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476520" y="578160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76520" y="5781600"/>
              <a:ext cx="3081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424040" y="5796000"/>
            <a:ext cx="308160" cy="216000"/>
            <a:chOff x="4424040" y="5796000"/>
            <a:chExt cx="308160" cy="216000"/>
          </a:xfrm>
        </p:grpSpPr>
        <p:sp>
          <p:nvSpPr>
            <p:cNvPr id="343" name=""/>
            <p:cNvSpPr/>
            <p:nvPr/>
          </p:nvSpPr>
          <p:spPr>
            <a:xfrm>
              <a:off x="4424400" y="5796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32200" y="5796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424040" y="5796000"/>
              <a:ext cx="307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24400" y="5796000"/>
              <a:ext cx="307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E89-83BA-46FA-ADF4-54EC06E1C8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산 트랜잭션 모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91640" y="175248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은 여러 사이트에서 데이터를 액세스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사이트에는 다음과 같은 책임을 지는 지역 트랜잭션 매니저를     가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회복을 위한 로그의 유지 관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당 사이트에서 실행중인 트랜잭션의 동시 실행 조정에의 참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사이트에는 다음과 같은 책임을 지는 트랜잭션 조정자를 가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당 사이트에서 기동하는 트랜잭션의 실행 시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실행을 위해 부 트랜잭션을 적절한 사이트로의 분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이 모든 사이트에서 완료되거나 중단될 수 있는 해당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이트에서 기동한 각 트랜잭션 종료의 조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2D1-088B-46F8-A8D9-A12CF32B51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랜잭션 시스템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66800" y="1905120"/>
            <a:ext cx="1166760" cy="39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342120" y="1905120"/>
            <a:ext cx="1173240" cy="39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95320" y="2352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13400" y="43830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70640" y="2424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05040" y="43830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0680" y="2603520"/>
            <a:ext cx="65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24200" y="462456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02760" y="2720880"/>
            <a:ext cx="65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10600" y="468468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297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조정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33240" y="4602240"/>
            <a:ext cx="855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매니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22600" y="582300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컴퓨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25000" y="5765760"/>
            <a:ext cx="10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컴퓨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16480" y="4383000"/>
            <a:ext cx="1299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47800" y="3086280"/>
            <a:ext cx="73836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47800" y="3060720"/>
            <a:ext cx="1528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09720" y="2720880"/>
            <a:ext cx="2082960" cy="15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647440" y="3060720"/>
            <a:ext cx="3822840" cy="14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781440" y="3178080"/>
            <a:ext cx="2813040" cy="110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572000" y="3267000"/>
            <a:ext cx="2022480" cy="101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208480" y="3338640"/>
            <a:ext cx="157320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47800" y="2603520"/>
            <a:ext cx="4133880" cy="17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07040" y="4383000"/>
            <a:ext cx="1299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48200" y="4383000"/>
            <a:ext cx="13032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D18-C9DA-4128-81BC-EFEE72A5DB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분산 데이터 저장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08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관계형 데이터 모델을 가정하자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중복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보다 빠른 검색과 고장에 대비해 시스템은 여러 사이트에 저장된 데이터의 여러 사본을 유지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분할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릴레이션은 여러 단편으로 분할되어 서로 다른 사이트에 저장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중복과 분할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릴레이션은 여러 단편으로 분할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시스템은 그러한 각 단편의 동일한 여러 사본을 유지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10B-4620-42D2-9EA8-7404A1005A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시스템 고장 유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산 시스템에 유일한 고장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 고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메시지 손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통신선 고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네트워크 분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가 물리적으로 어떻게 연결되는가의 구성은    다음 사항으로 비교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설치 비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통신 비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용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4AD-9606-4281-B94A-A5675488D8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시스템 고장 유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35040" y="1752480"/>
            <a:ext cx="8182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부분적으로 연결된 네트워크는 모두가 아닌 일부 사이트 쌍 간에 직접 링크를 가진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완전 연결 네트워크보다 설치 비용이 덜 든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직접 연결되지 않은 두 사이트간에 메시지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우회하는 통신 비용이 보다 높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770-11FF-4B07-BED4-898344F7D5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네트워크 위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201760" y="1889280"/>
            <a:ext cx="1939680" cy="1625400"/>
            <a:chOff x="2201760" y="1889280"/>
            <a:chExt cx="1939680" cy="1625400"/>
          </a:xfrm>
        </p:grpSpPr>
        <p:sp>
          <p:nvSpPr>
            <p:cNvPr id="381" name=""/>
            <p:cNvSpPr/>
            <p:nvPr/>
          </p:nvSpPr>
          <p:spPr>
            <a:xfrm>
              <a:off x="3392280" y="3198240"/>
              <a:ext cx="285840" cy="31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70000" y="2178360"/>
              <a:ext cx="885960" cy="4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70000" y="2044080"/>
              <a:ext cx="4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55800" y="2178360"/>
              <a:ext cx="30492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55960" y="2550600"/>
              <a:ext cx="285480" cy="32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01760" y="2539440"/>
              <a:ext cx="285480" cy="32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78040" y="3188160"/>
              <a:ext cx="285480" cy="32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92280" y="1889280"/>
              <a:ext cx="285840" cy="32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78040" y="1906200"/>
              <a:ext cx="285480" cy="32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4480" y="2231280"/>
              <a:ext cx="0" cy="9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22600" y="2215440"/>
              <a:ext cx="0" cy="9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63520" y="335844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11280" y="2875680"/>
              <a:ext cx="30456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411280" y="2191320"/>
              <a:ext cx="3045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647520" y="2865960"/>
              <a:ext cx="30492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87240" y="2696760"/>
              <a:ext cx="1387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863440" y="2191320"/>
              <a:ext cx="577800" cy="9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14560" y="2191320"/>
              <a:ext cx="560160" cy="10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2447640" y="2116080"/>
              <a:ext cx="954000" cy="50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68520" y="2777760"/>
              <a:ext cx="952200" cy="4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963520" y="2777760"/>
              <a:ext cx="892440" cy="4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492960" y="4189320"/>
            <a:ext cx="1892160" cy="1644480"/>
            <a:chOff x="6492960" y="4189320"/>
            <a:chExt cx="1892160" cy="1644480"/>
          </a:xfrm>
        </p:grpSpPr>
        <p:sp>
          <p:nvSpPr>
            <p:cNvPr id="403" name=""/>
            <p:cNvSpPr/>
            <p:nvPr/>
          </p:nvSpPr>
          <p:spPr>
            <a:xfrm>
              <a:off x="7683480" y="5513400"/>
              <a:ext cx="285840" cy="32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61200" y="4345560"/>
              <a:ext cx="4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12080" y="4487760"/>
              <a:ext cx="30492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99640" y="4854240"/>
              <a:ext cx="285480" cy="32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92960" y="4847040"/>
              <a:ext cx="285840" cy="330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9240" y="5503680"/>
              <a:ext cx="285840" cy="330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83480" y="4189320"/>
              <a:ext cx="285840" cy="330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69240" y="4206240"/>
              <a:ext cx="285840" cy="32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55080" y="567612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02480" y="5187240"/>
              <a:ext cx="30492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6702120" y="4494960"/>
              <a:ext cx="30492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938720" y="5177520"/>
              <a:ext cx="30492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301760" y="4278240"/>
            <a:ext cx="1847520" cy="1528560"/>
            <a:chOff x="1301760" y="4278240"/>
            <a:chExt cx="1847520" cy="1528560"/>
          </a:xfrm>
        </p:grpSpPr>
        <p:sp>
          <p:nvSpPr>
            <p:cNvPr id="416" name=""/>
            <p:cNvSpPr/>
            <p:nvPr/>
          </p:nvSpPr>
          <p:spPr>
            <a:xfrm>
              <a:off x="2139840" y="4278240"/>
              <a:ext cx="285840" cy="2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92000" y="4861800"/>
              <a:ext cx="285840" cy="2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30440" y="4857840"/>
              <a:ext cx="285480" cy="2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5508000"/>
              <a:ext cx="285480" cy="2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63800" y="5508000"/>
              <a:ext cx="285480" cy="2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01760" y="5496120"/>
              <a:ext cx="285480" cy="2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977840" y="4545720"/>
              <a:ext cx="18432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1579320" y="5176440"/>
              <a:ext cx="18432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99720" y="5140080"/>
              <a:ext cx="27720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76000" y="4511880"/>
              <a:ext cx="27720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39240" y="5128200"/>
              <a:ext cx="27720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4905360" y="1841400"/>
            <a:ext cx="1915920" cy="1625400"/>
            <a:chOff x="4905360" y="1841400"/>
            <a:chExt cx="1915920" cy="1625400"/>
          </a:xfrm>
        </p:grpSpPr>
        <p:sp>
          <p:nvSpPr>
            <p:cNvPr id="428" name=""/>
            <p:cNvSpPr/>
            <p:nvPr/>
          </p:nvSpPr>
          <p:spPr>
            <a:xfrm>
              <a:off x="5707080" y="1841400"/>
              <a:ext cx="285840" cy="3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05360" y="2320920"/>
              <a:ext cx="285840" cy="32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07000" y="2320920"/>
              <a:ext cx="285840" cy="32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78520" y="3142800"/>
              <a:ext cx="285840" cy="32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35800" y="3133080"/>
              <a:ext cx="285480" cy="32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05360" y="3133080"/>
              <a:ext cx="285840" cy="32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191200" y="2067840"/>
              <a:ext cx="51588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5987520" y="2091600"/>
              <a:ext cx="5130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38560" y="2644920"/>
              <a:ext cx="0" cy="48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64320" y="2644920"/>
              <a:ext cx="0" cy="48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6192360" y="2644920"/>
              <a:ext cx="39996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148360" y="2168640"/>
              <a:ext cx="630000" cy="9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765600" y="4178160"/>
            <a:ext cx="2055240" cy="1655640"/>
            <a:chOff x="3765600" y="4178160"/>
            <a:chExt cx="2055240" cy="1655640"/>
          </a:xfrm>
        </p:grpSpPr>
        <p:sp>
          <p:nvSpPr>
            <p:cNvPr id="441" name=""/>
            <p:cNvSpPr/>
            <p:nvPr/>
          </p:nvSpPr>
          <p:spPr>
            <a:xfrm>
              <a:off x="4636800" y="4178160"/>
              <a:ext cx="285480" cy="30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35360" y="4737960"/>
              <a:ext cx="285480" cy="30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06760" y="5446080"/>
              <a:ext cx="285480" cy="30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36800" y="4868640"/>
              <a:ext cx="2854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5600" y="4785480"/>
              <a:ext cx="285480" cy="30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01920" y="5529600"/>
              <a:ext cx="285480" cy="30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79720" y="4482360"/>
              <a:ext cx="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415760" y="5161680"/>
              <a:ext cx="291960" cy="3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21200" y="5092920"/>
              <a:ext cx="44244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51080" y="4976280"/>
              <a:ext cx="58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922640" y="4912200"/>
              <a:ext cx="61236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3017520" y="3700440"/>
            <a:ext cx="3162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완전 연결 네트워크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부분 연결 네트워크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5800" y="5923080"/>
            <a:ext cx="4546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트리 구조 네트워크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성형 네트워크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링 네트워크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AFF-3C09-4408-9045-77DFFF665F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네트워크 위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7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분할 시스템은 연결이 없는 둘 이상의 부 시스템으로 분리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트리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구조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설치 및 통신 비용이 낮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단일 링크의 고장으로     네트워크가 분할될 수 있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링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분할이 발생하려면 적어도 두 개의 링크가 고장나야 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성형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단일 링크의 고장이 네트워크 분할을 야기하지만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분할들 중     하나는 단일 사이트만을 가지므로 단일 사이트 고장으로 취급 될 수 있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통신 비용이 낮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중앙 사이트의 고장은 시스템 내의 모든 사이트가 단절되는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결과를 가져온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264-EE5C-4113-836B-40E40B1A3D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견고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63120" y="175248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견고한 시스템은 다음을 만족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이트 또는 링크 고장의 탐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산이 계속되도록 시스템의 재구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기 또는 링크가 수리되면 회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장 유형의 처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손실된 메시지의 재전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확인 받지 않은 재전송은 링크 고장을 의미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우회로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찾는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우회로를 찾는데 실패했다는 것은 네트워크 분할의 징후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네트워크 링크 고장과 사이트 고장은 일반적으로 분간할 수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09B-7160-4BA1-AABF-D14BB7974A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시스템 재구성 절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63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중복된 데이터가 고장 난 사이트에 저장되었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가 고장 난    사이트의 사본을 참조하지 못하도록 카타로그를 갱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장 난 사이트의 활동 트랜잭션들은 중단시켜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장 난 사이트가 어떤 서브 시스템의 중앙 서버이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새로운 서버를 결정할  선거가 치러져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재구성 기법은 네트워크 분할의 경우에 정확히 수행되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은 피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로 다른 분할에서 둘 이상의 중앙 서버 선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개 분할 이상에서의 중복 데이터 갱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련의 트랜잭션으로 회복 절차를 표현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시성 제어 부              시스템과 트랜잭션 관리 부 시스템이 적절한 재통합을 위해 서로     돕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260-D7C0-41AF-94CA-5CC6D73CAFF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완료 규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사이트에 걸쳐 원자성을 보장하기 위해 완료 규약이 사용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여러 사이트에서 실행되는 트랜잭션은 모든 사이트에서 완료되든지 중단되어야 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트랜잭션이 한 사이트에서는 완료되고 다른 사이트에서는 중단될 수 없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단계 완료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2PC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규약이 널리 사용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단계 완료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3PC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규약은 보다 복잡하고 비용이 많이 들지만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2PC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의 단점을 보완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101-A1DE-4347-9C1F-769D3F839C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단계 완료 규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03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장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중단 모델을 가정한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장난 사이트는 작업을 즉시 중단하고 다른 사이트에 잘못된 메시지를 보내는 것과 같은 위해를 야기하지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규약의 실행은 트랜잭션의 마지막 절차가 도달한 후  조정자가 기동시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규약에는 트랜잭션을 실행하는 모든 지역 사이트가      내포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시작한 트랜잭션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라 하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트랜잭션 조정자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라 하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A90-0689-4AD0-9950-A48525AC01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단계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의사 결정 획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7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조정자는 모든 참가자에게 트랜잭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완료 준비를 요청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C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로그에 레코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추가하고 안정 저장 장치에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를 강제 출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실행한 모든 사이트에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시지를 보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시지를 받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해당 사이트의 트랜잭션 매니저는 트랜잭션을 완료할 수 있는가를 결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할 수 없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로그에 추가하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시지를 보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이 완료될 수 있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레코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추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한 모든 로그 레코드를 안정 저장 장치에 강제 출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C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시지를 전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0E6-0DDD-4B7E-87B4-D7D3CDF7C0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단계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의사 결정 기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3480" y="1982880"/>
            <a:ext cx="829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모든 참가 사이트로부터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메시지를 받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완료 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렇지 않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중단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정자는 의사 결정 레코드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로그에 추가하고 안정 저장 장치에 로그를 출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 레코드가 안정 저장 장치에 일단 도달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취소할 수 없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장이 발생한다 할지라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정자는 각 참가자에게 의사 결정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완료 또는 중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     알리는 메시지를 보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참가자들은 지역적으로 적절한 행위를 취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924-796D-4C68-8E05-008C65E0EB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중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9440" y="1982880"/>
            <a:ext cx="822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릴레이션 또는 릴레이션의 단편이 두 개 이상의 사이트에 저장되면 중복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릴레이션의 완전 중복은 릴레이션이 모든 사이트에 저장되는 경우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완전 중복 데이터베이스란 각 사이트에 데이터베이스 전체의 사본을 가지는 것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0F5-4CEA-48ED-9C91-1DC9A032B0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장 취급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사이트 고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0280" y="1682640"/>
            <a:ext cx="8239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회복될 때는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장 당시에 활동 트랜잭션들의 운명을 결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기 위해 자신의 로그를 검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포함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실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포함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실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포함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상의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운명을 결정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완료되었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red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중단되었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관련한 제어 레코드를 포함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C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부터의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시지에 응답하기 전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고장 났음을 의미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고장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한 응답을 할 수 없으므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중단시켜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T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실행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EDB-E301-4157-AA0B-5C149D646E0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장 취급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조정자 고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08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완료 규약 실행 중 조정자가 고장 나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참가 사이트들이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운명을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결정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어떤 활동 사이트가 자신의 로그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레코드를 내포하고 있으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     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는 완료되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어떤 활동 사이트가 자신의 로그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레코드를 내포하고 있으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는 중단되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어떤 활동 사이트가 자신의 로그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레코드를 내포하지 않으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고장난 조정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완료하고자 결정할 수 없었던 것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   중단시킬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위의 어느 경우도 아니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모든 활동 사이트는 자신의 로그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레코드를 가져야 하지만 별도의 제어 레코드는 없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러한 경우에 활동 사이트들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회복할 때까지 기다려 결정을 찾아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블록킹 문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활동 사이트들이 고장난 조정자가 회복할 때까지 기다려야  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424-4821-4D48-A07B-1206A2569AC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장 취급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네트워크 분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6240" y="1682640"/>
            <a:ext cx="819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조정자와 모든 참가자가 한 분할에 있으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고장이 완료 규약에 어떤 영향도 미치지 못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조정자와 참가자들이 여러 분할에 속하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조정자를 내포하고 있는 분할에 없는 사이트들은 조정자가 고장 났다고 생각하고 조정자 고장을 다루기 위한 규약을    실행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아무런 해도 발생하지 않지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사이트들은 여전히 조정자로부터의 결정을 기다려야 한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같은 분할에 있는 조정자와 사이트들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조정자가 다른 분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에 있는 사이트들이 고장 났다고 생각하고 통상적인 완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규약을 따른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아무런 해도 발생하지 않는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DD7-6666-4D50-879C-29C2234F89E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회복과 동시성 제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심스런 트랜잭션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가지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 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bor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느 로그 레코드도 갖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회복중인 사이트는 다른 사이트와 접촉해 그러한 트랜잭션의     완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중단 상태를 결정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것은 회복을 더디게 하고    블록의 가능성이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회복 알고리즘은 로그 내에 로그 정보를 기록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신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,L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기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로그가 기록될 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가진 로크 리스트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읽기 블록은 생략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의심스러운 트랜잭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,L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 레코드에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록된 모든 로크가 다시 얻어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크 재획득 후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 처리가 재개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심스런     트랜잭션의 완료 또는 복귀가 새로운 트랜잭션의 실행과 동시에 수행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826-B89E-4195-9DC3-116DC995CA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단계 완료 규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63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정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네트워크 분할은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시점에서 적어도 하나의 사이트는 활동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껏해야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이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조정자와 참가자 포함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고장 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비 의사 결정 획득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2PC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단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동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사이트는 그렇게 하라는 통지를 받으면 완료할 준비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2P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에서 각 사이트는 조정자로부터의 결정을 기다릴 의무가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3P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에서 조정자의 고장에도 불구하고 예비 완료 결정의 지식이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완료하는데 사용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DC4-E305-47AB-92E6-611BD3DEFAB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단계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비 결정의 기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정자는 자신의 로그에 결정 레코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ecommi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추가하고 안정 저장 장치에 출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정자는 각  참가자에게 결정 사항을 알리는 메시지를 보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참가자는 자신의 로그에 결정을 기록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중단 결정을 받으면 참가자는 지역적으로 중단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비 완료 결정을 받으면 참가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cknowledg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응답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A89-E5FF-4013-8D5A-D55120E73ED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050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Times New Roman"/>
              </a:rPr>
              <a:t>단계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3:</a:t>
            </a:r>
            <a:r>
              <a:rPr b="0" lang="zh-CN" sz="4200" spc="-1" strike="noStrike">
                <a:solidFill>
                  <a:srgbClr val="000000"/>
                </a:solidFill>
                <a:latin typeface="Times New Roman"/>
              </a:rPr>
              <a:t>데이터베이스에 결정 기록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05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단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예비 완료일 때만 실행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정자는 확인 응답을 수집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K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의 확인 응답을       받으면 조정자는 참가자들에게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mmi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메시지를    보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정자는 자신의 로그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드를 추가하고 안정 저장 장치에 레코드를 출력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정자는 각 참가자에게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메시지를 보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참가자들은 지역적으로 적절한 행위를 취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6F8-F259-4A24-967A-11F2B0BFF26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사이트 고장 취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0640" y="1595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이트 고장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회복시 참가하는 사이트는 자신의 로그를 검사해 다음을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수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레코드를 포함한다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를 실행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abort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&gt;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레코드를 포함한다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를 실행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ready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&gt;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레코드를 포함하지만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&lt;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precommit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&gt;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레코드가 없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C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의 중단으로 응답하면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를 실행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그리고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commi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&gt;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레코드를 기록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C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의 완료로 응답하면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를 실행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그리고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commit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&gt;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레코드를 기록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- C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의 사전 완료로 응답하면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precommit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메시지를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수령함으로부터 규약을 재개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precommit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T&gt;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를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기록하고 조정자에게 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acknowledge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메시지를 보낸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6E7-1B27-420E-BD61-775FCA9F48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사이트 고장 취급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03160" y="1752480"/>
            <a:ext cx="795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ecommi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드를 포함하지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&gt;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 &gt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드는 없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상의해   트랜잭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운명을 결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중단으로 응답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실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완료로 응답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실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사건 완료로 응답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는 이 시점에서  규약을 재개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그에 트랜잭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대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드를 포함하지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는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실행하고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드를 기록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0D2-3897-4923-98E4-A26CC626A24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조정자 고장 규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652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활동중인 참가 사이트들이 새로운 조정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선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C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각 참가 사이트로부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지역 상태를 요청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. C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포함해 각 참가 사이트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지역 상태를 결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완료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내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중단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내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준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는 내포하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 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ecommi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가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전완료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e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는 내포하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가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비준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도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장이 나서 회복한 사이트는 자신의 상태를 결정할 때 자신의   로그 내 어떠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e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도 무시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참가 사이트는 자신의 지역 상태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보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E08-49FF-4766-BEA2-C493DBA8AF8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데이터 중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중복의 장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용성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중복이 존재한다면 릴레이션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내포하고 있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이트의 고장이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사용에 영향을 주지 않는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                           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병렬화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r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상의 질의가 여러 노드에서 병렬로 처리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    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 전송의 감소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사본을 내포하고 있는 각 사이트에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 지역적으로 사용 가능하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중복의 단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갱신 비용의 증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각 사본이 갱신되어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    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동시성 제어의 복잡성 증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특수한 동시성 제어 기법이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수행되지 않으면 상이한 사본에의 동시 갱신이 데이터의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불일치를 야기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376-6D19-4760-84CA-E211C8FDD6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조정자 고장 규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03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5. C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를 완료 또는 중단하든지 또는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단계 완료 규약을 재시작할 것인지를 결정한다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참가 사이트 중 하나라도 완료 상태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완료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참가 사이트 중 하나라도 중단 상태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중단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참가 사이트 중 하나라도 사전 완료 상태이고 위의 두 가지 경우를 가지고 있지 않음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불확정 상태에 있는 참가 사이트에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</a:rPr>
              <a:t>precommit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메시지를 보내고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그 시점에서 규약이 재개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모든 활동사이트가 불확정 상태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중단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적어도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개의  사이트는 활동하므로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모든 참가자가 불확정 상태에 있다는 사실은 조정자가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T&gt;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메시지를 보내지 못해 어떤  사이트도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를 완료하지 못했음을 의미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990-BFD8-4BBF-BD25-B33D53D2A5D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조정자 선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34760" y="1566720"/>
            <a:ext cx="812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비 조정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제 조정자가 고장 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정자 역할을 할 지역적으로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충분한 정보를 유지하는 사이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제 조정자와 같은 알고리즘을 실행하고 같은 내부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태 정보를 유지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정자 고장으로부터 신속한 회복을 허용하지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처리 중 비용 부담이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선거 알고리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장시 새로운 조정자를 뽑는데 사용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골목대장 알고리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사이트가 다른 각 사이트에 메시지를 보낼 수 있는 시스템에 적용 가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EE4-64C7-4B7C-A87D-0EF861A58E5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골목대장 알고리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6440" y="1579680"/>
            <a:ext cx="797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요청한 후 시간 간격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에 조정자로부터  응답이 없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조정자가 고장 난 것으로 가정한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          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자신이 새로운 조정자로 선출되고자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자신보다 큰 식별 번호를 가진 모든 사이트에 선거 메시지를 보내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시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에 이들 사이트로부터  응답을 기다린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에 응답이 없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보다 큰 번호를 가진 모든  사이트가 고장 난 것으로 가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자신을 새로운  조정자로 선출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응답이 오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자기보다 큰 식별 번호를 가진 사이트가 선출되었다는 메시지를 받을 때까지 시간 간격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안 기다리기 시작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A48-17D6-4851-8C59-6527F220BB5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골목대장 알고리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8440" y="1752480"/>
            <a:ext cx="816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떤 메시지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에 없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높은 번호를 가진 사이트가   고장 났다고 가정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알고리즘을 재가동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장 난 사이트는 회복 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즉시 같은 알고리즘을 실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높은 번호를 가진 활동 사이트가 없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현재 작은 번호를  가진 활동 조정자가 있다 하더라도 회복된 사이트는 자신이 조정자 사이트가 되었음을 작은 번호를 가진 모든 사이트에게 통보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A95-08B2-4AEB-8D8E-B769E1A6488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동시성 제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200" y="1752480"/>
            <a:ext cx="848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분산 환경에서 사용하도록 동시성 제어 기법을 수정한다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전역 트랜잭션의 원자성을 보장하기 위해 각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사이트가 완료 규약의 실행에 참여한다고 가정한다</a:t>
            </a: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421-7343-41B2-8A34-6273F435285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단일 로크 매니저 방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은 선택된 단일 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있는 단일 로크    매니저를 유지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에서 데이터 항목의 로크를 필요로 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로크 요청을 보내고 로크 매니저는 로크를 즉시 허용할 것인가를 결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허용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크 매니저는 요청한 사이트에 메시지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보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허용되지 않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메시지가 요청한 사이트에 보내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허용될 수 있을 때까지 요청은 지연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AB5-8E28-4DD3-BA97-71F22E97750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단일 로크 매니저 방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7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은 데이터 항목의 사본이 있는 사이트 중 어느        곳으로부터도 데이터 항목을 읽을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출력하는 경우는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 항목의 사본을 가진 모든 사이트에 이루어져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 기법의 장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단순 구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단순한 교착상태 처리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 기법의 단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병목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크 매니저 사이트가 병목이 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취약성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크 매니저 사이트가 고장 나는 경우의 취약성이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388-A740-4C73-B096-0DCCC18AAF1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다수 규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3520" y="1752480"/>
            <a:ext cx="816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각 사이트의 지역 로크 매니저가 해당 사이트에 저장된 데이터 항목에 대한 로크와 해제 요청을 관리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에서 사이트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있는 비중복 데이터 항목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로크를 원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로크 매니저에 메시지를 보낸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양립할 수 없는 유형으로 로크 되었으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요청은 허용될 때까지 지연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크 요청이 허용 될 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크 매니저는 요청이 허용되었다는 메시지를 요청자에게 보낸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크와 해제가 더 이상 단일 사이트에서 이루어지지 않으므로 구현이 더욱 복잡해지고 교착상태 처리가 복잡해진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E5F-7C73-4415-94FF-F21C49F62BD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다수 규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64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중복 데이터인 경우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앞의 기법보다 더욱 복잡해진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Q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개 사이트에 중복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저장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n/2+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개의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이트에 로크 요청 메시지를 보내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Q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사본 중의 다수에 로크를 얻지 못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은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연산할 수 없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 항목을 출력할 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은 모든 사본에  출력을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수행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크 요청 처리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(n/2+1)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시지가 필요하고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해제 요청      처리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n/2+1)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시지가 필요하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단일 항목에서 조차 교착상태의 가능성이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                    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두 트랜잭션 각각이 어떤 데이터 항목 사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중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씩 로크를 가질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8AD-ACB6-49A6-BB91-33550AD00F2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편파 규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65280" y="1752480"/>
            <a:ext cx="812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다수 규약에서와 마찬가지의 각 사이트의 지역 로크 매니저는 그러나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공유 로크 요청을 배타 로크 요청과는 달리 처리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공유 로크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에서  데이터 항목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로크를 필요로     할 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사본을 가지고 있는 한 사이트의 로크 매니저로부터 로크를 요청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배타 로크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에서  데이터 항목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 로크를 필요로 할 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 Q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사본을 가지고 있는 모든 사이트의 로크 매니저로     부터 로크를 요청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장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산에는 비용이 적게 든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단점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출력에는 추가 비용이 들고 교착상태 처리가 복잡하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384-B610-48AA-9729-26E835D142D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Times New Roman"/>
              </a:rPr>
              <a:t>데이터 분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64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재구축하는데 충분한 정보를 내포한 단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 분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수평 분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각 튜플이 하나 이상의 단편에 배정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수직 분할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스키마가 여러 개의 작은 스키마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분할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스키마는 무손실 죠인 속성을 보장하도록 공통 후보 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수퍼 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내포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tuple-i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라는 특수 애트리뷰트가 후보 키 역할을 하기 위해 각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키마에 추가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편들은 임의의 깊이로 연속 분할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수직 및 수평 분할이 혼합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은 스키마를 가진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-schema = (branch-name, account-number, bal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87A-0F7A-455C-A562-95FF6B3A60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주 사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하나의 사본을 정확히 한 사이트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의 주 사이트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에만    있어야 하는 주 사본으로 선택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트랜잭션에서 데이터 항목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에 로크를 필요로 할 때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의 주 사이트에 로크를 요청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중복 데이터에 대한 동시성 제어가 비중복 데이터와 유사하게 처리된다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구현이 단순하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의 주 사이트가 고장 나면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사본을 내포하고 있는 다른 사이트가 활동중이라도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를 액세스할 수 없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44D-7EAF-47AB-ADD0-F7F2786EEB0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타임스탬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34680" y="1752480"/>
            <a:ext cx="819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각 사이트는 논리 계수기 또는 지역 시계를 사용해 유일한 지역 타임스탬프를 생성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유일한 전역 타임스탬프는 유일한 지역 타임스탬프와 유일한 사이트 식별자를 연결해 얻는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573200" y="3983040"/>
            <a:ext cx="6492960" cy="1473120"/>
            <a:chOff x="1573200" y="3983040"/>
            <a:chExt cx="6492960" cy="1473120"/>
          </a:xfrm>
        </p:grpSpPr>
        <p:sp>
          <p:nvSpPr>
            <p:cNvPr id="513" name=""/>
            <p:cNvSpPr/>
            <p:nvPr/>
          </p:nvSpPr>
          <p:spPr>
            <a:xfrm>
              <a:off x="1573200" y="3983040"/>
              <a:ext cx="6492960" cy="147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34080" y="398304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617920" y="4378320"/>
            <a:ext cx="125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유일한 지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타임스탬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58560" y="4322880"/>
            <a:ext cx="13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유일한 전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사이트 식별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989-70D2-4E1C-BEB1-C70117D4003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타임스탬핑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느린 시계를 가진 사이트는 적은 타임스탬프가 배정될 것이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이 손해를 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에 유일한 지역 타임스탬프를 생성하는 논리 시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L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정의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타임스탬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x,y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가진 트랜잭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해당 사이트에 도달할 때마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자신의 논리 시계를 증가시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현재 값보다 더 크게 할 필요가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경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자신의 논리 시계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x + 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증가 시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D35-6F57-4934-AF0F-7443BCFB3B1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교착상태 처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13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다음의 두 트랜잭션과 이력 사항을 고려해 보자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:write(X)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: write(Y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write(Y)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                  write(X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673280" y="3063960"/>
            <a:ext cx="6060960" cy="2886120"/>
            <a:chOff x="1673280" y="3063960"/>
            <a:chExt cx="6060960" cy="2886120"/>
          </a:xfrm>
        </p:grpSpPr>
        <p:sp>
          <p:nvSpPr>
            <p:cNvPr id="522" name=""/>
            <p:cNvSpPr/>
            <p:nvPr/>
          </p:nvSpPr>
          <p:spPr>
            <a:xfrm>
              <a:off x="1673280" y="3511440"/>
              <a:ext cx="60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73280" y="3063960"/>
              <a:ext cx="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18160" y="3063960"/>
              <a:ext cx="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4240" y="3063960"/>
              <a:ext cx="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745000" y="3054240"/>
            <a:ext cx="37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4480" y="3489480"/>
            <a:ext cx="273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lock o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X-lock o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86280" y="4165560"/>
            <a:ext cx="273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lock o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X-lock o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02000" y="5956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교착상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DB4-0EE0-42BD-88F8-61485289B92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중앙 집중 방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단일 사이트에 전역 대기 그래프를 구축하고 관리한다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교착 상태 탐지 조정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실제 그래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알지는 못하지만 시스템의 실제 상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구축 그래프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알고리즘 실행 중 제어기가 생성한 근사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그래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전역 대기 그래프는 아래의 경우 구축될 수 있다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새로운 간선이 지역 대기 그래프에 삽입되거나 삭제될 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지역 대기 그래프에 많은 변화가 발생했을 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조정자가 순환 탐지를 호출할 필요가 있을 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조정자가 순환을 찾으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희생자를 선정해 모든 사이트에 알린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사이트들은 희생 트랜잭션을 복귀시킨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13E-C3BE-4A28-A209-01234ED0407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중앙 집중 방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교착상태가 실제로 발생해 희생자를 선정하는 동안에 트랜잭션중의 하나가 교착상태와는 관계없이 중단되어 불필요한 복귀가 야기될 수 있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불필요한 복귀는 전역 대기 그래프 내의 거짓 순환으로 부터 기인할 수 있다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거짓 순환의 발생 가능성은 낮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40E-4A4D-4776-8BE3-1580ECD16C9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거짓 순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701720" y="1720800"/>
            <a:ext cx="5759280" cy="4148280"/>
            <a:chOff x="1701720" y="1720800"/>
            <a:chExt cx="5759280" cy="4148280"/>
          </a:xfrm>
        </p:grpSpPr>
        <p:sp>
          <p:nvSpPr>
            <p:cNvPr id="536" name=""/>
            <p:cNvSpPr/>
            <p:nvPr/>
          </p:nvSpPr>
          <p:spPr>
            <a:xfrm>
              <a:off x="1701720" y="1720800"/>
              <a:ext cx="2381040" cy="18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3978360"/>
              <a:ext cx="2381040" cy="18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79960" y="1720800"/>
              <a:ext cx="2381040" cy="18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2484360" y="1784520"/>
            <a:ext cx="647640" cy="68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70320" y="2898720"/>
            <a:ext cx="647640" cy="68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62600" y="5141880"/>
            <a:ext cx="647640" cy="68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10160" y="5170320"/>
            <a:ext cx="647640" cy="6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95760" y="4056120"/>
            <a:ext cx="647640" cy="68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610320" y="2884320"/>
            <a:ext cx="647640" cy="6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86320" y="1827360"/>
            <a:ext cx="647640" cy="68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13040" y="2433600"/>
            <a:ext cx="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6005160" y="2383920"/>
            <a:ext cx="676440" cy="67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21200" y="4753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4317480" y="4520880"/>
            <a:ext cx="762120" cy="66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86240" y="1916280"/>
            <a:ext cx="4550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96120" y="1930320"/>
            <a:ext cx="1674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792960" y="4170240"/>
            <a:ext cx="1643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112640" y="594360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조정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94880" y="3562200"/>
            <a:ext cx="433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72920" y="3543480"/>
            <a:ext cx="433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EA5-374A-454D-B649-3B8D8BB7137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거짓 순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64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앞 장의 그림에서 보인 상태로부터 시작한다 가정하자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1. 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에서 자원을 해제한다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그 결과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의 트랜잭션 매니저에서 조정자로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ko-KR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메시지가 전송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그리고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가 가진 자원을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가 요청한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             (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그 결과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에서 조정자에게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메시지를 보낸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imes New Roman"/>
              </a:rPr>
              <a:t>delete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메시지 전에 </a:t>
            </a:r>
            <a:r>
              <a:rPr b="1" lang="ko-KR" sz="23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메시지가 먼저 도착했다고 가정하자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조정자는 아래와 같은 거짓 순환을 발견할 것이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ko-KR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ko-KR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ko-KR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위의 거짓 순환은 실제로는 결코 존재하지 않는 것이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거짓 순환은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단계 로킹을 사용하면 발생할 수 없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064-DD61-480D-B93E-53251149A71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완전 분산 방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각 사이트에는 지역 대기 그래프를 갖는다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시스템은  이들 그래프를 결합해 교착상태를 탐지한다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지역 대기 그래프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89280" y="5172120"/>
            <a:ext cx="4936320" cy="8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2b2b2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전역 대기 그래프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2       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3        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4       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38080" y="2990880"/>
            <a:ext cx="2452680" cy="205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46600" y="2990880"/>
            <a:ext cx="2452680" cy="205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99120" y="2990880"/>
            <a:ext cx="1611360" cy="205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34800" y="3489480"/>
            <a:ext cx="1687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285080" y="3459240"/>
            <a:ext cx="167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20240" y="3459240"/>
            <a:ext cx="1096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3440" y="596592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19320" y="6249960"/>
            <a:ext cx="27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019320" y="596556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60920" y="575928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37280" y="577368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38520" y="575928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33800" y="575928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8C1-43D5-4B77-BAD8-778A0614923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완전 분산 방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49440" y="1682640"/>
            <a:ext cx="796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시스템 모델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트랜잭션은 한 사이트에서 실행되고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비지역 데이터를  액세스하기 위해 다른 사이트에 요청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각 사이트는 정상적인 유형으로 자신의 지역 대기 그래프를 유지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: 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가진 자원에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로크를 기다리고 있으면 간선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존재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유의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: 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는 비지역일 수 있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추가로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아래와 같은 경우 사이트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의 그래프에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존재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a) 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사이트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서 실행 중이며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다른 사이트에서 이루어진 요청에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대한 응답을 기다리고 있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b) 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는 사이트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서 비지역이며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서 로크가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 허용되었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이와 유사하게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아래와 같은 경우 사이트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의 그래프 내에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ex </a:t>
            </a:r>
            <a:r>
              <a:rPr b="0" lang="ko-K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존재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a) 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사이트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서 비지역이며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 있는  데이터에 로크를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기다리고 있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(b) T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19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에서 지역이며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외부 사이트로부터 온 데이터를 액세스했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ACC-DC16-4893-834F-4DDA90CF419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릴레이션의 수평 분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00200" y="1752480"/>
            <a:ext cx="6095880" cy="1746360"/>
            <a:chOff x="1600200" y="1752480"/>
            <a:chExt cx="6095880" cy="1746360"/>
          </a:xfrm>
        </p:grpSpPr>
        <p:sp>
          <p:nvSpPr>
            <p:cNvPr id="121" name=""/>
            <p:cNvSpPr/>
            <p:nvPr/>
          </p:nvSpPr>
          <p:spPr>
            <a:xfrm>
              <a:off x="1600200" y="1752480"/>
              <a:ext cx="6095880" cy="37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0200" y="2189160"/>
              <a:ext cx="6095880" cy="13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05320" y="1752480"/>
              <a:ext cx="0" cy="37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05320" y="218916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15000" y="1752480"/>
              <a:ext cx="0" cy="37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5000" y="218916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600200" y="4038480"/>
            <a:ext cx="6095880" cy="1854360"/>
            <a:chOff x="1600200" y="4038480"/>
            <a:chExt cx="6095880" cy="1854360"/>
          </a:xfrm>
        </p:grpSpPr>
        <p:sp>
          <p:nvSpPr>
            <p:cNvPr id="128" name=""/>
            <p:cNvSpPr/>
            <p:nvPr/>
          </p:nvSpPr>
          <p:spPr>
            <a:xfrm>
              <a:off x="1600200" y="4038480"/>
              <a:ext cx="6095880" cy="39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0200" y="4502160"/>
              <a:ext cx="6095880" cy="139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05320" y="40384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05320" y="4502160"/>
              <a:ext cx="0" cy="13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000" y="40384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4502160"/>
              <a:ext cx="0" cy="13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649160" y="171756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800" y="17049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86960" y="170496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26000" y="2257560"/>
            <a:ext cx="1105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llsi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llsi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llsi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43600" y="2214720"/>
            <a:ext cx="10753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- 30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- 22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- 15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2600" y="2259000"/>
            <a:ext cx="619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3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12840" y="3498840"/>
            <a:ext cx="13161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27160" y="5892840"/>
            <a:ext cx="13161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01720" y="400356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53560" y="39877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86960" y="4019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71920" y="4427640"/>
            <a:ext cx="15278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Valley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Valley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Valley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Valley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29560" y="4437000"/>
            <a:ext cx="10022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- 17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- 40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- 40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- 6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19360" y="4456080"/>
            <a:ext cx="9122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263-9357-443C-9D02-5D9AB4A022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완전 분산 방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중앙 집중 교착상태 탐지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중앙 교착상태 탐지기에 보내진    모든 그래프 간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분산 교착상태 탐지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-  “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경로 보내기” 알고리즘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어떤 사이트에서 교착상태의 가능성을 나타내는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를 내포한 지역 순환을 탐지하면 “경로 보내기” 알고리즘이 시작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에 다음과 같은 순환이 있다고 하자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….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그리고 사이트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의 어떤 트랜잭션을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이 기다리고 있다 하자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그러면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로 순환에 관한 정보를 보낸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최적화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i&gt;n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일 때에만 정보를 보낸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는 새로운 정보로 자신의 그래프를 갱신하고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순환을 발견  하면 위의 절차를 반복한다</a:t>
            </a:r>
            <a:r>
              <a:rPr b="0" lang="ko-KR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36680" y="414180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38480" y="41418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11480" y="417024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59520" y="417024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02280" y="41562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AC91-7A7C-422E-BE96-F81D5B33B65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완전 분산 방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22640" y="2021040"/>
            <a:ext cx="486252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22640" y="4237200"/>
            <a:ext cx="4862520" cy="83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22640" y="3162240"/>
            <a:ext cx="486252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889280" y="5213520"/>
            <a:ext cx="5475960" cy="11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EX(i) :  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를 나타내며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다른 사이트의 트랜잭션이 사이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의 트랜잭션을 기다리거나 사이트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의 트랜잭션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다른 사이트의 트랜잭션을 기다린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22640" y="2039760"/>
            <a:ext cx="504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i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X(3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X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22640" y="3081240"/>
            <a:ext cx="504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1)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22640" y="4206960"/>
            <a:ext cx="4862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11840" y="261144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757840" y="261144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97440" y="366228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7440" y="261144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1840" y="366228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11560" y="366228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57920" y="366228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125960" y="47829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82840" y="481176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051520" y="47829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5880" y="261144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F09-1A12-4C44-B47D-7C8BDBE1BA2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완전 분산 방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38000" y="175248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사이트는 그래프내의 경로를 따라 대기 정보를 보낸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  EX(j)          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i           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n              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EX(k)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를 사이트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에서의 지역 대기 그래프내의 경로라 하자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i&gt;n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인 경우에만 사이트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로 경로 정보를 보낸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5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은 정보를 보내지 않는다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: 1 &lt;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는 정보를 보내지 않는다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: 3 &lt; 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은 아래와 같은 이유 때문에 사이트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로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을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보낸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* 5 &gt; 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* T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은 사이트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의 데이터 항목을 기다리고 있다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73320" y="237636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13200" y="23763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65840" y="23763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146320" y="23763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5A6-6DC4-46E8-82A6-046B4933AF1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완전 분산 방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경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X(2)        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5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X(1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보낸 후 다음을 얻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44760" y="2800440"/>
            <a:ext cx="620388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44760" y="4064040"/>
            <a:ext cx="620388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44760" y="5313240"/>
            <a:ext cx="620388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55360" y="2828880"/>
            <a:ext cx="5721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2)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7440" y="4064040"/>
            <a:ext cx="5334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1)  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4560" y="5313240"/>
            <a:ext cx="4682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2)    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62360" y="197964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93960" y="197964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76680" y="197964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76680" y="46623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60920" y="46623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23040" y="34383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05320" y="343836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86240" y="34383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62400" y="34383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73200" y="343836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67480" y="591804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86240" y="591804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36760" y="591804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56280" y="46623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16520" y="46623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C24-27BB-4078-B581-8934C839459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완전 분산 방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93800" y="3305160"/>
            <a:ext cx="5962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it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X(2)         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5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X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94880" cy="16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동이 있은 후 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만이 새로운 간선을 갖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  5 &gt; 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데이터 항목을 기다리고  있으므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사이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보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역 대기 그래프의 새로운 상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4400" y="4122720"/>
            <a:ext cx="3274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35480" y="5413320"/>
            <a:ext cx="3891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2)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86080" y="3348000"/>
            <a:ext cx="639252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00120" y="4194000"/>
            <a:ext cx="6392880" cy="9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486080" y="5499000"/>
            <a:ext cx="639252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37440" y="4890960"/>
            <a:ext cx="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3003120" y="5087880"/>
            <a:ext cx="33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003480" y="48625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59720" y="515160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교착상태 탐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60880" y="47340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423120" y="387972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527800" y="387972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54640" y="387972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75080" y="387972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7972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08400" y="601020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375000" y="60390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70640" y="47340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43440" y="47340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97440" y="47340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67440" y="60102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0C0-EDF3-497E-BEA5-F3A20BAEF6A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다중 데이터베이스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질적인 데이터베이스 내의  정보를 다루는데 필요한 기존 데이터베이스 시스템 상단의 소프트웨어 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모델은 다를 수 있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계층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형 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 완료 규약이 양립하지 않을 수도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시성 제어가 서로 다른 기법에 기반을 둘 수 있다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킹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타임스탬핑 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 층의 상세 사항은 거의 전부 양립하지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40A-419F-4B96-8D80-B9C0A6F9DDA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장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기존 투자의 보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하드웨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시스템 소프트웨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어플리케이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지역 자치성과 행정적 제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특수 목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사용이 가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통합된 동질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로 향하는 과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31F-8F3E-4F38-A7AA-BBE04A19458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의 통합된 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공통 데이터 모델에 동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공통 개념 스키마에 동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공유 데이터의 단일 표현에 동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여러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저장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도량형 단위에 동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전역 트랜잭션 내에 한정된 기능을 기꺼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수용하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37E-E83E-46B7-B185-6DAE8BFC1E3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랜잭션 관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63120" y="175248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역 트랜잭션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MDB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제어 밖의 각 지역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의해 실행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역 트랜잭션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MDB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제어하에 실행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역 자치성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역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전역 트랜잭션 실행의 동기화를 위해 직접 통신할 수 없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MDB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지역 트랜잭션    실행에 제어권이 없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DBM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스케쥴이 직렬 가능하도록 보장하기 위해 지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시성 제어 기법이 요구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킹의 경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DBM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지역 교착상태를 대비해야만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역 직렬성을 보장하기 위한 추가의 기법이 요구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C1A-3C5C-4B6A-86BF-A76AD50328E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단계 직렬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전역 트랜잭션의 일부를 내포하고 있는 지역 트랜잭션 간의 지역 직렬성을 보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DB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전역 트랜잭션 간의 직렬성만 보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                          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 트랜잭션에 위해 유발된 순서는 무시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LS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전역 직렬성을 보장하지는 않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확성을 위한 요구  사항은 충족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제약 조건의 집합으로 지정한 일관성 보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트랜잭션이 읽은 데이터 항목의 집합이 일관성 있도록 보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역 읽기 규약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역 트랜잭션은 지역 데이터 항목을 읽을 수는 있지만 갱신할 수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 트랜잭션은 전역 데이터에 액세스하지 못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 및 전역 데이터 항목간에 일관성 제약 조건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4B7-7617-4E69-A349-89FFB020DDE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  <a:ea typeface="돋움체"/>
              </a:rPr>
              <a:t>deposit</a:t>
            </a:r>
            <a:r>
              <a:rPr b="0" lang="ko-KR" sz="4000" spc="-1" strike="noStrike">
                <a:solidFill>
                  <a:srgbClr val="000000"/>
                </a:solidFill>
                <a:latin typeface="돋움체"/>
                <a:ea typeface="돋움체"/>
              </a:rPr>
              <a:t>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릴레이션의 수직 분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14360" y="1628640"/>
            <a:ext cx="6699240" cy="2106360"/>
            <a:chOff x="1314360" y="1628640"/>
            <a:chExt cx="6699240" cy="2106360"/>
          </a:xfrm>
        </p:grpSpPr>
        <p:sp>
          <p:nvSpPr>
            <p:cNvPr id="150" name=""/>
            <p:cNvSpPr/>
            <p:nvPr/>
          </p:nvSpPr>
          <p:spPr>
            <a:xfrm>
              <a:off x="1314360" y="1628640"/>
              <a:ext cx="6699240" cy="35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14360" y="2050920"/>
              <a:ext cx="6699240" cy="16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17760" y="162864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29480" y="162864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17760" y="2050920"/>
              <a:ext cx="0" cy="16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29480" y="2050920"/>
              <a:ext cx="0" cy="16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314360" y="3978360"/>
            <a:ext cx="6699240" cy="2091960"/>
            <a:chOff x="1314360" y="3978360"/>
            <a:chExt cx="6699240" cy="2091960"/>
          </a:xfrm>
        </p:grpSpPr>
        <p:sp>
          <p:nvSpPr>
            <p:cNvPr id="157" name=""/>
            <p:cNvSpPr/>
            <p:nvPr/>
          </p:nvSpPr>
          <p:spPr>
            <a:xfrm>
              <a:off x="1314360" y="3978360"/>
              <a:ext cx="6699240" cy="35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14360" y="4397760"/>
              <a:ext cx="6699240" cy="167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17760" y="3978360"/>
              <a:ext cx="0" cy="35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29480" y="3978360"/>
              <a:ext cx="0" cy="35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17760" y="4397760"/>
              <a:ext cx="0" cy="167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29480" y="4397760"/>
              <a:ext cx="0" cy="167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422000" y="159372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79000" y="159372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67040" y="159372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tuple-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75520" y="1987560"/>
            <a:ext cx="1128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Hill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Hill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Valley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Valley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Hill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Valley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Valley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07600" y="1979640"/>
            <a:ext cx="948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Low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Ka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Ka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Ka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9600" y="1996920"/>
            <a:ext cx="282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11840" y="3959280"/>
            <a:ext cx="607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account-number               balance</a:t>
            </a: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o-KR" sz="2000" spc="-1" strike="noStrike">
                <a:solidFill>
                  <a:srgbClr val="000000"/>
                </a:solidFill>
                <a:latin typeface="Times New Roman"/>
              </a:rPr>
              <a:t>        tuple-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71360" y="4335480"/>
            <a:ext cx="700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-3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-2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-1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-4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-1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-4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-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73840" y="4336920"/>
            <a:ext cx="691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11560" y="4349880"/>
            <a:ext cx="282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87720" y="3652920"/>
            <a:ext cx="94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1" i="1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68000" y="5999040"/>
            <a:ext cx="90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B61-8A16-4A47-B968-63E1D00CE9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단계 직렬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35040" y="1752480"/>
            <a:ext cx="81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 읽기 규약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 트랜잭션은 전역 데이터를 읽을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역 트랜잭션의 지역 데이터에 대한 모든 액세스는 금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 사이트에 있는 데이터 항목의 쓰기가 다른 사이트에 있는  데이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항목에서 읽은 값에 의존하면 트랜잭션은 값 종속을 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강한 정확성을 위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트랜잭션도 값 종속을 가져서는 안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역 읽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 읽기 규약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 트랜잭션은 전역 데이터를 읽을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역 트랜잭션은 모든 데이터를 읽고 쓸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과 전역 데이터 항목간에 어떠한 일관성 제약 조건도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트랜잭션도 값 종속을 가질 수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9DB-A277-40AA-841C-EA9FFEF46B2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전역 직렬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7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역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PL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지역 사이트는 정확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P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사용한다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크는 끝에서 해제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역 트랜잭션의 결과로       설정된 로크는 그 트랜잭션이 끝에 이를 때에만 해제   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양한 지역 동시성 제어 기법의 구조에 관련해 사용    가능한 정보가 없다 하더라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직렬성을 보장하는 매우 제한적인 규약이 사용 가능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 그래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역 트랜잭션명과 사이트명을 나타내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점을 가진 그래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사이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활동중이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무방향 간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존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에 무방향 비순환을 포함하면 전역 직렬성은 보장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042-F6C2-4F6F-AAFC-9F2F92FC6CA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전역 직렬성의 보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사이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티켓이라는 특수한 데이터 항목을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이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실행되는 각 트랜잭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사이트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티켓에    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 동시성 제어 기법이 지역 직렬성을 보장하는 한 그 방법에  관계없이 전역 트랜잭션들은  각 사이트에서 직렬화 됨을 보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역 트랜잭션 매니저는 티켓을 액세스한 순서를 제어함으로써 전역 트랜잭션들의 직렬 순서를 결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의 규약은 전역 트랜잭션 간에 낮은 동시성을 야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8D6-3386-42CB-98DB-5E83AC57FEF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분할의 장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5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수평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에 병렬 처리 허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튜플들이 가장 빈번히 액세스되는 곳에 위치하도록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역 테이블이 분리되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수직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규화로 이루어질 수 있는 것보다 한층 더 분해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     - tuple-id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애트리뷰트는 수직 단편들의 효율적인 죠인을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허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에 병렬 처리 허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튜플의 각 부분이 가장 빈번히 액세스되는 곳에 저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되도록 튜플을 분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3B9-74F1-43D1-A696-BC3334B96F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1T15:36:46Z</dcterms:created>
  <dc:creator>서울산업대학교 교수 석상기</dc:creator>
  <dc:description/>
  <dc:language>en-US</dc:language>
  <cp:lastModifiedBy>.</cp:lastModifiedBy>
  <dcterms:modified xsi:type="dcterms:W3CDTF">1999-06-18T06:34:30Z</dcterms:modified>
  <cp:revision>117</cp:revision>
  <dc:subject/>
  <dc:title>제18장 분산 데이터베이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/main.htm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