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C075-137E-4F0D-9FF2-23BC2E86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4BD-3621-4F51-9D61-52D8235C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BB84-3282-446C-AFC6-07942D11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CB9-5B91-444B-8915-58DD3C9C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8D21-532D-4155-8953-B29DFD76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2B05-82AC-406C-A6A0-B1BB287A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82DD-A648-4A94-95B8-30F257F2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F5C9-C35F-43E5-8954-69EE087B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C2D6-CA24-47A8-8EAC-C47758B4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5A2A-AD68-490C-814B-7CDB9546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842D-C588-48B4-B83E-594CF370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20E-553F-4808-9D08-39B3F964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69C4-1C34-4B53-B378-222A37E5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956C-53C3-4935-916C-41B3364A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F6B1-F5A0-46A5-93BD-DEB2BE3B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357A-0C1F-451B-9AFB-469CBEDF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58BA-E0FD-48B9-B6D4-BA4DB60F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FE5B-09A5-42E6-A099-FFC7FD3F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B3A0-2950-469A-B3D8-FAAA9CE6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A2E-B10F-4CAA-9596-3243AC22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00D-9826-40C7-9BAF-4E621227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81CD-7A3C-41B8-98B4-30D5F051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E83-E741-4516-9522-60459E1F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ED6B-487F-4191-ADBB-CAF197E6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AA69-A6C9-4D91-9682-707A1C494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3032-AF91-41D1-9FBF-85F241017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장 병렬 데이터베이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개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입출력 병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질의간 병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질의내 병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연산내 병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연산간 병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병렬 시스템의 설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32C-6A42-4888-8E34-9A7EB6A0A7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디스크에 걸친 릴레이션의 분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릴레이션이 하나의 디스크 블록에 들어갈 소수의 튜플만을 내포한다면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그 릴레이션은 단일 디스크에 배정한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큰 릴레이션은 사용 가능한 모든 디스크에 걸쳐 분할하는 것이 더 좋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하나의 릴레이션이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개의 디스크 블록으로 구성되고 시스템에 사용 가능한 디스크가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개 있으면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릴레이션은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min(m,n)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디스크에 할당되어야 한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BA41-E2E3-4263-BACD-BC7C63E44D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치우침 처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튜플들이 디스크에 분산될 때 치우칠 수 있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디스크는 많은 튜플을 가질 수 있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디스크는 튜플을 적게 가질 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치우침의 유형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애트리뷰트 값 치우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값들은 많은 튜플의 분할 애트리뷰트에 나타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분할 애트리뷰트에 대해 같은 값을 가지는 튜플들은 결국 같은 분할 내에 있게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범위 분할과 해쉬 분할 내에서 발생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분할 치우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범위 분할에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분할 벡터를 잘못 선택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분할에는 많은 튜플이 할당되고 어떤 분할에는 적게 할당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양호한 해쉬 함수를 선택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해쉬 분할에서는 덜 발생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7D1-C2AD-4E75-B2C8-BC4DD0725B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범위 분할에서의 치우침 처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균형잡힌 분할 벡터를 생성하려면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분할 애트리뷰트가 릴레이션의 키를 이룬다고 가정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분할 애트리뷰트로 릴레이션을 정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음과 같이 정렬된 순서로 릴레이션을 읽어 분할 벡터를 구축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의 각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/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번째를 읽은 후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음 튜플의 분할 애트리뷰트의 값이 분할 벡터에 추가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히스토그램에 기반한 기법이 실제로 사용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503-DEC2-4230-B998-77782292C0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질의간 병렬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들은 다른 것과 병렬로 실행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의 처리율을 높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초당 많은 수의 트랜잭션을 지원하는 트랜잭션 처리 시스템의 규모 증대에 주로 사용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순차 데이터베시스 시스템 또한 동시 처리를 지원하므로 특히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공유 메모리 병렬 데이터베이스에서 지원하기 가장 쉬운 병렬화 유형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공유 디스크 또는 무 공유 구조에서 구현하기는 보다 복잡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로킹과 로깅은 처리기 간에 메시지를 전달함으로써 협력해야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지역 버퍼내의 데이터가 다른 처리기에서 갱신될 수도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캐쉬 일관성을 유지해야 한다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버퍼내 데이터의 읽기와 쓰기는 데이터의 최신 버전을  찾아야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F5D-20E0-47AB-B4CF-6703909C0D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캐쉬 일관성 규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공유 디스크 시스템에 대한 캐쉬 일관성 규약의 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페이지에 읽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쓰기 전에 페이지를 공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배타 유형으로 로크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페이지에 로크 하려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페이지를 디스크로부터 읽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페이지의 로크를 해제하기 전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페이지가 갱신되었으면 디스크에 기록해야만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디스크 읽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쓰기가 보다 적은 복잡한 규약이 존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무 공유 시스템의 캐쉬 일관성 규약도 유사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데이터베이스 페이지는 홈 처리기에 할당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페이지의 읽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쓰기 요청은 홈 처리기에 전달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0EAF-29CA-4F5F-B0C1-A3BC51A9CB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질의내 병렬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여러 처리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디스크상에서 병렬로 단일 질의의 실행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장기 실행 질의의 속도 향상을 위해 중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질의내 병렬화의 두 가지 보조 형식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연산내 병렬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질의내 개별 연산 실행을 병렬 처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연산간 병렬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질의내 서로 다른 연산들을 병렬 처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첫번째 형식이 각 연산에 의해 처리되는 튜플의 수가 질의내 연산의 수보다 일반적으로 더 많기 때문에 병렬화를 증가 시키는데 보다 낫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F15-6E70-42D5-8431-5A6E42101E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관계형 연산의 병렬 처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병렬 알고리즘의 설명에서는 다음을 가정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읽기 전용 질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무 공유 구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개의 처리기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… , 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개의 디스크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, … , D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여기서 디스크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처리기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연관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무 공유 구조는 공유 메모리와 공유 디스크 시스템상에서 효율적으로 시뮬레이트될 수 있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무 공유 시스템을 위한 알고리즘이 공유 메모리와 공유 디스크 시스템에서 처리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러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약간의 최적화가 가능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E8F-C24C-4EA2-BE58-DBAA7D5D98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병렬 정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범위 분할 정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처리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 , P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선택하는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렬을 위해서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 &lt; n-1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렬 애트리뷰트상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엔트리를 가진 범위 분할 벡터를 생성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범위 분할을 사용해 릴레이션을 재분배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번째 범위에 속한 모든 튜플은 처리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보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i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받은 튜플들을 디스크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임시로 저장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처리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릴레이션의 자기 분할을 지역적으로 정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처리기들은 다른 처리기와 상호 작용하지 않고 같은 연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다른 처리기들과 병렬로 처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최종 합병 연산은 당연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범위 분할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 &lt; i &lt; j &lt; m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 처리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키 값들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키 값보다 모두 작음을 보장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55785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27760" y="55785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543-1844-4C1C-A61C-4C564D4224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병렬정렬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병렬 외부정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합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은 이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…,D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 간에 분할되어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유형으로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고 가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처리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디스크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i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상의 데이터를 지역적으로 정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처리기 상의 정렬된 실행 파일을 합병해 최종 정렬된 출력을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얻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렬된 실행 파일의 합병은 다음과 같이 병렬 처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처리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i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 정렬된 분할들은 처리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…,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걸쳐 범위 분할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처리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받는 순서대로 합병을 수행해 하나의 정렬된 실행 파일을 얻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처리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…,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상의 정렬된 실행 파일들을 연결해 최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결과를 얻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E9DA-A8A4-44F4-AC9D-1F9662105B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병렬 죠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Times New Roman"/>
              </a:rPr>
              <a:t>죠인 연산은 튜플의 쌍이 죠인 조건을 만족하는가를 테스트해서</a:t>
            </a:r>
            <a:r>
              <a:rPr b="0" lang="ko-KR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900" spc="-1" strike="noStrike">
                <a:solidFill>
                  <a:srgbClr val="000000"/>
                </a:solidFill>
                <a:latin typeface="Times New Roman"/>
              </a:rPr>
              <a:t>만족하면 그  쌍을 죠인  출력에 추가한다</a:t>
            </a:r>
            <a:r>
              <a:rPr b="0" lang="ko-KR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Times New Roman"/>
              </a:rPr>
              <a:t>병렬 죠인 알고리즘은 여러 처리기에서 쌍들을 분할해서 테스트하도록 한다</a:t>
            </a:r>
            <a:r>
              <a:rPr b="0" lang="ko-KR" sz="29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900" spc="-1" strike="noStrike">
                <a:solidFill>
                  <a:srgbClr val="000000"/>
                </a:solidFill>
                <a:latin typeface="Times New Roman"/>
              </a:rPr>
              <a:t>각 처리기는 죠인의 일부를 지역적으로 계산한다</a:t>
            </a:r>
            <a:r>
              <a:rPr b="0" lang="ko-KR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Times New Roman"/>
              </a:rPr>
              <a:t>마지막 단계에서</a:t>
            </a:r>
            <a:r>
              <a:rPr b="0" lang="ko-KR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900" spc="-1" strike="noStrike">
                <a:solidFill>
                  <a:srgbClr val="000000"/>
                </a:solidFill>
                <a:latin typeface="Times New Roman"/>
              </a:rPr>
              <a:t>각 처리기로 부터의 결과들이 합쳐져 최종 결과를 생성한다</a:t>
            </a:r>
            <a:r>
              <a:rPr b="0" lang="ko-KR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635-A5B0-4973-8690-E3D8430F19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개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병렬 컴퓨터가 매우 보편적이고 가능성이 있게 되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마이크로 프로세서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메모리 및 디스크의 가격이 급격히 하락하였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데이터베이스는 점차 대형화하고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차후의 분석을 위해 대용량의 거래 데이터가 수집되고 저장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데이터베이스에 저장되는 이미지와 멀티미디어 객체가 점차 증가하고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다음과 같은 용도로 대규모 병렬 데이터베이스 시스템이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늘어나고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시간이 많이 걸리는 의사 결정 지원 질의의 처리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트랜잭션 처리에 높은 처리율을 제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CB7-BBD4-485B-96D8-FAB8D85B2F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분할 죠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동등 죠인과 자연 죠인에 있어서는 두 개의 입력 릴레이션을 처리기에 분할해 각 처리기에서 지역적으로 조인을 계산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입력 릴레이션이라 하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r     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.A=s.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계산한다 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각각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,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로 분할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범위 분할 또는 해쉬 분할을 사용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동일한 범위 분할 벡터 또는 해쉬 함수를 사용해 죠인 애트리뷰트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r.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.B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따라 분할되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분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처기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보내진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처리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i.A=si.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지역적으로 계산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떠한 표준 죠인 방법도 사용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79440" y="4708080"/>
            <a:ext cx="305280" cy="152640"/>
            <a:chOff x="3079440" y="4708080"/>
            <a:chExt cx="305280" cy="152640"/>
          </a:xfrm>
        </p:grpSpPr>
        <p:sp>
          <p:nvSpPr>
            <p:cNvPr id="154" name=""/>
            <p:cNvSpPr/>
            <p:nvPr/>
          </p:nvSpPr>
          <p:spPr>
            <a:xfrm>
              <a:off x="3079800" y="470844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384720" y="47080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079440" y="470844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079800" y="47080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000760" y="2574720"/>
            <a:ext cx="304560" cy="152640"/>
            <a:chOff x="5000760" y="2574720"/>
            <a:chExt cx="304560" cy="152640"/>
          </a:xfrm>
        </p:grpSpPr>
        <p:sp>
          <p:nvSpPr>
            <p:cNvPr id="159" name=""/>
            <p:cNvSpPr/>
            <p:nvPr/>
          </p:nvSpPr>
          <p:spPr>
            <a:xfrm>
              <a:off x="5000760" y="257508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305320" y="2574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000760" y="257508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5000760" y="2574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6FE-9441-4585-960E-11B5195559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분할 죠인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676520" y="1905120"/>
            <a:ext cx="6324480" cy="4038480"/>
            <a:chOff x="1676520" y="1905120"/>
            <a:chExt cx="6324480" cy="4038480"/>
          </a:xfrm>
        </p:grpSpPr>
        <p:sp>
          <p:nvSpPr>
            <p:cNvPr id="165" name=""/>
            <p:cNvSpPr/>
            <p:nvPr/>
          </p:nvSpPr>
          <p:spPr>
            <a:xfrm>
              <a:off x="1676520" y="1981080"/>
              <a:ext cx="533160" cy="350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76520" y="548640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38880" y="2362320"/>
              <a:ext cx="53352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124080" y="1905120"/>
              <a:ext cx="533520" cy="2895480"/>
              <a:chOff x="3124080" y="1905120"/>
              <a:chExt cx="533520" cy="2895480"/>
            </a:xfrm>
          </p:grpSpPr>
          <p:sp>
            <p:nvSpPr>
              <p:cNvPr id="169" name=""/>
              <p:cNvSpPr/>
              <p:nvPr/>
            </p:nvSpPr>
            <p:spPr>
              <a:xfrm>
                <a:off x="3124080" y="1905120"/>
                <a:ext cx="533520" cy="590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124080" y="2673000"/>
                <a:ext cx="533520" cy="590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24080" y="3441240"/>
                <a:ext cx="533520" cy="590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24080" y="4209840"/>
                <a:ext cx="533520" cy="590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791320" y="1981080"/>
              <a:ext cx="533160" cy="2819160"/>
              <a:chOff x="5791320" y="1981080"/>
              <a:chExt cx="533160" cy="2819160"/>
            </a:xfrm>
          </p:grpSpPr>
          <p:sp>
            <p:nvSpPr>
              <p:cNvPr id="174" name=""/>
              <p:cNvSpPr/>
              <p:nvPr/>
            </p:nvSpPr>
            <p:spPr>
              <a:xfrm>
                <a:off x="5791320" y="4224960"/>
                <a:ext cx="533160" cy="575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91320" y="3477240"/>
                <a:ext cx="533160" cy="57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91320" y="2729160"/>
                <a:ext cx="533160" cy="575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91320" y="1981080"/>
                <a:ext cx="533160" cy="575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419720" y="1981080"/>
              <a:ext cx="609480" cy="2895480"/>
              <a:chOff x="4419720" y="1981080"/>
              <a:chExt cx="609480" cy="2895480"/>
            </a:xfrm>
          </p:grpSpPr>
          <p:sp>
            <p:nvSpPr>
              <p:cNvPr id="179" name=""/>
              <p:cNvSpPr/>
              <p:nvPr/>
            </p:nvSpPr>
            <p:spPr>
              <a:xfrm>
                <a:off x="4419720" y="1981080"/>
                <a:ext cx="609480" cy="542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419720" y="2765160"/>
                <a:ext cx="609480" cy="542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19720" y="3549600"/>
                <a:ext cx="609480" cy="542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19720" y="4333680"/>
                <a:ext cx="609480" cy="542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7391520" y="548640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5120" y="2209680"/>
              <a:ext cx="121896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1905120" y="2209320"/>
              <a:ext cx="121896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81080" y="2666880"/>
              <a:ext cx="114300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81080" y="2819520"/>
              <a:ext cx="11430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05120" y="3048120"/>
              <a:ext cx="121896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324120" y="2514600"/>
              <a:ext cx="114300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24120" y="2743200"/>
              <a:ext cx="11430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6324120" y="2285640"/>
              <a:ext cx="11430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6324120" y="3200400"/>
              <a:ext cx="114300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657240" y="22860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028840" y="38098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028840" y="30481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028840" y="22860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657240" y="30481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657240" y="38098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657240" y="46483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5028840" y="46483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76720" y="4800600"/>
              <a:ext cx="228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76720" y="4952880"/>
              <a:ext cx="22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48320" y="4876920"/>
              <a:ext cx="228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3600" y="5105520"/>
              <a:ext cx="228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3600" y="4952880"/>
              <a:ext cx="22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43600" y="4800600"/>
              <a:ext cx="228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248520" y="3429000"/>
              <a:ext cx="121896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7391520" y="3733920"/>
              <a:ext cx="228600" cy="609480"/>
              <a:chOff x="7391520" y="3733920"/>
              <a:chExt cx="228600" cy="609480"/>
            </a:xfrm>
          </p:grpSpPr>
          <p:sp>
            <p:nvSpPr>
              <p:cNvPr id="209" name=""/>
              <p:cNvSpPr/>
              <p:nvPr/>
            </p:nvSpPr>
            <p:spPr>
              <a:xfrm>
                <a:off x="7391520" y="4191120"/>
                <a:ext cx="22860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391520" y="4038480"/>
                <a:ext cx="228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391520" y="3733920"/>
                <a:ext cx="22860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391520" y="3886200"/>
                <a:ext cx="22860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1828800" y="3657600"/>
              <a:ext cx="228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28800" y="3809880"/>
              <a:ext cx="22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28800" y="3352680"/>
              <a:ext cx="22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28800" y="3505320"/>
              <a:ext cx="228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48320" y="5029200"/>
              <a:ext cx="228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48320" y="5181480"/>
              <a:ext cx="22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76720" y="5105520"/>
              <a:ext cx="228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F14C-EBE5-47D4-964C-CD317FA705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분할과 중복 죠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어떤 죠인 조건에 대해 불가능한 분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r.A &gt; s.B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같은 비동등 죠인 조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분할이 적용되지 않는 죠인에 대해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분할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중복이라는 병렬화로 달성할 수 있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특수한 경우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비대칭 분할과 중복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들 중의 하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분할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어떠한 분할 기법도 사용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른 릴레이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모든 처리기에 중복시킨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리고 처리기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어떠한 죠인 기법을 사용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모든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죠인을 지역적으로 계산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677-D235-48A9-9F30-069938329A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분할과 중복 죠인 기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2057400"/>
            <a:ext cx="2819160" cy="3352680"/>
            <a:chOff x="762120" y="2057400"/>
            <a:chExt cx="2819160" cy="3352680"/>
          </a:xfrm>
        </p:grpSpPr>
        <p:sp>
          <p:nvSpPr>
            <p:cNvPr id="224" name=""/>
            <p:cNvSpPr/>
            <p:nvPr/>
          </p:nvSpPr>
          <p:spPr>
            <a:xfrm>
              <a:off x="1184400" y="2130480"/>
              <a:ext cx="352440" cy="50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19440" y="2130480"/>
              <a:ext cx="492120" cy="43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84400" y="2712960"/>
              <a:ext cx="35244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84400" y="3297240"/>
              <a:ext cx="352440" cy="50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84400" y="3879720"/>
              <a:ext cx="352440" cy="50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120" y="3005280"/>
              <a:ext cx="3524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87720" y="3005280"/>
              <a:ext cx="3524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93800" y="2057400"/>
              <a:ext cx="424080" cy="240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19440" y="2712960"/>
              <a:ext cx="492120" cy="43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19440" y="3297240"/>
              <a:ext cx="492120" cy="43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19440" y="3952800"/>
              <a:ext cx="492120" cy="43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01760" y="4444920"/>
              <a:ext cx="18108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11120" y="4608360"/>
              <a:ext cx="18108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11120" y="4781520"/>
              <a:ext cx="18108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06640" y="4432320"/>
              <a:ext cx="18108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16000" y="4595760"/>
              <a:ext cx="1810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16000" y="4768920"/>
              <a:ext cx="18108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36840" y="2349360"/>
              <a:ext cx="28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36840" y="2932200"/>
              <a:ext cx="28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36840" y="3514680"/>
              <a:ext cx="28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36840" y="4170240"/>
              <a:ext cx="28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13000" y="2349360"/>
              <a:ext cx="28080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13000" y="2932200"/>
              <a:ext cx="2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13000" y="3514680"/>
              <a:ext cx="2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313000" y="4025520"/>
              <a:ext cx="2808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2120" y="5045040"/>
              <a:ext cx="28191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비대칭 분할과 중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657600" y="1752480"/>
            <a:ext cx="5145120" cy="4515120"/>
            <a:chOff x="3657600" y="1752480"/>
            <a:chExt cx="5145120" cy="4515120"/>
          </a:xfrm>
        </p:grpSpPr>
        <p:grpSp>
          <p:nvGrpSpPr>
            <p:cNvPr id="251" name=""/>
            <p:cNvGrpSpPr/>
            <p:nvPr/>
          </p:nvGrpSpPr>
          <p:grpSpPr>
            <a:xfrm>
              <a:off x="3657600" y="2133720"/>
              <a:ext cx="5145120" cy="4133880"/>
              <a:chOff x="3657600" y="2133720"/>
              <a:chExt cx="5145120" cy="4133880"/>
            </a:xfrm>
          </p:grpSpPr>
          <p:sp>
            <p:nvSpPr>
              <p:cNvPr id="252" name=""/>
              <p:cNvSpPr/>
              <p:nvPr/>
            </p:nvSpPr>
            <p:spPr>
              <a:xfrm>
                <a:off x="4916520" y="5886360"/>
                <a:ext cx="22860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b)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분할과 중복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431120" y="2228760"/>
                <a:ext cx="195480" cy="1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15440" y="2228760"/>
                <a:ext cx="195120" cy="1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12360" y="2228760"/>
                <a:ext cx="195120" cy="1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89600" y="2529000"/>
                <a:ext cx="360360" cy="34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89600" y="3057480"/>
                <a:ext cx="360360" cy="3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089600" y="3583080"/>
                <a:ext cx="360360" cy="344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089600" y="4110120"/>
                <a:ext cx="360360" cy="344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657600" y="3319560"/>
                <a:ext cx="358920" cy="393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89600" y="5099040"/>
                <a:ext cx="360360" cy="343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53560" y="2163960"/>
                <a:ext cx="647640" cy="33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ko-KR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m-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070760" y="2133720"/>
                <a:ext cx="352440" cy="33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307200" y="2133720"/>
                <a:ext cx="352440" cy="33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84960" y="2133720"/>
                <a:ext cx="352440" cy="33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665960" y="2133720"/>
                <a:ext cx="350640" cy="33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16520" y="5626080"/>
                <a:ext cx="50472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ko-KR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384880" y="2594160"/>
                <a:ext cx="504720" cy="330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0,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94320" y="2594160"/>
                <a:ext cx="503280" cy="330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0,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177240" y="2594160"/>
                <a:ext cx="504720" cy="330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0,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969240" y="2594160"/>
                <a:ext cx="503280" cy="330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0,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383440" y="3119400"/>
                <a:ext cx="503280" cy="328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,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591080" y="3119400"/>
                <a:ext cx="503280" cy="328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,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174000" y="3119400"/>
                <a:ext cx="504720" cy="328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,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67600" y="3643200"/>
                <a:ext cx="504720" cy="330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,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577040" y="3643200"/>
                <a:ext cx="503280" cy="330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,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197920" y="5129280"/>
                <a:ext cx="503280" cy="328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75320" y="5079960"/>
                <a:ext cx="4320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330960" y="5079960"/>
                <a:ext cx="4320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050240" y="5079960"/>
                <a:ext cx="43164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269560" y="4667400"/>
                <a:ext cx="4316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269560" y="4140360"/>
                <a:ext cx="4316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269560" y="3679920"/>
                <a:ext cx="43164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269560" y="3152880"/>
                <a:ext cx="43164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269560" y="2624040"/>
                <a:ext cx="4316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65880" y="5079960"/>
                <a:ext cx="43344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812360" y="5581800"/>
                <a:ext cx="990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ko-KR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n-1, m-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168800" y="4530600"/>
                <a:ext cx="184320" cy="14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60880" y="4678560"/>
                <a:ext cx="18576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60880" y="4835520"/>
                <a:ext cx="18576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462560" y="2719440"/>
                <a:ext cx="13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462560" y="3782880"/>
                <a:ext cx="13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462560" y="3286080"/>
                <a:ext cx="13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826160" y="291636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434280" y="393876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635800" y="396864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826160" y="345456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97720" y="396864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5800" y="342756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419880" y="342756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50200" y="291636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448680" y="293220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228080" y="293220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231320" y="345456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231320" y="3965760"/>
                <a:ext cx="0" cy="2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105520" y="2760840"/>
                <a:ext cx="27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091120" y="3286080"/>
                <a:ext cx="27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29560" y="2789280"/>
                <a:ext cx="27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59720" y="3286080"/>
                <a:ext cx="27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929560" y="3782880"/>
                <a:ext cx="27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669360" y="3780000"/>
                <a:ext cx="27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699240" y="3286080"/>
                <a:ext cx="27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699240" y="2789280"/>
                <a:ext cx="27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471080" y="3286080"/>
                <a:ext cx="27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467840" y="3782880"/>
                <a:ext cx="27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467840" y="2744640"/>
                <a:ext cx="27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091120" y="3852720"/>
                <a:ext cx="27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42000" y="2449440"/>
                <a:ext cx="0" cy="14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228080" y="2435400"/>
                <a:ext cx="0" cy="14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459840" y="244620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650200" y="2449440"/>
                <a:ext cx="0" cy="14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5638680" y="1752480"/>
              <a:ext cx="1752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3AA5-FA91-4EBB-A7DE-8F46987CFA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분할과 중복 죠인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일반적인 경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처리기에서 릴레이션의 크기를 줄인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분할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, 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분할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떠한 분할 기법도 사용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적어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처리기가 있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처리기는 다음과 같이 표시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0,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0,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…, 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0,m-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,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, 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-1,m-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죠인을 계산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기 위해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,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,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…, P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,m-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중복되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0,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,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, 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-1,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중복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처리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 어떠한 죠인 기법도 사용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465-4D42-4FB1-898A-376DACB197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분할과 중복 죠인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분할과 중복의 두개의 버전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내의 각 튜플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내의 각 튜플들과 테스트될 수 있기 때문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어떠한 죠인 조건에도 작동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중 하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비대칭 분할과 중복에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또는 모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일반적인 분할과 중복에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중복되어야 하므로 분할보다 일반적으로 비용이 많이든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때로는 분할이 사용될 수 있음에도 비대칭 분할과 중복이 더 좋을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를들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작고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크며 이미 분할되었다 하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죠인 애트리뷰트에 따라 재분할하는 것보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모든 처리기에 중복시키는 것이 비용이 덜 들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3846-2210-4756-8F04-8320FA8644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분할 병렬 해쉬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시 한번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보다 작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구축 릴레이션으로 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택한다고 가정하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해쉬 함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내 각 튜플의 죠인 애트리뷰트 값을 위해 이 튜플을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처리기중 하나에 대응시킨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처리기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자기의 디스크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있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튜플들을 각 튜플을 해쉬 함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근거해 적절한 처리기로 보낸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처리기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보내진 릴레이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튜플들이라 하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튜플들이 목적 처리기들에 도달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역적으로 해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죠인을 계산하는데 사용되는 또 다른 해쉬 함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사용해 다시 분할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4B50-FA0C-4C59-96D2-9CC88F7E10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분할 병렬 해쉬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일단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튜플들이 분배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보다 큰 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해쉬 함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사용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처리기에 재분배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처리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보내지는 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튜플들이라 하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튜플들이 목적 처리기에 도달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함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사용해 재분배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탐색 릴레이션만이 순차 해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죠인 알고리즘으로 분할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처리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지역 분할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해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죠인 알고리즘의구축 및 탐색 단계를 실행해 해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죠인의 최종 결과의 분할을 생성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유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해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죠인 최적화는 병렬의 경우에 적용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모리에 들어오는 튜플중의 일부를 캐쉬하는데 하이브리드 해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죠인 알고리즘을 사용해 그들을 기록하고 되읽는데 드는 비용을 피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4CB-F810-4171-9F05-B507EAF9AA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병렬 내포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루프 죠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음을 가정하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보다 훨씬 더 작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분할되어 저장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각 분할에 죠인 애트리뷰트상의 인덱스가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중복시키고 릴레이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기존 분할을 사용하는 비대칭 분할과 중복을 사용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분할이 저장된 각 처리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저장된 릴레이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튜플들을 읽어 다른 각 처리기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중복시킨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단계의 끝에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튜플을 저장하고 있는 모든 사이트에 릴레이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중복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처리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릴레이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릴레이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번째 분할과의 인덱스 내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루프 죠인을 수행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7C40-8BAB-4E35-A8FD-90815762D71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병렬 내포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루프 죠인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인덱스 내포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루프 죠인은 릴레이션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의 튜플의 분배와 실질적으로 중첩될 수 있어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의 튜플을 디스크에 기록하고 되읽는 비용을 줄인다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그러나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도달했지만 아직 죠인에 사용되지 않은 릴레이션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의 튜플들을 가지고 있는 각 처리기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에서 메모리내 버퍼에 충분한 공간을 가지도록 릴레이션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의 중복은 죠인과 동기화되어야 한다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827-1B30-4092-A745-1DE5EB1D1F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베이스에서의 병렬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병렬 입출력을 위해 데이터는 여러 디스크에 걸쳐 분할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각의 관계형 연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정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죠인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집성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병렬로 실행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는 분할될 수 있으며 각 처리기는 자신의 분할에 독립적으로 작업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질의는 고급 언어로 표현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관계형 대수로 변환되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Q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병렬화를 보다 쉽게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서로 다른 질의는 서로가 병렬로 실행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동시성 제어가 충돌을 처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에서의 병렬화는 자연스럽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5839-C2F6-4FA5-A31E-F6D70FD293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기타 관계형 연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기타 관계형 연산 평가의 병렬화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선택  예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형식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애트리뷰트이고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값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분할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선택은 단일 처리기에서 수행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l &lt; a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&lt; u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형식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범위 선택이고 릴레이션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범위 분할되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선택은 그의 분할이 특정 범위 값과 중첩된 각 처리기에서 수행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기타의 경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선택은 모든 처리기에서 병렬로 수행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09920" y="391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81080" y="3919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62B2-736B-4875-A2F9-2CE0278A386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기타 관계형 연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중복 제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병렬 정렬 기법중 어느 하나를 사용해 수행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정렬중 발견하자 곧 중복을 제거하는 최적화를 가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또한 튜플들을 분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범위 또는 해쉬 분할 사용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해 각 처리기에서 지역적으로 중복 제거를 수행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추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중복 제거없는 추출은 튜플들이 디스크로부터 읽힐 때 병렬로 수행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중복 제거가 필요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여하한 상기 중복 제거 기법이 사용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C97A-DCDA-4B64-BCCF-5C17590406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기타 관계형 연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그룹핑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집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을 그룹핑 애트리뷰트에 따라 분할하고 각 처리기에서 지역적으로 집성 값들을 계산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분할하기 전에 부분적으로 집성 값을 계산함으로써 분할중 튜플들의 전송 비용을 줄일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um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집성 연산을 고려해 보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처리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 디스크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저장된 튜플들에 집성 연산을 수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처리기에 부분적인 합계를 가진 튜플들이 생성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역 집성의 결과가 그룹핑 애트리뷰트에 따라 분할되고 각 처리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 다시  수행된 집성 연산으로 최종 결과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얻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분할중 보다 적은 튜플들이 다른 처리기로 보내진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F619-0675-4CA2-AB7D-627A834E41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연산의 병렬 평가 비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Times New Roman"/>
              </a:rPr>
              <a:t>분할에 치우침 없고 병렬 평가로 인한 비용 부담이 없으면</a:t>
            </a:r>
            <a:r>
              <a:rPr b="0" lang="ko-KR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700" spc="-1" strike="noStrike">
                <a:solidFill>
                  <a:srgbClr val="000000"/>
                </a:solidFill>
                <a:latin typeface="Times New Roman"/>
              </a:rPr>
              <a:t>예상 속도 증가는 </a:t>
            </a:r>
            <a:r>
              <a:rPr b="0" lang="ko-KR" sz="2700" spc="-1" strike="noStrike">
                <a:solidFill>
                  <a:srgbClr val="000000"/>
                </a:solidFill>
                <a:latin typeface="Times New Roman"/>
              </a:rPr>
              <a:t>1/n </a:t>
            </a:r>
            <a:r>
              <a:rPr b="0" lang="ko-KR" sz="2700" spc="-1" strike="noStrike">
                <a:solidFill>
                  <a:srgbClr val="000000"/>
                </a:solidFill>
                <a:latin typeface="Times New Roman"/>
              </a:rPr>
              <a:t>이 될 것이다</a:t>
            </a:r>
            <a:r>
              <a:rPr b="0" lang="ko-KR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Times New Roman"/>
              </a:rPr>
              <a:t>치우침과 비용 부담을 또한 고려한다면</a:t>
            </a:r>
            <a:r>
              <a:rPr b="0" lang="ko-KR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700" spc="-1" strike="noStrike">
                <a:solidFill>
                  <a:srgbClr val="000000"/>
                </a:solidFill>
                <a:latin typeface="Times New Roman"/>
              </a:rPr>
              <a:t>병렬 연산으로 걸리는 시간은 다음과 같이 산정할 수 있다</a:t>
            </a:r>
            <a:r>
              <a:rPr b="0" lang="ko-KR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asm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+max(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…, 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릴레이션을 분할하는 시간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asm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결과를 조합하는 시간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각 처리기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 연산을 처리하는 시간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것을 치우침과 다툼으로 낭비되는 시간을 고려해 산정할 필요가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0FF-CDDC-4F7E-AEF0-6D53DFC326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치우침 처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범위 분할 죠인에서의 치우침을 처리하는 한가지 방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릴레이션의 각 애트리뷰트 값의 빈도 테이블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또는 히스토그램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구축하고 저장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히스토그램을 사용해 균형 적재 범위 분할을 구축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990720" y="3505320"/>
            <a:ext cx="7086600" cy="2514600"/>
            <a:chOff x="990720" y="3505320"/>
            <a:chExt cx="7086600" cy="2514600"/>
          </a:xfrm>
        </p:grpSpPr>
        <p:sp>
          <p:nvSpPr>
            <p:cNvPr id="348" name=""/>
            <p:cNvSpPr/>
            <p:nvPr/>
          </p:nvSpPr>
          <p:spPr>
            <a:xfrm>
              <a:off x="2133720" y="3505320"/>
              <a:ext cx="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133720" y="556272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48520" y="4876920"/>
              <a:ext cx="3808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34120" y="3581280"/>
              <a:ext cx="380880" cy="198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19720" y="4572000"/>
              <a:ext cx="38088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05320" y="4267080"/>
              <a:ext cx="38088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90920" y="3962520"/>
              <a:ext cx="38088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76520" y="518148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80060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520" y="441972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76520" y="403848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76520" y="365760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90720" y="4267080"/>
              <a:ext cx="609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빈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76720" y="5638680"/>
              <a:ext cx="761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-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15200" y="5638680"/>
              <a:ext cx="457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67080" y="563868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-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563868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-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38280" y="563868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95880" y="563868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-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F4A-6F4C-4F60-9DEE-5FEB54374A4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연산간 병렬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파이프라인 병렬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네 릴레이션의 죠인을 고려해 보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3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세 개의 죠인을 병렬로 계산하는 파이프라인을 설정한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처리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계산에 배정하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tem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계산에 배정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처리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튜플을 계산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들 튜플을 처리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 사용하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그의 계산을 끝내기 전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 튜플들중 일부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 이용 가능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계산을 완전히 끝내기 전이라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그들 튜플을 사용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계산을 시작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       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 튜플들을 계산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들 튜플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죠인을 계산하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 사용하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803680" y="5333760"/>
            <a:ext cx="304560" cy="152640"/>
            <a:chOff x="2803680" y="5333760"/>
            <a:chExt cx="304560" cy="152640"/>
          </a:xfrm>
        </p:grpSpPr>
        <p:sp>
          <p:nvSpPr>
            <p:cNvPr id="370" name=""/>
            <p:cNvSpPr/>
            <p:nvPr/>
          </p:nvSpPr>
          <p:spPr>
            <a:xfrm>
              <a:off x="2803680" y="533412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108240" y="5333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803680" y="533412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803680" y="5333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057040" y="5333760"/>
            <a:ext cx="305280" cy="152640"/>
            <a:chOff x="2057040" y="5333760"/>
            <a:chExt cx="305280" cy="152640"/>
          </a:xfrm>
        </p:grpSpPr>
        <p:sp>
          <p:nvSpPr>
            <p:cNvPr id="375" name=""/>
            <p:cNvSpPr/>
            <p:nvPr/>
          </p:nvSpPr>
          <p:spPr>
            <a:xfrm>
              <a:off x="2057400" y="533412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2362320" y="5333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057040" y="533412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057400" y="5333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5714640" y="4343040"/>
            <a:ext cx="305280" cy="152640"/>
            <a:chOff x="5714640" y="4343040"/>
            <a:chExt cx="305280" cy="152640"/>
          </a:xfrm>
        </p:grpSpPr>
        <p:sp>
          <p:nvSpPr>
            <p:cNvPr id="380" name=""/>
            <p:cNvSpPr/>
            <p:nvPr/>
          </p:nvSpPr>
          <p:spPr>
            <a:xfrm>
              <a:off x="5715000" y="43434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019920" y="434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5714640" y="43434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715000" y="434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495320" y="4647960"/>
            <a:ext cx="305280" cy="152640"/>
            <a:chOff x="4495320" y="4647960"/>
            <a:chExt cx="305280" cy="152640"/>
          </a:xfrm>
        </p:grpSpPr>
        <p:sp>
          <p:nvSpPr>
            <p:cNvPr id="385" name=""/>
            <p:cNvSpPr/>
            <p:nvPr/>
          </p:nvSpPr>
          <p:spPr>
            <a:xfrm>
              <a:off x="4495680" y="464832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4800600" y="4647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4495320" y="464832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4495680" y="4647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781320" y="2301480"/>
            <a:ext cx="305280" cy="152640"/>
            <a:chOff x="6781320" y="2301480"/>
            <a:chExt cx="305280" cy="152640"/>
          </a:xfrm>
        </p:grpSpPr>
        <p:sp>
          <p:nvSpPr>
            <p:cNvPr id="390" name=""/>
            <p:cNvSpPr/>
            <p:nvPr/>
          </p:nvSpPr>
          <p:spPr>
            <a:xfrm>
              <a:off x="6781680" y="230184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086600" y="2301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781320" y="230184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781680" y="2301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095520" y="2301480"/>
            <a:ext cx="305280" cy="152640"/>
            <a:chOff x="6095520" y="2301480"/>
            <a:chExt cx="305280" cy="152640"/>
          </a:xfrm>
        </p:grpSpPr>
        <p:sp>
          <p:nvSpPr>
            <p:cNvPr id="395" name=""/>
            <p:cNvSpPr/>
            <p:nvPr/>
          </p:nvSpPr>
          <p:spPr>
            <a:xfrm>
              <a:off x="6095880" y="230184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400800" y="2301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6095520" y="230184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6095880" y="2301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409720" y="2285640"/>
            <a:ext cx="305280" cy="152640"/>
            <a:chOff x="5409720" y="2285640"/>
            <a:chExt cx="305280" cy="152640"/>
          </a:xfrm>
        </p:grpSpPr>
        <p:sp>
          <p:nvSpPr>
            <p:cNvPr id="400" name=""/>
            <p:cNvSpPr/>
            <p:nvPr/>
          </p:nvSpPr>
          <p:spPr>
            <a:xfrm>
              <a:off x="5410080" y="22860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5715000" y="2285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5409720" y="22860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5410080" y="2285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885840" y="3733560"/>
            <a:ext cx="305280" cy="152640"/>
            <a:chOff x="3885840" y="3733560"/>
            <a:chExt cx="305280" cy="152640"/>
          </a:xfrm>
        </p:grpSpPr>
        <p:sp>
          <p:nvSpPr>
            <p:cNvPr id="405" name=""/>
            <p:cNvSpPr/>
            <p:nvPr/>
          </p:nvSpPr>
          <p:spPr>
            <a:xfrm>
              <a:off x="3886200" y="373392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4191120" y="373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3885840" y="373392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3886200" y="373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952520" y="5028840"/>
            <a:ext cx="305280" cy="152640"/>
            <a:chOff x="4952520" y="5028840"/>
            <a:chExt cx="305280" cy="152640"/>
          </a:xfrm>
        </p:grpSpPr>
        <p:sp>
          <p:nvSpPr>
            <p:cNvPr id="410" name=""/>
            <p:cNvSpPr/>
            <p:nvPr/>
          </p:nvSpPr>
          <p:spPr>
            <a:xfrm>
              <a:off x="4952880" y="50292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257800" y="5028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4952520" y="50292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4952880" y="5028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822840" y="3047760"/>
            <a:ext cx="304560" cy="152640"/>
            <a:chOff x="3822840" y="3047760"/>
            <a:chExt cx="304560" cy="152640"/>
          </a:xfrm>
        </p:grpSpPr>
        <p:sp>
          <p:nvSpPr>
            <p:cNvPr id="415" name=""/>
            <p:cNvSpPr/>
            <p:nvPr/>
          </p:nvSpPr>
          <p:spPr>
            <a:xfrm>
              <a:off x="3822840" y="304812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127400" y="3047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3822840" y="304812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822840" y="3047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7391520" y="3047760"/>
            <a:ext cx="304560" cy="152640"/>
            <a:chOff x="7391520" y="3047760"/>
            <a:chExt cx="304560" cy="152640"/>
          </a:xfrm>
        </p:grpSpPr>
        <p:sp>
          <p:nvSpPr>
            <p:cNvPr id="420" name=""/>
            <p:cNvSpPr/>
            <p:nvPr/>
          </p:nvSpPr>
          <p:spPr>
            <a:xfrm>
              <a:off x="7391520" y="304812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7696080" y="3047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391520" y="304812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391520" y="3047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7C0C-67FA-4AA0-BDCC-9B703B3B46A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파이프라인 병렬화의 유용성을 제한하는 요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중간 결과를 디스크에 수록하지 않기 때문에 파이프라인 병렬화는 유용하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적은 수의 처리기에 유용하지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많은 처리기를 가진다 해서 규모 증대는 되지 않는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그 이유는 파이프라인 체인이 충분한 길이가 되지는 못하기 때문이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모든 입력을 액세스할 때 까지는 출력을 생성하지 못하는 연산자는 파이프라인 할 수 없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집성 및 정렬 연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한 연산자의 실행 비용이 다른 것들보다 훨씬 더 높은 치우침이 빈번한 경우에 약간의 속도 증가를 얻는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597-14B2-4D22-A81C-697CA871EF6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독립 병렬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서로가 의존하지 않는 질의 표현식 내 연산들은 병렬로 실행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죠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고려해 보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병렬로 계산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들 두 계산을 마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음을 계산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병렬화를 한층 더 이루려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 자체가 파이프라인 죠인을  사용해 수행되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temp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계산에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튜플 들이 파이프라인 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도의 병렬화를 제공하지는 않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병렬화 정도가 낮은 곳에서는 유용하지만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도 병렬 시스템에는 덜 유용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959000" y="3155760"/>
            <a:ext cx="305280" cy="152640"/>
            <a:chOff x="4959000" y="3155760"/>
            <a:chExt cx="305280" cy="152640"/>
          </a:xfrm>
        </p:grpSpPr>
        <p:sp>
          <p:nvSpPr>
            <p:cNvPr id="429" name=""/>
            <p:cNvSpPr/>
            <p:nvPr/>
          </p:nvSpPr>
          <p:spPr>
            <a:xfrm>
              <a:off x="4959360" y="315612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5264280" y="3155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4959000" y="315612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959360" y="3155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105520" y="4419360"/>
            <a:ext cx="304560" cy="152640"/>
            <a:chOff x="5105520" y="4419360"/>
            <a:chExt cx="304560" cy="152640"/>
          </a:xfrm>
        </p:grpSpPr>
        <p:sp>
          <p:nvSpPr>
            <p:cNvPr id="434" name=""/>
            <p:cNvSpPr/>
            <p:nvPr/>
          </p:nvSpPr>
          <p:spPr>
            <a:xfrm>
              <a:off x="5105520" y="441972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5410080" y="4419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5105520" y="441972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5105520" y="4419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79760" y="3168360"/>
            <a:ext cx="304560" cy="152640"/>
            <a:chOff x="2579760" y="3168360"/>
            <a:chExt cx="304560" cy="152640"/>
          </a:xfrm>
        </p:grpSpPr>
        <p:sp>
          <p:nvSpPr>
            <p:cNvPr id="439" name=""/>
            <p:cNvSpPr/>
            <p:nvPr/>
          </p:nvSpPr>
          <p:spPr>
            <a:xfrm>
              <a:off x="2579760" y="316872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884320" y="3168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579760" y="316872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2579760" y="3168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3521160" y="2727000"/>
            <a:ext cx="304560" cy="152640"/>
            <a:chOff x="3521160" y="2727000"/>
            <a:chExt cx="304560" cy="152640"/>
          </a:xfrm>
        </p:grpSpPr>
        <p:sp>
          <p:nvSpPr>
            <p:cNvPr id="444" name=""/>
            <p:cNvSpPr/>
            <p:nvPr/>
          </p:nvSpPr>
          <p:spPr>
            <a:xfrm>
              <a:off x="3521160" y="272736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3825720" y="2727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3521160" y="272736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3521160" y="2727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879280" y="2727000"/>
            <a:ext cx="305280" cy="152640"/>
            <a:chOff x="2879280" y="2727000"/>
            <a:chExt cx="305280" cy="152640"/>
          </a:xfrm>
        </p:grpSpPr>
        <p:sp>
          <p:nvSpPr>
            <p:cNvPr id="449" name=""/>
            <p:cNvSpPr/>
            <p:nvPr/>
          </p:nvSpPr>
          <p:spPr>
            <a:xfrm>
              <a:off x="2879640" y="27273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3184560" y="2727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2879280" y="27273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2879640" y="2727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209320" y="2742840"/>
            <a:ext cx="305280" cy="152640"/>
            <a:chOff x="2209320" y="2742840"/>
            <a:chExt cx="305280" cy="152640"/>
          </a:xfrm>
        </p:grpSpPr>
        <p:sp>
          <p:nvSpPr>
            <p:cNvPr id="454" name=""/>
            <p:cNvSpPr/>
            <p:nvPr/>
          </p:nvSpPr>
          <p:spPr>
            <a:xfrm>
              <a:off x="2209680" y="27432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2514600" y="2742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2209320" y="27432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209680" y="2742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71D-EC00-405F-9F4D-0F6388C910D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질의 최적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병렬 데이터베이스에서의 질의 최적화는 순차 데이터베이스의 경우보다 훨씬 더 복잡하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분할 비용과 치우침 및 자원 다툼과 같은 문제들을 고려해야만 하므로  비용 모델은 더욱 복잡하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병렬 시스템에서 실행  트리를 스케쥴할 때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다음을 결정해야 한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연산을 어떻게 병렬화하고 얼마나 많은 처리기들을 사용할 것인가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연산을 파이프라인하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연산을 독립적으로 병렬 처리하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연산을 순차 처리할 것인가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각 연산에 대해 할당할 자원의 양을 결정하는 것이 문제이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적정보다 많은 처리기를 할당하면 높은 통신 비용을 초래할 수 있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B41-2874-42AA-88D6-188A30E485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질의 최적화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564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마지막 연산은 귀한 자원을 점유하면서 오랫동안 입력을 기다릴 수 있으므로 긴 파이프라인은 피해야 한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선택해야 할 병렬 평가 계획의 수가 순차 평가 계획의 수보다 훨씬 더 크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최적화중 경험이 필요하게 된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병렬 계획을 선택하는데 있어 두 가지 대안의 경험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파이프라이닝 없이 연산간 파이프라이닝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모든 처리기에 각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연산을 병렬화 한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최상의 계획을 찾는 것이 이제 보다 쉽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새로운 비용 모델을 가진 표준 최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화 기법을 사용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먼저 가장 효율적인 순차 계획을 선택하고 그 계획내의 연산들을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병렬화 하는 가장 좋은 방법을 선택한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선택 사항으로 파이프라인 병렬화를 찾을 수 있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좋은 물리 구조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분할 기법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를 선택하는 것이 질의 속도 증가에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중요하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37F-D30F-445D-A161-F5FAB2C307D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입출력 병렬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을 여러 디스크에 분할함으로써 디스크로부터 릴레이션을 검색하는데 드는 시간을 줄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수평 분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한 릴레이션의 튜플들이 여러 디스크에 분할되는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한 튜플은 한 디스크에 존재하게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분할 기법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의 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=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라운드 로빈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번째 튜플을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 mod n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번째 디스크로 보낸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해쉬 분할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하나 이상의 애트리뷰트를 분할 애트리뷰트로 선택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0 … n-1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범위를 가진 해쉬 함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를 선택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튜플의 분할 애트리뷰트 값에 적용한 해쉬 함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결과를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라  하자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튜플을 디스크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로 보낸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8EC2-6AAF-4A94-9A0C-777B31AF56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병렬 시스템 설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병렬 시스템 설계에 있어 고려할 사항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많은 양의 입력 데이터를 처리하기 위해 외부 소스로부터의 병렬 데이터 적재가 필요하다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일부 처리기 또는 디스크 고장의 회복력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일부 디스크 또는 처리기 고장의 확률이 병렬 시스템에서 보다 높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고장 시에도 연산은 가능해야 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성능 저하는 발생할 수 있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다른 처리기에 각 데이터 항목의 별도의 사본을 저장함으로써 중복 허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C443-1F00-43EB-80BE-2F68352D2CD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병렬 시스템 설계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데이터의 온라인 재구성 및 스키마 변경이 지원되어야 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초대형 데이터베이스에의 인덱스 구축은 병렬 시스템에서 조차 수시간 또는 며칠이 걸릴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덱스가 구축 중에 있더라도 릴레이션에 다른 처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삽입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삭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갱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허용될 필요가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기본 개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덱스 구축은  변경을 추적하고 마지막에 변경을 취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또한 온라인 재분할과 스키마 변경을 지원할 필요가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른 처리와 병렬로 실행되는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E51-94A8-4AD5-854A-B8F9BCC740D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입출력 병렬화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분산기법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범위 분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한 애트리뷰트를 분할 애트리뷰트로 선택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분할 벡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[V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…,Vn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선택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튜플의 분할 애트리뷰트 값이라 하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V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&lt; V &lt; V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인튜플들은 디스크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간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V&lt;V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인 튜플들은 디스크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가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V &gt; Vn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인 튜플들은 디스크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간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를 들어 보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분할 벡터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[5,11]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분할 애트리뷰트의 값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 튜플은 디스크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으로 가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 8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 튜플은 디스크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가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2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 튜플은 디스크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갈 것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572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1DA6-7952-4AE3-9DF3-03F6225215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분할 기법의 비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다음과 같은 유형의 데이터 액세스에는 어떤 분할 기법이 좋은가 평가해 보자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전체 릴레이션을 읽는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튜플의 연관성으로 검색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지정 질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r.A =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주어진 애트리뷰트의 값이 특정 범위내에 있는 모든 튜플을 검색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범위 질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10 &lt; r.A &lt;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27360" y="5686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04D9-33F0-4EB5-A528-A3A30BA3D4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분할 기법의 비교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라운드 로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각 질의에서 전체 릴레이션의 순차 검색에 가장 적합하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모든 디스크에는 거의 같은 수의 튜플을 갖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따라서 검색 작업은 디스크간에 균형이 잘 맞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범위 질의는 처리하기가 어렵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비군집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튜플들이 모든 디스크에 걸쳐 분산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9344-2936-4E1A-B6AD-0BCF135BD2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분할기법의 비교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해쉬 분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순차 액세스에 좋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해쉬 함수가 양호하고 분할 애트리뷰트가 키를 이루고 있다고 가정하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튜플들은 디스크간에 동등하게 분산될 것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검색 작업은 디스크간에 균형이 잘 맞는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분할 애트리뷰트 상의 지정 질의에 좋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다른 디스크는 다른 질의에 사용하도록 하고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하나의 디스크를 탐색할 수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분할 애트리뷰트상의 인덱스는 디스크에 지역적으로 있을 수 있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탐색과 갱신을 보다 효율적으로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군집이어서 범위 질의에 답하기에는 어렵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24D-B7C2-40F8-BFA3-67D8A1F729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분할 기법의 비교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범위분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분할 애트리뷰트 값으로 군집한 데이터를 제공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순차 액세스에 좋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분할 애트리뷰트에 관한 지정 질의에 좋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하나의 디스크 만이 액세스 될 필요가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분할 애트리뷰트에 관한 범위 질의에 대해서는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하나에서 여러 개의 디스크가 액세스 될 수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나머지 디스크는 다른 질의에서 사용 가능하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결과 튜플들이 하나에서 여러 블록이면 좋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많은 블록을 불러 오게 되는 경우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하나에서 여러 개의 디스크로부터 불러오게 되므로 디스크 액세스에서의 병렬 가능성이 저하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실행 치우침의 예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E87-C49B-4AFF-BA83-4D6606E307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0T15:04:17Z</dcterms:created>
  <dc:creator>서울산업대학교 교수 석상기</dc:creator>
  <dc:description/>
  <dc:language>en-US</dc:language>
  <cp:lastModifiedBy>.</cp:lastModifiedBy>
  <cp:lastPrinted>1999-05-24T08:45:19Z</cp:lastPrinted>
  <dcterms:modified xsi:type="dcterms:W3CDTF">1999-06-18T06:29:17Z</dcterms:modified>
  <cp:revision>56</cp:revision>
  <dc:subject/>
  <dc:title>제17장 병렬 데이터베이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5357798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1</vt:r8>
  </property>
  <property fmtid="{D5CDD505-2E9C-101B-9397-08002B2CF9AE}" pid="9" name="HomePage">
    <vt:lpwstr>http://cat1.snut.ac.kr/~sksuk/main.htm</vt:lpwstr>
  </property>
  <property fmtid="{D5CDD505-2E9C-101B-9397-08002B2CF9AE}" pid="10" name="LinkColor">
    <vt:r8>16711680</vt:r8>
  </property>
  <property fmtid="{D5CDD505-2E9C-101B-9397-08002B2CF9AE}" pid="11" name="MailAddress">
    <vt:lpwstr>sksuk@duck.snut.ac.kr</vt:lpwstr>
  </property>
  <property fmtid="{D5CDD505-2E9C-101B-9397-08002B2CF9AE}" pid="12" name="NavBtnPos">
    <vt:r8>1</vt:r8>
  </property>
  <property fmtid="{D5CDD505-2E9C-101B-9397-08002B2CF9AE}" pid="13" name="Other">
    <vt:lpwstr/>
  </property>
  <property fmtid="{D5CDD505-2E9C-101B-9397-08002B2CF9AE}" pid="14" name="OutputDir">
    <vt:lpwstr>E:\public_html\data</vt:lpwstr>
  </property>
  <property fmtid="{D5CDD505-2E9C-101B-9397-08002B2CF9AE}" pid="15" name="ScreenSize">
    <vt:r8>4</vt:r8>
  </property>
  <property fmtid="{D5CDD505-2E9C-101B-9397-08002B2CF9AE}" pid="16" name="ScreenUsage">
    <vt:r8>3</vt:r8>
  </property>
  <property fmtid="{D5CDD505-2E9C-101B-9397-08002B2CF9AE}" pid="17" name="ShowNotes">
    <vt:bool>0</vt:bool>
  </property>
  <property fmtid="{D5CDD505-2E9C-101B-9397-08002B2CF9AE}" pid="18" name="TemplateType">
    <vt:r8>2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0</vt:bool>
  </property>
  <property fmtid="{D5CDD505-2E9C-101B-9397-08002B2CF9AE}" pid="22" name="VisitedColor">
    <vt:r8>64</vt:r8>
  </property>
</Properties>
</file>