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BC5-5494-42CC-AE91-CDEA3A5E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926-F7D0-47FF-8702-624B1A5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348-A042-4FBA-A911-DD5C4F6B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EB1-67C2-4121-AFA9-BCC701A8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CF9-6610-4334-97A3-146D22BB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52BF-C520-48CC-98E0-56B576D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5828-D298-4E5B-B783-5B49401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FC57-8CA4-43A7-B563-F134168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663-4650-4411-9A51-5A9126D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5609-D17B-4F7E-8E79-E087AEB5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6F4B-6086-4330-B1D5-CBD9A52E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C8C-5B17-4F3D-A55C-4984196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DD45-34B8-48C2-A112-B7A8796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2678-1C09-4042-A054-7E71E86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3C92-A1D7-4FEF-A781-491AD05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4187-6621-4615-A979-2A318EEB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85E9-6190-4972-AC55-3621CD7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C81-10E9-408E-ADA8-B5DB9FA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010-2167-439F-9AEC-24ACBD91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978-612A-4BAB-B494-52606AD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B13-71E3-4EFC-AFD2-D3D1FAA6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019-C7CB-4324-9139-92741A0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06D-D661-4C67-A28B-EE11DB23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674-24C8-4FEB-B75B-3A346D2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296-93C1-4B84-B678-FFB447C52841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5A4C-140A-4228-B0E5-CC78212AED4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장 데이터베이스 시스템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중앙 집중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서버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병렬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분산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네트워크 유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7CE-3710-45F0-9F71-0B92F68608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 데이터베이스 시스템은 고속의 내부 연결 네트워크로 연결된 여러 처리기와 여러 디스크로 구성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굵은 단위의 병렬 컴퓨터는 소수의 강력한 처리기로 구성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량 병렬 또는 작은 단위의 컴퓨터는 수천개의 보다 작은 처리기를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두 가지 주요 성능 측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율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해진 시간 간격 내에 완료할 수 있는 태스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개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답 시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태스크가 제기된 시간 이후 그 태스크를 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료하는데 걸리는 시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F02-DA96-4AC0-96E1-0C871BD47D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속도 향상과 규모 증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속도 향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작은 시스템에서 실행중인 고정 크기의 문제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 큰 시스템에 주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와 같이 측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식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같으면 속도 향상은 선형적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모 증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제의 크기와 시스템 크기 모두를 증가 시킨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 큰 작업을 수행하는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배 큰 시스템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와 같이 측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등식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면 규모 증대는 선형적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19320" y="2743200"/>
            <a:ext cx="6476760" cy="685440"/>
            <a:chOff x="1219320" y="2743200"/>
            <a:chExt cx="6476760" cy="685440"/>
          </a:xfrm>
        </p:grpSpPr>
        <p:sp>
          <p:nvSpPr>
            <p:cNvPr id="145" name=""/>
            <p:cNvSpPr/>
            <p:nvPr/>
          </p:nvSpPr>
          <p:spPr>
            <a:xfrm>
              <a:off x="3429000" y="30859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2914560"/>
              <a:ext cx="2133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속 도   향 상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2743200"/>
              <a:ext cx="4038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작은 시스템에서 경과한 시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3085920"/>
              <a:ext cx="4038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큰 시스템에서 경과한 시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66680" y="5105520"/>
            <a:ext cx="7620120" cy="533160"/>
            <a:chOff x="1066680" y="5105520"/>
            <a:chExt cx="7620120" cy="533160"/>
          </a:xfrm>
        </p:grpSpPr>
        <p:sp>
          <p:nvSpPr>
            <p:cNvPr id="150" name=""/>
            <p:cNvSpPr/>
            <p:nvPr/>
          </p:nvSpPr>
          <p:spPr>
            <a:xfrm>
              <a:off x="2819520" y="533412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334120"/>
              <a:ext cx="167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규모 증대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71800" y="5105520"/>
              <a:ext cx="5562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작은 시스템에서 작은 문제에 경과한 시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5410080"/>
              <a:ext cx="541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큰 시스템에서 큰 문제에 경과한 시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FD7-94BB-495E-BD9A-997CB7ECA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속도 향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240" y="2286000"/>
            <a:ext cx="6477120" cy="3276360"/>
            <a:chOff x="1371240" y="2286000"/>
            <a:chExt cx="6477120" cy="3276360"/>
          </a:xfrm>
        </p:grpSpPr>
        <p:sp>
          <p:nvSpPr>
            <p:cNvPr id="156" name=""/>
            <p:cNvSpPr/>
            <p:nvPr/>
          </p:nvSpPr>
          <p:spPr>
            <a:xfrm>
              <a:off x="1828800" y="228600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5181480"/>
              <a:ext cx="548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286000" y="2438280"/>
              <a:ext cx="29718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1960" y="3200400"/>
              <a:ext cx="4191120" cy="1676160"/>
            </a:xfrm>
            <a:custGeom>
              <a:avLst/>
              <a:gdLst/>
              <a:ahLst/>
              <a:rect l="l" t="t" r="r" b="b"/>
              <a:pathLst>
                <a:path w="2640" h="1056">
                  <a:moveTo>
                    <a:pt x="0" y="1056"/>
                  </a:moveTo>
                  <a:cubicBezTo>
                    <a:pt x="500" y="756"/>
                    <a:pt x="1000" y="456"/>
                    <a:pt x="1344" y="288"/>
                  </a:cubicBezTo>
                  <a:cubicBezTo>
                    <a:pt x="1688" y="120"/>
                    <a:pt x="1848" y="96"/>
                    <a:pt x="2064" y="48"/>
                  </a:cubicBezTo>
                  <a:cubicBezTo>
                    <a:pt x="2280" y="0"/>
                    <a:pt x="2460" y="0"/>
                    <a:pt x="26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160" y="2590560"/>
              <a:ext cx="2362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ear speed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760" y="3429000"/>
              <a:ext cx="251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linear speed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5257800"/>
              <a:ext cx="19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4864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3504960"/>
              <a:ext cx="380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5400000">
              <a:off x="899640" y="3595320"/>
              <a:ext cx="1295280" cy="3524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93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돋움"/>
                </a:rPr>
                <a:t>speed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돋움"/>
                <a:ea typeface="돋움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23880" y="251424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372-47A4-4622-B8B7-C427B700B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모 증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자원은 문제 크기에 비례해 증가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19810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572000"/>
            <a:ext cx="601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0481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035160"/>
            <a:ext cx="4952880" cy="927360"/>
          </a:xfrm>
          <a:custGeom>
            <a:avLst/>
            <a:gdLst/>
            <a:ahLst/>
            <a:rect l="l" t="t" r="r" b="b"/>
            <a:pathLst>
              <a:path w="3120" h="584">
                <a:moveTo>
                  <a:pt x="0" y="8"/>
                </a:moveTo>
                <a:cubicBezTo>
                  <a:pt x="44" y="4"/>
                  <a:pt x="88" y="0"/>
                  <a:pt x="288" y="8"/>
                </a:cubicBezTo>
                <a:cubicBezTo>
                  <a:pt x="488" y="16"/>
                  <a:pt x="880" y="24"/>
                  <a:pt x="1200" y="56"/>
                </a:cubicBezTo>
                <a:cubicBezTo>
                  <a:pt x="1520" y="88"/>
                  <a:pt x="1936" y="144"/>
                  <a:pt x="2208" y="200"/>
                </a:cubicBezTo>
                <a:cubicBezTo>
                  <a:pt x="2480" y="256"/>
                  <a:pt x="2680" y="328"/>
                  <a:pt x="2832" y="392"/>
                </a:cubicBezTo>
                <a:cubicBezTo>
                  <a:pt x="2984" y="456"/>
                  <a:pt x="3072" y="552"/>
                  <a:pt x="3120" y="5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7432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r scale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9625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linear scale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6483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48769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76520" y="2057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2971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861-CEA6-4B7D-8C4F-815FB1634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뱃치 및 트랜잭션 규모 증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뱃치 규모 증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나의 큰 작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부분의 데이터베이스 질의와 과학적 모의 실험의 전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의 큰 문제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의 큰 컴퓨터를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규모 증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독립된 사용자들이 제기한 수 많은 작은 질의들이 공동 데이터베이스에 주어진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형적인 트랜잭션 처리 및 시분할 시스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 큰 컴퓨터 상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 큰 데이터베이스에 요청을 제기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배의 사용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 실행에 적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7EF-5A5A-4F2A-9876-666099A0E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속도 향상과 규모 증대를 제한하는 요인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속도 향상과 규모 증대는 아래와 같은 이유로 흔히 부 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적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동비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성의 정도가 높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프로세스를 기동 시키는 비용이 계산 시간을 좌우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간섭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유 자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버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디스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 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액세스하는 프로세스들이 서로 다툴 수 있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순조롭게 작업을 수행하지 않고 다른 프로세스를 기다리는데 시간을 낭비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치우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성을 증가시키면 병렬로 실행하는 태스크의 서비스 시간에 있어 분산이 증가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체 실행 시간은 병렬로 실행하고 있는 태스크 중에서 가장 느린 것에 의해 결정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D2A-F3FA-4294-B06F-09EA90298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부 연결 네트워크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버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구성 요소들은 단일 통신 버스에 데이터를 보내고 받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성이 증가하는 만큼 비례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구성 요소들은 격자내의 노드로서 배열되고 각 구성요소는 모든 인접 구성 요소와 연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신 링크는 구성 요소 수가 증가함에 따라 증가하므로 확장성은 좋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노드에 메시지를 보내는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노드를 경유할 필요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격자의 간선에서 연결을 둘러싸고 있는 경우는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이퍼큐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구성 요소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n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다른 구성 요소와 연결되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(n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링크를 경유하면 다른 구성 요소에 도달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신 지연을 감소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1B6-25F0-49DF-AD24-6E99CC7100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부 연결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47920" y="3124080"/>
            <a:ext cx="2361960" cy="2590560"/>
            <a:chOff x="1447920" y="3124080"/>
            <a:chExt cx="2361960" cy="2590560"/>
          </a:xfrm>
        </p:grpSpPr>
        <p:sp>
          <p:nvSpPr>
            <p:cNvPr id="191" name=""/>
            <p:cNvSpPr/>
            <p:nvPr/>
          </p:nvSpPr>
          <p:spPr>
            <a:xfrm>
              <a:off x="3505320" y="49528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5320" y="434304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373356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3124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19520" y="49528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9520" y="434304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9528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34304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19520" y="373356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373356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49528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7920" y="434304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7920" y="373356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9520" y="3124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3124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7920" y="312408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5105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40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82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8280" y="5105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828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08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2480" y="5105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524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248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524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200" y="4647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0" y="4647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1800" y="4647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57600" y="4647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200" y="4038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4038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4038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0" y="4038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860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7920" y="5333760"/>
              <a:ext cx="2361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망 구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34120" y="2971800"/>
            <a:ext cx="2895120" cy="2895480"/>
            <a:chOff x="5334120" y="2971800"/>
            <a:chExt cx="2895120" cy="2895480"/>
          </a:xfrm>
        </p:grpSpPr>
        <p:sp>
          <p:nvSpPr>
            <p:cNvPr id="234" name=""/>
            <p:cNvSpPr/>
            <p:nvPr/>
          </p:nvSpPr>
          <p:spPr>
            <a:xfrm>
              <a:off x="6933960" y="42670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160" y="4800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4800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7280" y="42670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160" y="38098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38098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33960" y="3276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7280" y="32767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19760" y="4114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6760" y="4114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1956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342900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29400" y="396252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9400" y="495288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72200" y="441972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2200" y="35812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8880" y="45720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8880" y="358128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72200" y="45720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297180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39625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0960" y="51055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971800"/>
              <a:ext cx="53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96080" y="35053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96080" y="51055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0960" y="5486400"/>
              <a:ext cx="2209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하이퍼큐브 구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43200" y="1752480"/>
            <a:ext cx="3657600" cy="990720"/>
            <a:chOff x="2743200" y="1752480"/>
            <a:chExt cx="3657600" cy="990720"/>
          </a:xfrm>
        </p:grpSpPr>
        <p:sp>
          <p:nvSpPr>
            <p:cNvPr id="262" name=""/>
            <p:cNvSpPr/>
            <p:nvPr/>
          </p:nvSpPr>
          <p:spPr>
            <a:xfrm>
              <a:off x="2743200" y="1752480"/>
              <a:ext cx="3657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1800" y="19810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175248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9200" y="17524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9920" y="17524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76920" y="19810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19810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6200" y="19810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243828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버스 구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37040" y="17524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FDF-DBDE-4057-80DE-F13D4B692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병렬 데이터베이스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공유 메모리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처리기들은 공통 메모리를 공유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공유 디스크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처리기들은 공통 디스크를 공유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무 공유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처리기들은 공통 메모리 또는 공통 디스크를 공유하지 않는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계층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위 구조들의 혼합형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8F7-95E5-4211-A1C1-31A513C506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2057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43828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793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185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54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93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3317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4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854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23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16765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676520"/>
            <a:ext cx="609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3065400"/>
            <a:ext cx="380880" cy="3049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2684520"/>
            <a:ext cx="380880" cy="3049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303640"/>
            <a:ext cx="380880" cy="30456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334120" y="1676520"/>
            <a:ext cx="2743200" cy="1828800"/>
            <a:chOff x="5334120" y="1676520"/>
            <a:chExt cx="2743200" cy="1828800"/>
          </a:xfrm>
        </p:grpSpPr>
        <p:sp>
          <p:nvSpPr>
            <p:cNvPr id="295" name=""/>
            <p:cNvSpPr/>
            <p:nvPr/>
          </p:nvSpPr>
          <p:spPr>
            <a:xfrm>
              <a:off x="6019920" y="3200400"/>
              <a:ext cx="457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819520"/>
              <a:ext cx="457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438280"/>
              <a:ext cx="457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920" y="2057400"/>
              <a:ext cx="457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9920" y="1676520"/>
              <a:ext cx="4572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7120" y="178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2185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77120" y="255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77120" y="2936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77120" y="3311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86600" y="2438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86600" y="3200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1676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6080" y="3048120"/>
              <a:ext cx="381240" cy="3045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96080" y="266688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96080" y="228600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4120" y="3200400"/>
              <a:ext cx="304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2819520"/>
              <a:ext cx="304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2438280"/>
              <a:ext cx="304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4120" y="2057400"/>
              <a:ext cx="3045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8800" y="1676520"/>
              <a:ext cx="304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33116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680" y="2936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38680" y="254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8680" y="2185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1793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295280" y="35053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유 메모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35053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유 디스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38080" y="3962520"/>
            <a:ext cx="2971440" cy="2244240"/>
            <a:chOff x="838080" y="3962520"/>
            <a:chExt cx="2971440" cy="2244240"/>
          </a:xfrm>
        </p:grpSpPr>
        <p:sp>
          <p:nvSpPr>
            <p:cNvPr id="325" name=""/>
            <p:cNvSpPr/>
            <p:nvPr/>
          </p:nvSpPr>
          <p:spPr>
            <a:xfrm>
              <a:off x="2851560" y="4595040"/>
              <a:ext cx="353520" cy="2962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3880" y="5352120"/>
              <a:ext cx="353880" cy="2962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52600" y="5591520"/>
              <a:ext cx="353880" cy="2962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6760" y="4925160"/>
              <a:ext cx="353520" cy="2962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42160" y="4258800"/>
              <a:ext cx="353880" cy="2962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26920" y="4999320"/>
              <a:ext cx="28260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10360" y="4258800"/>
              <a:ext cx="28296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5295240"/>
              <a:ext cx="28296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628880"/>
              <a:ext cx="28296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3962520"/>
              <a:ext cx="28296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04360" y="3962520"/>
              <a:ext cx="42444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19160" y="4258800"/>
              <a:ext cx="42444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04360" y="4628880"/>
              <a:ext cx="42444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160" y="4999320"/>
              <a:ext cx="42444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04360" y="5295240"/>
              <a:ext cx="42444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94720" y="4036680"/>
              <a:ext cx="0" cy="177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1040" y="408744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21040" y="542628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21040" y="474336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3600" y="436680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3600" y="510696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28800" y="4743360"/>
              <a:ext cx="5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28800" y="5403240"/>
              <a:ext cx="5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94720" y="43668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94720" y="511344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16400" y="4184640"/>
              <a:ext cx="0" cy="7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26840" y="4851000"/>
              <a:ext cx="0" cy="7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8360" y="5528160"/>
              <a:ext cx="0" cy="7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7760" y="448092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7760" y="522144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7200" y="5847480"/>
              <a:ext cx="1910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) </a:t>
              </a:r>
              <a:r>
                <a:rPr b="0" lang="ko-KR" sz="2000" spc="-1" strike="noStrike">
                  <a:solidFill>
                    <a:srgbClr val="000000"/>
                  </a:solidFill>
                  <a:latin typeface="Times New Roman"/>
                </a:rPr>
                <a:t>무 공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3040" y="5910840"/>
              <a:ext cx="19101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3120" y="4070520"/>
              <a:ext cx="56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962520" y="3962520"/>
            <a:ext cx="4757400" cy="1904760"/>
            <a:chOff x="3962520" y="3962520"/>
            <a:chExt cx="4757400" cy="1904760"/>
          </a:xfrm>
        </p:grpSpPr>
        <p:grpSp>
          <p:nvGrpSpPr>
            <p:cNvPr id="359" name=""/>
            <p:cNvGrpSpPr/>
            <p:nvPr/>
          </p:nvGrpSpPr>
          <p:grpSpPr>
            <a:xfrm>
              <a:off x="3962520" y="3962520"/>
              <a:ext cx="1141200" cy="1904760"/>
              <a:chOff x="3962520" y="3962520"/>
              <a:chExt cx="1141200" cy="1904760"/>
            </a:xfrm>
          </p:grpSpPr>
          <p:sp>
            <p:nvSpPr>
              <p:cNvPr id="360" name=""/>
              <p:cNvSpPr/>
              <p:nvPr/>
            </p:nvSpPr>
            <p:spPr>
              <a:xfrm>
                <a:off x="3962520" y="403848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62520" y="441936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62520" y="480060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62520" y="518148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62520" y="556236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90760" y="41558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90760" y="45482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90760" y="49114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90760" y="52988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90760" y="56800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94960" y="42670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94960" y="482436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94960" y="521640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94960" y="55972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94960" y="39625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99520" y="4038480"/>
                <a:ext cx="304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9520" y="5427720"/>
                <a:ext cx="190080" cy="30420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99520" y="5046480"/>
                <a:ext cx="19008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99520" y="4665600"/>
                <a:ext cx="19008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619600" y="3962520"/>
              <a:ext cx="1141200" cy="1904760"/>
              <a:chOff x="5619600" y="3962520"/>
              <a:chExt cx="1141200" cy="19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619600" y="403848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19600" y="441936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19600" y="480060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19600" y="518148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19600" y="5562360"/>
                <a:ext cx="2282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47840" y="41558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47840" y="45482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47840" y="49114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47840" y="52988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7840" y="568008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52040" y="42670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52040" y="4824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52040" y="52164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52040" y="5597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52040" y="39625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56600" y="4038480"/>
                <a:ext cx="304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56600" y="5427720"/>
                <a:ext cx="190080" cy="30420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56600" y="5046480"/>
                <a:ext cx="19008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56600" y="4665600"/>
                <a:ext cx="19008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335720" y="3962520"/>
              <a:ext cx="1384200" cy="1904760"/>
              <a:chOff x="7335720" y="3962520"/>
              <a:chExt cx="1384200" cy="19047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5720" y="4038480"/>
                <a:ext cx="2768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35720" y="4419360"/>
                <a:ext cx="2768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35720" y="4800600"/>
                <a:ext cx="2768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35720" y="5181480"/>
                <a:ext cx="2768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35720" y="5562360"/>
                <a:ext cx="27684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12560" y="4155840"/>
                <a:ext cx="36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2560" y="4548240"/>
                <a:ext cx="36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612560" y="4911480"/>
                <a:ext cx="36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612560" y="5298840"/>
                <a:ext cx="36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12560" y="5680080"/>
                <a:ext cx="36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81560" y="4267080"/>
                <a:ext cx="36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981560" y="4824360"/>
                <a:ext cx="36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81560" y="5216400"/>
                <a:ext cx="36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81560" y="5597280"/>
                <a:ext cx="36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81560" y="39625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350920" y="4038480"/>
                <a:ext cx="3690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50920" y="5427720"/>
                <a:ext cx="230400" cy="30420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50920" y="5046480"/>
                <a:ext cx="23040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50920" y="4665600"/>
                <a:ext cx="230400" cy="30456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114800" y="3962520"/>
              <a:ext cx="41529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029200" y="59436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 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AA1-9F16-4B71-B07E-27AC688872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중앙 집중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컴퓨터 시스템에서 실행되며 다른 컴퓨터 시스템과는 상호 작용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범용 컴퓨터 시스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나에서 수 개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공유 메모리의 액세스를 제공하는 공동 버스로 연결된 여러 개의 장치 제어기를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사용자 시스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개인용 컴퓨터 또는 워크스테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스크탑 장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사용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적으로 하나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하나 또는 두 개의 하드 디스크를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한 사용자만을 지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수 사용자 시스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많은 디스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큰 메모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다수 사용자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.                         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터미널을 통해 시스템에 연결된 굉장히 많은 사용자를 지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흔히 서버 시스템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D7A-9BE0-431B-9407-0ABA00359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공유 메모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기와 디스크는 일반적으로 버스 또는 내부 연결 네트워크를 통해 공통 메모리에 액세스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처리 기간의 극히 효율적인 통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유 메모리 내의 데이터는 소프트웨어를 사용해 이동시킬 필요 없이 어떤 처리기에서도 액세스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축소 지향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구조는 버스 또는 내부 연결 네트워크가 병목이 되기 때문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상의 처리기를 갖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병렬성 정도가 낮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 4 ~ 8 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경우 널리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FC4-F9EA-4200-A692-C5612535F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공유디스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처리기는 내부 연결 네트워크를 통해 모든 디스크에 직접 액세스할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들은 자신의 메모리를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 버스는 병목이 아니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구조는 고장 허용 기능을 제공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는 모두 처리기가 액세스할 수 있는 디스크상에 있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처리기가 고장 나면 다른 처리기들이 그 처리기의 태스크를 인계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b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cle Rd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 Sysple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VAXclust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초기의 상용 사용자이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축소 지향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부 시스템으로의 내부 연결에서 병목이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유 디스크 시스템은 처리기 수를 약간 더 많이 가질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기 간의 통신은 느려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B32-6542-4BEB-B256-7D10F83E9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무 공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노드는 처리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모리 및 하나 이상의 디스크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노드의 처리기들은 내부 연결 네트워크를 사용해 다른 노드의 처리기들과 통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노드는 자신이 소유한 디스크상의 데이터에 대한 서버 기능을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adata, Tandem, Oracle-n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역 디스크로부터 액세스 되는 데이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지역 메모리 액세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내부 연결 네트워크를 통과하지 않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원 공유의 간섭을 최소화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 공유 다중 처리기는 간섭 없이 수천개의 처리기로 규모를 확장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요 단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통신 및 비지역 디스크 액세스의 비용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를 보내는데 양쪽 끝에서 소프트웨어 상호 작용을 내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991-865E-47CA-9ED1-21C5892505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유 메모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유 디스크 및 무 공유 구조의 특징을 결합 하였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층은 무 공유 구조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노드는 내부 연결 네트워크로 연결되며 서로가 디스크 또는 메모리를 공유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의 각 노드는 여러 개의 처리기를 가진 고유 메모리 시스템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안으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노드는 공유 디스크 시스템일 수 있고 디스크를 공유하는 시스템 각각은 공유 메모리 시스템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가상 메모리 구조로 그러한 시스템의 프로그래밍의 복잡성을 줄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FB6-03FB-4D3B-821B-62C4C4EF7E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산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가 여러 컴퓨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이트 또는 노드라 하기도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분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컴퓨터는 네트워크로 연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는 여러 컴퓨터상의 사용자들이 공유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트랜잭션과 전역 트랜잭션간의 차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역 트랜잭션은 자신이 기동된 단일 사이트내의 데이터를 액세스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트랜잭션은 자신이 기동된 사이트 이외의 다른 사이트의 데이터를 액세스 하거나 여러 사이트의 데이터를 액세스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A52-5DA4-4922-ADB0-52B2D12452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분산 시스템에서의 손익 비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공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한 사이트의 사용자들은 어떤 다른 사이트들에 있는 데이터를 액세스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치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사이트는 지역적으로 저장된 데이터에 제어권을 유지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복을 통해 시스템 가용도를 높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는 원격 사이트들에 중복될 수 있으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한 사이트의 고장에도 불구하고 기능을 수행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이트들 간의 적절한 협조를 보장하기 위해 복잡성이 증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소프트웨어 개발 비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오류 가능성의 증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 비용 증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800-D826-42F3-8905-59E9921BDE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네트워크 유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근거리 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)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단일 빌딩 또는 몇 개의 인접한 빌딩같이 작은 지역에 분포된 처리기들로 구성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광역 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)-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넓은 지역에 분포한 처리기들로 구성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불연속적 연결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일정한 시간에만 연결되는 주기적인 다이얼 업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UCP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기반을 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연속적 연결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호스트들이 항상 네트워크에 연결된 인터넷 같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77A-8C21-4E3F-B92E-41E28FA57F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네트워크 유형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산 데이터베이스 시스템을 수행하기 위해서는 연속적 연결을 가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필요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us Note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같은 그룹웨어 어플리케이션은 불연속적 연결을 가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에서 작동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가 중복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갱신은 주기적으로 중복 사본에 전파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역 로킹이 불가능하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의 사본들은 독립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갱신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직렬 실행이 발생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갱신 모순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탐지해야만 하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플리케이션 종속 방법으로 해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C19-801A-4F1F-A1FE-000F8C0829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서버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서버 시스템은 클라이언트 시스템에서 생성된 요청을 행하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일반적인 구조는 아래와 같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809880"/>
            <a:ext cx="7010640" cy="1752840"/>
            <a:chOff x="1295280" y="3809880"/>
            <a:chExt cx="7010640" cy="1752840"/>
          </a:xfrm>
        </p:grpSpPr>
        <p:sp>
          <p:nvSpPr>
            <p:cNvPr id="114" name=""/>
            <p:cNvSpPr/>
            <p:nvPr/>
          </p:nvSpPr>
          <p:spPr>
            <a:xfrm>
              <a:off x="1295280" y="47242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71600" y="388620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88620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388620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388620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426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428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68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5181480"/>
              <a:ext cx="114300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449568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520" y="380988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C39-E69E-427A-A1B6-D73DFAB8A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서버 시스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데이터베이스 기능은 다음과 같이 구분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후처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액세스 구조 관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 평가 및  최적 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동시성 제어 및 회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처리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,report-writer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및 그래픽 사용자 인터페이스 기능과 같은 도구들로 구성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처리와 후처리 간의 인터페이스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을 통하거나 어플리케이션 프로그램 인터페이스를 통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305-481D-4FF2-93F0-E27262264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클라이언트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서버 시스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메인 프레임을 후처리서버 컴퓨터에 연결된 워크스테이션 또는 개인용 컴퓨터의 네트워크로 대치함으로써 얻는 장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에 비해 기능이 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원 설치와 기능 확장에 융통성이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 인터페이스가 더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수가 보다 쉽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버 시스템은 크게 두 가지 종류로 분류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데이터베이스 시스템에서 널리 사용되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트랜잭션 서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지향 데이터베이스 시스템에서 사용되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데이터 서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189-3866-444C-B7F6-BD4FC9AEA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랜잭션 서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 서버 또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버 시스템이라고도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클라이언트에서 서버 시스템에 요청한 트랜잭션을 서버에서 실행하여 그 결과를 클라이언트에게 돌려 보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요청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작성하고 원격 프로시저 호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법을 통해 서버와 통신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형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많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호출들이 집단으로 트랜잭션을 이루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서버에 연결하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요청을 보내고 결과를 받기 위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에서 개발한 어플리케이션 프로그램 인터페이스 표준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79D-62E9-4CE0-9C55-4C3DFE724F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서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라이언트와 서버가 초고속으로 연결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라이언트 컴퓨터는 처리 능력에 있어 서버 컴퓨터에 뒤지지 않고 처리되는 태스크는 계산 중심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를 수행하는 클라이언트 컴퓨터에 데이터를 보내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결과는 다시 서버 컴퓨터에 적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구조에서는 클라이언트에 완전한 후처리 기능을 필요로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다수의 객체 지향 데이터베이스 시스템에서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려사항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적재와 항목 적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캐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 캐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6F6-F6A0-4661-95F7-3FC4D2C4A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서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적재와 항목 적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재 단위가 작을수록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많은 메시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청한 항목과 관련있는 항목을 미리 가져오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etching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것이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바람직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적재는 미리 가져오기의 유형으로 생각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 지연으로 인해 서버에 로크를 요청하고 얻는 비용은 높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청해서 미리 가져온 항목에 로크를 허용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 적재에서는 트랜잭션이 전체 페이지에 로크를 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상의 로크는 로크 충돌이 있을 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페이지내 항목의 로크로 축소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되지 않는 항목의 로크는 서버로 다시 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D2A-FD5B-4394-AF25-399DBB934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서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캐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는 트랜잭션 간에서 조차 클라이언트에 캐쉬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가 사용되기 전에 최신의 것인가를 체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캐쉬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관성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사는 데이터 항목에 로크를 요청할 때 이루어질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 개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는 트랜잭션 간에서 조차 클라이언트에 유지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서버와 접촉하지 않고도 지역적으로 캐쉬된 로크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얻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버가 충돌하는 로크 요청을 받으면 클라이언트로부터 로크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라이언트가 로크를 일단 반납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떠한 지역 트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잭션도 그것을 사용하지 못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축소와 유사하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들에 걸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19D-4B63-44AD-9012-1D8EA8872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4:09:07Z</dcterms:created>
  <dc:creator>서울산업대학교 교수 석상기</dc:creator>
  <dc:description/>
  <dc:language>en-US</dc:language>
  <cp:lastModifiedBy>.</cp:lastModifiedBy>
  <cp:lastPrinted>1997-02-26T15:00:00Z</cp:lastPrinted>
  <dcterms:modified xsi:type="dcterms:W3CDTF">1999-06-18T05:32:31Z</dcterms:modified>
  <cp:revision>22</cp:revision>
  <dc:subject/>
  <dc:title>제16장 데이터베이스 시스템 구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