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5C9-366B-483B-8226-A5EA1A3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826-96E4-4743-919C-3C53D9AB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5CA-FC7F-4940-B5BB-7FCB0BCF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EC4-F8EF-4658-A057-D83D0D5A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087-2260-4ABD-9F07-9E02B478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008-5D77-48E4-A42A-06F8F8E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010-A23E-4758-944B-FE7329F9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7D6-694F-4D78-893A-50ACB96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035B-375F-4A70-9983-D2358A7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7EA-06CB-412B-8E3B-265EDC3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2E15-57ED-465C-B496-3FB53C1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D79-2610-4A23-94F0-3ED393B7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091-B787-42E8-85DF-EB2CE7B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52D-63FF-49E3-BFC8-7A3D648B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138A-9FCF-4A68-AD0E-48CF7C54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170C-00E2-4399-8D8D-452985EF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4322-C9C5-467A-B8E5-19C90EF3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571-516B-4529-BC2D-E8A7538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E0E-9A2A-4DC9-9A09-E1E13EF6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F47-2E92-42B7-8B4C-BA319F0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FDD-E440-48CB-8A2D-A1992DD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1E3-8B4B-4D77-AC6A-F8541F8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49C-640A-461C-A655-86E4442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F88-A138-44FB-8D48-6E304F2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DCB-82D2-402F-B3D0-5EF2E7FF5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241-8F4F-425A-835D-A8504B4B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회복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의 종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저장 장치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복과 원자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 기반 회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림자 페이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시 실행 트랜잭션의 회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버퍼 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 휘발성 저장 장치의 정보가 유실되는 고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4EA-7AED-4B34-93AD-61AB929D14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로그 기반 회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는 안정 저장 장치에 저장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는 로그 레코드로 이루어지며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에 대한 갱신 행위의 레코드를 유지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시작할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를 기록하여 등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실행하기 전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, X, V</a:t>
            </a:r>
            <a:r>
              <a:rPr b="0" i="1" lang="ko-K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i="1" lang="ko-KR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기록한다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갱신하기 전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값이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ko-KR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갱신후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값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마지막 문장을 마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기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지금은 로그 레코드가 안정 저장 장치에 직접 기록된다고 가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에 기록되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3C3-A711-44F5-9F49-E71266447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연 데이터베이스 수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기법은 로그에 모든 수정을 기록함으로써 고장에도 불구하고 원자성을 보장하지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모든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부분 완료 이후로 지연시킨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들은 순서대로 실행한다고 가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은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레코드를 로그에 기록하고 시작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은 로그 레코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, X, V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기록되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의 새로운 값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상에 쓰기는 이 시점에서 수행되지 않고 지연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부분적으로 완료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로그에 기록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마지막으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를 사용해 앞에서 지연된 쓰기를 실제로 실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D15-444F-477D-8D56-D9549BE119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연 데이터베이스 수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상이 발생한 후 회복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재실행될 필요 충분 조건은 로그내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모두 있을 때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재실행하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redo(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이 갱신한 모든 데이터 항목의 값을 새로운 값으로 설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상은 트랜잭션이 원래의 갱신을 실행할 때 또는 회복 행위가 이루어질 때 발생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제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먼저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5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+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D67-BC7E-49DF-B6CE-310AA3412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지연 데이터베이스 수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에서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지 시점에서 나타나는 로그를 보이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950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950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9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050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050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0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600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60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(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상 발생시 안정 저장 장치상의 로그가 위와 같은 경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떠한 재실행 행위도 이루어질 필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있기 때문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수행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c) 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있기 때문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먼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행되고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수행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9F6-4AB9-4821-A33A-CF98C74FC6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즉시 데이터베이스 수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기법은 미완료 트랜잭션의 데이터베이스 갱신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제기되는 즉시 이루어지도록 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취소가 필요하기 때문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갱신 로그에는 이전 값과 새로운 값 모두를 가져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항목이 기록되기 전에 갱신 로그 레코드가 기록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갱신된 블록의 출력은 트랜잭션 완료 전 또는 후 어느 시점에서도 발생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블록이 출력되는 순서는 그들이 기록되는 순서와는 다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3A6-667F-4632-97C8-71CAE122E0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즉시 데이터베이스 수정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g                      Write                         Output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1000, 9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2000, 20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700, 60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 = 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ko-KR" sz="20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하는 블록을 의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4382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7DE-39CF-402A-ABCF-08A6162DEE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즉시 데이터베이스 수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회복 절차는 두개의 연산을 가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ndo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 마지막 로그 레코드로부터 역으로 진행하면서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갱신한 모든 데이터 항목의 값을 이전 값으로 복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do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 첫번째 로그 레코드로부터 앞으로 진행하면서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갱신한 모든 데이터 항목의 값을 새로운 값으로 설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 이후 회복할 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포함하지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포함하지 않으면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취소될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모두 포함하면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재실행될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n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이 먼저 수행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re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을 수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97A-548B-480D-A0D4-2469806536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즉시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수정 회복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아래에서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지 시점에서 나타나는 로그를 보이고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000, 950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000, 950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000, 9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0, 2050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0,2050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0,205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700,600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700,600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위 각 경우의 회복 행위는 다음과 같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und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 복원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und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 복원되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각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 설정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red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o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각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 설정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되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으로 설정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A7A-38E7-4CC5-AB06-B4520C60CC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검사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앞에서 설명한 회복 절차의 문제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전체를 검색하므로 시간 낭비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갱신을 데이터베이스에 이미 출력한 트랜잭션을 재실행하는 것은 불필요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주기적으로 검사점을 수행하는 능률적 회복절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현재 메인 메모리에 존재하는 모든 로그 레코드를 안정 저장 장치에 출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정된 모든 버퍼 블록을 디스크에 출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checkpoint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안정 저장 장치에 기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983-6536-4D8B-801B-FEF09A115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검사점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시는 검사점 이전에 시작한 가장 최근의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후 시작한 트랜잭션들 만을 고려하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의 끝에서부터 역방향으로 읽어 가장 최근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checkpoint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곳에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을 때까지 계속 역방향으로 읽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에서 찾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 이후의 로그 부분만을 고려하면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의 이전 부분은 회복시 무시할 수 있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원하면 삭제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없는 모든 트랜잭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시작하거나 또는 그 이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undo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시 수정의 경우에만 수행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를 앞으로 읽어 나가면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진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시작하거나 그 이후의 모든 트랜잭션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redo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49E-942D-438E-971F-2ACA573A55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장의 종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실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논리적 에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내부적인 에러 조건으로 인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이 정상 종료할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에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러 조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교착상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인해 데이터 베이스 시스템은 활동 트랜잭션을 중단시켜야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이상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전 또는 기타 하드웨어 및 소프트웨어 고장은 시스템 이상을 야기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 휘발성 저장 장치의 내용은 손상되지 않는다고 가정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디스크 고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헤드 손상 또는 비슷한 고장이 디스크 저장 장치의 전부 또는 일부를 파괴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7800" y="24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22B-AEA5-4E0E-BFB4-284B55C1CC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검사점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52360" y="2054160"/>
          <a:ext cx="6972480" cy="237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054160"/>
                    <a:ext cx="697248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은 무시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검사점으로 인해 갱신은 이미 디스크에 출력되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재실행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취소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815-058A-4500-831E-2A7FEE034F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그림자 페이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기반 회복의 대안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개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실행중 두 개의 페이지 테이블을 유지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현재 페이지 테이블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림자 페이지 테이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실행 이전의 데이터베이스 상태로 회복될 수 있도록 그림자 페이지 테이블을 비휘발성 저장 장치에 저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림자 페이지 테이블은 실행중 갱신되지 않는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시작할 때는 두 개의 페이지 테이블이 동일하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트랜잭션 실행중 데이터 항목을 액세스하는데는 현재 페이지 테이블 만이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어떤 페이지라도 처음 기록되려 할 때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 페이지의 사본은 사용되지 않은 페이지에 이루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제 현재 페이지 테이블은 그 사본을 가리키게 되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갱신은 그 사본에 수행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FE7-8473-4F4A-8198-EC6E539EAD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그림자 페이징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5720" y="2255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76840" y="2255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85720" y="2536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76840" y="2536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85720" y="28177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76840" y="28177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85720" y="30970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76840" y="30970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85720" y="33782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76840" y="33782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85720" y="36576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6840" y="36576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85720" y="3938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76840" y="39387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85720" y="42181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76840" y="42181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85720" y="4498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76840" y="4498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32440" y="47782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33280" y="47782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9640" y="5059440"/>
            <a:ext cx="136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shadow pag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6680" y="50594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current pag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0920" y="551988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pages on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2360" y="5899320"/>
            <a:ext cx="379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돋움"/>
                <a:ea typeface="돋움"/>
              </a:rPr>
              <a:t>페이지 </a:t>
            </a:r>
            <a:r>
              <a:rPr b="0" lang="en-US" sz="19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돋움"/>
                <a:ea typeface="돋움"/>
              </a:rPr>
              <a:t>를 갱신한 후의 그림자 및 현재 페이지 테이블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70200" y="212724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0200" y="212724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70440" y="21272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70440" y="21272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0200" y="2406600"/>
            <a:ext cx="104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36232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70200" y="268776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0200" y="268776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0440" y="268776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70440" y="268776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0200" y="296712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70200" y="296712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70440" y="296712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70440" y="296712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70200" y="3247920"/>
            <a:ext cx="104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70200" y="3247920"/>
            <a:ext cx="104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70440" y="3247920"/>
            <a:ext cx="10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0440" y="324792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0200" y="3527280"/>
            <a:ext cx="104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0200" y="3527280"/>
            <a:ext cx="104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70440" y="3527280"/>
            <a:ext cx="10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70440" y="352728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0200" y="380844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0200" y="380844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0440" y="38084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0440" y="38084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70200" y="408780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0200" y="4087800"/>
            <a:ext cx="1049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70440" y="408780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0440" y="4087800"/>
            <a:ext cx="1049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0200" y="436896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0200" y="4368960"/>
            <a:ext cx="10490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0440" y="436896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70440" y="436896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70200" y="4648320"/>
            <a:ext cx="104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0200" y="4648320"/>
            <a:ext cx="1049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70440" y="464832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70440" y="4648320"/>
            <a:ext cx="1049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70200" y="4929120"/>
            <a:ext cx="10490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70440" y="492912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9280" y="1846440"/>
            <a:ext cx="1440" cy="36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0120" y="1855800"/>
            <a:ext cx="1440" cy="364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10120" y="1855800"/>
            <a:ext cx="9720" cy="364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59040" y="2127240"/>
            <a:ext cx="1440" cy="281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59040" y="2127240"/>
            <a:ext cx="11160" cy="281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09880" y="2136600"/>
            <a:ext cx="1440" cy="280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09880" y="2136600"/>
            <a:ext cx="9360" cy="280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59520" y="2127240"/>
            <a:ext cx="11160" cy="281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10360" y="2136600"/>
            <a:ext cx="1800" cy="2802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10360" y="2136600"/>
            <a:ext cx="9720" cy="280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70440" y="18464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70440" y="18464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70680" y="21272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70680" y="21272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70680" y="240660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0680" y="268776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70680" y="268776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70680" y="296712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70680" y="296712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70680" y="3247920"/>
            <a:ext cx="10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0680" y="324792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70680" y="3527280"/>
            <a:ext cx="10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70680" y="352728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70680" y="38084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70680" y="38084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0680" y="408780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70680" y="4087800"/>
            <a:ext cx="1049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70680" y="436896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70680" y="436896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70680" y="464832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0680" y="4648320"/>
            <a:ext cx="1049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70680" y="4929120"/>
            <a:ext cx="10494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70440" y="5208480"/>
            <a:ext cx="104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0440" y="5208480"/>
            <a:ext cx="1049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70440" y="5489640"/>
            <a:ext cx="10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70440" y="5489640"/>
            <a:ext cx="10494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0040" y="1906560"/>
            <a:ext cx="1119240" cy="379440"/>
            <a:chOff x="2840040" y="1906560"/>
            <a:chExt cx="1119240" cy="379440"/>
          </a:xfrm>
        </p:grpSpPr>
        <p:sp>
          <p:nvSpPr>
            <p:cNvPr id="313" name=""/>
            <p:cNvSpPr/>
            <p:nvPr/>
          </p:nvSpPr>
          <p:spPr>
            <a:xfrm>
              <a:off x="2840040" y="1955880"/>
              <a:ext cx="1119240" cy="33012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0" y="32"/>
                  </a:moveTo>
                  <a:cubicBezTo>
                    <a:pt x="11" y="32"/>
                    <a:pt x="22" y="33"/>
                    <a:pt x="31" y="30"/>
                  </a:cubicBezTo>
                  <a:cubicBezTo>
                    <a:pt x="40" y="27"/>
                    <a:pt x="47" y="17"/>
                    <a:pt x="54" y="12"/>
                  </a:cubicBezTo>
                  <a:cubicBezTo>
                    <a:pt x="61" y="7"/>
                    <a:pt x="66" y="4"/>
                    <a:pt x="76" y="2"/>
                  </a:cubicBezTo>
                  <a:cubicBezTo>
                    <a:pt x="86" y="0"/>
                    <a:pt x="99" y="0"/>
                    <a:pt x="112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9840" y="1906560"/>
              <a:ext cx="109440" cy="109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1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840040" y="2467080"/>
            <a:ext cx="1119240" cy="100080"/>
            <a:chOff x="2840040" y="2467080"/>
            <a:chExt cx="1119240" cy="100080"/>
          </a:xfrm>
        </p:grpSpPr>
        <p:sp>
          <p:nvSpPr>
            <p:cNvPr id="316" name=""/>
            <p:cNvSpPr/>
            <p:nvPr/>
          </p:nvSpPr>
          <p:spPr>
            <a:xfrm>
              <a:off x="2840040" y="2467080"/>
              <a:ext cx="1119240" cy="79200"/>
            </a:xfrm>
            <a:custGeom>
              <a:avLst/>
              <a:gdLst/>
              <a:ahLst/>
              <a:rect l="l" t="t" r="r" b="b"/>
              <a:pathLst>
                <a:path w="112" h="8">
                  <a:moveTo>
                    <a:pt x="0" y="8"/>
                  </a:moveTo>
                  <a:cubicBezTo>
                    <a:pt x="29" y="4"/>
                    <a:pt x="58" y="0"/>
                    <a:pt x="77" y="0"/>
                  </a:cubicBezTo>
                  <a:cubicBezTo>
                    <a:pt x="96" y="0"/>
                    <a:pt x="104" y="4"/>
                    <a:pt x="112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0120" y="2467080"/>
              <a:ext cx="119160" cy="1000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12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840040" y="2185920"/>
            <a:ext cx="1119240" cy="671760"/>
            <a:chOff x="2840040" y="2185920"/>
            <a:chExt cx="1119240" cy="671760"/>
          </a:xfrm>
        </p:grpSpPr>
        <p:sp>
          <p:nvSpPr>
            <p:cNvPr id="319" name=""/>
            <p:cNvSpPr/>
            <p:nvPr/>
          </p:nvSpPr>
          <p:spPr>
            <a:xfrm>
              <a:off x="2840040" y="2227320"/>
              <a:ext cx="1119240" cy="630360"/>
            </a:xfrm>
            <a:custGeom>
              <a:avLst/>
              <a:gdLst/>
              <a:ahLst/>
              <a:rect l="l" t="t" r="r" b="b"/>
              <a:pathLst>
                <a:path w="112" h="63">
                  <a:moveTo>
                    <a:pt x="0" y="60"/>
                  </a:moveTo>
                  <a:cubicBezTo>
                    <a:pt x="10" y="61"/>
                    <a:pt x="20" y="63"/>
                    <a:pt x="28" y="60"/>
                  </a:cubicBezTo>
                  <a:cubicBezTo>
                    <a:pt x="36" y="57"/>
                    <a:pt x="44" y="49"/>
                    <a:pt x="50" y="41"/>
                  </a:cubicBezTo>
                  <a:cubicBezTo>
                    <a:pt x="56" y="33"/>
                    <a:pt x="57" y="19"/>
                    <a:pt x="64" y="13"/>
                  </a:cubicBezTo>
                  <a:cubicBezTo>
                    <a:pt x="71" y="7"/>
                    <a:pt x="84" y="4"/>
                    <a:pt x="92" y="2"/>
                  </a:cubicBezTo>
                  <a:cubicBezTo>
                    <a:pt x="100" y="0"/>
                    <a:pt x="106" y="1"/>
                    <a:pt x="112" y="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9840" y="2185920"/>
              <a:ext cx="109440" cy="111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1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859120" y="2806560"/>
            <a:ext cx="1100160" cy="320760"/>
            <a:chOff x="2859120" y="2806560"/>
            <a:chExt cx="1100160" cy="320760"/>
          </a:xfrm>
        </p:grpSpPr>
        <p:sp>
          <p:nvSpPr>
            <p:cNvPr id="322" name=""/>
            <p:cNvSpPr/>
            <p:nvPr/>
          </p:nvSpPr>
          <p:spPr>
            <a:xfrm>
              <a:off x="2859120" y="2846520"/>
              <a:ext cx="1100160" cy="28080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28"/>
                  </a:moveTo>
                  <a:cubicBezTo>
                    <a:pt x="13" y="28"/>
                    <a:pt x="27" y="28"/>
                    <a:pt x="37" y="24"/>
                  </a:cubicBezTo>
                  <a:cubicBezTo>
                    <a:pt x="47" y="20"/>
                    <a:pt x="48" y="10"/>
                    <a:pt x="60" y="6"/>
                  </a:cubicBezTo>
                  <a:cubicBezTo>
                    <a:pt x="72" y="2"/>
                    <a:pt x="91" y="1"/>
                    <a:pt x="1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9200" y="2806560"/>
              <a:ext cx="100080" cy="11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1"/>
                  </a:moveTo>
                  <a:lnTo>
                    <a:pt x="10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849400" y="3057480"/>
            <a:ext cx="1100160" cy="339840"/>
            <a:chOff x="2849400" y="3057480"/>
            <a:chExt cx="1100160" cy="339840"/>
          </a:xfrm>
        </p:grpSpPr>
        <p:sp>
          <p:nvSpPr>
            <p:cNvPr id="325" name=""/>
            <p:cNvSpPr/>
            <p:nvPr/>
          </p:nvSpPr>
          <p:spPr>
            <a:xfrm>
              <a:off x="2849400" y="3106800"/>
              <a:ext cx="1100160" cy="290520"/>
            </a:xfrm>
            <a:custGeom>
              <a:avLst/>
              <a:gdLst/>
              <a:ahLst/>
              <a:rect l="l" t="t" r="r" b="b"/>
              <a:pathLst>
                <a:path w="110" h="29">
                  <a:moveTo>
                    <a:pt x="0" y="28"/>
                  </a:moveTo>
                  <a:cubicBezTo>
                    <a:pt x="15" y="28"/>
                    <a:pt x="30" y="29"/>
                    <a:pt x="42" y="25"/>
                  </a:cubicBezTo>
                  <a:cubicBezTo>
                    <a:pt x="54" y="21"/>
                    <a:pt x="64" y="8"/>
                    <a:pt x="75" y="4"/>
                  </a:cubicBezTo>
                  <a:cubicBezTo>
                    <a:pt x="86" y="0"/>
                    <a:pt x="98" y="0"/>
                    <a:pt x="110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40120" y="3057480"/>
              <a:ext cx="109440" cy="109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1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849400" y="3627360"/>
            <a:ext cx="1109880" cy="111240"/>
            <a:chOff x="2849400" y="3627360"/>
            <a:chExt cx="1109880" cy="111240"/>
          </a:xfrm>
        </p:grpSpPr>
        <p:sp>
          <p:nvSpPr>
            <p:cNvPr id="328" name=""/>
            <p:cNvSpPr/>
            <p:nvPr/>
          </p:nvSpPr>
          <p:spPr>
            <a:xfrm>
              <a:off x="2849400" y="3678120"/>
              <a:ext cx="1109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9200" y="3627360"/>
              <a:ext cx="100080" cy="11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10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40040" y="3336840"/>
            <a:ext cx="1109520" cy="611280"/>
            <a:chOff x="2840040" y="3336840"/>
            <a:chExt cx="1109520" cy="611280"/>
          </a:xfrm>
        </p:grpSpPr>
        <p:sp>
          <p:nvSpPr>
            <p:cNvPr id="331" name=""/>
            <p:cNvSpPr/>
            <p:nvPr/>
          </p:nvSpPr>
          <p:spPr>
            <a:xfrm>
              <a:off x="2840040" y="3378240"/>
              <a:ext cx="1109520" cy="56988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0" y="57"/>
                  </a:moveTo>
                  <a:cubicBezTo>
                    <a:pt x="17" y="57"/>
                    <a:pt x="35" y="57"/>
                    <a:pt x="46" y="50"/>
                  </a:cubicBezTo>
                  <a:cubicBezTo>
                    <a:pt x="57" y="43"/>
                    <a:pt x="61" y="23"/>
                    <a:pt x="69" y="15"/>
                  </a:cubicBezTo>
                  <a:cubicBezTo>
                    <a:pt x="77" y="7"/>
                    <a:pt x="89" y="4"/>
                    <a:pt x="96" y="2"/>
                  </a:cubicBezTo>
                  <a:cubicBezTo>
                    <a:pt x="103" y="0"/>
                    <a:pt x="107" y="1"/>
                    <a:pt x="111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40120" y="3336840"/>
              <a:ext cx="109440" cy="111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1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849400" y="3887640"/>
            <a:ext cx="1109880" cy="351000"/>
            <a:chOff x="2849400" y="3887640"/>
            <a:chExt cx="1109880" cy="351000"/>
          </a:xfrm>
        </p:grpSpPr>
        <p:sp>
          <p:nvSpPr>
            <p:cNvPr id="334" name=""/>
            <p:cNvSpPr/>
            <p:nvPr/>
          </p:nvSpPr>
          <p:spPr>
            <a:xfrm>
              <a:off x="2849400" y="3927600"/>
              <a:ext cx="1109880" cy="311040"/>
            </a:xfrm>
            <a:custGeom>
              <a:avLst/>
              <a:gdLst/>
              <a:ahLst/>
              <a:rect l="l" t="t" r="r" b="b"/>
              <a:pathLst>
                <a:path w="111" h="31">
                  <a:moveTo>
                    <a:pt x="0" y="31"/>
                  </a:moveTo>
                  <a:cubicBezTo>
                    <a:pt x="15" y="30"/>
                    <a:pt x="30" y="29"/>
                    <a:pt x="42" y="25"/>
                  </a:cubicBezTo>
                  <a:cubicBezTo>
                    <a:pt x="54" y="21"/>
                    <a:pt x="62" y="8"/>
                    <a:pt x="73" y="4"/>
                  </a:cubicBezTo>
                  <a:cubicBezTo>
                    <a:pt x="84" y="0"/>
                    <a:pt x="97" y="1"/>
                    <a:pt x="111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49840" y="3887640"/>
              <a:ext cx="109440" cy="111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11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849400" y="4187880"/>
            <a:ext cx="1109880" cy="341280"/>
            <a:chOff x="2849400" y="4187880"/>
            <a:chExt cx="1109880" cy="341280"/>
          </a:xfrm>
        </p:grpSpPr>
        <p:sp>
          <p:nvSpPr>
            <p:cNvPr id="337" name=""/>
            <p:cNvSpPr/>
            <p:nvPr/>
          </p:nvSpPr>
          <p:spPr>
            <a:xfrm>
              <a:off x="2849400" y="4218120"/>
              <a:ext cx="1109880" cy="311040"/>
            </a:xfrm>
            <a:custGeom>
              <a:avLst/>
              <a:gdLst/>
              <a:ahLst/>
              <a:rect l="l" t="t" r="r" b="b"/>
              <a:pathLst>
                <a:path w="111" h="31">
                  <a:moveTo>
                    <a:pt x="0" y="30"/>
                  </a:moveTo>
                  <a:cubicBezTo>
                    <a:pt x="10" y="30"/>
                    <a:pt x="20" y="31"/>
                    <a:pt x="32" y="27"/>
                  </a:cubicBezTo>
                  <a:cubicBezTo>
                    <a:pt x="44" y="23"/>
                    <a:pt x="59" y="12"/>
                    <a:pt x="72" y="8"/>
                  </a:cubicBezTo>
                  <a:cubicBezTo>
                    <a:pt x="85" y="4"/>
                    <a:pt x="98" y="2"/>
                    <a:pt x="11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49840" y="4187880"/>
              <a:ext cx="109440" cy="1112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lnTo>
                    <a:pt x="11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849400" y="4478400"/>
            <a:ext cx="1109880" cy="311040"/>
            <a:chOff x="2849400" y="4478400"/>
            <a:chExt cx="1109880" cy="311040"/>
          </a:xfrm>
        </p:grpSpPr>
        <p:sp>
          <p:nvSpPr>
            <p:cNvPr id="340" name=""/>
            <p:cNvSpPr/>
            <p:nvPr/>
          </p:nvSpPr>
          <p:spPr>
            <a:xfrm>
              <a:off x="2849400" y="4518000"/>
              <a:ext cx="1109880" cy="271440"/>
            </a:xfrm>
            <a:custGeom>
              <a:avLst/>
              <a:gdLst/>
              <a:ahLst/>
              <a:rect l="l" t="t" r="r" b="b"/>
              <a:pathLst>
                <a:path w="111" h="27">
                  <a:moveTo>
                    <a:pt x="0" y="27"/>
                  </a:moveTo>
                  <a:cubicBezTo>
                    <a:pt x="14" y="25"/>
                    <a:pt x="29" y="23"/>
                    <a:pt x="40" y="20"/>
                  </a:cubicBezTo>
                  <a:cubicBezTo>
                    <a:pt x="51" y="17"/>
                    <a:pt x="61" y="9"/>
                    <a:pt x="68" y="6"/>
                  </a:cubicBezTo>
                  <a:cubicBezTo>
                    <a:pt x="75" y="3"/>
                    <a:pt x="77" y="4"/>
                    <a:pt x="84" y="3"/>
                  </a:cubicBezTo>
                  <a:cubicBezTo>
                    <a:pt x="91" y="2"/>
                    <a:pt x="101" y="1"/>
                    <a:pt x="11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59200" y="447840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1"/>
                  </a:moveTo>
                  <a:lnTo>
                    <a:pt x="10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010120" y="1897200"/>
            <a:ext cx="1119240" cy="388800"/>
            <a:chOff x="5010120" y="1897200"/>
            <a:chExt cx="1119240" cy="388800"/>
          </a:xfrm>
        </p:grpSpPr>
        <p:sp>
          <p:nvSpPr>
            <p:cNvPr id="343" name=""/>
            <p:cNvSpPr/>
            <p:nvPr/>
          </p:nvSpPr>
          <p:spPr>
            <a:xfrm>
              <a:off x="5010120" y="1955880"/>
              <a:ext cx="1119240" cy="33012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112" y="31"/>
                  </a:moveTo>
                  <a:cubicBezTo>
                    <a:pt x="103" y="32"/>
                    <a:pt x="94" y="33"/>
                    <a:pt x="87" y="31"/>
                  </a:cubicBezTo>
                  <a:cubicBezTo>
                    <a:pt x="80" y="29"/>
                    <a:pt x="76" y="25"/>
                    <a:pt x="72" y="21"/>
                  </a:cubicBezTo>
                  <a:cubicBezTo>
                    <a:pt x="68" y="17"/>
                    <a:pt x="66" y="10"/>
                    <a:pt x="61" y="7"/>
                  </a:cubicBezTo>
                  <a:cubicBezTo>
                    <a:pt x="56" y="4"/>
                    <a:pt x="49" y="2"/>
                    <a:pt x="39" y="1"/>
                  </a:cubicBezTo>
                  <a:cubicBezTo>
                    <a:pt x="29" y="0"/>
                    <a:pt x="14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10120" y="189720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952880" y="2514600"/>
            <a:ext cx="1128960" cy="49320"/>
          </a:xfrm>
          <a:custGeom>
            <a:avLst/>
            <a:gdLst/>
            <a:ahLst/>
            <a:rect l="l" t="t" r="r" b="b"/>
            <a:pathLst>
              <a:path w="113" h="5">
                <a:moveTo>
                  <a:pt x="113" y="5"/>
                </a:moveTo>
                <a:cubicBezTo>
                  <a:pt x="106" y="5"/>
                  <a:pt x="100" y="5"/>
                  <a:pt x="93" y="5"/>
                </a:cubicBezTo>
                <a:cubicBezTo>
                  <a:pt x="86" y="4"/>
                  <a:pt x="78" y="3"/>
                  <a:pt x="72" y="3"/>
                </a:cubicBezTo>
                <a:cubicBezTo>
                  <a:pt x="66" y="2"/>
                  <a:pt x="61" y="2"/>
                  <a:pt x="55" y="1"/>
                </a:cubicBezTo>
                <a:cubicBezTo>
                  <a:pt x="49" y="1"/>
                  <a:pt x="42" y="0"/>
                  <a:pt x="35" y="0"/>
                </a:cubicBezTo>
                <a:cubicBezTo>
                  <a:pt x="27" y="0"/>
                  <a:pt x="20" y="0"/>
                  <a:pt x="14" y="0"/>
                </a:cubicBezTo>
                <a:cubicBezTo>
                  <a:pt x="8" y="0"/>
                  <a:pt x="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1295280"/>
            <a:ext cx="100080" cy="10980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0"/>
                </a:moveTo>
                <a:lnTo>
                  <a:pt x="0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010120" y="2206800"/>
            <a:ext cx="1109520" cy="680760"/>
            <a:chOff x="5010120" y="2206800"/>
            <a:chExt cx="1109520" cy="680760"/>
          </a:xfrm>
        </p:grpSpPr>
        <p:sp>
          <p:nvSpPr>
            <p:cNvPr id="348" name=""/>
            <p:cNvSpPr/>
            <p:nvPr/>
          </p:nvSpPr>
          <p:spPr>
            <a:xfrm>
              <a:off x="5010120" y="2266920"/>
              <a:ext cx="1109520" cy="62064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111" y="56"/>
                  </a:moveTo>
                  <a:cubicBezTo>
                    <a:pt x="103" y="59"/>
                    <a:pt x="95" y="62"/>
                    <a:pt x="87" y="56"/>
                  </a:cubicBezTo>
                  <a:cubicBezTo>
                    <a:pt x="79" y="50"/>
                    <a:pt x="70" y="30"/>
                    <a:pt x="64" y="22"/>
                  </a:cubicBezTo>
                  <a:cubicBezTo>
                    <a:pt x="58" y="14"/>
                    <a:pt x="57" y="10"/>
                    <a:pt x="51" y="7"/>
                  </a:cubicBezTo>
                  <a:cubicBezTo>
                    <a:pt x="45" y="4"/>
                    <a:pt x="36" y="2"/>
                    <a:pt x="28" y="1"/>
                  </a:cubicBezTo>
                  <a:cubicBezTo>
                    <a:pt x="20" y="0"/>
                    <a:pt x="1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220680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010120" y="3048120"/>
            <a:ext cx="1109520" cy="1811160"/>
            <a:chOff x="5010120" y="3048120"/>
            <a:chExt cx="1109520" cy="1811160"/>
          </a:xfrm>
        </p:grpSpPr>
        <p:sp>
          <p:nvSpPr>
            <p:cNvPr id="351" name=""/>
            <p:cNvSpPr/>
            <p:nvPr/>
          </p:nvSpPr>
          <p:spPr>
            <a:xfrm>
              <a:off x="5010120" y="3048120"/>
              <a:ext cx="1109520" cy="177012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111" y="6"/>
                  </a:moveTo>
                  <a:cubicBezTo>
                    <a:pt x="102" y="3"/>
                    <a:pt x="93" y="0"/>
                    <a:pt x="87" y="7"/>
                  </a:cubicBezTo>
                  <a:cubicBezTo>
                    <a:pt x="81" y="14"/>
                    <a:pt x="80" y="25"/>
                    <a:pt x="75" y="49"/>
                  </a:cubicBezTo>
                  <a:cubicBezTo>
                    <a:pt x="70" y="73"/>
                    <a:pt x="60" y="132"/>
                    <a:pt x="55" y="153"/>
                  </a:cubicBezTo>
                  <a:cubicBezTo>
                    <a:pt x="51" y="174"/>
                    <a:pt x="52" y="169"/>
                    <a:pt x="47" y="173"/>
                  </a:cubicBezTo>
                  <a:cubicBezTo>
                    <a:pt x="42" y="177"/>
                    <a:pt x="34" y="176"/>
                    <a:pt x="26" y="176"/>
                  </a:cubicBezTo>
                  <a:cubicBezTo>
                    <a:pt x="18" y="176"/>
                    <a:pt x="9" y="176"/>
                    <a:pt x="0" y="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10120" y="4748040"/>
              <a:ext cx="100080" cy="11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010120" y="3036960"/>
            <a:ext cx="1119240" cy="360360"/>
            <a:chOff x="5010120" y="3036960"/>
            <a:chExt cx="1119240" cy="360360"/>
          </a:xfrm>
        </p:grpSpPr>
        <p:sp>
          <p:nvSpPr>
            <p:cNvPr id="354" name=""/>
            <p:cNvSpPr/>
            <p:nvPr/>
          </p:nvSpPr>
          <p:spPr>
            <a:xfrm>
              <a:off x="5010120" y="3087720"/>
              <a:ext cx="1119240" cy="309600"/>
            </a:xfrm>
            <a:custGeom>
              <a:avLst/>
              <a:gdLst/>
              <a:ahLst/>
              <a:rect l="l" t="t" r="r" b="b"/>
              <a:pathLst>
                <a:path w="112" h="31">
                  <a:moveTo>
                    <a:pt x="112" y="31"/>
                  </a:moveTo>
                  <a:cubicBezTo>
                    <a:pt x="100" y="30"/>
                    <a:pt x="89" y="29"/>
                    <a:pt x="81" y="25"/>
                  </a:cubicBezTo>
                  <a:cubicBezTo>
                    <a:pt x="73" y="21"/>
                    <a:pt x="72" y="11"/>
                    <a:pt x="65" y="7"/>
                  </a:cubicBezTo>
                  <a:cubicBezTo>
                    <a:pt x="58" y="3"/>
                    <a:pt x="49" y="2"/>
                    <a:pt x="42" y="1"/>
                  </a:cubicBezTo>
                  <a:cubicBezTo>
                    <a:pt x="35" y="0"/>
                    <a:pt x="32" y="1"/>
                    <a:pt x="25" y="1"/>
                  </a:cubicBezTo>
                  <a:cubicBezTo>
                    <a:pt x="18" y="1"/>
                    <a:pt x="9" y="1"/>
                    <a:pt x="0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0120" y="3036960"/>
              <a:ext cx="100080" cy="110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009760" y="3608280"/>
            <a:ext cx="1119240" cy="109800"/>
            <a:chOff x="5009760" y="3608280"/>
            <a:chExt cx="1119240" cy="109800"/>
          </a:xfrm>
        </p:grpSpPr>
        <p:sp>
          <p:nvSpPr>
            <p:cNvPr id="357" name=""/>
            <p:cNvSpPr/>
            <p:nvPr/>
          </p:nvSpPr>
          <p:spPr>
            <a:xfrm flipH="1">
              <a:off x="5009760" y="3666960"/>
              <a:ext cx="111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10120" y="3608280"/>
              <a:ext cx="100080" cy="109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010120" y="3327480"/>
            <a:ext cx="1109520" cy="650880"/>
            <a:chOff x="5010120" y="3327480"/>
            <a:chExt cx="1109520" cy="650880"/>
          </a:xfrm>
        </p:grpSpPr>
        <p:sp>
          <p:nvSpPr>
            <p:cNvPr id="360" name=""/>
            <p:cNvSpPr/>
            <p:nvPr/>
          </p:nvSpPr>
          <p:spPr>
            <a:xfrm>
              <a:off x="5010120" y="3387600"/>
              <a:ext cx="1109520" cy="590760"/>
            </a:xfrm>
            <a:custGeom>
              <a:avLst/>
              <a:gdLst/>
              <a:ahLst/>
              <a:rect l="l" t="t" r="r" b="b"/>
              <a:pathLst>
                <a:path w="111" h="59">
                  <a:moveTo>
                    <a:pt x="111" y="56"/>
                  </a:moveTo>
                  <a:cubicBezTo>
                    <a:pt x="104" y="57"/>
                    <a:pt x="97" y="59"/>
                    <a:pt x="91" y="53"/>
                  </a:cubicBezTo>
                  <a:cubicBezTo>
                    <a:pt x="85" y="47"/>
                    <a:pt x="81" y="29"/>
                    <a:pt x="75" y="21"/>
                  </a:cubicBezTo>
                  <a:cubicBezTo>
                    <a:pt x="69" y="13"/>
                    <a:pt x="61" y="10"/>
                    <a:pt x="53" y="7"/>
                  </a:cubicBezTo>
                  <a:cubicBezTo>
                    <a:pt x="45" y="4"/>
                    <a:pt x="38" y="3"/>
                    <a:pt x="29" y="2"/>
                  </a:cubicBezTo>
                  <a:cubicBezTo>
                    <a:pt x="20" y="1"/>
                    <a:pt x="1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10120" y="332748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010120" y="3878280"/>
            <a:ext cx="1119240" cy="360360"/>
            <a:chOff x="5010120" y="3878280"/>
            <a:chExt cx="1119240" cy="360360"/>
          </a:xfrm>
        </p:grpSpPr>
        <p:sp>
          <p:nvSpPr>
            <p:cNvPr id="363" name=""/>
            <p:cNvSpPr/>
            <p:nvPr/>
          </p:nvSpPr>
          <p:spPr>
            <a:xfrm>
              <a:off x="5010120" y="3908520"/>
              <a:ext cx="1119240" cy="33012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112" y="33"/>
                  </a:moveTo>
                  <a:cubicBezTo>
                    <a:pt x="104" y="32"/>
                    <a:pt x="96" y="32"/>
                    <a:pt x="87" y="27"/>
                  </a:cubicBezTo>
                  <a:cubicBezTo>
                    <a:pt x="78" y="22"/>
                    <a:pt x="72" y="8"/>
                    <a:pt x="58" y="4"/>
                  </a:cubicBezTo>
                  <a:cubicBezTo>
                    <a:pt x="44" y="0"/>
                    <a:pt x="22" y="2"/>
                    <a:pt x="0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10120" y="387828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019840" y="4168800"/>
            <a:ext cx="1120680" cy="360360"/>
            <a:chOff x="5019840" y="4168800"/>
            <a:chExt cx="1120680" cy="360360"/>
          </a:xfrm>
        </p:grpSpPr>
        <p:sp>
          <p:nvSpPr>
            <p:cNvPr id="366" name=""/>
            <p:cNvSpPr/>
            <p:nvPr/>
          </p:nvSpPr>
          <p:spPr>
            <a:xfrm>
              <a:off x="5019840" y="4199040"/>
              <a:ext cx="1120680" cy="33012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112" y="33"/>
                  </a:moveTo>
                  <a:cubicBezTo>
                    <a:pt x="104" y="32"/>
                    <a:pt x="96" y="32"/>
                    <a:pt x="87" y="27"/>
                  </a:cubicBezTo>
                  <a:cubicBezTo>
                    <a:pt x="78" y="22"/>
                    <a:pt x="72" y="8"/>
                    <a:pt x="58" y="4"/>
                  </a:cubicBezTo>
                  <a:cubicBezTo>
                    <a:pt x="44" y="0"/>
                    <a:pt x="22" y="2"/>
                    <a:pt x="0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19840" y="4168800"/>
              <a:ext cx="9972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010120" y="4438800"/>
            <a:ext cx="1119240" cy="360360"/>
            <a:chOff x="5010120" y="4438800"/>
            <a:chExt cx="1119240" cy="360360"/>
          </a:xfrm>
        </p:grpSpPr>
        <p:sp>
          <p:nvSpPr>
            <p:cNvPr id="369" name=""/>
            <p:cNvSpPr/>
            <p:nvPr/>
          </p:nvSpPr>
          <p:spPr>
            <a:xfrm>
              <a:off x="5010120" y="4468680"/>
              <a:ext cx="1119240" cy="330480"/>
            </a:xfrm>
            <a:custGeom>
              <a:avLst/>
              <a:gdLst/>
              <a:ahLst/>
              <a:rect l="l" t="t" r="r" b="b"/>
              <a:pathLst>
                <a:path w="112" h="33">
                  <a:moveTo>
                    <a:pt x="112" y="33"/>
                  </a:moveTo>
                  <a:cubicBezTo>
                    <a:pt x="104" y="32"/>
                    <a:pt x="96" y="32"/>
                    <a:pt x="87" y="27"/>
                  </a:cubicBezTo>
                  <a:cubicBezTo>
                    <a:pt x="78" y="22"/>
                    <a:pt x="72" y="8"/>
                    <a:pt x="58" y="4"/>
                  </a:cubicBezTo>
                  <a:cubicBezTo>
                    <a:pt x="44" y="0"/>
                    <a:pt x="22" y="2"/>
                    <a:pt x="0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0120" y="4438800"/>
              <a:ext cx="100080" cy="1094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514-14CF-4882-8F80-035FD031E3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그림자 페이징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을 완료하려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인 메모리내의 모든 수정된 페이지를 디스크로 내보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 페이지 테이블을 디스크에 출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현재 페이지를 새로운 그림자 페이지 테이블로 만들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림자 페이지 테이블로의 포인터를 디스크 상의 고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알려진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위치에 보관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현재 페이지 테이블을 새로운 그림자 페이지 테이블로 만들려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디스크상의 현재 페이지 테이블을 가리키는 포인터만 간단히 갱신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림자 페이지 테이블로의 포인터가 일단 기록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은 완료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장 이후 회복이 필요없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새로운 트랜잭션은 그림자 페이지 테이블을 사용해 곧바로 시작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현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림자 페이지 테이블에서 가리키지 않는 페이지들은 자유 공간이 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쓰레기 수집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CBB-C29A-41A3-9DD1-E757DBCF1A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그림자 페이징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 기반 기법에 대한 그림자 페이징의 장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 레코드를 유지할 필요가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복은 당연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료 비용이 많이 든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많은 페이지들을 디스크로 내보낼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가 분할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련 페이지들이 분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트랜잭션이 끝난 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수정된 데이터의 이전 버전을 내포하고 있는 데이터베이스 페이지들을 쓰레기 수집해 미사용 페이지 리스트에 넣을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들이 동시에 실행되도록 알고리즘을 확장하기가 어렵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726-97F5-4BB1-B3E7-3722F62B4F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시 실행 트랜잭션의 회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개의 트랜잭션이 동시에 실행될 수 있도록 로그 기반 회복 기법을 수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트랜잭션이 단일 디스크 버퍼와 단일 로그를 공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버퍼 블록에는 하나 이상의 트랜잭션이 갱신하는 데이터 항목을 가질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확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단계 로킹을 사용해 동시성 제어를 한다고 가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미완료 트랜잭션의 갱신이 다른 트랜잭션에 노출되어서는 안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깅은 앞에서 설명한대로 이루어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서로 다른 트랜잭션의 로그 레코드들이 로그내에 섞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검사점을 수행할 때 여러 트랜잭션이 활동할 수 있으므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검사점 기법과 회복시의 행위가 변경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15F-5E2E-4D8A-BC3C-347E36FE7D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동시 실행 트랜잭션의 회복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검사점 로그 레코드의 형태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 것을 제외하고는 이전과 마찬가지로 검사점이 수행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검사점 수행시 활동 트랜잭션의 리스트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이 회복할 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공백으로 초기화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의 끝에서 역방향으로 읽다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첫번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으면 중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검색하는 동안 찾은 각 레코드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do-lis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추가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redo-lis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없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undo-lis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추가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없으면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추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003-19EA-4093-895A-5CE45D9E0A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동시 실행 트랜잭션의 회복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시점에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취소되어야 할 미종료 트랜잭션으로 구성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redo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재실행되어야 할 종료된 트랜잭션으로 구성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제 회복은 다음과 같이 계속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최근의 레코드로부터 로그를 역방향으로 읽다가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만날 때 중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읽는동안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트랜잭션에 속하는 각 로그 레코드에 대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장 최근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에 위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로부터 로그의 끝까지 앞 방향으로 읽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읽는 동안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re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트랜잭션에 속하는 각 로그 레코드에 대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49A-4EE0-400C-BF9E-699F3D20CD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회복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다음 로그에 대해 회복 알고리즘 절차를 연습해 보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0, 1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절차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의 읽기는 여기서 중단한다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0, 1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0, 1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0, 2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10, 2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0, 10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94C-882E-4123-9598-DEFD42F356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로그 레코드 버퍼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그 레코드 버퍼링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그 레코드는 안정 저장 장치에 직접 출력되는 대신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메인 메모리에 버퍼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로그 레코드는 버퍼내의 로그 레크드 블록이 꽉 차거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log force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연산이 실행될 때 안정 저장 장치에 출력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하나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연산을 사용해 여러 개의 로그 레코드가 출력될 수 있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I/O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비용을 줄인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4FC-199E-4F97-8D00-D7B966F951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저장 장치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휘발성 저장 장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 이상시 정보가 유실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인 메모리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캐쉬 메모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 휘발성 저장 장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 이상시 정보가 유실되지 않는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안정 저장 장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떠한 고장에도 정보가 유실되지 않는 가공의 저장 장치 유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비 휘발성 매체에 여러 개의 사본을 둠으로써 구현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B83-CDB1-426C-95E5-C5EEF69D7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로그 레코드 버퍼링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 레코드가 버퍼되면 아래의 규칙을 따라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 레코드는 생성된 순서대로 안정 저장 장치에 출력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 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안정 저장 장치에 출력된 이후에는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완료 상태에 돌입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인 메모리 내 데이터 블록이 데이터 베이스에 출력되기 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블록 내 데이터에 속하는 모든 로그 레코드가 안정 저장 장치에 출력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규칙을 쓰기 전 로깅 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A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쓰기 전 로깅 규칙의 결과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미완료 갱신을 가진 블록이 디스크에 출력되려면 갱신에 대한 취소 정보를 가진 로그 레코드가 안정 저장 장치상의 로그에 먼저 출력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CC3-E852-4623-841E-B2C3D33408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관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의 모든 로그 레코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commi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 포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안정 저장 장치로 강요함으로써 트랜잭션을 완료 시키기 위해 로그 강제를 수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상의 검사점 알고리즘에서는 블록이 디스크에 출력될 때 블록상에 어떤 갱신도 진행되지 못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이를 보장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항목을 쓰기 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데이터 항목을 내포하고 있는 블록에 배타 로크를 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크는 일단 쓰기가 종료하면 해제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단기간의 로크를 래치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블록이 디스크에 출력되기 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블록에 배타 로크를 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2B6-247C-4512-900C-32B21F0624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관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데이터베이스 버퍼는 다음 중 하나로 구현할 수 있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데이터베이스 용으로 확보한 실제 메인 메모리 영역 내 또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상 메모리 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메인 메모리 내에 버퍼를 구현하면 다음과 같은 단점을 가진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모리가 데이터베이스와 어플리케이션 간에 미리 분할되어 융통성이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요구사항이 변할 수 있고 어떤 시점에서 메모리가 어떻게 분할되어야 할 지를 운영체제가 가장 잘 알고 있지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메모리의 분할을 변경할 수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759-A9BB-4A53-A200-8B99AE657C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버퍼 관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버퍼는 몇가지 단점에도 불구하고 일반적으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상 메모리 내에 구현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운영체제가 갱신된 페이지를 내보낼 필요가 있을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페이지는 디스크상의 교환 공간에 기록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가 버퍼 페이지를 디스크에 쓰기로 결정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 페이지는 교환 공간에 있을 수 있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로부터 읽어 디스크상의 다른 위치에 기록함으로써 별도의 입출력이 발생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중 페이징 문제라 함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이상적으로는 데이터베이스 버퍼 페이지를 교환 공간으로 내보낼 때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운영체제에서 데이터베이스로 제어를 넘겨 주어 교환 공간이 아닌 데이터베이스로 페이지를 차례로 출력하도록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가 먼저 출력되도록 하면서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중 페이징을 피할 수 있지만 일반 운영체제에서는 이러한 기능을 지원하지 않는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D16-9A0C-4047-BB1D-164CA7C56B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비휘발성 저장 장치의 정보가 유실되는 고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데이터베이스 전체의 내용을 안정 저장 장치에 주기적으로 덤프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덤프시에는 어떤 트랜잭션도 동작할 수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검사점과 유사한 절차가 이루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현재 메인 메모리 내에 존재하는 모든 로그 레코드를 안정 저장 장치에 출력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모든 버퍼 블록을 디스크에 출력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데이터베이스의 내용을 안정 저장 장치에 복사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900" spc="-1" strike="noStrike">
                <a:solidFill>
                  <a:srgbClr val="000000"/>
                </a:solidFill>
                <a:latin typeface="Times New Roman"/>
              </a:rPr>
              <a:t>dump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를 안정 저장 장치상의 로그에 출력한다</a:t>
            </a:r>
            <a:r>
              <a:rPr b="0" lang="ko-KR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 고장으로부터 회복하려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장 최근의 덤프로부터 데이터베이스를 복원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를 참조하여 덤프 이후의 완료된 모든 트랜잭션은 재실행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덤프중에도 트랜잭션이 활동하도록 확장할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퍼지 또는 온라인 덤프라고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33C-7EA1-4CA0-BAC4-FF6B9A34E3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동시성 제어에 사용된 것과 같은 높은 동시성 로킹 기법을 지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 삽입과 삭제같은 연산은 로크를 조기에 해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크가 일단 해제되면 다른 트랜잭션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를 갱신할 수 있기 때문에 이전 값으로 복원함으로써 취소할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리적 취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신 삽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삭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을 실행하여 취소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논리적 취소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한 연산을 위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un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 레코드에는 실행될 취소 연산을 내포해야만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물리적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n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깅에 반해 논리적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nd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깅이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재실행 정보는 그러한 연산에 있어서도 물리적으로 로깅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쓰기에 대한 새로운 값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F87-381D-474D-BEA6-E954BF37D6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 로깅은 다음과 같이 수행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이 시작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operation-begin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을 로깅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연산 사례의 유일한 식별자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이 실행되는 동안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물리적 재실행 및 취소 정보를 가진 정상적인 로그 레코드가 로깅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이 끝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operation-en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가 로깅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여기서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에는 논리적 취소 정보를 수행하는데 필요한 정보를 내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이 끝나기 전 이상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복귀가 발생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operation-end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를 찾을 수 없으며 연산을 취소하기 위해 물리적 취소 정보가 사용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이 끝난 후 이상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복귀가 발생하면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operation-end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로그 레코드를 찾을 수 있으며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를 사용해 논리적 취소를 수행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연산을 위한 물리적 취소 정보는 무시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577-ABFB-4425-B71F-F28C3C175A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복귀는 다음과 같이 이루어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를 역방향으로 읽는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 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X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취소를 수행하고 특수한 재실행 전용 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X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로깅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peration-end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으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취소 정보 를 사용해 연산을 논리적으로 복귀시킨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복귀중에 수행한 갱신이 정상적인 연산 실행중과 같이 로깅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연산 복귀의 끝에서는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peration-end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로깅하는 대신 레코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18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peration-abor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생성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18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peration-begi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를 찾을 때까지는 선행하는 모든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18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로그 레코드를 건너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9A9-9E1D-4A05-919D-D953FB4869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를 역방향으로 읽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재실행 전용 레코드를 찾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  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peration-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peration-begi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을 때까지 선행하는 모든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로그 레코드를 건너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찾으면 읽기를 중단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2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를 로그에 추가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몇가지 유의 사항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경우는 트랜잭션의 복귀중 데이터베이스에 이상이 있을 때만 발생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 경우의 로그 레코드를 건너뛰는 일은 같은 연산의 여러 번 복귀를 방지하기 위해 중요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505-67DF-4FF7-B5D9-CC9F56C578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이상으로부터 회복할 때 다음과 같은 행위를 취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마지막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레코드로부터 로그를 앞으로 읽으면서 모든 트랜잭션의 모든 갱신을 물리적으로 재실행함으로써 전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history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반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초기에는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설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을 때마다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추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을 때마다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제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렇게 하면 미완료 트랜잭션과 함께 완료 트랜잭션이 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행된 이상이 발생한 때의 데이터베이스 상태로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는 완료되지도 않고 완전히 복귀되지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않은 불완전한 트랜잭션들을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317-9129-42DD-9997-8EFC4D7F56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안정 저장 장치 구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블록의 여러 사본을 별도의 디스크에 유지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화재 또는 홍수와 같은 자연 재해에 대비하여 사본을 원격 사이트에 둘 수 있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전송중의 고장으로 사본들의 불일치를 초래할 수 있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전송중의 고장으로 부터 저장 매체를 보호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출력 연산을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블록에 두개의 사본을 가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첫번째 물리 블록에 정보를 기록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Romantic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첫번째 쓰기가 성공적으로 끝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정보를 두번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물리 블록에 기록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번째 기록이 성공적으로 끝난 후에만 출력은 완료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6C0-2C20-4373-AE7E-AA9F5E8B9E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그를 역방향으로 읽으면서 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 트랜잭션의 로그 레코드에 취소를 수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들은 앞에서 설명한대로 복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트랜잭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그 레코드를 기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undo-li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모든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ko-KR" sz="2000" spc="-1" strike="noStrike" baseline="-4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를 찾으면 읽기를 중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와 같은 취소는 불완전 트랜잭션의 효과를 가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완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되지도 않고 중단되지도 않은 로그 레코드를 가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복은 이제 종료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CC3-B516-44DD-B435-D2748A123F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검사점은 다음과 같이 이루어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메모리내의 모든 로그 레코드를 안정 저장 장치에 출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수정된 모든 버퍼 블록을 디스크에 출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3. &lt;</a:t>
            </a:r>
            <a:r>
              <a:rPr b="1" lang="ko-KR" sz="22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레코드를 안정 저장 장치상의 로그에 출력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검사점이 진행중인 동안에는 트랜잭션은 어떤 행위도 수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할 수 없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퍼지 검사점 기법은 검사점이 진행중인 동안에도 트랜잭션이 처리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901-43F1-46BD-A70D-184D2FF1BF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고급 회복 기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퍼지 검사점은 다음과 같이 수행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그 레코드를 기록하고 로그를 강제로 안전 저장 장치에 기록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수정된 버퍼 블록의 리스트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유의하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제 트랜잭션들은 작업을 계속 해도 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리스트 내의 수정된 모든 버퍼 블록을 디스크에 출력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출력중인 동안 블록이 갱신되어서는 안되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블록에 속한 모든 로그 레코드는 블록이 출력되기 전 출력되어야 한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레코드로의 포인터를 디스크 상의 고정된 위치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last_checkpoin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저장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퍼지 검사점을 사용해 회복할 때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ast_check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가리키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ast_check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레코드로부터 읽기 시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ast_checkpoi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전의 로그 레코드는 그들의 갱신이 디스크상의 데이터베이스에 반영되었으므로 재실행될 필요가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CE2-2D14-43A0-89D3-5FF3C88304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안정 저장 장치 구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전송중의 고장으로 부터 저장 매체를 보호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출력 연산중의 고장으로 인해 블록의 사본이 다를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장으로부터 회복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먼저 불일치 블록을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용이 많이 드는 해결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디스크 블록의 쌍을 비교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보다 나은 해결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 휘발성 저장 장치에 진행중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쓰기를 기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회복중 이 정보를 사용해 일치하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않는 블록을 찾아 이들 사본만을 비교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일치 블록의 어떤 쪽 사본에서 에러가 검출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사본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그것을 대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양쪽 모두에 에러는 없는데 내용이 다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첫 번째 블록을 두 번째 것으로 대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731-68BF-4A09-9041-1F062C832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액세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물리 블록은 디스크 상의 블록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버퍼 블록은 메인 메모리에 임시로 존재하는 블록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디스크와 메인 메모리 간의 블록 이동은 다음 두 연산으로 기동 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put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물리 블록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메인 메모리로 전송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utput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버퍼 블록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디스크로 전송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상의 적절한 물리 블록을 대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각 트랜잭션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사적인 작업 영역을 가지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그곳에 액세스하고 갱신한 모든 데이터 항목의 사본을 보관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설명의 편의를 위해 각 데이터 항목은 하나의 블록에 들어 간다고 가정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3DA-C150-4E8D-91B8-3DD876991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액세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랙잭션은 다음 연산을 사용해 시스템 버퍼 블록과 그의 작업 영역 간에 데이터 항목을 전송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ad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데이터 항목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값을 지역 변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할당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지역 변수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값을 버퍼 블록내 데이터 항목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할당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Romantic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두 명령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진 블록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메모리 내에 없으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할당하기 전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put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명령을 낼 필요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처음 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액세스할 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ad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수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속되는 모든 액세스는 지역 사본에 이루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마지막 액세스 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트랜잭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실행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utput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후 즉시 이루어질 필요는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적당하다고 생각할 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을 수행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CD3-8254-46FB-A561-E4BA589AF4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 액세스의 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84320" y="1676520"/>
            <a:ext cx="7086600" cy="4495320"/>
            <a:chOff x="1084320" y="1676520"/>
            <a:chExt cx="7086600" cy="4495320"/>
          </a:xfrm>
        </p:grpSpPr>
        <p:grpSp>
          <p:nvGrpSpPr>
            <p:cNvPr id="124" name=""/>
            <p:cNvGrpSpPr/>
            <p:nvPr/>
          </p:nvGrpSpPr>
          <p:grpSpPr>
            <a:xfrm>
              <a:off x="5046480" y="1676520"/>
              <a:ext cx="609480" cy="4494960"/>
              <a:chOff x="5046480" y="1676520"/>
              <a:chExt cx="609480" cy="44949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046480" y="1676520"/>
                <a:ext cx="533520" cy="1123200"/>
                <a:chOff x="5046480" y="1676520"/>
                <a:chExt cx="533520" cy="11232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6840" y="1676520"/>
                  <a:ext cx="533160" cy="56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5046480" y="2238120"/>
                  <a:ext cx="533160" cy="56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122440" y="3924360"/>
                <a:ext cx="533520" cy="1123920"/>
                <a:chOff x="5122440" y="3924360"/>
                <a:chExt cx="533520" cy="1123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122800" y="3924360"/>
                  <a:ext cx="53316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5122440" y="4486320"/>
                  <a:ext cx="53316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122440" y="2800080"/>
                <a:ext cx="533520" cy="1123920"/>
                <a:chOff x="5122440" y="2800080"/>
                <a:chExt cx="533520" cy="1123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122800" y="2800080"/>
                  <a:ext cx="53316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5122440" y="3362040"/>
                  <a:ext cx="53316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122440" y="5048280"/>
                <a:ext cx="533520" cy="1123200"/>
                <a:chOff x="5122440" y="5048280"/>
                <a:chExt cx="533520" cy="11232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122800" y="5048280"/>
                  <a:ext cx="533160" cy="56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5122440" y="5609880"/>
                  <a:ext cx="533160" cy="56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1084320" y="1676520"/>
              <a:ext cx="6875280" cy="4143960"/>
              <a:chOff x="1084320" y="1676520"/>
              <a:chExt cx="6875280" cy="41439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113520" y="2144160"/>
                <a:ext cx="1846080" cy="1670760"/>
                <a:chOff x="6113520" y="2144160"/>
                <a:chExt cx="1846080" cy="167076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6113520" y="2144160"/>
                  <a:ext cx="1846080" cy="1670760"/>
                  <a:chOff x="6113520" y="2144160"/>
                  <a:chExt cx="1846080" cy="167076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>
                    <a:off x="7941960" y="2279880"/>
                    <a:ext cx="17640" cy="1234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113520" y="2144160"/>
                    <a:ext cx="1828800" cy="299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113520" y="2314080"/>
                    <a:ext cx="1800" cy="120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113520" y="3514680"/>
                    <a:ext cx="18288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192">
                        <a:moveTo>
                          <a:pt x="0" y="0"/>
                        </a:moveTo>
                        <a:cubicBezTo>
                          <a:pt x="72" y="56"/>
                          <a:pt x="144" y="112"/>
                          <a:pt x="240" y="144"/>
                        </a:cubicBezTo>
                        <a:cubicBezTo>
                          <a:pt x="336" y="176"/>
                          <a:pt x="456" y="192"/>
                          <a:pt x="576" y="192"/>
                        </a:cubicBezTo>
                        <a:cubicBezTo>
                          <a:pt x="696" y="192"/>
                          <a:pt x="864" y="176"/>
                          <a:pt x="960" y="144"/>
                        </a:cubicBezTo>
                        <a:cubicBezTo>
                          <a:pt x="1056" y="112"/>
                          <a:pt x="1104" y="56"/>
                          <a:pt x="1152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799320" y="3347280"/>
                  <a:ext cx="304920" cy="26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99320" y="2745720"/>
                  <a:ext cx="304920" cy="26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837160" y="2010600"/>
                <a:ext cx="1218960" cy="1170720"/>
                <a:chOff x="2837160" y="2010600"/>
                <a:chExt cx="1218960" cy="1170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837160" y="2010600"/>
                  <a:ext cx="1218960" cy="1170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94000" y="2812320"/>
                  <a:ext cx="30456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94000" y="2010600"/>
                  <a:ext cx="304560" cy="26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94000" y="2277360"/>
                  <a:ext cx="304560" cy="26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94000" y="2544840"/>
                  <a:ext cx="30456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684520" y="1676520"/>
                <a:ext cx="14479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lobal buff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084320" y="4016160"/>
                <a:ext cx="1447920" cy="1469880"/>
                <a:chOff x="1084320" y="4016160"/>
                <a:chExt cx="1447920" cy="146988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160640" y="4016160"/>
                  <a:ext cx="1219320" cy="1170720"/>
                  <a:chOff x="1160640" y="4016160"/>
                  <a:chExt cx="1219320" cy="117072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1160640" y="4016160"/>
                    <a:ext cx="1219320" cy="1170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617840" y="4550400"/>
                    <a:ext cx="3049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17840" y="4817880"/>
                    <a:ext cx="304920" cy="26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17840" y="4283280"/>
                    <a:ext cx="30492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17840" y="4016160"/>
                    <a:ext cx="3049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>
                  <a:off x="1084320" y="5285880"/>
                  <a:ext cx="1447920" cy="20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ocal buff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837160" y="4016160"/>
                <a:ext cx="1447560" cy="1469880"/>
                <a:chOff x="2837160" y="4016160"/>
                <a:chExt cx="1447560" cy="14698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2913120" y="4016160"/>
                  <a:ext cx="1219320" cy="1170720"/>
                  <a:chOff x="2913120" y="4016160"/>
                  <a:chExt cx="1219320" cy="1170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2913120" y="4016160"/>
                    <a:ext cx="1219320" cy="1170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370320" y="4283280"/>
                    <a:ext cx="30492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370320" y="4016160"/>
                    <a:ext cx="3049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2837160" y="5285880"/>
                  <a:ext cx="1447560" cy="20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ocal buff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 flipH="1">
                <a:off x="1922760" y="2411640"/>
                <a:ext cx="1371600" cy="20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922760" y="2946600"/>
                <a:ext cx="1371600" cy="20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41520" y="3213720"/>
                <a:ext cx="914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65760" y="3414600"/>
                <a:ext cx="914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rite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3598920" y="2411280"/>
                <a:ext cx="3200400" cy="4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98920" y="2946600"/>
                <a:ext cx="3200400" cy="60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1040" y="2278080"/>
                <a:ext cx="914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put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61040" y="3147120"/>
                <a:ext cx="914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utput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84720" y="287964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tu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17840" y="5553360"/>
                <a:ext cx="3049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46640" y="5553360"/>
                <a:ext cx="3049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312920" y="589104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6160" y="58208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75040" y="5961240"/>
              <a:ext cx="1066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94760" y="5891040"/>
              <a:ext cx="1066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47C-0A58-479C-9489-8B837E795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회복과 원자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계좌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불을 이체하는 트랜잭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고려해 보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목표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모든 데이터베이스를 수정하든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전혀 수정하지 않는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대해 여러 번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연산이 필요할 수도 있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출력을 위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두 연산이 모두 이루어지기전 두개의 수정중 하나가 수행된 후 고장이 발생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고장에도 불구하고 원자성을 보장하기 위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 자체를 수정하지 않고 수정 사항을 설명하고 있는 정보를 먼저 안정 저장 장치에 출력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두가지 방법을 다룬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Romantic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그 기반 회복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Romantic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림자 페이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트랜잭션들은 순서대로 실행한다고 가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2ED-5D10-4273-93FE-9EFF2CA36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00:45:06Z</dcterms:created>
  <dc:creator>서울산업대학교 교수 석상기</dc:creator>
  <dc:description/>
  <dc:language>en-US</dc:language>
  <cp:lastModifiedBy>Jung</cp:lastModifiedBy>
  <dcterms:modified xsi:type="dcterms:W3CDTF">1999-11-21T05:21:38Z</dcterms:modified>
  <cp:revision>84</cp:revision>
  <dc:subject/>
  <dc:title>제 15 장 회복 시스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/main.htm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