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462-D4A3-4B5C-B5FA-0B9B2A1B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685-D098-402E-A56C-BCFFA5F3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8A9-3BC6-443C-943F-DC3058DA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E8A-916E-4313-8DFA-AA74B966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ED0-2F3B-447E-AD11-9920D57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F35-D74E-4ED4-9ECF-2E52EFA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8082-A27B-49DB-B310-8639255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3350-FD6A-448D-8CAA-8DB32D0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4F2-1F55-4E46-B04A-BDC8D2F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C5C-56B0-4C06-8E7C-33F803CF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F596-2CA4-4752-90F2-6B582F8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BAD-C94B-4805-9247-9D67DC9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680D-D80F-45B0-8A07-56D31B3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F3F3-C7ED-49F7-B177-40E66B0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32CF-7040-400C-B2AF-4590884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CA9B-946C-4BBF-A259-F6DB301B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3D4-B90F-4E52-9FC5-9F00F75B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D08-CB4C-4E79-ACFE-5EDDD94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88C-BEB9-4F5A-AFF3-3BD2C98A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175-4C31-4CBF-AC21-C350236F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FFB-0558-4804-8341-BF36961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073-98BA-4B95-9745-6F3000C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24E-64D8-40F4-AA7F-DB256F7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3BF-556C-4771-9E19-D998FB4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7415-F1C0-47F2-A193-A70BDA89E856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60D-4B35-4592-AE7A-3B15DCE3A3D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트랜잭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의 개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의 상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원자성과 지속성의 구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시 실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직렬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회복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고립성의 구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서의 트랜잭션의 정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직렬성 검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E8D-EA88-46E6-B810-40B37A1010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시 실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트랜잭션이 시스템 내에서 동시에 실행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장점은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와 디스크의 이용율을 증가시켜 보다 좋은 트랜잭션 처리율을 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트랜잭션이 디스크 입출력을 수행하는 동안 다른 트랜잭션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에 대해 평균 응답 시간을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짧은 트랜잭션들이 긴 트랜잭션들 뒤에 기다릴 필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성 제어 기법 —  데이터베이스의 일관성을 파괴하지 못하도록 동시 실행 트랜잭션들 간의 상호 작용을 제어하는 기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 실행의 정확성의 개념을 이해한 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1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장에서 다룬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4C4-18DC-42A5-8EE1-BF04FB8E8F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케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 —  동시 실행 트랜잭션들의 명령들이 어떤 순서로 실행되는가를 나타내는 순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들의 집합에 대한 스케쥴에는 그들 트랜잭션의 모든 명령을 포함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트랜잭션에 나타나는 명령들의 순서를 보존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DD8-500C-43AB-99A9-E34F4C451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스케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계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이체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계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잔고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이체한다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끝난 후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시작하는 직렬 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재에서는 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2004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28954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213372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:= A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= B +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724280"/>
            <a:ext cx="21333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 := A *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:= A -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= B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C82-43B3-40CE-8523-C3419BF73F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스케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앞의 예와 같다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재에서는 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직렬 스케쥴은 아니지만 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동등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모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합계가 보존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28954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5909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048120"/>
            <a:ext cx="2133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:= A -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657600"/>
            <a:ext cx="2133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 := A * 0.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:= A - t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4565520"/>
            <a:ext cx="2133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:= B +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327640"/>
            <a:ext cx="2133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:= B + t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2CD-1F68-4E0E-B7DB-788A74C8AC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스케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동시 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재에서는 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합계의 값을 보존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28954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304812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:= A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581280"/>
            <a:ext cx="2133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 := A *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:= A -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800600"/>
            <a:ext cx="213336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= B +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586728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= B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217-0790-4B89-B030-0D29EB946A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 가정 — 각 트랜잭션은 데이터베이스의 일관성을 보존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집합의 직렬 실행은 데이터베이스의 일관성을 보존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직렬 스케쥴과 동등한 스케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 실행 가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직렬 가능하다고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유형의 스케쥴 동등성이 다음과 같은 개념으로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충돌 직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직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명령 이외의 연산은 무시하며 트랜잭션은 읽고 쓰는 사이에 지역 버퍼내의 데이터에 임의의 계산을 수행한다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제의 단순한 스케쥴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명령만으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7F6-354C-4B77-A975-18EF14CA6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충돌 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각의 명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충돌일 필요 충분 조건은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두 액세스하는 어떤 항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존재하고 이들 명령중 적어도 하나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쓰는 경우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ad(Q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ad(Q)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충돌이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ad(Q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rite(Q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들은 충돌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write(Q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ad(Q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들은 충돌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write(Q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write(Q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들은 충돌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직관적으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의 충돌은 그들간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논리적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임시 순서를 강요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스케쥴 내에 연속해 있고 충돌이 아니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케쥴 내에서 그들을 교환한다 하더라도 결과는 같게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D72-D701-4A2B-989C-DC93BE2CC0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충돌 직렬성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비충돌 명령들의 일련의 교환으로 스케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변환될 수 있으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충돌 동등하다고 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직렬 스케쥴과 충돌 동등이면 충돌 동등 가능하다고 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충돌 동등 가능하지 않은 스케쥴의 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기 스케쥴내 명령들을 맞바꾸어 직렬 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얻을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191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434340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472428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02920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61C-F1E7-443D-AE02-37E5BB46F3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충돌 직렬성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아래의 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일련의 비충돌 명령들의 맞바꿈으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에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수행되는 직렬 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변환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충돌 직렬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33526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30481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73392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80060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19112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5334120"/>
            <a:ext cx="2133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D88-DE34-41C5-84FA-95ED29BA97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 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동일한 트랜잭션의 집합을 가진 스케쥴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 세가지 조건을 만족하면 뷰 동등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데이터 항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트랜잭션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초기값을 읽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또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초기값을 읽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데이터 항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어서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(Q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하고 그 값은 트랜잭션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생성한 것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트랜잭션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한 트랜잭션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생성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값을 읽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데이터 항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마지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Q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을 수행한 트랜잭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스케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도 마지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Q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을 수행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동등성 또한 순수히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만 근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5BE-608C-4634-85CD-2922E66F9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의 개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란 다양한 데이터 항목을 검색하고 갱신하는 프로그램 실행 단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은 일관성 있는 데이터베이스를 보아야만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실행 중 데이터베이스는 불일치 상태에 있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 완료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테베이스는 일관성을 유지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루어야 할 두가지 주요 사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드웨어 고장 및 시스템 이상과 같은 다양한 종류의 고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트랜잭션의 동시 실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CB8-829D-41FB-A53D-3D78F2762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 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직렬 스케쥴과 뷰 동등하면 뷰 직렬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충돌 직렬 가능 스케쥴은 또한 뷰 직렬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9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재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직렬 가능하지만 충돌 직렬 가능하지 않은 스케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충돌 직렬 가능하지 않은 모든 뷰 직렬 가능 스케쥴은 맹목적 출력을 갖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8098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505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403848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34340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72428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505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502920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E96-3559-4B2D-85AA-A79B556CA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직렬성의 기타 개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의 스케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교재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직렬 스케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 결과를 생성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충돌 동등이거나 뷰 동등이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동등성을 결정할 때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외의 연산을 분석할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27432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24382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2895480"/>
            <a:ext cx="213336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:= A -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952880"/>
            <a:ext cx="21337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:= A +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1337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:= B -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4191120"/>
            <a:ext cx="2133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:= B +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A8F-4D0E-47B6-9F5E-2531AFC86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회복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에 실행되는 트랜잭션들에서 트랜잭션 실패의 영향을 언급할 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회복 가능 스케쥴 — 트랜잭션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먼저 쓴 데이터 항목을 트랜잭션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읽는다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완료 연산이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완료 연산 전에 나타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음 스케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1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읽은 직후 완료하면 회복 가능하지 않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중단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불일치 상태의 데이터베이스를 읽게 되는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는 스케쥴이 회복 가능하도록 보장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8862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4159080"/>
            <a:ext cx="2133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69260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514980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4A9-4D7B-47DF-89D3-F404CD2239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회복성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쇄 복귀 — 한 트랜잭션의 실패가 일련의 트랜잭션 복귀를 야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트랜잭션도 현재 완료되지 않은 다음 스케쥴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래서 스케쥴은 회복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실패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한 복귀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막대한 작업량의 취소를 야기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505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200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73392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419720"/>
            <a:ext cx="2133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3200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487692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21C-3D30-478A-BC6B-7DE5EB910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회복성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쇄 복귀 없는 스케쥴 — 연쇄 복귀는 발생할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먼저 쓴 데이터 항목을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읽는 그러한 각 트랜잭션의 쌍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완료 연산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읽기 연산 전에 나타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연쇄 복귀없는 스케쥴은 또한 회복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쇄 복귀없는 스케쥴로 제한하는 것이 바람직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455-4190-4FBD-97DD-FEC03016DA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고립성의 구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의 일관성과 또한 연쇄 복귀가 없도록 하기 위해 스케쥴은 충돌 또는 뷰 직렬 가능하고 회복 가능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번에 한 트랜잭션만이 실행할 수 있는 정책은 직렬 스케쥴을 생성하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정도는 낮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 기법들에는 허용하는 동시성의 양과 발생하는 비용 간에 손익 관계가 존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기법들은 충돌 직렬 가능 스케쥴만이 생성되도록 하는 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른 기법들은 충돌 직렬 가능하지 않은 뷰 직렬 가능 스케쥴이 생성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C30-55FA-4298-949D-0B24F27879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트랜잭션 정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조작어에는 트랜잭션을 구성하는 행위 집합을 지정하기 위한 구조체를 내포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트랜잭션은 묵시적으로 시작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트랜잭션은 다음 중 하나로 끝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it 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 트랜잭션을 완료하고 새로운 트랜잭션을 시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lback 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 트랜잭션이 중단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지정하는 동시성 단계는 다음과 같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alizable 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eatabl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83F-9AB1-49ED-99D4-D2E8D6D4DA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일관성 단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alizable 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eatable read 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료된 레코드만을 읽을 수 있으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레코드를 반복해 읽어도 같은 값을 반환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직렬 가능하지 않을 수 있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트랜잭션이 삽입한 레코드는 찾을 수 있지만 다른 레코드는 찾을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료된 레코드만을 읽을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레코드를 연속해 읽으면 다른 값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료되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uncommitted 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미완료 레코드 또한 읽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에 관한 대략적인 정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최적기를 위한 통계 정보 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수집하는데는 동시성의 정도가 낮은 것이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1F6-8C0C-4E35-AB78-E51BE88E7A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직렬성 검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랜잭션의 집합 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, ……, 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 어떤 스케쥴을 고려해 보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선행 그래프 — 정점이 트랜잭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인 방향성 그래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두 트랜잭션이 충돌이고 충돌이 앞에서 발생한 데이터 항목에 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 액세스하면</a:t>
            </a:r>
            <a:r>
              <a:rPr b="0" i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i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 호를 그린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호 위에 액세스한 항목 이름을 붙일 수 있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예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800600"/>
            <a:ext cx="99072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4800600"/>
            <a:ext cx="99072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95520" y="5645160"/>
            <a:ext cx="3651120" cy="573120"/>
          </a:xfrm>
          <a:custGeom>
            <a:avLst/>
            <a:gdLst/>
            <a:ahLst/>
            <a:rect l="l" t="t" r="r" b="b"/>
            <a:pathLst>
              <a:path w="2300" h="361">
                <a:moveTo>
                  <a:pt x="2300" y="0"/>
                </a:moveTo>
                <a:cubicBezTo>
                  <a:pt x="2098" y="59"/>
                  <a:pt x="1469" y="347"/>
                  <a:pt x="1086" y="354"/>
                </a:cubicBezTo>
                <a:cubicBezTo>
                  <a:pt x="703" y="361"/>
                  <a:pt x="226" y="108"/>
                  <a:pt x="0" y="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4064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64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4330800"/>
            <a:ext cx="3657600" cy="469800"/>
          </a:xfrm>
          <a:custGeom>
            <a:avLst/>
            <a:gdLst/>
            <a:ahLst/>
            <a:rect l="l" t="t" r="r" b="b"/>
            <a:pathLst>
              <a:path w="2304" h="296">
                <a:moveTo>
                  <a:pt x="0" y="296"/>
                </a:moveTo>
                <a:cubicBezTo>
                  <a:pt x="360" y="156"/>
                  <a:pt x="720" y="16"/>
                  <a:pt x="1104" y="8"/>
                </a:cubicBezTo>
                <a:cubicBezTo>
                  <a:pt x="1488" y="0"/>
                  <a:pt x="2128" y="232"/>
                  <a:pt x="2304" y="2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3CC-DCA2-4AE1-BCDE-60988D7456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스케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1828800"/>
            <a:ext cx="14475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1822320"/>
            <a:ext cx="143172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80000" y="1822320"/>
            <a:ext cx="143352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0512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1352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40320" y="1822320"/>
            <a:ext cx="143352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2300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1822320"/>
            <a:ext cx="1433520" cy="18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3104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041560"/>
            <a:ext cx="7392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676520"/>
            <a:ext cx="0" cy="453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8B6-5708-4296-8B25-FC987512D2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무결성을 보존하기 위해 데이터베이스 시스템은 다음을 보장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자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의 모든 연산이 데이테베이스에 적절히 반영되든지 또는 반영이 되지 않든지 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일관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립 상태의 트랜잭션 실행은 데이테베이스의 일관성을 보존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고립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트랜잭션이 동시에 실행되더라도 각 트랜잭션은 다른 트랜잭션들이 동시에 실행되고 있다는 사실을 인지해서는 안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의 중간 결과는 동시에 실행되고 있는 다른 트랜잭션에게는 감추어져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트랜잭션의 쌍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시작하기 전에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끝나든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끝난 후에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시작하는 것처럼 보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속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성공적으로 완료한 후에는 시스템 고장이 발생하더라도 데이터베이스에 이루어진 변경은 영속적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571-16EF-4275-A516-D3EAC16FB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케쥴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 대한 선행 그래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2360" y="27432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40480" y="47242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2360" y="47242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0480" y="27432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000" y="38098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00480" y="3168720"/>
            <a:ext cx="325080" cy="1658880"/>
          </a:xfrm>
          <a:custGeom>
            <a:avLst/>
            <a:gdLst/>
            <a:ahLst/>
            <a:rect l="l" t="t" r="r" b="b"/>
            <a:pathLst>
              <a:path w="205" h="1045">
                <a:moveTo>
                  <a:pt x="184" y="0"/>
                </a:moveTo>
                <a:cubicBezTo>
                  <a:pt x="162" y="40"/>
                  <a:pt x="79" y="145"/>
                  <a:pt x="50" y="238"/>
                </a:cubicBezTo>
                <a:cubicBezTo>
                  <a:pt x="21" y="331"/>
                  <a:pt x="0" y="456"/>
                  <a:pt x="9" y="559"/>
                </a:cubicBezTo>
                <a:cubicBezTo>
                  <a:pt x="18" y="662"/>
                  <a:pt x="69" y="778"/>
                  <a:pt x="102" y="859"/>
                </a:cubicBezTo>
                <a:cubicBezTo>
                  <a:pt x="135" y="940"/>
                  <a:pt x="184" y="1006"/>
                  <a:pt x="205" y="104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70080" y="5156280"/>
            <a:ext cx="2595600" cy="412560"/>
          </a:xfrm>
          <a:custGeom>
            <a:avLst/>
            <a:gdLst/>
            <a:ahLst/>
            <a:rect l="l" t="t" r="r" b="b"/>
            <a:pathLst>
              <a:path w="1635" h="260">
                <a:moveTo>
                  <a:pt x="0" y="0"/>
                </a:moveTo>
                <a:cubicBezTo>
                  <a:pt x="55" y="31"/>
                  <a:pt x="191" y="143"/>
                  <a:pt x="331" y="186"/>
                </a:cubicBezTo>
                <a:cubicBezTo>
                  <a:pt x="471" y="229"/>
                  <a:pt x="681" y="256"/>
                  <a:pt x="838" y="258"/>
                </a:cubicBezTo>
                <a:cubicBezTo>
                  <a:pt x="995" y="260"/>
                  <a:pt x="1140" y="239"/>
                  <a:pt x="1273" y="196"/>
                </a:cubicBezTo>
                <a:cubicBezTo>
                  <a:pt x="1406" y="153"/>
                  <a:pt x="1560" y="41"/>
                  <a:pt x="16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26040" y="3235320"/>
            <a:ext cx="312840" cy="1608120"/>
          </a:xfrm>
          <a:custGeom>
            <a:avLst/>
            <a:gdLst/>
            <a:ahLst/>
            <a:rect l="l" t="t" r="r" b="b"/>
            <a:pathLst>
              <a:path w="197" h="1013">
                <a:moveTo>
                  <a:pt x="0" y="1013"/>
                </a:moveTo>
                <a:cubicBezTo>
                  <a:pt x="26" y="968"/>
                  <a:pt x="122" y="835"/>
                  <a:pt x="155" y="744"/>
                </a:cubicBezTo>
                <a:cubicBezTo>
                  <a:pt x="188" y="653"/>
                  <a:pt x="197" y="555"/>
                  <a:pt x="197" y="465"/>
                </a:cubicBezTo>
                <a:cubicBezTo>
                  <a:pt x="197" y="375"/>
                  <a:pt x="181" y="283"/>
                  <a:pt x="155" y="206"/>
                </a:cubicBezTo>
                <a:cubicBezTo>
                  <a:pt x="129" y="129"/>
                  <a:pt x="66" y="43"/>
                  <a:pt x="4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5960" y="2324160"/>
            <a:ext cx="2759040" cy="549360"/>
          </a:xfrm>
          <a:custGeom>
            <a:avLst/>
            <a:gdLst/>
            <a:ahLst/>
            <a:rect l="l" t="t" r="r" b="b"/>
            <a:pathLst>
              <a:path w="1738" h="346">
                <a:moveTo>
                  <a:pt x="0" y="346"/>
                </a:moveTo>
                <a:cubicBezTo>
                  <a:pt x="48" y="312"/>
                  <a:pt x="149" y="196"/>
                  <a:pt x="290" y="139"/>
                </a:cubicBezTo>
                <a:cubicBezTo>
                  <a:pt x="431" y="82"/>
                  <a:pt x="665" y="10"/>
                  <a:pt x="848" y="5"/>
                </a:cubicBezTo>
                <a:cubicBezTo>
                  <a:pt x="1031" y="0"/>
                  <a:pt x="1238" y="57"/>
                  <a:pt x="1386" y="108"/>
                </a:cubicBezTo>
                <a:cubicBezTo>
                  <a:pt x="1534" y="159"/>
                  <a:pt x="1680" y="278"/>
                  <a:pt x="1738" y="3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3200400"/>
            <a:ext cx="274320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BBC-9599-4DBF-8A2E-7174D48576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충돌 직렬성 검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이 충돌 직렬 가능인 필요 충분 조건은 그의 선행 그래프가 비순환일 때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²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수의 시간이 걸리는 순환 탐지 알고리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그래프 내 정점의 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존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다 나은 알고리즘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+ 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간이 걸린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간선의 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선행 그래프가 비순환이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래프의 위상 정렬로 직렬성 순서를 얻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것은 그래프의 부분 순서와 일치하는 선형 순서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한 직렬성 순서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E0C-0DE2-401E-9A73-BB8B58D9C9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 직렬성 검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충돌 직렬성 검사를 위한 선행 그래프는 뷰 직렬성 검사를 위해 수정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벨 선행 그래프를 구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아닌 같은 라벨을 가진 모든 간선의 쌍으로부터 하나의 간선을 선택해 라벨 선행 그래프에서 추출한 비순환 그래프를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케쥴이 뷰 직렬 가능한 필요 충분 조건은 그러한 비순환 그래프가 있는 경우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비순환 그래프를 찾는 문제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-complet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제에 속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효율적인 알고리즘은 존재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직렬성을 위한 어떤 충분을 조건만을 검사하는 실질적인 알고리즘은 여전히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6B7-6D93-4B18-B118-1971CAA60E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시성 제어와 직렬성 검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이 실행된 후 직렬성을 검사하는 것은 너무 늦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목표 — 직렬성을 보장할 동시성 제어 규약을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약은 일반적으로 선행 그래프가 생성될 때 검사하지 않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직렬 가능 스케쥴을 회피하는 원칙을 부과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한 규약에 대해서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장에서 다룬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직렬성 검사는 동시성 제어 규약이 왜 정확한지의 이해를 돕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5E3-D342-4EA7-B8B0-98D9884B7F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자금 이체의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이체하는 트랜잭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A := A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B := B +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관성 요구 사항 —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합계는 트랜잭션의 실행으로 변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원자성 요구 사항 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 절차 이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 절차 이전에 트랜잭션이 실패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갱신이 데이터베이스에 반영되지 않도록 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렇지 않으면 불일치가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E0F-A2D2-425E-AD6B-9354EEDDA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자금 이체의 예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속성 요구사항 —  트랜잭션이 완료되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5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의 이체가 이루어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 사용자가 통지를 받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 수행한 데이테베이스 갱신은 고장에도 불구하고 영속적이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립성 요구사항 —  절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에서 부분적으로 갱신된 데이터베이스에 다른 트랜잭션의 액세스를 허용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에 불일치가 발생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원래보다 적게 될 것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을 순서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 끝난 후 다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행시키면 당연히 보장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트랜잭션을 동시에 실행시키면 상당한 이점을 가지게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659-D5E2-4896-A81D-0918BECC7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의 상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동작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초기 상태이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이 실행중인 동안은 이 상태에 머문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부분완료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마지막 문장을 실행한 후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실패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정상적인 실행을 더 이상 진행할 수 없음을 발견한 후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중단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이 복귀되고 트랜잭션이 시작하기 이전의 데이터베이스 상태로 복구한 후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중단된 후 두가지 선택이 가능하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의 재시작 – 내부 논리 오류가 없는 경우에만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의 완전 종료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완료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이 성공적으로 종료한 후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AF7-495E-4F54-9285-B429C09C4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의 상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057400"/>
            <a:ext cx="1447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분종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4800600"/>
            <a:ext cx="1447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800600"/>
            <a:ext cx="144756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057400"/>
            <a:ext cx="144756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완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429000"/>
            <a:ext cx="144756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95480" y="28195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49568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767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410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743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77A-CD43-4A37-A86A-AD4255BFB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원자성과 지속성의 구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시스템의 회복 관리 구성 요소가 원자성과 지속성을 지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림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기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번에 하나의 트랜잭션만이 동작한다고 가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-point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는 포인터는 항상 데이터베이스의 현재 일관성 있는 사본을 가리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갱신은 데이터베이스의 그림자 사본에 이루어지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-point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트랜잭션이 부분 완료에 도달하고 갱신된 모든 페이지가 디스크에 출력된 후에만 갱신된 그림자 사본을 가리키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 실패하는 경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-point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가리키던 이전의 일관성 있는 사본이 사용될 수 있으며 그림자 사본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062-0666-481B-9DBB-E2E4AAEC7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원자성과 지속성의 구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림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기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는 고장이 없다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텍스트 에디터에는 효율적이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형 데이터베이스에는 극히 비효율적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트랜잭션을 실행할 때도 데이터베이스 전체의 사본을 요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1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장에서 보다 나은 기법을 보게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352680"/>
            <a:ext cx="1752480" cy="106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전 사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3352680"/>
            <a:ext cx="1752480" cy="106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전 사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삭제될 것임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3352680"/>
            <a:ext cx="1752480" cy="106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새로운 사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209680"/>
            <a:ext cx="609840" cy="457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209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-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8160" y="2529000"/>
            <a:ext cx="1216080" cy="820800"/>
          </a:xfrm>
          <a:custGeom>
            <a:avLst/>
            <a:gdLst/>
            <a:ahLst/>
            <a:rect l="l" t="t" r="r" b="b"/>
            <a:pathLst>
              <a:path w="766" h="517">
                <a:moveTo>
                  <a:pt x="725" y="0"/>
                </a:moveTo>
                <a:cubicBezTo>
                  <a:pt x="715" y="45"/>
                  <a:pt x="766" y="219"/>
                  <a:pt x="663" y="269"/>
                </a:cubicBezTo>
                <a:cubicBezTo>
                  <a:pt x="560" y="319"/>
                  <a:pt x="208" y="259"/>
                  <a:pt x="104" y="300"/>
                </a:cubicBezTo>
                <a:cubicBezTo>
                  <a:pt x="0" y="341"/>
                  <a:pt x="55" y="472"/>
                  <a:pt x="42" y="5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2209680"/>
            <a:ext cx="609480" cy="457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209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-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24760" y="2529000"/>
            <a:ext cx="1285560" cy="804600"/>
          </a:xfrm>
          <a:custGeom>
            <a:avLst/>
            <a:gdLst/>
            <a:ahLst/>
            <a:rect l="l" t="t" r="r" b="b"/>
            <a:pathLst>
              <a:path w="810" h="507">
                <a:moveTo>
                  <a:pt x="26" y="0"/>
                </a:moveTo>
                <a:cubicBezTo>
                  <a:pt x="41" y="45"/>
                  <a:pt x="0" y="217"/>
                  <a:pt x="113" y="269"/>
                </a:cubicBezTo>
                <a:cubicBezTo>
                  <a:pt x="226" y="321"/>
                  <a:pt x="596" y="270"/>
                  <a:pt x="703" y="310"/>
                </a:cubicBezTo>
                <a:cubicBezTo>
                  <a:pt x="810" y="350"/>
                  <a:pt x="744" y="466"/>
                  <a:pt x="755" y="50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495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 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95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 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71E-47CB-436A-AE61-5A54C04D0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07:17:23Z</dcterms:created>
  <dc:creator>서울산업대학교 교수 석상기</dc:creator>
  <dc:description/>
  <dc:language>en-US</dc:language>
  <cp:lastModifiedBy>.</cp:lastModifiedBy>
  <cp:lastPrinted>1997-02-26T15:00:00Z</cp:lastPrinted>
  <dcterms:modified xsi:type="dcterms:W3CDTF">1999-06-18T05:20:46Z</dcterms:modified>
  <cp:revision>25</cp:revision>
  <dc:subject/>
  <dc:title>제13장 트랜잭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