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24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0601-2B44-4B0D-B84C-EC4E145B0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1BE9-DA60-4F59-BD21-DBE6DFFA5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B69D-82E5-4A3F-9BF7-4F23073D9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466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937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838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466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937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16B8-ECEF-4028-B756-EB96131DB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2BCC1-7EE7-4A57-9076-928C691C7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7D1DA-0C2A-499D-B734-7ED89188D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89B76-48E2-4DB2-84E1-C668BB2A5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159DA-1E7B-46A5-8244-57500367A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708E3-63B1-40C8-B5AC-00B694846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838080" y="34272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B5D57-1288-4ABD-837D-581473685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FA19E-867B-4F01-B496-DBC38C2EB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B164-6F3A-46A6-80C4-48153A5AE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3B938-EDDD-47FC-B393-D7073B25A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46046-34B0-4249-9484-FA17F3E88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E16ED-D28A-4E1E-8207-80030734B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C2C88-2416-4F22-8295-E26F03D7D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466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937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838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466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937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B9149-025A-4EDC-A1A6-B59548F2D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CADA-9781-4332-87CE-28247138A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7BED-8626-46D7-84C5-AE1B62D19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1FFC-B90E-4B40-9425-F552FB0C4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838080" y="34272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A8CB-4D71-4F24-B713-B3E1EBA48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8464-A86E-4E5E-A9DB-1F46E637A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751B-F9A1-40C5-A525-153352673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A93F-D823-46D8-8DA9-5E5B2A543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880" y="304920"/>
            <a:ext cx="8383680" cy="6022800"/>
            <a:chOff x="380880" y="304920"/>
            <a:chExt cx="8383680" cy="6022800"/>
          </a:xfrm>
        </p:grpSpPr>
        <p:grpSp>
          <p:nvGrpSpPr>
            <p:cNvPr id="1" name=""/>
            <p:cNvGrpSpPr/>
            <p:nvPr/>
          </p:nvGrpSpPr>
          <p:grpSpPr>
            <a:xfrm>
              <a:off x="380880" y="1600200"/>
              <a:ext cx="8383680" cy="4727520"/>
              <a:chOff x="380880" y="1600200"/>
              <a:chExt cx="8383680" cy="4727520"/>
            </a:xfrm>
          </p:grpSpPr>
          <p:sp>
            <p:nvSpPr>
              <p:cNvPr id="2" name=""/>
              <p:cNvSpPr/>
              <p:nvPr/>
            </p:nvSpPr>
            <p:spPr>
              <a:xfrm>
                <a:off x="388800" y="1603440"/>
                <a:ext cx="8364600" cy="472428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380880" y="1600200"/>
                <a:ext cx="8364600" cy="4726080"/>
              </a:xfrm>
              <a:custGeom>
                <a:avLst/>
                <a:gdLst/>
                <a:ahLst/>
                <a:rect l="l" t="t" r="r" b="b"/>
                <a:pathLst>
                  <a:path w="5269" h="2977">
                    <a:moveTo>
                      <a:pt x="5268" y="0"/>
                    </a:moveTo>
                    <a:lnTo>
                      <a:pt x="0" y="0"/>
                    </a:lnTo>
                    <a:lnTo>
                      <a:pt x="0" y="2976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99960" y="1600200"/>
                <a:ext cx="8364600" cy="4726080"/>
              </a:xfrm>
              <a:custGeom>
                <a:avLst/>
                <a:gdLst/>
                <a:ahLst/>
                <a:rect l="l" t="t" r="r" b="b"/>
                <a:pathLst>
                  <a:path w="5269" h="2977">
                    <a:moveTo>
                      <a:pt x="5268" y="0"/>
                    </a:moveTo>
                    <a:lnTo>
                      <a:pt x="5268" y="2976"/>
                    </a:lnTo>
                    <a:lnTo>
                      <a:pt x="0" y="2976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" name=""/>
            <p:cNvGrpSpPr/>
            <p:nvPr/>
          </p:nvGrpSpPr>
          <p:grpSpPr>
            <a:xfrm>
              <a:off x="533520" y="1751040"/>
              <a:ext cx="153720" cy="4421160"/>
              <a:chOff x="533520" y="1751040"/>
              <a:chExt cx="153720" cy="4421160"/>
            </a:xfrm>
          </p:grpSpPr>
          <p:sp>
            <p:nvSpPr>
              <p:cNvPr id="6" name=""/>
              <p:cNvSpPr/>
              <p:nvPr/>
            </p:nvSpPr>
            <p:spPr>
              <a:xfrm>
                <a:off x="533520" y="1752480"/>
                <a:ext cx="152280" cy="441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520" y="1751040"/>
                <a:ext cx="153720" cy="4421160"/>
              </a:xfrm>
              <a:custGeom>
                <a:avLst/>
                <a:gdLst/>
                <a:ahLst/>
                <a:rect l="l" t="t" r="r" b="b"/>
                <a:pathLst>
                  <a:path w="97" h="2785">
                    <a:moveTo>
                      <a:pt x="0" y="2784"/>
                    </a:moveTo>
                    <a:lnTo>
                      <a:pt x="96" y="2784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33520" y="1751040"/>
                <a:ext cx="153720" cy="4421160"/>
              </a:xfrm>
              <a:custGeom>
                <a:avLst/>
                <a:gdLst/>
                <a:ahLst/>
                <a:rect l="l" t="t" r="r" b="b"/>
                <a:pathLst>
                  <a:path w="97" h="2785">
                    <a:moveTo>
                      <a:pt x="0" y="2784"/>
                    </a:moveTo>
                    <a:lnTo>
                      <a:pt x="0" y="0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" name=""/>
            <p:cNvGrpSpPr/>
            <p:nvPr/>
          </p:nvGrpSpPr>
          <p:grpSpPr>
            <a:xfrm>
              <a:off x="380880" y="304920"/>
              <a:ext cx="306360" cy="1144440"/>
              <a:chOff x="380880" y="304920"/>
              <a:chExt cx="306360" cy="1144440"/>
            </a:xfrm>
          </p:grpSpPr>
          <p:sp>
            <p:nvSpPr>
              <p:cNvPr id="10" name=""/>
              <p:cNvSpPr/>
              <p:nvPr/>
            </p:nvSpPr>
            <p:spPr>
              <a:xfrm>
                <a:off x="380880" y="304920"/>
                <a:ext cx="304920" cy="114300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80880" y="304920"/>
                <a:ext cx="306360" cy="1144440"/>
              </a:xfrm>
              <a:custGeom>
                <a:avLst/>
                <a:gdLst/>
                <a:ahLst/>
                <a:rect l="l" t="t" r="r" b="b"/>
                <a:pathLst>
                  <a:path w="193" h="721">
                    <a:moveTo>
                      <a:pt x="192" y="0"/>
                    </a:moveTo>
                    <a:lnTo>
                      <a:pt x="0" y="0"/>
                    </a:lnTo>
                    <a:lnTo>
                      <a:pt x="0" y="72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80" y="304920"/>
                <a:ext cx="306360" cy="1144440"/>
              </a:xfrm>
              <a:custGeom>
                <a:avLst/>
                <a:gdLst/>
                <a:ahLst/>
                <a:rect l="l" t="t" r="r" b="b"/>
                <a:pathLst>
                  <a:path w="193" h="721">
                    <a:moveTo>
                      <a:pt x="192" y="0"/>
                    </a:moveTo>
                    <a:lnTo>
                      <a:pt x="192" y="720"/>
                    </a:lnTo>
                    <a:lnTo>
                      <a:pt x="0" y="72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38088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9070B-F7EB-4EE0-A65F-42E3742A72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378000" y="1676520"/>
            <a:ext cx="8389800" cy="4421160"/>
            <a:chOff x="378000" y="1676520"/>
            <a:chExt cx="8389800" cy="4421160"/>
          </a:xfrm>
        </p:grpSpPr>
        <p:grpSp>
          <p:nvGrpSpPr>
            <p:cNvPr id="55" name=""/>
            <p:cNvGrpSpPr/>
            <p:nvPr/>
          </p:nvGrpSpPr>
          <p:grpSpPr>
            <a:xfrm>
              <a:off x="378000" y="1676520"/>
              <a:ext cx="8389800" cy="2211120"/>
              <a:chOff x="378000" y="1676520"/>
              <a:chExt cx="8389800" cy="2211120"/>
            </a:xfrm>
          </p:grpSpPr>
          <p:sp>
            <p:nvSpPr>
              <p:cNvPr id="56" name=""/>
              <p:cNvSpPr/>
              <p:nvPr/>
            </p:nvSpPr>
            <p:spPr>
              <a:xfrm>
                <a:off x="385920" y="1677960"/>
                <a:ext cx="8369280" cy="220824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378000" y="1676520"/>
                <a:ext cx="8370720" cy="2211120"/>
              </a:xfrm>
              <a:custGeom>
                <a:avLst/>
                <a:gdLst/>
                <a:ahLst/>
                <a:rect l="l" t="t" r="r" b="b"/>
                <a:pathLst>
                  <a:path w="5273" h="1393">
                    <a:moveTo>
                      <a:pt x="5272" y="0"/>
                    </a:moveTo>
                    <a:lnTo>
                      <a:pt x="0" y="0"/>
                    </a:lnTo>
                    <a:lnTo>
                      <a:pt x="0" y="1392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396720" y="1676520"/>
                <a:ext cx="8371080" cy="2211120"/>
              </a:xfrm>
              <a:custGeom>
                <a:avLst/>
                <a:gdLst/>
                <a:ahLst/>
                <a:rect l="l" t="t" r="r" b="b"/>
                <a:pathLst>
                  <a:path w="5273" h="1393">
                    <a:moveTo>
                      <a:pt x="5272" y="0"/>
                    </a:moveTo>
                    <a:lnTo>
                      <a:pt x="5272" y="1392"/>
                    </a:lnTo>
                    <a:lnTo>
                      <a:pt x="0" y="1392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" name=""/>
            <p:cNvGrpSpPr/>
            <p:nvPr/>
          </p:nvGrpSpPr>
          <p:grpSpPr>
            <a:xfrm>
              <a:off x="380880" y="5943600"/>
              <a:ext cx="8383680" cy="154080"/>
              <a:chOff x="380880" y="5943600"/>
              <a:chExt cx="8383680" cy="154080"/>
            </a:xfrm>
          </p:grpSpPr>
          <p:sp>
            <p:nvSpPr>
              <p:cNvPr id="60" name=""/>
              <p:cNvSpPr/>
              <p:nvPr/>
            </p:nvSpPr>
            <p:spPr>
              <a:xfrm>
                <a:off x="380880" y="5943600"/>
                <a:ext cx="8382240" cy="15228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80880" y="5943600"/>
                <a:ext cx="8383680" cy="154080"/>
              </a:xfrm>
              <a:custGeom>
                <a:avLst/>
                <a:gdLst/>
                <a:ahLst/>
                <a:rect l="l" t="t" r="r" b="b"/>
                <a:pathLst>
                  <a:path w="5281" h="97">
                    <a:moveTo>
                      <a:pt x="5280" y="0"/>
                    </a:moveTo>
                    <a:lnTo>
                      <a:pt x="0" y="0"/>
                    </a:lnTo>
                    <a:lnTo>
                      <a:pt x="0" y="96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380880" y="5943600"/>
                <a:ext cx="8383680" cy="154080"/>
              </a:xfrm>
              <a:custGeom>
                <a:avLst/>
                <a:gdLst/>
                <a:ahLst/>
                <a:rect l="l" t="t" r="r" b="b"/>
                <a:pathLst>
                  <a:path w="5281" h="97">
                    <a:moveTo>
                      <a:pt x="5280" y="0"/>
                    </a:moveTo>
                    <a:lnTo>
                      <a:pt x="5280" y="96"/>
                    </a:lnTo>
                    <a:lnTo>
                      <a:pt x="0" y="96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536400" y="1905120"/>
              <a:ext cx="154080" cy="1752480"/>
              <a:chOff x="536400" y="1905120"/>
              <a:chExt cx="154080" cy="1752480"/>
            </a:xfrm>
          </p:grpSpPr>
          <p:sp>
            <p:nvSpPr>
              <p:cNvPr id="64" name=""/>
              <p:cNvSpPr/>
              <p:nvPr/>
            </p:nvSpPr>
            <p:spPr>
              <a:xfrm>
                <a:off x="536400" y="1906560"/>
                <a:ext cx="152640" cy="175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36400" y="1905120"/>
                <a:ext cx="154080" cy="1752480"/>
              </a:xfrm>
              <a:custGeom>
                <a:avLst/>
                <a:gdLst/>
                <a:ahLst/>
                <a:rect l="l" t="t" r="r" b="b"/>
                <a:pathLst>
                  <a:path w="97" h="1104">
                    <a:moveTo>
                      <a:pt x="0" y="1103"/>
                    </a:moveTo>
                    <a:lnTo>
                      <a:pt x="96" y="1103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536400" y="1905120"/>
                <a:ext cx="154080" cy="1752480"/>
              </a:xfrm>
              <a:custGeom>
                <a:avLst/>
                <a:gdLst/>
                <a:ahLst/>
                <a:rect l="l" t="t" r="r" b="b"/>
                <a:pathLst>
                  <a:path w="97" h="1104">
                    <a:moveTo>
                      <a:pt x="0" y="1103"/>
                    </a:moveTo>
                    <a:lnTo>
                      <a:pt x="0" y="0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6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dt" idx="4"/>
          </p:nvPr>
        </p:nvSpPr>
        <p:spPr>
          <a:xfrm>
            <a:off x="380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91C64-6AF8-4DE5-96C0-A8878FBBE2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제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2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장 질의 처리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499"/>
              </a:spcBef>
              <a:spcAft>
                <a:spcPts val="499"/>
              </a:spcAft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spcAft>
                <a:spcPts val="499"/>
              </a:spcAft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비용 산정을 위한 카타로그 정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spcAft>
                <a:spcPts val="499"/>
              </a:spcAft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질의 비용산정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spcAft>
                <a:spcPts val="499"/>
              </a:spcAft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선택 연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spcAft>
                <a:spcPts val="499"/>
              </a:spcAft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정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spcAft>
                <a:spcPts val="499"/>
              </a:spcAft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죠인 연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spcAft>
                <a:spcPts val="499"/>
              </a:spcAft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기타 연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spcAft>
                <a:spcPts val="499"/>
              </a:spcAft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표현식의 평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spcAft>
                <a:spcPts val="499"/>
              </a:spcAft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관계형 표현식의 변환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spcAft>
                <a:spcPts val="499"/>
              </a:spcAft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평가 계획의 선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73C2-B12B-40EB-84DD-DEB7BD3AE65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통계 정보의 예제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spcAft>
                <a:spcPts val="1199"/>
              </a:spcAft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ko-KR" sz="2400" spc="-1" strike="noStrike" baseline="-25000">
                <a:solidFill>
                  <a:srgbClr val="000000"/>
                </a:solidFill>
                <a:latin typeface="Times New Roman"/>
              </a:rPr>
              <a:t>account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= 20 (account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튜플이 한 블록에 들어간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spcAft>
                <a:spcPts val="1199"/>
              </a:spcAft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V(branch-name, account) = 50 (50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개 지점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spcAft>
                <a:spcPts val="1199"/>
              </a:spcAft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V(balance, account) = 500 (500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개의 서로 다른 잔고 값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spcAft>
                <a:spcPts val="1199"/>
              </a:spcAft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ko-KR" sz="2400" spc="-1" strike="noStrike" baseline="-25000">
                <a:solidFill>
                  <a:srgbClr val="000000"/>
                </a:solidFill>
                <a:latin typeface="Times New Roman"/>
              </a:rPr>
              <a:t>account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= 10000 (account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에는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10,000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개의 튜플이 있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spcAft>
                <a:spcPts val="1199"/>
              </a:spcAft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account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에 다음과 같은 인덱스가 존재한다고 가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spcAft>
                <a:spcPts val="1199"/>
              </a:spcAft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애트리뷰트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branch-name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에 대해 주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ko-KR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트리 인덱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spcAft>
                <a:spcPts val="1199"/>
              </a:spcAft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애트리뷰트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balance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에 대해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차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ko-KR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트리 인덱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7116-AC87-4273-9C57-1290A3EC416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선택 비용 산정 예제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branch-name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= “Perryridge”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(accou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블록의 수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account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= 500  :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릴레이션에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10,000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개의 튜플이 있고 각 블록에는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개의 튜플을 가지므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account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는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branch-name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으로 정렬되었다고 가정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V(branch-name, account)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는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이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account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릴레이션의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10000/50 = 200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개의 튜플이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Perryridge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지점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에 속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이들 튜플에는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200/20 = 10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개의 블록이 필요하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이진 검색으로 첫 번째 레코드를 찾으려면 </a:t>
            </a:r>
            <a:r>
              <a:rPr b="0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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(500)</a:t>
            </a:r>
            <a:r>
              <a:rPr b="0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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= 9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블록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액세스가 필요하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이진 검색의 총 비용은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9 + 10 – 1 = 18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블록 액세스이다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선형 검색에서는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50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6D7C-65A7-4388-85D8-12DE090DF6D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인덱스를 사용한 선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인덱스 스캔 – 인덱스를 사용하는 검색 알고리즘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5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조건은 인덱스의 검색 키상에 있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5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A3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후보 키상의 주 인덱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동등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)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5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상응하는 조건을 만족하는 하나의 레코드를 검색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5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A3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= HT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+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5000"/>
              </a:lnSpc>
              <a:spcBef>
                <a:spcPts val="499"/>
              </a:spcBef>
              <a:spcAft>
                <a:spcPts val="499"/>
              </a:spcAft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A4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비 키상의 주 인덱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동등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).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여러 레코드를 검색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검색 키 애트리뷰트를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라 하자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5000"/>
              </a:lnSpc>
              <a:spcBef>
                <a:spcPts val="499"/>
              </a:spcBef>
              <a:spcAft>
                <a:spcPts val="1749"/>
              </a:spcAft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A4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= HT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5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A5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(2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차 인덱스의 검색 키상의 동등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5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검색 키가 후보 키이면 하나의 레코드를 검색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5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A5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= HT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+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5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검색 키가 후보 키가 아니면 여러 레코드를 검색한다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5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각각은 서로 다른 블록에 있을 수 있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5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A5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= HT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+ SC(A, 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4191120" y="3722760"/>
            <a:ext cx="1447560" cy="544320"/>
            <a:chOff x="4191120" y="3722760"/>
            <a:chExt cx="1447560" cy="544320"/>
          </a:xfrm>
        </p:grpSpPr>
        <p:sp>
          <p:nvSpPr>
            <p:cNvPr id="179" name=""/>
            <p:cNvSpPr/>
            <p:nvPr/>
          </p:nvSpPr>
          <p:spPr>
            <a:xfrm>
              <a:off x="4191120" y="4049280"/>
              <a:ext cx="1447560" cy="2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 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351320" y="3885840"/>
              <a:ext cx="1126800" cy="2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————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4213080" y="3722760"/>
              <a:ext cx="144000" cy="544320"/>
              <a:chOff x="4213080" y="3722760"/>
              <a:chExt cx="144000" cy="544320"/>
            </a:xfrm>
          </p:grpSpPr>
          <p:sp>
            <p:nvSpPr>
              <p:cNvPr id="182" name=""/>
              <p:cNvSpPr/>
              <p:nvPr/>
            </p:nvSpPr>
            <p:spPr>
              <a:xfrm>
                <a:off x="4213080" y="3722760"/>
                <a:ext cx="144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4213080" y="3722760"/>
                <a:ext cx="0" cy="54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5483160" y="3722760"/>
              <a:ext cx="144000" cy="544320"/>
              <a:chOff x="5483160" y="3722760"/>
              <a:chExt cx="144000" cy="544320"/>
            </a:xfrm>
          </p:grpSpPr>
          <p:sp>
            <p:nvSpPr>
              <p:cNvPr id="185" name=""/>
              <p:cNvSpPr/>
              <p:nvPr/>
            </p:nvSpPr>
            <p:spPr>
              <a:xfrm>
                <a:off x="5483160" y="3722760"/>
                <a:ext cx="144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627160" y="3722760"/>
                <a:ext cx="0" cy="54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7" name=""/>
            <p:cNvSpPr/>
            <p:nvPr/>
          </p:nvSpPr>
          <p:spPr>
            <a:xfrm>
              <a:off x="4191120" y="3746160"/>
              <a:ext cx="1447560" cy="2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C(A, r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E2E8-C642-4031-B57D-CB848CE138D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비용 산정 예제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인덱스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branch-name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에 대해 주 인덱스를 가진 질의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branch-name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= “Perryridge”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(account)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를 고려해 보자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V(branch-name, account) = 50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이므로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 account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릴레이션 중에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10000/50 = 200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개의 튜플이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Perryridge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지점에 속한다고 추정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인덱스가 군집 인덱스이므로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account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튜플을 읽는데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200/20 = 10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개의 블록 읽기가 필요하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몇 개의 인덱스 블록을 또한 읽어야 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 B</a:t>
            </a:r>
            <a:r>
              <a:rPr b="0" lang="ko-KR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트리 인덱스가 노드당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개의 포인터를 저장한다면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B</a:t>
            </a:r>
            <a:r>
              <a:rPr b="0" lang="ko-KR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트리 인덱스는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3 ~ 5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사이의 잎 노드를 가져야 하며 전체 트리의 깊이는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이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그러므로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2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개의 인덱스 블록을 읽어야 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이 전략으로는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개의 블록 읽기가 필요하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F031-690C-49E2-AC24-019B4CD5CCA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비교를 내포한 선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 v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(r)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또는 </a:t>
            </a:r>
            <a:r>
              <a:rPr b="0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 v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(r)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형태의 선택을 선형 검색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이진 검색을 사용 하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거나 다음과 같은 방식의 인덱스를 사용해 수행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A6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주 인덱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비교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).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비용 산정은 다음과 같다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A6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= HT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위에서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는 조건을 만족하는 튜플의 추정 수이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통계 정보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가 없으면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n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로 가정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A7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(2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차 인덱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비교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).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비용 산정은 다음과 같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A7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= HT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+                          +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위에서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는 이전과 같이 정의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 (c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가 크다면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선형 검색이 비용이 적게 들 수 있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!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4038480" y="2928960"/>
            <a:ext cx="685800" cy="609480"/>
            <a:chOff x="4038480" y="2928960"/>
            <a:chExt cx="685800" cy="609480"/>
          </a:xfrm>
        </p:grpSpPr>
        <p:sp>
          <p:nvSpPr>
            <p:cNvPr id="193" name=""/>
            <p:cNvSpPr/>
            <p:nvPr/>
          </p:nvSpPr>
          <p:spPr>
            <a:xfrm>
              <a:off x="4038480" y="32943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ko-KR" sz="20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114440" y="3111480"/>
              <a:ext cx="533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—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5" name=""/>
            <p:cNvGrpSpPr/>
            <p:nvPr/>
          </p:nvGrpSpPr>
          <p:grpSpPr>
            <a:xfrm>
              <a:off x="4114440" y="2928960"/>
              <a:ext cx="152640" cy="609480"/>
              <a:chOff x="4114440" y="2928960"/>
              <a:chExt cx="152640" cy="609480"/>
            </a:xfrm>
          </p:grpSpPr>
          <p:sp>
            <p:nvSpPr>
              <p:cNvPr id="196" name=""/>
              <p:cNvSpPr/>
              <p:nvPr/>
            </p:nvSpPr>
            <p:spPr>
              <a:xfrm>
                <a:off x="4114440" y="2928960"/>
                <a:ext cx="152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4114440" y="2928960"/>
                <a:ext cx="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4495680" y="2928960"/>
              <a:ext cx="152280" cy="609480"/>
              <a:chOff x="4495680" y="2928960"/>
              <a:chExt cx="152280" cy="609480"/>
            </a:xfrm>
          </p:grpSpPr>
          <p:sp>
            <p:nvSpPr>
              <p:cNvPr id="199" name=""/>
              <p:cNvSpPr/>
              <p:nvPr/>
            </p:nvSpPr>
            <p:spPr>
              <a:xfrm>
                <a:off x="4495680" y="292896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4647960" y="2928960"/>
                <a:ext cx="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4038480" y="292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4179960" y="4713120"/>
            <a:ext cx="1143000" cy="609480"/>
            <a:chOff x="4179960" y="4713120"/>
            <a:chExt cx="1143000" cy="609480"/>
          </a:xfrm>
        </p:grpSpPr>
        <p:sp>
          <p:nvSpPr>
            <p:cNvPr id="203" name=""/>
            <p:cNvSpPr/>
            <p:nvPr/>
          </p:nvSpPr>
          <p:spPr>
            <a:xfrm>
              <a:off x="4408560" y="5078160"/>
              <a:ext cx="68580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ko-KR" sz="20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179960" y="4895640"/>
              <a:ext cx="114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————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179960" y="4713120"/>
              <a:ext cx="1066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Times New Roman"/>
                </a:rPr>
                <a:t>LB</a:t>
              </a:r>
              <a:r>
                <a:rPr b="0" lang="ko-KR" sz="20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ko-KR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Times New Roman"/>
                </a:rPr>
                <a:t>•</a:t>
              </a:r>
              <a:r>
                <a:rPr b="0" lang="ko-KR" sz="2000" spc="-1" strike="noStrike">
                  <a:solidFill>
                    <a:srgbClr val="000000"/>
                  </a:solidFill>
                  <a:latin typeface="Times New Roman"/>
                </a:rPr>
                <a:t> 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9094-9287-46E2-9C13-5B707A3538F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복합 선택의 수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499"/>
              </a:spcBef>
              <a:spcAft>
                <a:spcPts val="499"/>
              </a:spcAft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조건 </a:t>
            </a:r>
            <a:r>
              <a:rPr b="0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의 선택도는 릴레이션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의 한 튜플이 </a:t>
            </a:r>
            <a:r>
              <a:rPr b="0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를 만족하는 확률이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  S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가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내의 만족하는 튜플 수라면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의 선택도는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/n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이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499"/>
              </a:spcBef>
              <a:spcAft>
                <a:spcPts val="499"/>
              </a:spcAft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논리곱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000" spc="-1" strike="noStrike" baseline="-12000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ko-KR" sz="2000" spc="-1" strike="noStrike" baseline="-12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ko-KR" sz="2000" spc="-1" strike="noStrike" baseline="-12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000" spc="-1" strike="noStrike" baseline="-12000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ko-KR" sz="2000" spc="-1" strike="noStrike" baseline="-12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o-KR" sz="2000" spc="-1" strike="noStrike" baseline="-25000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000" spc="-1" strike="noStrike" baseline="-12000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ko-KR" sz="2000" spc="-1" strike="noStrike" baseline="-12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(r).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산정 튜플 수는 다음과 같다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4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499"/>
              </a:spcBef>
              <a:spcAft>
                <a:spcPts val="499"/>
              </a:spcAft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000" spc="-1" strike="noStrike" baseline="-4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499"/>
              </a:spcBef>
              <a:spcAft>
                <a:spcPts val="499"/>
              </a:spcAft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논리합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ko-KR" sz="2000" spc="-1" strike="noStrike" baseline="-12000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ko-KR" sz="2000" spc="-1" strike="noStrike" baseline="-12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000" spc="-1" strike="noStrike" baseline="-12000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ko-KR" sz="2000" spc="-1" strike="noStrike" baseline="-25000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ko-KR" sz="2000" spc="-1" strike="noStrike" baseline="-12000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(r).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산정 튜플 수는 다음과 같다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499"/>
              </a:spcBef>
              <a:spcAft>
                <a:spcPts val="499"/>
              </a:spcAft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000" spc="-1" strike="noStrike" baseline="-4000">
                <a:solidFill>
                  <a:srgbClr val="000000"/>
                </a:solidFill>
                <a:latin typeface="Times New Roman"/>
              </a:rPr>
              <a:t>*    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1 – ( 1 –       ) </a:t>
            </a:r>
            <a:r>
              <a:rPr b="0" lang="ko-KR" sz="2000" spc="-1" strike="noStrike" baseline="-4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( 1 –       ) </a:t>
            </a:r>
            <a:r>
              <a:rPr b="0" lang="ko-KR" sz="2000" spc="-1" strike="noStrike" baseline="-4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ko-KR" sz="2000" spc="-1" strike="noStrike" baseline="-4000">
                <a:solidFill>
                  <a:srgbClr val="000000"/>
                </a:solidFill>
                <a:latin typeface="Times New Roman"/>
              </a:rPr>
              <a:t> ...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000" spc="-1" strike="noStrike" baseline="-4000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( 1 –      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499"/>
              </a:spcBef>
              <a:spcAft>
                <a:spcPts val="499"/>
              </a:spcAft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부정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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(r).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산정 튜플 수는 다음과 같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499"/>
              </a:spcBef>
              <a:spcAft>
                <a:spcPts val="499"/>
              </a:spcAft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– size(</a:t>
            </a:r>
            <a:r>
              <a:rPr b="0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(r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3429000" y="3124080"/>
            <a:ext cx="2754360" cy="609480"/>
            <a:chOff x="3429000" y="3124080"/>
            <a:chExt cx="2754360" cy="609480"/>
          </a:xfrm>
        </p:grpSpPr>
        <p:sp>
          <p:nvSpPr>
            <p:cNvPr id="209" name=""/>
            <p:cNvSpPr/>
            <p:nvPr/>
          </p:nvSpPr>
          <p:spPr>
            <a:xfrm>
              <a:off x="3979800" y="3489120"/>
              <a:ext cx="165240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429000" y="3306600"/>
              <a:ext cx="2754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———————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537000" y="3124080"/>
              <a:ext cx="257004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 baseline="-4000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S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 baseline="-4000">
                  <a:solidFill>
                    <a:srgbClr val="000000"/>
                  </a:solidFill>
                  <a:latin typeface="Times New Roman"/>
                </a:rPr>
                <a:t>* </a:t>
              </a:r>
              <a:r>
                <a:rPr b="1" lang="en-US" sz="2000" spc="-1" strike="noStrike" baseline="-4000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lang="en-US" sz="2000" spc="-1" strike="noStrike" baseline="-4000">
                  <a:solidFill>
                    <a:srgbClr val="000000"/>
                  </a:solidFill>
                  <a:latin typeface="Times New Roman"/>
                </a:rPr>
                <a:t> *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S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 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2590920" y="4430880"/>
            <a:ext cx="4876200" cy="772560"/>
            <a:chOff x="2590920" y="4430880"/>
            <a:chExt cx="4876200" cy="772560"/>
          </a:xfrm>
        </p:grpSpPr>
        <p:sp>
          <p:nvSpPr>
            <p:cNvPr id="213" name=""/>
            <p:cNvSpPr/>
            <p:nvPr/>
          </p:nvSpPr>
          <p:spPr>
            <a:xfrm>
              <a:off x="2590920" y="4441680"/>
              <a:ext cx="53316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4" name=""/>
            <p:cNvGrpSpPr/>
            <p:nvPr/>
          </p:nvGrpSpPr>
          <p:grpSpPr>
            <a:xfrm>
              <a:off x="3724200" y="4551120"/>
              <a:ext cx="685440" cy="609120"/>
              <a:chOff x="3724200" y="4551120"/>
              <a:chExt cx="685440" cy="609120"/>
            </a:xfrm>
          </p:grpSpPr>
          <p:sp>
            <p:nvSpPr>
              <p:cNvPr id="215" name=""/>
              <p:cNvSpPr/>
              <p:nvPr/>
            </p:nvSpPr>
            <p:spPr>
              <a:xfrm>
                <a:off x="3724200" y="4916160"/>
                <a:ext cx="685440" cy="24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r>
                  <a:rPr b="0" lang="ko-KR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3799800" y="4733280"/>
                <a:ext cx="533160" cy="24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—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3724200" y="4551120"/>
                <a:ext cx="685440" cy="24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8" name=""/>
            <p:cNvGrpSpPr/>
            <p:nvPr/>
          </p:nvGrpSpPr>
          <p:grpSpPr>
            <a:xfrm>
              <a:off x="4951080" y="4549680"/>
              <a:ext cx="685440" cy="608760"/>
              <a:chOff x="4951080" y="4549680"/>
              <a:chExt cx="685440" cy="608760"/>
            </a:xfrm>
          </p:grpSpPr>
          <p:sp>
            <p:nvSpPr>
              <p:cNvPr id="219" name=""/>
              <p:cNvSpPr/>
              <p:nvPr/>
            </p:nvSpPr>
            <p:spPr>
              <a:xfrm>
                <a:off x="4951080" y="4914360"/>
                <a:ext cx="685440" cy="24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r>
                  <a:rPr b="0" lang="ko-KR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5026680" y="4731840"/>
                <a:ext cx="533160" cy="24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—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951080" y="4549680"/>
                <a:ext cx="685440" cy="24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2" name=""/>
            <p:cNvGrpSpPr/>
            <p:nvPr/>
          </p:nvGrpSpPr>
          <p:grpSpPr>
            <a:xfrm>
              <a:off x="6400440" y="4551120"/>
              <a:ext cx="685440" cy="609120"/>
              <a:chOff x="6400440" y="4551120"/>
              <a:chExt cx="685440" cy="609120"/>
            </a:xfrm>
          </p:grpSpPr>
          <p:sp>
            <p:nvSpPr>
              <p:cNvPr id="223" name=""/>
              <p:cNvSpPr/>
              <p:nvPr/>
            </p:nvSpPr>
            <p:spPr>
              <a:xfrm>
                <a:off x="6400440" y="4916160"/>
                <a:ext cx="685440" cy="24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r>
                  <a:rPr b="0" lang="ko-KR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6476040" y="4733280"/>
                <a:ext cx="533160" cy="24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—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6400440" y="4551120"/>
                <a:ext cx="685440" cy="24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ko-KR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6" name=""/>
            <p:cNvSpPr/>
            <p:nvPr/>
          </p:nvSpPr>
          <p:spPr>
            <a:xfrm>
              <a:off x="6933960" y="4430880"/>
              <a:ext cx="53316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4801680" y="3429000"/>
            <a:ext cx="27072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D3C2-D4B9-42E4-88B4-4DD9DC713BA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복합 선택 알고리즘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15760" y="1752120"/>
            <a:ext cx="78483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8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하나의 인덱스를 사용한 논리곱 선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와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12000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r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에 대해 최소의 비용이 드는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1~A7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알고리즘들 중 하나의 결합을 선택한다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다른 조건들은 메모리 버퍼에서 테스트한다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9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다중 키 인덱스를 사용한 논리곱 선택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사용 가능하다면 적절한 혼합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다중 키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인덱스를 사용한다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1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식별자들의 공통 집합에 의한 논리곱 선택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레코드 포인터를 가진 인덱스가 필요하다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각 조건에 상응하는 인덱스를 상용하여 구해진 모든 레코드 포인터 집합의 공통 집합을 구한다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그리고 파일을 읽는다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몇 몇 조건이 적절한 인덱스를 갖지 않으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메모리 내에서 테스트를 한다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1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식별자들의 합집합에 의한 논리합 선택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모든 조건들이 적절한 인덱스를 가진 경우에 적용한다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그렇지 않으면 선형 검색을 사용한다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F245-2B0C-416E-BE63-C0D486D77B2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복합 선택에 대한 비용 산정의 예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5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아래와 같은 조건을 가진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account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에서의 선택을 고려해 보자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5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5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알고리즘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A8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을 사용해 보자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5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branch-name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인덱스가 군집이고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A8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을 사용하면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비용 산정은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5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개의 블록 읽기 이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전에 이미 보았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5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balance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인덱스가 비군집이고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V(balance, account) = 50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이므로 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5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택은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10000/500 = 20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개의 계좌를 검색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인덱스 블록 읽기를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5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추가하면 비용 산정은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개의 블록 읽기 이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5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따라서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그 조건이 보다 덜 선택하더라도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branch-name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인덱스를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5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사용하는 것이 더 낫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5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양쪽 인덱스가 비군집이라면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balance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인덱스를 사용하는 것이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5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더 낫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472760" y="2205000"/>
            <a:ext cx="655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elvetica-Bold"/>
              </a:rPr>
              <a:t>where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branch-name = “Perryridge” </a:t>
            </a:r>
            <a:r>
              <a:rPr b="1" lang="ko-KR" sz="2000" spc="-1" strike="noStrike">
                <a:solidFill>
                  <a:srgbClr val="000000"/>
                </a:solidFill>
                <a:latin typeface="Helvetica-Bold"/>
              </a:rPr>
              <a:t>and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balance = 12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722F-A24D-4D1B-A0A7-4CFB9BE5A0E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예제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계속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알고리즘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A10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을 사용해 보자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balance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인덱스를 사용해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balance = 1200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인 레코드 포인터의 집합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을 검색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branch-name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인덱스를 사용해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branch-name = “Perryridge”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인 레코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드 포인터의 집합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를 검색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S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S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는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branch-name = “Perryridge”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이고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balance = 1200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인 레코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드 포인터의 집합이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검색한 포인터의 수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(20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200)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는 단일 잎 페이지에 들어간다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두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포인터의 집합을 검색하기 위해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개의 인덱스 블록을 읽어 그들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의 공통 집합을 계산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50</a:t>
            </a:r>
            <a:r>
              <a:rPr b="0" lang="ko-KR" sz="2000" spc="-1" strike="noStrike" baseline="-4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500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중의 한 튜플이 두 개의 조건을 만족한다고 추정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account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= 10000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이므로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S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S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에 하나의 포인터를 포함한다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어림잡아 과대 산정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이 전략의 총 비용 산정은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개의 블록 읽기 이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7F69-9EF5-42A7-8D51-B361469C229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정렬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Times New Roman"/>
              </a:rPr>
              <a:t>릴레이션에 인덱스를 구축하여 정렬된 순서로 릴레이션을 읽는데 인덱스를 사용한다</a:t>
            </a:r>
            <a:r>
              <a:rPr b="0" lang="ko-KR" sz="3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ko-KR" sz="3000" spc="-1" strike="noStrike">
                <a:solidFill>
                  <a:srgbClr val="000000"/>
                </a:solidFill>
                <a:latin typeface="Times New Roman"/>
              </a:rPr>
              <a:t>각 튜플마다 하나의 디스크 블록 액세스가 야기될 수 있다</a:t>
            </a:r>
            <a:r>
              <a:rPr b="0" lang="ko-KR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Times New Roman"/>
              </a:rPr>
              <a:t>메모리에 수용되는 릴레이션에 대해서는 퀵 정렬같은 기법이 사용될 수 있다</a:t>
            </a:r>
            <a:r>
              <a:rPr b="0" lang="ko-KR" sz="3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ko-KR" sz="3000" spc="-1" strike="noStrike">
                <a:solidFill>
                  <a:srgbClr val="000000"/>
                </a:solidFill>
                <a:latin typeface="Times New Roman"/>
              </a:rPr>
              <a:t>메모리에 수용되지 않는 릴레이션에 대해서는 외부 정렬</a:t>
            </a:r>
            <a:r>
              <a:rPr b="0" lang="ko-KR" sz="3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ko-KR" sz="3000" spc="-1" strike="noStrike">
                <a:solidFill>
                  <a:srgbClr val="000000"/>
                </a:solidFill>
                <a:latin typeface="Times New Roman"/>
              </a:rPr>
              <a:t>합병이 좋은 방법이다</a:t>
            </a:r>
            <a:r>
              <a:rPr b="0" lang="ko-KR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B81B-DAFF-43E4-9643-AF7F3C36B0D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질의 처리의 기본 절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구문 분석 및 변환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최적화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평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1371600" y="2895480"/>
            <a:ext cx="7010280" cy="3299040"/>
            <a:chOff x="1371600" y="2895480"/>
            <a:chExt cx="7010280" cy="3299040"/>
          </a:xfrm>
        </p:grpSpPr>
        <p:sp>
          <p:nvSpPr>
            <p:cNvPr id="112" name=""/>
            <p:cNvSpPr/>
            <p:nvPr/>
          </p:nvSpPr>
          <p:spPr>
            <a:xfrm>
              <a:off x="1382760" y="3081240"/>
              <a:ext cx="83808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질의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371600" y="4484520"/>
              <a:ext cx="838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질의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출력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19520" y="2895480"/>
              <a:ext cx="2361960" cy="838440"/>
            </a:xfrm>
            <a:prstGeom prst="diamond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구문 분석기 및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변환기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867280" y="3048120"/>
              <a:ext cx="1600200" cy="533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관계형 대수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표현식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819520" y="4538520"/>
              <a:ext cx="2361960" cy="685800"/>
            </a:xfrm>
            <a:prstGeom prst="diamond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평가 엔진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00760" y="3886200"/>
              <a:ext cx="1523880" cy="457200"/>
            </a:xfrm>
            <a:prstGeom prst="diamond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최적기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877000" y="4648320"/>
              <a:ext cx="159048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실행 계획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048120" y="5562720"/>
              <a:ext cx="761760" cy="380880"/>
            </a:xfrm>
            <a:prstGeom prst="can">
              <a:avLst>
                <a:gd name="adj" fmla="val 25000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91120" y="5562720"/>
              <a:ext cx="761760" cy="380880"/>
            </a:xfrm>
            <a:prstGeom prst="can">
              <a:avLst>
                <a:gd name="adj" fmla="val 25000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620120" y="5562720"/>
              <a:ext cx="761760" cy="380880"/>
            </a:xfrm>
            <a:prstGeom prst="can">
              <a:avLst>
                <a:gd name="adj" fmla="val 25000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192640" y="331956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220840" y="32986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662880" y="35812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672240" y="43434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5257440" y="487692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>
              <a:off x="2286000" y="48769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8" name=""/>
            <p:cNvGrpSpPr/>
            <p:nvPr/>
          </p:nvGrpSpPr>
          <p:grpSpPr>
            <a:xfrm>
              <a:off x="7467480" y="4114800"/>
              <a:ext cx="533520" cy="1447920"/>
              <a:chOff x="7467480" y="4114800"/>
              <a:chExt cx="533520" cy="1447920"/>
            </a:xfrm>
          </p:grpSpPr>
          <p:sp>
            <p:nvSpPr>
              <p:cNvPr id="129" name=""/>
              <p:cNvSpPr/>
              <p:nvPr/>
            </p:nvSpPr>
            <p:spPr>
              <a:xfrm flipV="1">
                <a:off x="8001000" y="4114800"/>
                <a:ext cx="0" cy="1447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>
                <a:off x="7467480" y="4114800"/>
                <a:ext cx="533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429000" y="5235120"/>
              <a:ext cx="1143000" cy="326880"/>
              <a:chOff x="3429000" y="5235120"/>
              <a:chExt cx="1143000" cy="326880"/>
            </a:xfrm>
          </p:grpSpPr>
          <p:sp>
            <p:nvSpPr>
              <p:cNvPr id="132" name=""/>
              <p:cNvSpPr/>
              <p:nvPr/>
            </p:nvSpPr>
            <p:spPr>
              <a:xfrm flipV="1">
                <a:off x="3429000" y="5398200"/>
                <a:ext cx="0" cy="163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V="1">
                <a:off x="4572000" y="5398200"/>
                <a:ext cx="0" cy="163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3429000" y="5398560"/>
                <a:ext cx="1143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flipV="1">
                <a:off x="4005360" y="5235120"/>
                <a:ext cx="0" cy="16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6" name=""/>
            <p:cNvSpPr/>
            <p:nvPr/>
          </p:nvSpPr>
          <p:spPr>
            <a:xfrm>
              <a:off x="3581280" y="5889600"/>
              <a:ext cx="8384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데이터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5638680"/>
              <a:ext cx="137160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데이터에 관한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통계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3359-16AA-4707-8362-C6FAC37816F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외부 정렬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합병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을 페이지 단위의 메모리 크기라 하자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5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다음과 같이 정렬된 실행 파일을 생성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처음에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를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으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5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하자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릴레이션의 끝까지 다음을 반복해 수행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5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(a)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릴레이션의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블록을 메모리에 읽어 들인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5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(b)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메모리내 블록을 정렬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5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(c)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정렬된 데이터를 실행 파일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에 기록하고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를 증가 시킨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5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실행 파일을 합병한다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; i &lt; M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이라 하자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단일 합병 절차에서는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5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입력 실행 파일을 버퍼링하는데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개의 메모리 블록과 출력을 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5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퍼링하는데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개의 블록을 사용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모든 입력 버퍼 페이지가 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5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때까지 다음을 반복해 수행한다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5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(a)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각 버퍼에서 정렬된 순으로 첫 번째 레코드를 선택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5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(b)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그 레코드를 출력에 기록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5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(c)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버퍼 페이지에서 그 레코드를 삭제한다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버퍼 페이지가 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5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면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실행 파일의 다음 블록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있으면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을 버퍼에 읽어 들인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76E6-7D28-400C-A273-C84365CCB73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예제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정렬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합병을 사용한 외부 정렬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1600200" y="1752480"/>
            <a:ext cx="6248520" cy="4518000"/>
            <a:chOff x="1600200" y="1752480"/>
            <a:chExt cx="6248520" cy="4518000"/>
          </a:xfrm>
        </p:grpSpPr>
        <p:grpSp>
          <p:nvGrpSpPr>
            <p:cNvPr id="242" name=""/>
            <p:cNvGrpSpPr/>
            <p:nvPr/>
          </p:nvGrpSpPr>
          <p:grpSpPr>
            <a:xfrm>
              <a:off x="1752480" y="1981080"/>
              <a:ext cx="762120" cy="3353040"/>
              <a:chOff x="1752480" y="1981080"/>
              <a:chExt cx="762120" cy="3353040"/>
            </a:xfrm>
          </p:grpSpPr>
          <p:sp>
            <p:nvSpPr>
              <p:cNvPr id="243" name=""/>
              <p:cNvSpPr/>
              <p:nvPr/>
            </p:nvSpPr>
            <p:spPr>
              <a:xfrm>
                <a:off x="1752480" y="1981080"/>
                <a:ext cx="762120" cy="33530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Aft>
                    <a:spcPts val="113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g    2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spcAft>
                    <a:spcPts val="113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a    19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spcAft>
                    <a:spcPts val="113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d    3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spcAft>
                    <a:spcPts val="113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c    3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spcAft>
                    <a:spcPts val="113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b    1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spcAft>
                    <a:spcPts val="113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e    16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spcAft>
                    <a:spcPts val="113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r    16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spcAft>
                    <a:spcPts val="113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d    2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spcAft>
                    <a:spcPts val="113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m    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spcAft>
                    <a:spcPts val="113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p     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spcAft>
                    <a:spcPts val="113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d     7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spcAft>
                    <a:spcPts val="113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a    1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2133720" y="1981080"/>
                <a:ext cx="0" cy="335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1752480" y="2232000"/>
                <a:ext cx="762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752480" y="2503440"/>
                <a:ext cx="762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1752480" y="2786040"/>
                <a:ext cx="762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752480" y="3079800"/>
                <a:ext cx="762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752480" y="3363840"/>
                <a:ext cx="762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1752480" y="3657600"/>
                <a:ext cx="762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752480" y="3951360"/>
                <a:ext cx="762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1752480" y="4245120"/>
                <a:ext cx="762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1752480" y="4529160"/>
                <a:ext cx="762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1752480" y="4811760"/>
                <a:ext cx="762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1752480" y="5084640"/>
                <a:ext cx="762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6" name=""/>
            <p:cNvGrpSpPr/>
            <p:nvPr/>
          </p:nvGrpSpPr>
          <p:grpSpPr>
            <a:xfrm>
              <a:off x="6934320" y="1981080"/>
              <a:ext cx="761760" cy="3353040"/>
              <a:chOff x="6934320" y="1981080"/>
              <a:chExt cx="761760" cy="3353040"/>
            </a:xfrm>
          </p:grpSpPr>
          <p:sp>
            <p:nvSpPr>
              <p:cNvPr id="257" name=""/>
              <p:cNvSpPr/>
              <p:nvPr/>
            </p:nvSpPr>
            <p:spPr>
              <a:xfrm>
                <a:off x="6934320" y="1981080"/>
                <a:ext cx="761760" cy="33530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Aft>
                    <a:spcPts val="113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Times New Roman"/>
                  </a:rPr>
                  <a:t>a    1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spcAft>
                    <a:spcPts val="113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Times New Roman"/>
                  </a:rPr>
                  <a:t>a    19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spcAft>
                    <a:spcPts val="113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Times New Roman"/>
                  </a:rPr>
                  <a:t>b    1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spcAft>
                    <a:spcPts val="113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Times New Roman"/>
                  </a:rPr>
                  <a:t>c    3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spcAft>
                    <a:spcPts val="113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Times New Roman"/>
                  </a:rPr>
                  <a:t>d      7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spcAft>
                    <a:spcPts val="113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Times New Roman"/>
                  </a:rPr>
                  <a:t>d    2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spcAft>
                    <a:spcPts val="113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Times New Roman"/>
                  </a:rPr>
                  <a:t>d    3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spcAft>
                    <a:spcPts val="113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Times New Roman"/>
                  </a:rPr>
                  <a:t>e    16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spcAft>
                    <a:spcPts val="113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Times New Roman"/>
                  </a:rPr>
                  <a:t>g    2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spcAft>
                    <a:spcPts val="113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Times New Roman"/>
                  </a:rPr>
                  <a:t>m     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spcAft>
                    <a:spcPts val="113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Times New Roman"/>
                  </a:rPr>
                  <a:t>p     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spcAft>
                    <a:spcPts val="113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Times New Roman"/>
                  </a:rPr>
                  <a:t>r    16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7315200" y="1981080"/>
                <a:ext cx="0" cy="335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6934320" y="2232000"/>
                <a:ext cx="761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6934320" y="2503440"/>
                <a:ext cx="761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6934320" y="2786040"/>
                <a:ext cx="761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6934320" y="3079800"/>
                <a:ext cx="761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6934320" y="3363840"/>
                <a:ext cx="761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6934320" y="3657600"/>
                <a:ext cx="761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934320" y="3951360"/>
                <a:ext cx="761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934320" y="4245120"/>
                <a:ext cx="761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6934320" y="4529160"/>
                <a:ext cx="761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6934320" y="4811760"/>
                <a:ext cx="761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6934320" y="5084640"/>
                <a:ext cx="761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0" name=""/>
            <p:cNvGrpSpPr/>
            <p:nvPr/>
          </p:nvGrpSpPr>
          <p:grpSpPr>
            <a:xfrm>
              <a:off x="3505320" y="1752480"/>
              <a:ext cx="761760" cy="3810240"/>
              <a:chOff x="3505320" y="1752480"/>
              <a:chExt cx="761760" cy="3810240"/>
            </a:xfrm>
          </p:grpSpPr>
          <p:grpSp>
            <p:nvGrpSpPr>
              <p:cNvPr id="271" name=""/>
              <p:cNvGrpSpPr/>
              <p:nvPr/>
            </p:nvGrpSpPr>
            <p:grpSpPr>
              <a:xfrm>
                <a:off x="3505320" y="1752480"/>
                <a:ext cx="761760" cy="838440"/>
                <a:chOff x="3505320" y="1752480"/>
                <a:chExt cx="761760" cy="838440"/>
              </a:xfrm>
            </p:grpSpPr>
            <p:sp>
              <p:nvSpPr>
                <p:cNvPr id="272" name=""/>
                <p:cNvSpPr/>
                <p:nvPr/>
              </p:nvSpPr>
              <p:spPr>
                <a:xfrm>
                  <a:off x="3505320" y="1752480"/>
                  <a:ext cx="761760" cy="8384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a    19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d    31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g    24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3505320" y="2025720"/>
                  <a:ext cx="7617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3505320" y="2308320"/>
                  <a:ext cx="7617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86200" y="1752480"/>
                  <a:ext cx="0" cy="838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3505320" y="2743200"/>
                <a:ext cx="761760" cy="838080"/>
                <a:chOff x="3505320" y="2743200"/>
                <a:chExt cx="761760" cy="83808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3505320" y="2743200"/>
                  <a:ext cx="761760" cy="838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b    14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c    33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e    16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3505320" y="3016080"/>
                  <a:ext cx="7617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3505320" y="3298680"/>
                  <a:ext cx="7617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3886200" y="2743200"/>
                  <a:ext cx="0" cy="838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1" name=""/>
              <p:cNvGrpSpPr/>
              <p:nvPr/>
            </p:nvGrpSpPr>
            <p:grpSpPr>
              <a:xfrm>
                <a:off x="3505320" y="3733920"/>
                <a:ext cx="761760" cy="838080"/>
                <a:chOff x="3505320" y="3733920"/>
                <a:chExt cx="761760" cy="838080"/>
              </a:xfrm>
            </p:grpSpPr>
            <p:sp>
              <p:nvSpPr>
                <p:cNvPr id="282" name=""/>
                <p:cNvSpPr/>
                <p:nvPr/>
              </p:nvSpPr>
              <p:spPr>
                <a:xfrm>
                  <a:off x="3505320" y="3733920"/>
                  <a:ext cx="761760" cy="838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d    21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m     3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r    16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3505320" y="4006800"/>
                  <a:ext cx="7617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3505320" y="4289400"/>
                  <a:ext cx="7617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3886200" y="3733920"/>
                  <a:ext cx="0" cy="838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6" name=""/>
              <p:cNvGrpSpPr/>
              <p:nvPr/>
            </p:nvGrpSpPr>
            <p:grpSpPr>
              <a:xfrm>
                <a:off x="3505320" y="4724280"/>
                <a:ext cx="761760" cy="838440"/>
                <a:chOff x="3505320" y="4724280"/>
                <a:chExt cx="761760" cy="838440"/>
              </a:xfrm>
            </p:grpSpPr>
            <p:sp>
              <p:nvSpPr>
                <p:cNvPr id="287" name=""/>
                <p:cNvSpPr/>
                <p:nvPr/>
              </p:nvSpPr>
              <p:spPr>
                <a:xfrm>
                  <a:off x="3505320" y="4724280"/>
                  <a:ext cx="761760" cy="8384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Times New Roman"/>
                    </a:rPr>
                    <a:t>a    14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Times New Roman"/>
                    </a:rPr>
                    <a:t>d      7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Times New Roman"/>
                    </a:rPr>
                    <a:t>p      2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3505320" y="4997520"/>
                  <a:ext cx="7617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3505320" y="5280120"/>
                  <a:ext cx="7617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3886200" y="4724280"/>
                  <a:ext cx="0" cy="838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91" name=""/>
            <p:cNvGrpSpPr/>
            <p:nvPr/>
          </p:nvGrpSpPr>
          <p:grpSpPr>
            <a:xfrm>
              <a:off x="5257800" y="1905120"/>
              <a:ext cx="761760" cy="3580920"/>
              <a:chOff x="5257800" y="1905120"/>
              <a:chExt cx="761760" cy="3580920"/>
            </a:xfrm>
          </p:grpSpPr>
          <p:grpSp>
            <p:nvGrpSpPr>
              <p:cNvPr id="292" name=""/>
              <p:cNvGrpSpPr/>
              <p:nvPr/>
            </p:nvGrpSpPr>
            <p:grpSpPr>
              <a:xfrm>
                <a:off x="5257800" y="1905120"/>
                <a:ext cx="761760" cy="1676160"/>
                <a:chOff x="5257800" y="1905120"/>
                <a:chExt cx="761760" cy="1676160"/>
              </a:xfrm>
            </p:grpSpPr>
            <p:grpSp>
              <p:nvGrpSpPr>
                <p:cNvPr id="293" name=""/>
                <p:cNvGrpSpPr/>
                <p:nvPr/>
              </p:nvGrpSpPr>
              <p:grpSpPr>
                <a:xfrm>
                  <a:off x="5257800" y="1905120"/>
                  <a:ext cx="761760" cy="838080"/>
                  <a:chOff x="5257800" y="1905120"/>
                  <a:chExt cx="761760" cy="838080"/>
                </a:xfrm>
              </p:grpSpPr>
              <p:sp>
                <p:nvSpPr>
                  <p:cNvPr id="294" name=""/>
                  <p:cNvSpPr/>
                  <p:nvPr/>
                </p:nvSpPr>
                <p:spPr>
                  <a:xfrm>
                    <a:off x="5257800" y="1905120"/>
                    <a:ext cx="761760" cy="8380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 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a    19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 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b    14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 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c    33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5" name=""/>
                  <p:cNvSpPr/>
                  <p:nvPr/>
                </p:nvSpPr>
                <p:spPr>
                  <a:xfrm>
                    <a:off x="5257800" y="2178000"/>
                    <a:ext cx="761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6" name=""/>
                  <p:cNvSpPr/>
                  <p:nvPr/>
                </p:nvSpPr>
                <p:spPr>
                  <a:xfrm>
                    <a:off x="5257800" y="2460600"/>
                    <a:ext cx="761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7" name=""/>
                  <p:cNvSpPr/>
                  <p:nvPr/>
                </p:nvSpPr>
                <p:spPr>
                  <a:xfrm>
                    <a:off x="5638680" y="1905120"/>
                    <a:ext cx="0" cy="838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98" name=""/>
                <p:cNvGrpSpPr/>
                <p:nvPr/>
              </p:nvGrpSpPr>
              <p:grpSpPr>
                <a:xfrm>
                  <a:off x="5257800" y="2743200"/>
                  <a:ext cx="761760" cy="838080"/>
                  <a:chOff x="5257800" y="2743200"/>
                  <a:chExt cx="761760" cy="838080"/>
                </a:xfrm>
              </p:grpSpPr>
              <p:sp>
                <p:nvSpPr>
                  <p:cNvPr id="299" name=""/>
                  <p:cNvSpPr/>
                  <p:nvPr/>
                </p:nvSpPr>
                <p:spPr>
                  <a:xfrm>
                    <a:off x="5257800" y="2743200"/>
                    <a:ext cx="761760" cy="8380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 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d    31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 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e    16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 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g    24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0" name=""/>
                  <p:cNvSpPr/>
                  <p:nvPr/>
                </p:nvSpPr>
                <p:spPr>
                  <a:xfrm>
                    <a:off x="5257800" y="3016080"/>
                    <a:ext cx="761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1" name=""/>
                  <p:cNvSpPr/>
                  <p:nvPr/>
                </p:nvSpPr>
                <p:spPr>
                  <a:xfrm>
                    <a:off x="5257800" y="3298680"/>
                    <a:ext cx="761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2" name=""/>
                  <p:cNvSpPr/>
                  <p:nvPr/>
                </p:nvSpPr>
                <p:spPr>
                  <a:xfrm>
                    <a:off x="5638680" y="2743200"/>
                    <a:ext cx="0" cy="838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03" name=""/>
              <p:cNvGrpSpPr/>
              <p:nvPr/>
            </p:nvGrpSpPr>
            <p:grpSpPr>
              <a:xfrm>
                <a:off x="5257800" y="3809880"/>
                <a:ext cx="761760" cy="1676160"/>
                <a:chOff x="5257800" y="3809880"/>
                <a:chExt cx="761760" cy="1676160"/>
              </a:xfrm>
            </p:grpSpPr>
            <p:grpSp>
              <p:nvGrpSpPr>
                <p:cNvPr id="304" name=""/>
                <p:cNvGrpSpPr/>
                <p:nvPr/>
              </p:nvGrpSpPr>
              <p:grpSpPr>
                <a:xfrm>
                  <a:off x="5257800" y="3809880"/>
                  <a:ext cx="761760" cy="838080"/>
                  <a:chOff x="5257800" y="3809880"/>
                  <a:chExt cx="761760" cy="838080"/>
                </a:xfrm>
              </p:grpSpPr>
              <p:sp>
                <p:nvSpPr>
                  <p:cNvPr id="305" name=""/>
                  <p:cNvSpPr/>
                  <p:nvPr/>
                </p:nvSpPr>
                <p:spPr>
                  <a:xfrm>
                    <a:off x="5257800" y="3809880"/>
                    <a:ext cx="761760" cy="8380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a    14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d      7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d    21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6" name=""/>
                  <p:cNvSpPr/>
                  <p:nvPr/>
                </p:nvSpPr>
                <p:spPr>
                  <a:xfrm>
                    <a:off x="5257800" y="4082760"/>
                    <a:ext cx="761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7" name=""/>
                  <p:cNvSpPr/>
                  <p:nvPr/>
                </p:nvSpPr>
                <p:spPr>
                  <a:xfrm>
                    <a:off x="5257800" y="4365360"/>
                    <a:ext cx="761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" name=""/>
                  <p:cNvSpPr/>
                  <p:nvPr/>
                </p:nvSpPr>
                <p:spPr>
                  <a:xfrm>
                    <a:off x="5638680" y="3809880"/>
                    <a:ext cx="0" cy="838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9" name=""/>
                <p:cNvGrpSpPr/>
                <p:nvPr/>
              </p:nvGrpSpPr>
              <p:grpSpPr>
                <a:xfrm>
                  <a:off x="5257800" y="4647960"/>
                  <a:ext cx="761760" cy="838080"/>
                  <a:chOff x="5257800" y="4647960"/>
                  <a:chExt cx="761760" cy="838080"/>
                </a:xfrm>
              </p:grpSpPr>
              <p:sp>
                <p:nvSpPr>
                  <p:cNvPr id="310" name=""/>
                  <p:cNvSpPr/>
                  <p:nvPr/>
                </p:nvSpPr>
                <p:spPr>
                  <a:xfrm>
                    <a:off x="5257800" y="4647960"/>
                    <a:ext cx="761760" cy="8380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m     3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p      2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r    16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5257800" y="4920840"/>
                    <a:ext cx="761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>
                    <a:off x="5257800" y="5203440"/>
                    <a:ext cx="761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>
                    <a:off x="5638680" y="4647960"/>
                    <a:ext cx="0" cy="838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314" name=""/>
            <p:cNvGrpSpPr/>
            <p:nvPr/>
          </p:nvGrpSpPr>
          <p:grpSpPr>
            <a:xfrm>
              <a:off x="4267080" y="2120760"/>
              <a:ext cx="990720" cy="1079640"/>
              <a:chOff x="4267080" y="2120760"/>
              <a:chExt cx="990720" cy="1079640"/>
            </a:xfrm>
          </p:grpSpPr>
          <p:sp>
            <p:nvSpPr>
              <p:cNvPr id="315" name=""/>
              <p:cNvSpPr/>
              <p:nvPr/>
            </p:nvSpPr>
            <p:spPr>
              <a:xfrm>
                <a:off x="4267080" y="2120760"/>
                <a:ext cx="990720" cy="635040"/>
              </a:xfrm>
              <a:custGeom>
                <a:avLst/>
                <a:gdLst/>
                <a:ahLst/>
                <a:rect l="l" t="t" r="r" b="b"/>
                <a:pathLst>
                  <a:path w="624" h="400">
                    <a:moveTo>
                      <a:pt x="0" y="8"/>
                    </a:moveTo>
                    <a:cubicBezTo>
                      <a:pt x="76" y="4"/>
                      <a:pt x="152" y="0"/>
                      <a:pt x="192" y="56"/>
                    </a:cubicBezTo>
                    <a:cubicBezTo>
                      <a:pt x="232" y="112"/>
                      <a:pt x="168" y="288"/>
                      <a:pt x="240" y="344"/>
                    </a:cubicBezTo>
                    <a:cubicBezTo>
                      <a:pt x="312" y="400"/>
                      <a:pt x="468" y="396"/>
                      <a:pt x="624" y="39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4267080" y="2743200"/>
                <a:ext cx="914400" cy="457200"/>
              </a:xfrm>
              <a:custGeom>
                <a:avLst/>
                <a:gdLst/>
                <a:ahLst/>
                <a:rect l="l" t="t" r="r" b="b"/>
                <a:pathLst>
                  <a:path w="576" h="288">
                    <a:moveTo>
                      <a:pt x="0" y="288"/>
                    </a:moveTo>
                    <a:cubicBezTo>
                      <a:pt x="76" y="284"/>
                      <a:pt x="152" y="280"/>
                      <a:pt x="192" y="240"/>
                    </a:cubicBezTo>
                    <a:cubicBezTo>
                      <a:pt x="232" y="200"/>
                      <a:pt x="176" y="88"/>
                      <a:pt x="240" y="48"/>
                    </a:cubicBezTo>
                    <a:cubicBezTo>
                      <a:pt x="304" y="8"/>
                      <a:pt x="440" y="4"/>
                      <a:pt x="576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4267080" y="4114800"/>
              <a:ext cx="990720" cy="990720"/>
              <a:chOff x="4267080" y="4114800"/>
              <a:chExt cx="990720" cy="990720"/>
            </a:xfrm>
          </p:grpSpPr>
          <p:sp>
            <p:nvSpPr>
              <p:cNvPr id="318" name=""/>
              <p:cNvSpPr/>
              <p:nvPr/>
            </p:nvSpPr>
            <p:spPr>
              <a:xfrm>
                <a:off x="4267080" y="4114800"/>
                <a:ext cx="990720" cy="533520"/>
              </a:xfrm>
              <a:custGeom>
                <a:avLst/>
                <a:gdLst/>
                <a:ahLst/>
                <a:rect l="l" t="t" r="r" b="b"/>
                <a:pathLst>
                  <a:path w="576" h="336">
                    <a:moveTo>
                      <a:pt x="0" y="0"/>
                    </a:moveTo>
                    <a:cubicBezTo>
                      <a:pt x="76" y="0"/>
                      <a:pt x="152" y="0"/>
                      <a:pt x="192" y="48"/>
                    </a:cubicBezTo>
                    <a:cubicBezTo>
                      <a:pt x="232" y="96"/>
                      <a:pt x="176" y="240"/>
                      <a:pt x="240" y="288"/>
                    </a:cubicBezTo>
                    <a:cubicBezTo>
                      <a:pt x="304" y="336"/>
                      <a:pt x="440" y="336"/>
                      <a:pt x="576" y="336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4267080" y="4648320"/>
                <a:ext cx="914400" cy="457200"/>
              </a:xfrm>
              <a:custGeom>
                <a:avLst/>
                <a:gdLst/>
                <a:ahLst/>
                <a:rect l="l" t="t" r="r" b="b"/>
                <a:pathLst>
                  <a:path w="576" h="288">
                    <a:moveTo>
                      <a:pt x="0" y="288"/>
                    </a:moveTo>
                    <a:cubicBezTo>
                      <a:pt x="76" y="284"/>
                      <a:pt x="152" y="280"/>
                      <a:pt x="192" y="240"/>
                    </a:cubicBezTo>
                    <a:cubicBezTo>
                      <a:pt x="232" y="200"/>
                      <a:pt x="176" y="88"/>
                      <a:pt x="240" y="48"/>
                    </a:cubicBezTo>
                    <a:cubicBezTo>
                      <a:pt x="304" y="8"/>
                      <a:pt x="440" y="4"/>
                      <a:pt x="576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0" name=""/>
            <p:cNvSpPr/>
            <p:nvPr/>
          </p:nvSpPr>
          <p:spPr>
            <a:xfrm>
              <a:off x="6019920" y="3657600"/>
              <a:ext cx="838080" cy="990720"/>
            </a:xfrm>
            <a:custGeom>
              <a:avLst/>
              <a:gdLst/>
              <a:ahLst/>
              <a:rect l="l" t="t" r="r" b="b"/>
              <a:pathLst>
                <a:path w="528" h="624">
                  <a:moveTo>
                    <a:pt x="0" y="624"/>
                  </a:moveTo>
                  <a:cubicBezTo>
                    <a:pt x="76" y="620"/>
                    <a:pt x="152" y="616"/>
                    <a:pt x="192" y="528"/>
                  </a:cubicBezTo>
                  <a:cubicBezTo>
                    <a:pt x="232" y="440"/>
                    <a:pt x="184" y="184"/>
                    <a:pt x="240" y="96"/>
                  </a:cubicBezTo>
                  <a:cubicBezTo>
                    <a:pt x="296" y="8"/>
                    <a:pt x="412" y="4"/>
                    <a:pt x="528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019920" y="2743200"/>
              <a:ext cx="914400" cy="914400"/>
            </a:xfrm>
            <a:custGeom>
              <a:avLst/>
              <a:gdLst/>
              <a:ahLst/>
              <a:rect l="l" t="t" r="r" b="b"/>
              <a:pathLst>
                <a:path w="576" h="576">
                  <a:moveTo>
                    <a:pt x="0" y="0"/>
                  </a:moveTo>
                  <a:cubicBezTo>
                    <a:pt x="76" y="8"/>
                    <a:pt x="152" y="16"/>
                    <a:pt x="192" y="96"/>
                  </a:cubicBezTo>
                  <a:cubicBezTo>
                    <a:pt x="232" y="176"/>
                    <a:pt x="176" y="400"/>
                    <a:pt x="240" y="480"/>
                  </a:cubicBezTo>
                  <a:cubicBezTo>
                    <a:pt x="304" y="560"/>
                    <a:pt x="440" y="568"/>
                    <a:pt x="576" y="57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600200" y="5356080"/>
              <a:ext cx="10666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Times New Roman"/>
                </a:rPr>
                <a:t>초기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Times New Roman"/>
                </a:rPr>
                <a:t>릴레이션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375000" y="5573880"/>
              <a:ext cx="1066680" cy="2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실행파일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105520" y="5562720"/>
              <a:ext cx="1066680" cy="2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실행파일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514600" y="5813280"/>
              <a:ext cx="10666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실행파일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생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267080" y="5813280"/>
              <a:ext cx="10670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합병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패스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-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75280" y="5813280"/>
              <a:ext cx="10670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합병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패스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-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781680" y="5302080"/>
              <a:ext cx="10670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정렬 결과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C5E3-1672-418A-90BD-23B568AE8DA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외부 정렬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합병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계속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M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이면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여러 개의 합병 패스가 필요하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각 패스에서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M – 1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개의 실행 파일의 연속 그룹이 합병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패스는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M – 1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로 실행 파일의 수를 감소시키고 똑 같은 요인에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의해 보다 긴 실행 파일을 생성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모든 실행 파일이 하나로 합병될 때까지 반복 패스가 수행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비용 분석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각 패스를 포함해 초기 실행 파일 생성을 위한 디스크 액세스는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2b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 r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이다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마지막 패스는 예외인데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결과를 디스크에 출력하지 않는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필요한 합병 패스의 총 수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0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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M-1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(b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/ M)</a:t>
            </a:r>
            <a:r>
              <a:rPr b="0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따라서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외부 정렬을 위한 디스크 액세스의 총 수는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(2</a:t>
            </a:r>
            <a:r>
              <a:rPr b="0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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M-1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(b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/ M)</a:t>
            </a:r>
            <a:r>
              <a:rPr b="0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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+ 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DCF5-4DE6-4513-B71D-B89DE5A6CCF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죠인 연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죠인을 실행하기 위한 알고리즘들은 다음과 같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내포 – 루프 죠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블록 내포 – 루프 죠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인덱스 내포 – 루프 죠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합병 – 죠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해쉬 – 죠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비용 산정에 따라 선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관계형 대수 표현식에서 특히 외부 계층 연산에 대한 비용 산정을 위해 죠인 크기 산정이 필요하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5134-7EEF-40EC-9664-212CD72E352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죠인 연산 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실행 예제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761760" y="1752480"/>
            <a:ext cx="792468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실행 예제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depositor          customer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죠인 예제에 대한 카타로그 정보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5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Arial"/>
              </a:rPr>
              <a:t>customer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 = 10,00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5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Arial"/>
              </a:rPr>
              <a:t>customer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 = 25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이것은 다음을 내포한다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5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Arial"/>
              </a:rPr>
              <a:t>customer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 = 10000/25 = 40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5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Arial"/>
              </a:rPr>
              <a:t>depositor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 = 500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5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Arial"/>
              </a:rPr>
              <a:t>depositor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  = 50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이것은 다음을 내포한다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5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Arial"/>
              </a:rPr>
              <a:t>depositor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 = 5000/50 = 10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5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V(customer-name, depositor) = 2500, 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이것은 각 고객이 평균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개의 계좌를 가지고 있음을 의미한다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또한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depositor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내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customer-name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이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customer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에 외래 키라고 가정한다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4570560" y="2220840"/>
            <a:ext cx="304560" cy="152640"/>
            <a:chOff x="4570560" y="2220840"/>
            <a:chExt cx="304560" cy="152640"/>
          </a:xfrm>
        </p:grpSpPr>
        <p:sp>
          <p:nvSpPr>
            <p:cNvPr id="336" name=""/>
            <p:cNvSpPr/>
            <p:nvPr/>
          </p:nvSpPr>
          <p:spPr>
            <a:xfrm>
              <a:off x="4570560" y="22208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875120" y="22208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4570560" y="2220840"/>
              <a:ext cx="30456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570560" y="2220840"/>
              <a:ext cx="30456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A2B9-5E92-4B72-813F-128919F6336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죠인 크기의 산정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카티전 곱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는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 r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 s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튜플을 내포하며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각 튜플의 크기는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+ s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바이트이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S = </a:t>
            </a:r>
            <a:r>
              <a:rPr b="0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이면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r        s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는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와 같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가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의 키이면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s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의 한 튜플은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의 기껏해야 한 튜플과 죠인 될 것이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그러므로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r        s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의 튜플의 수는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내 튜플 수 보다 크지 않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가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을 참조하는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내의 외래 키이면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r        s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의 튜플의 수는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내 튜플 수와 정확히 같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가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를 참조하는 외래 키인 경우는 대칭적이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예제 질의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depositor         customer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에서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depositor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내의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customer-name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은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customer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의 외래 키이므로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결과는 정확히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depositor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의 튜플 수인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5000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이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3124080" y="2579400"/>
            <a:ext cx="304920" cy="152640"/>
            <a:chOff x="3124080" y="2579400"/>
            <a:chExt cx="304920" cy="152640"/>
          </a:xfrm>
        </p:grpSpPr>
        <p:sp>
          <p:nvSpPr>
            <p:cNvPr id="343" name=""/>
            <p:cNvSpPr/>
            <p:nvPr/>
          </p:nvSpPr>
          <p:spPr>
            <a:xfrm>
              <a:off x="3124080" y="25797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429000" y="25797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V="1">
              <a:off x="3124080" y="257940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124080" y="257976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3809880" y="3233520"/>
            <a:ext cx="304920" cy="152640"/>
            <a:chOff x="3809880" y="3233520"/>
            <a:chExt cx="304920" cy="152640"/>
          </a:xfrm>
        </p:grpSpPr>
        <p:sp>
          <p:nvSpPr>
            <p:cNvPr id="348" name=""/>
            <p:cNvSpPr/>
            <p:nvPr/>
          </p:nvSpPr>
          <p:spPr>
            <a:xfrm>
              <a:off x="3809880" y="32338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114800" y="32338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V="1">
              <a:off x="3809880" y="323352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809880" y="323388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6194520" y="3908160"/>
            <a:ext cx="304560" cy="152640"/>
            <a:chOff x="6194520" y="3908160"/>
            <a:chExt cx="304560" cy="152640"/>
          </a:xfrm>
        </p:grpSpPr>
        <p:sp>
          <p:nvSpPr>
            <p:cNvPr id="353" name=""/>
            <p:cNvSpPr/>
            <p:nvPr/>
          </p:nvSpPr>
          <p:spPr>
            <a:xfrm>
              <a:off x="6194520" y="39085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499080" y="39085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194520" y="3908160"/>
              <a:ext cx="30456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194520" y="3908520"/>
              <a:ext cx="30456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3505320" y="4932000"/>
            <a:ext cx="304560" cy="152640"/>
            <a:chOff x="3505320" y="4932000"/>
            <a:chExt cx="304560" cy="152640"/>
          </a:xfrm>
        </p:grpSpPr>
        <p:sp>
          <p:nvSpPr>
            <p:cNvPr id="358" name=""/>
            <p:cNvSpPr/>
            <p:nvPr/>
          </p:nvSpPr>
          <p:spPr>
            <a:xfrm>
              <a:off x="3505320" y="49323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809880" y="49323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3505320" y="4932000"/>
              <a:ext cx="30456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505320" y="4932360"/>
              <a:ext cx="30456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8FCB-CCEE-4B10-811D-4C8A4E5476E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죠인 크기의 산정 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계속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S = {A}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가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또는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의 키가 아닌 경우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내의 각 튜플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가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R         S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내의 튜플들을 생성한다고 가정하면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 R          S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내 튜플의 수는 다음과 같이 산정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그 역이 참이라면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산정 값은 다음과 같을 것이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위의 두 산정 값 중에서 적은 것이 보다 정확한 값이 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3581280" y="2231640"/>
            <a:ext cx="304920" cy="152640"/>
            <a:chOff x="3581280" y="2231640"/>
            <a:chExt cx="304920" cy="152640"/>
          </a:xfrm>
        </p:grpSpPr>
        <p:sp>
          <p:nvSpPr>
            <p:cNvPr id="365" name=""/>
            <p:cNvSpPr/>
            <p:nvPr/>
          </p:nvSpPr>
          <p:spPr>
            <a:xfrm>
              <a:off x="3581280" y="22320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886200" y="22320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3581280" y="223164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581280" y="223200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1600200" y="2546280"/>
            <a:ext cx="304920" cy="152640"/>
            <a:chOff x="1600200" y="2546280"/>
            <a:chExt cx="304920" cy="152640"/>
          </a:xfrm>
        </p:grpSpPr>
        <p:sp>
          <p:nvSpPr>
            <p:cNvPr id="370" name=""/>
            <p:cNvSpPr/>
            <p:nvPr/>
          </p:nvSpPr>
          <p:spPr>
            <a:xfrm>
              <a:off x="1600200" y="25462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905120" y="25462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1600200" y="2546280"/>
              <a:ext cx="30492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600200" y="2546280"/>
              <a:ext cx="30492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4" name=""/>
          <p:cNvSpPr/>
          <p:nvPr/>
        </p:nvSpPr>
        <p:spPr>
          <a:xfrm>
            <a:off x="4038480" y="289548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ko-KR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400" spc="-1" strike="noStrike" baseline="-4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n</a:t>
            </a:r>
            <a:r>
              <a:rPr b="0" lang="ko-KR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038480" y="335268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(A, 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6" name=""/>
          <p:cNvGrpSpPr/>
          <p:nvPr/>
        </p:nvGrpSpPr>
        <p:grpSpPr>
          <a:xfrm>
            <a:off x="4114800" y="4365720"/>
            <a:ext cx="1066680" cy="739800"/>
            <a:chOff x="4114800" y="4365720"/>
            <a:chExt cx="1066680" cy="739800"/>
          </a:xfrm>
        </p:grpSpPr>
        <p:sp>
          <p:nvSpPr>
            <p:cNvPr id="377" name=""/>
            <p:cNvSpPr/>
            <p:nvPr/>
          </p:nvSpPr>
          <p:spPr>
            <a:xfrm>
              <a:off x="4190760" y="4365720"/>
              <a:ext cx="9907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ko-KR" sz="24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ko-KR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ko-KR" sz="2400" spc="-1" strike="noStrike" baseline="-4000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lang="ko-KR" sz="2400" spc="-1" strike="noStrike">
                  <a:solidFill>
                    <a:srgbClr val="000000"/>
                  </a:solidFill>
                  <a:latin typeface="Times New Roman"/>
                </a:rPr>
                <a:t>  n</a:t>
              </a:r>
              <a:r>
                <a:rPr b="0" lang="ko-KR" sz="2400" spc="-1" strike="noStrike" baseline="-25000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114800" y="4594320"/>
              <a:ext cx="1066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––––––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190760" y="4800600"/>
              <a:ext cx="9907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(A, r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0" name=""/>
          <p:cNvSpPr/>
          <p:nvPr/>
        </p:nvSpPr>
        <p:spPr>
          <a:xfrm>
            <a:off x="3962520" y="32767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81C4-8C32-48FF-AC1A-A8A2237E95A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죠인 크기의 산정 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계속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외래 키에 관한 정보를 사용하지 않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ositor         custome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의 크기 산정을 계산해 보자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V(customer-name, depositor) = 2500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이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(customer-name, customer) = 1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두 산정 값은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00 </a:t>
            </a:r>
            <a:r>
              <a:rPr b="0" lang="en-US" sz="2400" spc="-1" strike="noStrike" baseline="-4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0000/2500 = 20,000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과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00 </a:t>
            </a:r>
            <a:r>
              <a:rPr b="0" lang="en-US" sz="2400" spc="-1" strike="noStrike" baseline="-4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0000/10000 = 5000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이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이 경우에 적은 산정 값을 선택하는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이것은 외래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키를 사용해 앞에서 계산한 것과 같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2590920" y="2339640"/>
            <a:ext cx="304560" cy="228960"/>
            <a:chOff x="2590920" y="2339640"/>
            <a:chExt cx="304560" cy="228960"/>
          </a:xfrm>
        </p:grpSpPr>
        <p:sp>
          <p:nvSpPr>
            <p:cNvPr id="384" name=""/>
            <p:cNvSpPr/>
            <p:nvPr/>
          </p:nvSpPr>
          <p:spPr>
            <a:xfrm>
              <a:off x="2590920" y="2340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895480" y="2340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V="1">
              <a:off x="2590920" y="2339640"/>
              <a:ext cx="30456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590920" y="2340000"/>
              <a:ext cx="30456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A999-C6FB-4DF0-AC1C-DAA59E7C54C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내포 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루프 죠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838080" y="1741320"/>
            <a:ext cx="7772400" cy="450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세타 죠인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r         s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를 계산하자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을 죠인의 외부 릴레이션이라 하고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를 내부 릴레이션이라 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어떤 인덱스도 필요로 하지 않고 어떤 종류의 죠인 조건에도 사용될 수 있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두 릴레이션내 각 튜플의 쌍을 조사해야 하므로 비용이 많이 든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보다 작은 릴레이션 전체가 메인 메모리에 들어가면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그 릴레이션을 내부 릴레이션으로 사용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0" name=""/>
          <p:cNvGrpSpPr/>
          <p:nvPr/>
        </p:nvGrpSpPr>
        <p:grpSpPr>
          <a:xfrm>
            <a:off x="2633760" y="1890360"/>
            <a:ext cx="304560" cy="152640"/>
            <a:chOff x="2633760" y="1890360"/>
            <a:chExt cx="304560" cy="152640"/>
          </a:xfrm>
        </p:grpSpPr>
        <p:sp>
          <p:nvSpPr>
            <p:cNvPr id="391" name=""/>
            <p:cNvSpPr/>
            <p:nvPr/>
          </p:nvSpPr>
          <p:spPr>
            <a:xfrm>
              <a:off x="2633760" y="18907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938320" y="18907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V="1">
              <a:off x="2633760" y="1890360"/>
              <a:ext cx="30456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633760" y="1890720"/>
              <a:ext cx="30456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>
            <a:off x="1447920" y="2259000"/>
            <a:ext cx="6933960" cy="20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elvetica-Bold"/>
              </a:rPr>
              <a:t>for each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tuple t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elvetica-Bold"/>
              </a:rPr>
              <a:t>in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1" lang="ko-KR" sz="2000" spc="-1" strike="noStrike">
                <a:solidFill>
                  <a:srgbClr val="000000"/>
                </a:solidFill>
                <a:latin typeface="Helvetica-Bold"/>
              </a:rPr>
              <a:t>do beg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elvetica-Bold"/>
              </a:rPr>
              <a:t>     </a:t>
            </a:r>
            <a:r>
              <a:rPr b="1" lang="ko-KR" sz="2000" spc="-1" strike="noStrike">
                <a:solidFill>
                  <a:srgbClr val="000000"/>
                </a:solidFill>
                <a:latin typeface="Helvetica-Bold"/>
              </a:rPr>
              <a:t>for each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tuple t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elvetica-Bold"/>
              </a:rPr>
              <a:t>in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1" lang="ko-KR" sz="2000" spc="-1" strike="noStrike">
                <a:solidFill>
                  <a:srgbClr val="000000"/>
                </a:solidFill>
                <a:latin typeface="Helvetica-Bold"/>
              </a:rPr>
              <a:t>do beg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test pair (t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 ,t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) to see if they satisfy the join condition </a:t>
            </a:r>
            <a:r>
              <a:rPr b="0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if they do, add  t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Arial"/>
              </a:rPr>
              <a:t>r </a:t>
            </a:r>
            <a:r>
              <a:rPr b="0" lang="ko-KR" sz="2000" spc="-1" strike="noStrike" baseline="6000">
                <a:solidFill>
                  <a:srgbClr val="000000"/>
                </a:solidFill>
                <a:latin typeface="Arial"/>
              </a:rPr>
              <a:t>•</a:t>
            </a:r>
            <a:r>
              <a:rPr b="0" i="1" lang="ko-KR" sz="2000" spc="-1" strike="noStrike">
                <a:solidFill>
                  <a:srgbClr val="000000"/>
                </a:solidFill>
                <a:latin typeface="CMSY10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 to the resul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elvetica-Bold"/>
              </a:rPr>
              <a:t>     </a:t>
            </a:r>
            <a:r>
              <a:rPr b="1" lang="ko-KR" sz="2000" spc="-1" strike="noStrike">
                <a:solidFill>
                  <a:srgbClr val="000000"/>
                </a:solidFill>
                <a:latin typeface="Helvetica-Bold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elvetica-Bold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E7CD-32DC-46DF-B552-262B49C025C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내포 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루프 죠인 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계속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spcAft>
                <a:spcPts val="249"/>
              </a:spcAft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최악의 겨우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메모리에 각 릴레이션의 한 블록만을 수용할 수 있다면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산정 비용은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000" spc="-1" strike="noStrike" baseline="-4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b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+  b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디스크 액세스이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249"/>
              </a:spcAft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보다 작은 릴레이션 전체가 메모리에 들어 간다면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그것을 내부 릴레이션으로 사용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그렇게 하면 비용 산정은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+  b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디스크 액세스로 줄어든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이용 가능한 메모리가 최악의 경우라 가정했을 때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depositor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를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외부 릴레이션으로 하면 비용 산정은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5000 </a:t>
            </a:r>
            <a:r>
              <a:rPr b="0" lang="ko-KR" sz="2000" spc="-1" strike="noStrike" baseline="-4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400 + 100 = 2,000,10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디스크 액세스이고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customer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를 외부 릴레이션으로 하면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10000 * 100 + 400 = 1,000,400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디스크 액세스이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보다 작은 릴레이션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(depositor)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전체가 메모리에 들어가면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비용 산정은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500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디스크 액세스가 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블록 내포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루프 알고리즘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다음 장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이 더 낫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5B4F-793A-4A7F-B5B7-0BD18DBCA32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질의 처리의 기본 절차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계속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구문 분석 및 변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질의를 내부 형식으로 변환한다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그리고 이것 은 관계형 대수로 변환된다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구문 분석기는 문법을 체크하고 릴레이션을 검사한다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평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질의 실행 엔진은 질의 평가 계획을 취해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그 계획을 실행하고 결과를 돌려준다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AF25-2432-4F61-84B6-0448EEA24E0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블록 내포 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루프 죠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내부 릴레이션의 각 블록이 외부 릴레이션의 각 블록과 쌍을 이루는 내포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루프 죠인의 변형이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최악의 경우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내부 릴레이션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내 각 블록은 외부 릴레이션 각 블록마다 한번씩만 읽힌다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외부 릴레이션내 각 튜플마다 한번씩 읽히는 대신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447920" y="2373480"/>
            <a:ext cx="6476760" cy="351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elvetica-Bold"/>
              </a:rPr>
              <a:t>for each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block B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elvetica-Bold"/>
              </a:rPr>
              <a:t>of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1" lang="ko-KR" sz="2000" spc="-1" strike="noStrike">
                <a:solidFill>
                  <a:srgbClr val="000000"/>
                </a:solidFill>
                <a:latin typeface="Helvetica-Bold"/>
              </a:rPr>
              <a:t>do beg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elvetica-Bold"/>
              </a:rPr>
              <a:t>     </a:t>
            </a:r>
            <a:r>
              <a:rPr b="1" lang="ko-KR" sz="2000" spc="-1" strike="noStrike">
                <a:solidFill>
                  <a:srgbClr val="000000"/>
                </a:solidFill>
                <a:latin typeface="Helvetica-Bold"/>
              </a:rPr>
              <a:t>for each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block B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elvetica-Bold"/>
              </a:rPr>
              <a:t>of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1" lang="ko-KR" sz="2000" spc="-1" strike="noStrike">
                <a:solidFill>
                  <a:srgbClr val="000000"/>
                </a:solidFill>
                <a:latin typeface="Helvetica-Bold"/>
              </a:rPr>
              <a:t>do beg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elvetica-Bold"/>
              </a:rPr>
              <a:t>          </a:t>
            </a:r>
            <a:r>
              <a:rPr b="1" lang="ko-KR" sz="2000" spc="-1" strike="noStrike">
                <a:solidFill>
                  <a:srgbClr val="000000"/>
                </a:solidFill>
                <a:latin typeface="Helvetica-Bold"/>
              </a:rPr>
              <a:t>for each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tuple t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elvetica-Bold"/>
              </a:rPr>
              <a:t>in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elvetica-Bold"/>
              </a:rPr>
              <a:t>do beg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elvetica-Bold"/>
              </a:rPr>
              <a:t>               </a:t>
            </a:r>
            <a:r>
              <a:rPr b="1" lang="ko-KR" sz="2000" spc="-1" strike="noStrike">
                <a:solidFill>
                  <a:srgbClr val="000000"/>
                </a:solidFill>
                <a:latin typeface="Helvetica-Bold"/>
              </a:rPr>
              <a:t>for each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tuple t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elvetica-Bold"/>
              </a:rPr>
              <a:t>in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elvetica-Bold"/>
              </a:rPr>
              <a:t>do beg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test pair (t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, t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) for satisfying the join cond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if they do, add t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Arial"/>
              </a:rPr>
              <a:t>r  </a:t>
            </a:r>
            <a:r>
              <a:rPr b="0" lang="ko-KR" sz="2000" spc="-1" strike="noStrike" baseline="6000">
                <a:solidFill>
                  <a:srgbClr val="000000"/>
                </a:solidFill>
                <a:latin typeface="Arial"/>
              </a:rPr>
              <a:t>• </a:t>
            </a:r>
            <a:r>
              <a:rPr b="0" i="1" lang="ko-KR" sz="2000" spc="-1" strike="noStrike">
                <a:solidFill>
                  <a:srgbClr val="000000"/>
                </a:solidFill>
                <a:latin typeface="CMSY10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 to the resul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elvetica-Bold"/>
              </a:rPr>
              <a:t>               </a:t>
            </a:r>
            <a:r>
              <a:rPr b="1" lang="ko-KR" sz="2000" spc="-1" strike="noStrike">
                <a:solidFill>
                  <a:srgbClr val="000000"/>
                </a:solidFill>
                <a:latin typeface="Helvetica-Bold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elvetica-Bold"/>
              </a:rPr>
              <a:t>          </a:t>
            </a:r>
            <a:r>
              <a:rPr b="1" lang="ko-KR" sz="2000" spc="-1" strike="noStrike">
                <a:solidFill>
                  <a:srgbClr val="000000"/>
                </a:solidFill>
                <a:latin typeface="Helvetica-Bold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elvetica-Bold"/>
              </a:rPr>
              <a:t>     </a:t>
            </a:r>
            <a:r>
              <a:rPr b="1" lang="ko-KR" sz="2000" spc="-1" strike="noStrike">
                <a:solidFill>
                  <a:srgbClr val="000000"/>
                </a:solidFill>
                <a:latin typeface="Helvetica-Bold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elvetica-Bold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92D8-EB6D-40E7-AB27-271BA32D15D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블록 내포 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루프 죠인 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계속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최악의 경우의 산정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:  b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000" spc="-1" strike="noStrike" baseline="-4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b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+  b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블록 액세스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최상의 경우의 산정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:  b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+  b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블록 액세스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내포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루프와 블록 내포 루프 알고리즘의 개선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동등 – 죠인 애트리뷰트가 내부 릴레이션의 키이면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부합이 처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이루어지는 순간 내부 루프를 중단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블록 내포 – 루프에서는 외부 릴레이션을 위한 블록킹 단위로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M – 2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디스크 블록을 사용한다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(M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은 블록 단위의 메모리 크기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나머지 두 블록은 내부 릴레이션과 출력을 버퍼링하는데 사용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내부 릴레이션의 검색 수를 크게 줄인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버퍼내에 남아 있는 블록을 사용하기 위해 내부 루프를 앞뒤로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교대로 스캔한다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(LRU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대치 전략으로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이용 가능하다면 내부 릴레이션의 인덱스를 사용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C875-4F4C-4BB7-B9B2-6CECB202038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인덱스 내포 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루프 죠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내부 루프의 죠인 애트리뷰트에 인덱스가 있고 죠인이 동등 – 죠인 또는 자연 죠인이면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보다 효율적인 인덱스 탐색이 파일 스캔을 대치할 수 있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죠인을 계산하기 위해서만 인덱스를 구축할 수도 있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외부 릴레이션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내의 각 튜플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에 대해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인덱스를 사용해 튜플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과 죠인 조건을 만족하는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내의 튜플을 탐색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최악의 경우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버퍼에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의 한 페이지와 인덱스의 한 페이지만을 위한 공간을 가진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릴레이션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을 읽는데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디스크 액세스가 필요하고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r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내의  각 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플에 대해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상의 인덱스 탐색을 수행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죠인 비용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: b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r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+ n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000" spc="-1" strike="noStrike" baseline="-4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c (c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는 죠인 조건을 사용하고 있는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상의 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일 선택 비용이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모두에 인덱스가 있다면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보다 적은 튜플을 가진 것을 외부 릴레이션으로 사용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BA91-614D-4167-A802-E6200044A3D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인덱스 내포 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루프 죠인의 예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499"/>
              </a:spcBef>
              <a:spcAft>
                <a:spcPts val="249"/>
              </a:spcAft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depositor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를 외부 릴레이션으로 한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depositor          customer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를 계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spcAft>
                <a:spcPts val="249"/>
              </a:spcAft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spcAft>
                <a:spcPts val="249"/>
              </a:spcAft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customer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에 죠인 애트리뷰트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customer-name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상의 주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ko-KR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트리 인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spcAft>
                <a:spcPts val="249"/>
              </a:spcAft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스를 가지고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각 인덱스 노드에는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개의 엔트리를 내포한다 하자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spcAft>
                <a:spcPts val="249"/>
              </a:spcAft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Customer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에는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10,000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개의 튜플이 있으므로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트리의 높이는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이고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spcAft>
                <a:spcPts val="249"/>
              </a:spcAft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실제 데이터를 찾으려면 한 번의 액세스가 더 필요하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spcAft>
                <a:spcPts val="249"/>
              </a:spcAft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depositor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는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5000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이므로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총 비용은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100 + 5000 </a:t>
            </a:r>
            <a:r>
              <a:rPr b="0" lang="ko-KR" sz="2000" spc="-1" strike="noStrike" baseline="-4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5 = 25,100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디스크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spcAft>
                <a:spcPts val="249"/>
              </a:spcAft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액세스이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spcAft>
                <a:spcPts val="400"/>
              </a:spcAft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이 비용은 블록 내포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루프 죠인에서 필요했던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40,100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액세스보다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spcAft>
                <a:spcPts val="249"/>
              </a:spcAft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적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6248520" y="1893600"/>
            <a:ext cx="304560" cy="152640"/>
            <a:chOff x="6248520" y="1893600"/>
            <a:chExt cx="304560" cy="152640"/>
          </a:xfrm>
        </p:grpSpPr>
        <p:sp>
          <p:nvSpPr>
            <p:cNvPr id="408" name=""/>
            <p:cNvSpPr/>
            <p:nvPr/>
          </p:nvSpPr>
          <p:spPr>
            <a:xfrm>
              <a:off x="6248520" y="18939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553080" y="18939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V="1">
              <a:off x="6248520" y="1893600"/>
              <a:ext cx="30456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248520" y="1893960"/>
              <a:ext cx="30456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5341-CE4B-46DF-AEEB-A7072B3F2CA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합병 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죠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먼저 양 릴레이션을 그들의 죠인 애트리뷰트에 따라 정렬한다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정렬되어 있지 않으면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죠인 절차는 정렬 – 합병 알고리즘의 합병 단계와 유사하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주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차이점은 죠인 애트리뷰트 내의 중복 값을 처리하는 것이다  –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죠인 애트리뷰트상에 같은 값을 가진 각 쌍이 부합하는 것이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2438280" y="3581280"/>
            <a:ext cx="4038840" cy="2667240"/>
            <a:chOff x="2438280" y="3581280"/>
            <a:chExt cx="4038840" cy="2667240"/>
          </a:xfrm>
        </p:grpSpPr>
        <p:grpSp>
          <p:nvGrpSpPr>
            <p:cNvPr id="415" name=""/>
            <p:cNvGrpSpPr/>
            <p:nvPr/>
          </p:nvGrpSpPr>
          <p:grpSpPr>
            <a:xfrm>
              <a:off x="3124080" y="3886200"/>
              <a:ext cx="838440" cy="2057400"/>
              <a:chOff x="3124080" y="3886200"/>
              <a:chExt cx="838440" cy="2057400"/>
            </a:xfrm>
          </p:grpSpPr>
          <p:sp>
            <p:nvSpPr>
              <p:cNvPr id="416" name=""/>
              <p:cNvSpPr/>
              <p:nvPr/>
            </p:nvSpPr>
            <p:spPr>
              <a:xfrm>
                <a:off x="3124080" y="3886200"/>
                <a:ext cx="838440" cy="20574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Aft>
                    <a:spcPts val="224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Times New Roman"/>
                  </a:rPr>
                  <a:t>a     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spcAft>
                    <a:spcPts val="224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Times New Roman"/>
                  </a:rPr>
                  <a:t>b     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spcAft>
                    <a:spcPts val="224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Times New Roman"/>
                  </a:rPr>
                  <a:t>d     8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spcAft>
                    <a:spcPts val="224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Times New Roman"/>
                  </a:rPr>
                  <a:t>d    1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spcAft>
                    <a:spcPts val="224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Times New Roman"/>
                  </a:rPr>
                  <a:t>f      7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spcAft>
                    <a:spcPts val="224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Times New Roman"/>
                  </a:rPr>
                  <a:t>m     5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spcAft>
                    <a:spcPts val="224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Times New Roman"/>
                  </a:rPr>
                  <a:t>q     6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124080" y="4179960"/>
                <a:ext cx="838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3124080" y="4473720"/>
                <a:ext cx="838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3124080" y="4767840"/>
                <a:ext cx="838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3124080" y="5061600"/>
                <a:ext cx="838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3124080" y="5355360"/>
                <a:ext cx="838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124080" y="5649480"/>
                <a:ext cx="838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3549600" y="3886200"/>
                <a:ext cx="0" cy="2057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4" name=""/>
            <p:cNvGrpSpPr/>
            <p:nvPr/>
          </p:nvGrpSpPr>
          <p:grpSpPr>
            <a:xfrm>
              <a:off x="5562720" y="3886200"/>
              <a:ext cx="838080" cy="1447920"/>
              <a:chOff x="5562720" y="3886200"/>
              <a:chExt cx="838080" cy="1447920"/>
            </a:xfrm>
          </p:grpSpPr>
          <p:sp>
            <p:nvSpPr>
              <p:cNvPr id="425" name=""/>
              <p:cNvSpPr/>
              <p:nvPr/>
            </p:nvSpPr>
            <p:spPr>
              <a:xfrm>
                <a:off x="5562720" y="4179960"/>
                <a:ext cx="838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5562720" y="4473720"/>
                <a:ext cx="838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5562720" y="4767480"/>
                <a:ext cx="838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5562720" y="5062680"/>
                <a:ext cx="838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29" name=""/>
              <p:cNvGrpSpPr/>
              <p:nvPr/>
            </p:nvGrpSpPr>
            <p:grpSpPr>
              <a:xfrm>
                <a:off x="5562720" y="3886200"/>
                <a:ext cx="838080" cy="1447920"/>
                <a:chOff x="5562720" y="3886200"/>
                <a:chExt cx="838080" cy="1447920"/>
              </a:xfrm>
            </p:grpSpPr>
            <p:sp>
              <p:nvSpPr>
                <p:cNvPr id="430" name=""/>
                <p:cNvSpPr/>
                <p:nvPr/>
              </p:nvSpPr>
              <p:spPr>
                <a:xfrm>
                  <a:off x="5562720" y="3886200"/>
                  <a:ext cx="838080" cy="1447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Aft>
                      <a:spcPts val="224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Times New Roman"/>
                    </a:rPr>
                    <a:t>a     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spcAft>
                      <a:spcPts val="224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Times New Roman"/>
                    </a:rPr>
                    <a:t>b     G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spcAft>
                      <a:spcPts val="224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Times New Roman"/>
                    </a:rPr>
                    <a:t>c     L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spcAft>
                      <a:spcPts val="224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Times New Roman"/>
                    </a:rPr>
                    <a:t>d     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spcAft>
                      <a:spcPts val="224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Times New Roman"/>
                    </a:rPr>
                    <a:t>m     B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5987880" y="3886200"/>
                  <a:ext cx="0" cy="1447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32" name=""/>
            <p:cNvSpPr/>
            <p:nvPr/>
          </p:nvSpPr>
          <p:spPr>
            <a:xfrm>
              <a:off x="2438280" y="403848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876920" y="403848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38280" y="3657600"/>
              <a:ext cx="6098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048120" y="3581280"/>
              <a:ext cx="6094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483000" y="3581280"/>
              <a:ext cx="6094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876920" y="3657600"/>
              <a:ext cx="6094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Times New Roman"/>
                </a:rPr>
                <a:t>p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486400" y="3581280"/>
              <a:ext cx="6094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867280" y="3581280"/>
              <a:ext cx="6098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276720" y="5943600"/>
              <a:ext cx="6094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692680" y="5410080"/>
              <a:ext cx="6098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CE6A-0D5D-41D3-9B49-AEB42EE2A7AD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합병 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죠인 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계속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spcAft>
                <a:spcPts val="249"/>
              </a:spcAft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각 튜플이 한번씩만 읽힐 필요가 있으면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그 결과 각 블록 또한 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249"/>
              </a:spcAft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번만 읽힌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따라서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블록 액세스의 수는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249"/>
              </a:spcAft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+ b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이고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릴레이션이 정렬되어 있지 않으면 정렬 비용이 추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249"/>
              </a:spcAft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249"/>
              </a:spcAft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동등 – 죠인과 자연 죠인에만 사용될 수 있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249"/>
              </a:spcAft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한 릴레이션은 정렬되어 있고 다른 릴레이션에 죠인 애트리뷰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249"/>
              </a:spcAft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의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차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ko-KR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트리 인덱스를 가지고 있으면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하이브리드 합병 – 죠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249"/>
              </a:spcAft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이 가능하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정렬된 릴레이션은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ko-KR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트리의 잎 엔트리에 합병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249"/>
              </a:spcAft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결과는 정렬되지 않은 릴레이션의 튜플들의 주소로 정렬되고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249"/>
              </a:spcAft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주소는 실제 튜플로 효율적으로 대치될 수 있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E6CA-7181-48FE-862C-748540A774D9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해쉬 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죠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동등 – 죠인과 자연 죠인에 적용 가능하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양쪽 릴레이션의 튜플들을 죠인 애트리뷰트에 같은 해쉬 값을 가지는 집합으로 분할하기 위해 해쉬 함수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를 사용하며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다음과 같다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h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는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JoinAttrs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값들을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{0, 1, …, max}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로 대응시킨다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(JoinAttrs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는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자연 죠인에 사용되는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의 공통 애트리뷰트를 나타낸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H</a:t>
            </a:r>
            <a:r>
              <a:rPr b="0" lang="ko-KR" sz="2000" spc="-1" strike="noStrike" baseline="-8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ko-KR" sz="2000" spc="-1" strike="noStrike" baseline="-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H</a:t>
            </a:r>
            <a:r>
              <a:rPr b="0" lang="ko-KR" sz="2000" spc="-1" strike="noStrike" baseline="-8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ko-KR" sz="20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…, H</a:t>
            </a:r>
            <a:r>
              <a:rPr b="0" lang="ko-KR" sz="2000" spc="-1" strike="noStrike" baseline="-8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는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튜플들의 분할을 나타내며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각각이 처음에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는 비어 있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 t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 r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인 각 튜플은 분할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ko-KR" sz="2000" spc="-1" strike="noStrike" baseline="-8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에 들어가며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i = h(t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[JoinAttrs])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이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H</a:t>
            </a:r>
            <a:r>
              <a:rPr b="0" lang="ko-KR" sz="2000" spc="-1" strike="noStrike" baseline="-8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ko-KR" sz="2000" spc="-1" strike="noStrike" baseline="-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H</a:t>
            </a:r>
            <a:r>
              <a:rPr b="0" lang="ko-KR" sz="2000" spc="-1" strike="noStrike" baseline="-8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ko-KR" sz="20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…, H</a:t>
            </a:r>
            <a:r>
              <a:rPr b="0" lang="ko-KR" sz="2000" spc="-1" strike="noStrike" baseline="-8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는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튜플들의 분할을 나타내며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각각이 처음에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는 비어 있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  t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인 각 튜플은 분할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ko-KR" sz="2000" spc="-1" strike="noStrike" baseline="-8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에 들어가며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i = h(t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[JoinAttrs]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71B8-6DCA-4684-8F68-2BE440B40817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해쉬 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죠인 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계속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ko-KR" sz="2800" spc="-1" strike="noStrike" baseline="-8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ko-KR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내의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튜플들은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ko-KR" sz="2800" spc="-1" strike="noStrike" baseline="-12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ko-KR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내의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튜플들과만 비교될 필요가 있다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다른 분할 내의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튜플과는 다음과 같은 이유로 비교될 필요가 없다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죠인 조건을 만족하는 하나의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튜플과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튜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은 죠인 애트리뷰트에 대해 같은 값을 갖는다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그 값이 어떤 값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로 해쉬되면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, r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튜플은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ko-KR" sz="2800" spc="-1" strike="noStrike" baseline="-8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ko-KR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에 있어야 하고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튜플은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ko-KR" sz="2800" spc="-1" strike="noStrike" baseline="-16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ko-KR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내에 있어야 한다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454E-2A64-49F0-9CE5-6C3C30F86A85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해쉬 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죠인 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계속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0" name=""/>
          <p:cNvGrpSpPr/>
          <p:nvPr/>
        </p:nvGrpSpPr>
        <p:grpSpPr>
          <a:xfrm>
            <a:off x="2438280" y="1905120"/>
            <a:ext cx="4648320" cy="4190760"/>
            <a:chOff x="2438280" y="1905120"/>
            <a:chExt cx="4648320" cy="4190760"/>
          </a:xfrm>
        </p:grpSpPr>
        <p:sp>
          <p:nvSpPr>
            <p:cNvPr id="451" name=""/>
            <p:cNvSpPr/>
            <p:nvPr/>
          </p:nvSpPr>
          <p:spPr>
            <a:xfrm>
              <a:off x="2438280" y="2286000"/>
              <a:ext cx="381240" cy="3352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2" name=""/>
            <p:cNvGrpSpPr/>
            <p:nvPr/>
          </p:nvGrpSpPr>
          <p:grpSpPr>
            <a:xfrm>
              <a:off x="3809880" y="1905120"/>
              <a:ext cx="380880" cy="3657600"/>
              <a:chOff x="3809880" y="1905120"/>
              <a:chExt cx="380880" cy="3657600"/>
            </a:xfrm>
          </p:grpSpPr>
          <p:sp>
            <p:nvSpPr>
              <p:cNvPr id="453" name=""/>
              <p:cNvSpPr/>
              <p:nvPr/>
            </p:nvSpPr>
            <p:spPr>
              <a:xfrm>
                <a:off x="3809880" y="1905120"/>
                <a:ext cx="380880" cy="609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3809880" y="2666880"/>
                <a:ext cx="380880" cy="6098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3809880" y="3429000"/>
                <a:ext cx="380880" cy="609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3809880" y="4191120"/>
                <a:ext cx="380880" cy="609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3809880" y="4952880"/>
                <a:ext cx="380880" cy="6098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8" name=""/>
            <p:cNvGrpSpPr/>
            <p:nvPr/>
          </p:nvGrpSpPr>
          <p:grpSpPr>
            <a:xfrm>
              <a:off x="5181480" y="1905120"/>
              <a:ext cx="380880" cy="3657600"/>
              <a:chOff x="5181480" y="1905120"/>
              <a:chExt cx="380880" cy="3657600"/>
            </a:xfrm>
          </p:grpSpPr>
          <p:sp>
            <p:nvSpPr>
              <p:cNvPr id="459" name=""/>
              <p:cNvSpPr/>
              <p:nvPr/>
            </p:nvSpPr>
            <p:spPr>
              <a:xfrm>
                <a:off x="5181480" y="1905120"/>
                <a:ext cx="380880" cy="609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5181480" y="2666880"/>
                <a:ext cx="380880" cy="6098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5181480" y="3429000"/>
                <a:ext cx="380880" cy="609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5181480" y="4191120"/>
                <a:ext cx="380880" cy="609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5181480" y="4952880"/>
                <a:ext cx="380880" cy="6098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4" name=""/>
            <p:cNvSpPr/>
            <p:nvPr/>
          </p:nvSpPr>
          <p:spPr>
            <a:xfrm>
              <a:off x="6705720" y="2590920"/>
              <a:ext cx="380880" cy="2895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590920" y="2311560"/>
              <a:ext cx="1218960" cy="406080"/>
            </a:xfrm>
            <a:custGeom>
              <a:avLst/>
              <a:gdLst/>
              <a:ahLst/>
              <a:rect l="l" t="t" r="r" b="b"/>
              <a:pathLst>
                <a:path w="720" h="256">
                  <a:moveTo>
                    <a:pt x="0" y="32"/>
                  </a:moveTo>
                  <a:cubicBezTo>
                    <a:pt x="96" y="16"/>
                    <a:pt x="192" y="0"/>
                    <a:pt x="288" y="32"/>
                  </a:cubicBezTo>
                  <a:cubicBezTo>
                    <a:pt x="384" y="64"/>
                    <a:pt x="504" y="192"/>
                    <a:pt x="576" y="224"/>
                  </a:cubicBezTo>
                  <a:cubicBezTo>
                    <a:pt x="648" y="256"/>
                    <a:pt x="684" y="240"/>
                    <a:pt x="720" y="22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590920" y="2209680"/>
              <a:ext cx="1218960" cy="368280"/>
            </a:xfrm>
            <a:custGeom>
              <a:avLst/>
              <a:gdLst/>
              <a:ahLst/>
              <a:rect l="l" t="t" r="r" b="b"/>
              <a:pathLst>
                <a:path w="768" h="328">
                  <a:moveTo>
                    <a:pt x="0" y="288"/>
                  </a:moveTo>
                  <a:cubicBezTo>
                    <a:pt x="96" y="308"/>
                    <a:pt x="192" y="328"/>
                    <a:pt x="288" y="288"/>
                  </a:cubicBezTo>
                  <a:cubicBezTo>
                    <a:pt x="384" y="248"/>
                    <a:pt x="496" y="96"/>
                    <a:pt x="576" y="48"/>
                  </a:cubicBezTo>
                  <a:cubicBezTo>
                    <a:pt x="656" y="0"/>
                    <a:pt x="712" y="0"/>
                    <a:pt x="768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590920" y="2666880"/>
              <a:ext cx="1218960" cy="1575000"/>
            </a:xfrm>
            <a:custGeom>
              <a:avLst/>
              <a:gdLst/>
              <a:ahLst/>
              <a:rect l="l" t="t" r="r" b="b"/>
              <a:pathLst>
                <a:path w="768" h="992">
                  <a:moveTo>
                    <a:pt x="0" y="0"/>
                  </a:moveTo>
                  <a:cubicBezTo>
                    <a:pt x="104" y="24"/>
                    <a:pt x="208" y="48"/>
                    <a:pt x="288" y="192"/>
                  </a:cubicBezTo>
                  <a:cubicBezTo>
                    <a:pt x="368" y="336"/>
                    <a:pt x="400" y="736"/>
                    <a:pt x="480" y="864"/>
                  </a:cubicBezTo>
                  <a:cubicBezTo>
                    <a:pt x="560" y="992"/>
                    <a:pt x="664" y="976"/>
                    <a:pt x="768" y="96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590920" y="2806560"/>
              <a:ext cx="1218960" cy="635040"/>
            </a:xfrm>
            <a:custGeom>
              <a:avLst/>
              <a:gdLst/>
              <a:ahLst/>
              <a:rect l="l" t="t" r="r" b="b"/>
              <a:pathLst>
                <a:path w="768" h="400">
                  <a:moveTo>
                    <a:pt x="0" y="8"/>
                  </a:moveTo>
                  <a:cubicBezTo>
                    <a:pt x="124" y="4"/>
                    <a:pt x="248" y="0"/>
                    <a:pt x="336" y="56"/>
                  </a:cubicBezTo>
                  <a:cubicBezTo>
                    <a:pt x="424" y="112"/>
                    <a:pt x="456" y="288"/>
                    <a:pt x="528" y="344"/>
                  </a:cubicBezTo>
                  <a:cubicBezTo>
                    <a:pt x="600" y="400"/>
                    <a:pt x="684" y="396"/>
                    <a:pt x="768" y="39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2590920" y="3000240"/>
              <a:ext cx="1218960" cy="733680"/>
            </a:xfrm>
            <a:custGeom>
              <a:avLst/>
              <a:gdLst/>
              <a:ahLst/>
              <a:rect l="l" t="t" r="r" b="b"/>
              <a:pathLst>
                <a:path w="768" h="400">
                  <a:moveTo>
                    <a:pt x="0" y="8"/>
                  </a:moveTo>
                  <a:cubicBezTo>
                    <a:pt x="124" y="4"/>
                    <a:pt x="248" y="0"/>
                    <a:pt x="336" y="56"/>
                  </a:cubicBezTo>
                  <a:cubicBezTo>
                    <a:pt x="424" y="112"/>
                    <a:pt x="456" y="288"/>
                    <a:pt x="528" y="344"/>
                  </a:cubicBezTo>
                  <a:cubicBezTo>
                    <a:pt x="600" y="400"/>
                    <a:pt x="684" y="396"/>
                    <a:pt x="768" y="39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562720" y="2666880"/>
              <a:ext cx="1295280" cy="762120"/>
            </a:xfrm>
            <a:custGeom>
              <a:avLst/>
              <a:gdLst/>
              <a:ahLst/>
              <a:rect l="l" t="t" r="r" b="b"/>
              <a:pathLst>
                <a:path w="816" h="672">
                  <a:moveTo>
                    <a:pt x="816" y="0"/>
                  </a:moveTo>
                  <a:cubicBezTo>
                    <a:pt x="672" y="0"/>
                    <a:pt x="528" y="0"/>
                    <a:pt x="432" y="96"/>
                  </a:cubicBezTo>
                  <a:cubicBezTo>
                    <a:pt x="336" y="192"/>
                    <a:pt x="312" y="480"/>
                    <a:pt x="240" y="576"/>
                  </a:cubicBezTo>
                  <a:cubicBezTo>
                    <a:pt x="168" y="672"/>
                    <a:pt x="84" y="672"/>
                    <a:pt x="0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 flipH="1">
              <a:off x="5562720" y="28195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562720" y="2946240"/>
              <a:ext cx="1295280" cy="1270080"/>
            </a:xfrm>
            <a:custGeom>
              <a:avLst/>
              <a:gdLst/>
              <a:ahLst/>
              <a:rect l="l" t="t" r="r" b="b"/>
              <a:pathLst>
                <a:path w="816" h="800">
                  <a:moveTo>
                    <a:pt x="816" y="16"/>
                  </a:moveTo>
                  <a:cubicBezTo>
                    <a:pt x="716" y="8"/>
                    <a:pt x="616" y="0"/>
                    <a:pt x="528" y="112"/>
                  </a:cubicBezTo>
                  <a:cubicBezTo>
                    <a:pt x="440" y="224"/>
                    <a:pt x="376" y="576"/>
                    <a:pt x="288" y="688"/>
                  </a:cubicBezTo>
                  <a:cubicBezTo>
                    <a:pt x="200" y="800"/>
                    <a:pt x="100" y="792"/>
                    <a:pt x="0" y="78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562720" y="2324160"/>
              <a:ext cx="1295280" cy="838080"/>
            </a:xfrm>
            <a:custGeom>
              <a:avLst/>
              <a:gdLst/>
              <a:ahLst/>
              <a:rect l="l" t="t" r="r" b="b"/>
              <a:pathLst>
                <a:path w="816" h="528">
                  <a:moveTo>
                    <a:pt x="816" y="504"/>
                  </a:moveTo>
                  <a:cubicBezTo>
                    <a:pt x="692" y="516"/>
                    <a:pt x="568" y="528"/>
                    <a:pt x="480" y="456"/>
                  </a:cubicBezTo>
                  <a:cubicBezTo>
                    <a:pt x="392" y="384"/>
                    <a:pt x="368" y="144"/>
                    <a:pt x="288" y="72"/>
                  </a:cubicBezTo>
                  <a:cubicBezTo>
                    <a:pt x="208" y="0"/>
                    <a:pt x="104" y="12"/>
                    <a:pt x="0" y="2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562720" y="3276720"/>
              <a:ext cx="1295280" cy="1676160"/>
            </a:xfrm>
            <a:custGeom>
              <a:avLst/>
              <a:gdLst/>
              <a:ahLst/>
              <a:rect l="l" t="t" r="r" b="b"/>
              <a:pathLst>
                <a:path w="816" h="1112">
                  <a:moveTo>
                    <a:pt x="816" y="0"/>
                  </a:moveTo>
                  <a:cubicBezTo>
                    <a:pt x="716" y="16"/>
                    <a:pt x="616" y="32"/>
                    <a:pt x="528" y="192"/>
                  </a:cubicBezTo>
                  <a:cubicBezTo>
                    <a:pt x="440" y="352"/>
                    <a:pt x="376" y="808"/>
                    <a:pt x="288" y="960"/>
                  </a:cubicBezTo>
                  <a:cubicBezTo>
                    <a:pt x="200" y="1112"/>
                    <a:pt x="100" y="1108"/>
                    <a:pt x="0" y="110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267080" y="2209680"/>
              <a:ext cx="83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267080" y="2971800"/>
              <a:ext cx="83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267080" y="3722760"/>
              <a:ext cx="83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267080" y="4495680"/>
              <a:ext cx="83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267080" y="5181480"/>
              <a:ext cx="83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3429000" y="1905120"/>
              <a:ext cx="3049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429000" y="2666880"/>
              <a:ext cx="304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429000" y="3429000"/>
              <a:ext cx="304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429000" y="4191120"/>
              <a:ext cx="3049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429000" y="4952880"/>
              <a:ext cx="304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638680" y="1905120"/>
              <a:ext cx="3049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638680" y="2819520"/>
              <a:ext cx="3049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638680" y="3429000"/>
              <a:ext cx="304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638680" y="4191120"/>
              <a:ext cx="3049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276720" y="5562720"/>
              <a:ext cx="121896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의 분할들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876920" y="5562720"/>
              <a:ext cx="121896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의 분할들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638680" y="4952880"/>
              <a:ext cx="304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727680" y="5562720"/>
              <a:ext cx="3049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57D3-A5FE-4649-9F84-8FDB97945D15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해쉬 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죠인 알고리즘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의 해쉬 죠인은 다음과 같이 계산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해쉬 함수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를 사용해 릴레이션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를 분할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릴레이션을 분할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때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메모리의 한 블록은 각 분할의 출력 버퍼로 남겨둔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위와 유사하게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을 분할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각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에 대해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(a) H</a:t>
            </a:r>
            <a:r>
              <a:rPr b="0" lang="ko-KR" sz="2000" spc="-1" strike="noStrike" baseline="-8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를 메모리에 넣고 죠인 애트리뷰트를 사용해 그에 메모리내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해쉬 인덱스를 구축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이 해쉬 인덱스는 앞의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와는 다른 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쉬 함수를 사용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(b)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디스크에서 하나씩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ko-KR" sz="2000" spc="-1" strike="noStrike" baseline="-8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내의 튜플들을 읽는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각 튜플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에 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해 메모리내 해쉬 인덱스를 사용해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ko-KR" sz="2000" spc="-1" strike="noStrike" baseline="-8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내의 부합하는 각 튜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를 찾는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릴레이션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를 구축 입력이라 하고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을 탐색 입력이라 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2184-E649-495B-A094-C53618A1C029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질의 처리의 기본 절차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계속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최적화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질의에 대한 가장 비용이 적게 드는 평가 계획을 찾는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주어진 관계형 대수 표현식은 동등한 많은 표현식을 가질 수 있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예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balance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&lt;  2500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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balance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(account))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는 다음과 동등하다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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balance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balance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&lt;  2500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(account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어떤 관계형 대수 표현식은 많은 방법으로 평가될 수 있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상세한 평가 전략을 명시하고 있는 주석이 붙은 표현식을 평가 계획이라 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예를 들어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잔고가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2500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불보다 적은 계좌를 찾기 위해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balance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인덱스를 사용하거나 릴레이션 전체를 검색해 잔고가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2500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불 이상인 계좌는 고려하지 않을 수 있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모든 동등한 표현식 중에서 가장 비용이 적게 드는 평가 계획을 선택하도록 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계획의 비용 산정은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DBMS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카타로그내의 통계 정보에 의거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0E0F-4CC2-4838-B742-0229D26B206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해쉬 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죠인 알고리즘 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계속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761760" y="1752120"/>
            <a:ext cx="80010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max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값과 해쉬 함수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는 각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ko-KR" sz="2000" spc="-1" strike="noStrike" baseline="-8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가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메모리에 들어가는 것으로 선택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반복 분할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분할의 수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가 메모리의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페이지 수보다 크면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반복 분할이 필요하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max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방향으로 분할하는 대신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s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를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M – 1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방향으로 분할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M – 1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분할들을 다른 해쉬 함수를 사용해 더욱 분할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r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에도 똑 같은 분할 방법을 사용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희귀한 경우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예를 들어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블록의 크기가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4KB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일 때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1GB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또는 메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모리 크기가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2MB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보다 작은 릴레이션에는 반복 분할이 필요치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않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해쉬 테이블 오버플로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ko-KR" sz="2000" spc="-1" strike="noStrike" baseline="-8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가 메모리에 들어가지 않으면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분할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ko-KR" sz="2000" spc="-1" strike="noStrike" baseline="-8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내에 해쉬 테이블 오버플로가 발생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다른 해쉬 함수를 사용해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ko-KR" sz="2000" spc="-1" strike="noStrike" baseline="-8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를 더욱 분할해 해결할 수 있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 H</a:t>
            </a:r>
            <a:r>
              <a:rPr b="0" lang="ko-KR" sz="2000" spc="-1" strike="noStrike" baseline="-8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도 유사하게 분할되어야 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546E-5CD2-4DB5-AD6B-1A7441CB38CF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해쉬 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죠인의 비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반복 분할이 요구되지 않으면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3(b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+ b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) + 2 </a:t>
            </a:r>
            <a:r>
              <a:rPr b="0" lang="ko-KR" sz="2000" spc="-1" strike="noStrike" baseline="-4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max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반복  분할이  요구되면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 s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를  분할하는데  필요한  패스의  수는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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M-1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(b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) - 1</a:t>
            </a:r>
            <a:r>
              <a:rPr b="0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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이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이것은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의 각 마지막 분할은 메모리에 있어야 하기 때문이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탐색 릴레이션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의 분할의 수는 구축 릴레이션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와 같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 r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은 분할하는데 필요한 패스의 수는 또한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와 같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그러므로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구축 릴레이션으로 보다 작은 릴레이션을 선택하는 것이 좋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총 비용 산정은 다음과 같다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2( b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 +b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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M-1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(b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) - 1</a:t>
            </a:r>
            <a:r>
              <a:rPr b="0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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 +b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구축 입력 전체가 메인 메모리에 들어갈 수 있으면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max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는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으로 설정될 수 있고 알고리즘은 릴레이션들을 임시 파일로 분할하지 않는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849B-E5CD-4972-970A-208E8D83C087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해쉬 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죠인 비용의 예제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50000"/>
              </a:lnSpc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8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customer         deposi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ko-KR" sz="2400" spc="-1" strike="noStrike" baseline="-25000">
                <a:solidFill>
                  <a:srgbClr val="000000"/>
                </a:solidFill>
                <a:latin typeface="Times New Roman"/>
              </a:rPr>
              <a:t>depositor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= 100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이고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ko-KR" sz="2400" spc="-1" strike="noStrike" baseline="-25000">
                <a:solidFill>
                  <a:srgbClr val="000000"/>
                </a:solidFill>
                <a:latin typeface="Times New Roman"/>
              </a:rPr>
              <a:t>customer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= 40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depositor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가 구축 입력으로 사용될 것이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그것은 각각의 크기가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블록짜리 다섯 개의 분할로 분할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이 분할은 한 패스로 이루어질 수 있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이와 유사하게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, customer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는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블록짜리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개의 분할로 분할되며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이 또한 한 패스로 이루어질 수 있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그러므로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총 비용은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3(100 + 400) = 1500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블록 전송이 된다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부분적으로 들어찬 블록 쓰기 비용은 무시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1" name=""/>
          <p:cNvGrpSpPr/>
          <p:nvPr/>
        </p:nvGrpSpPr>
        <p:grpSpPr>
          <a:xfrm>
            <a:off x="4549680" y="2188800"/>
            <a:ext cx="304920" cy="152640"/>
            <a:chOff x="4549680" y="2188800"/>
            <a:chExt cx="304920" cy="152640"/>
          </a:xfrm>
        </p:grpSpPr>
        <p:sp>
          <p:nvSpPr>
            <p:cNvPr id="502" name=""/>
            <p:cNvSpPr/>
            <p:nvPr/>
          </p:nvSpPr>
          <p:spPr>
            <a:xfrm>
              <a:off x="4549680" y="21891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854600" y="21891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 flipV="1">
              <a:off x="4549680" y="218880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549680" y="218916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54EF-3F95-45CE-BC27-DF8AF5065AE8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하이브리드 해쉬 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죠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메모리 크기가 비교적 크고 구축 입력이 메모리보다 클 때 유용하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메모리 크기가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25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블록인 경우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depositor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는 각각의 크기가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블록짜리 다섯 개의 분할로 분할될 수 있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구축 입력 분할 중 첫 번째 것을 메모리에 저장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그것은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개의 블록을 차지한다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하나의 블록은 입력으로 사용되고 하나의 블록 각각은 다른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개 분할을 버퍼링하는데 사용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customer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도 이와 유사하게 각각의 크기가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80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블록인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개의 분할로 분할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첫 번째 분할은 출력되고 되 읽는 대신 곧바로 탐색에 사용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부분적으로 들어찬 블록의 출력 비용을 무시하면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평범한 해쉬 – 죠인으로는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1500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블록 전송이던 비용이 하이브리드 해쉬 – 죠인으로는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3(80 + 320) + 20 + 80 = 1300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블록 전송이 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M &gt;&gt; </a:t>
            </a:r>
            <a:r>
              <a:rPr b="0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일 때 하이브리드 해쉬 – 죠인이 가장 유용하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893960" y="57690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E550-3461-4243-BCD1-6EAE60E1CD9B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복합 죠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다음과 같은 논리곱 조건을 가진 죠인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r        </a:t>
            </a:r>
            <a:r>
              <a:rPr b="0" lang="ko-KR" sz="2000" spc="-1" strike="noStrike" baseline="-12000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000" spc="-1" strike="noStrike" baseline="-12000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 … 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000" spc="-1" strike="noStrike" baseline="-12000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보다 단순한 죠인들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r        </a:t>
            </a:r>
            <a:r>
              <a:rPr b="0" lang="ko-KR" sz="2000" spc="-1" strike="noStrike" baseline="-12000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s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중 하나의 결과를 계산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마지막 결과에는 다음과 같은 나머지 조건을 만족하는 중간 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과 내의 튜플들을 포함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0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i-1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i+1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0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이들 조건은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r        </a:t>
            </a:r>
            <a:r>
              <a:rPr b="0" lang="ko-KR" sz="2000" spc="-1" strike="noStrike" baseline="-12000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s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내의 튜플들이 생성될 때 테스트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다음과 같은 논리합 조건을 가진 죠인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r        </a:t>
            </a:r>
            <a:r>
              <a:rPr b="0" lang="ko-KR" sz="2000" spc="-1" strike="noStrike" baseline="-12000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000" spc="-1" strike="noStrike" baseline="-12000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2  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 …  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000" spc="-1" strike="noStrike" baseline="-12000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개별 죠인들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r        </a:t>
            </a:r>
            <a:r>
              <a:rPr b="0" lang="ko-KR" sz="2000" spc="-1" strike="noStrike" baseline="-12000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s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내 레코드들의 합집합으로서 계산한다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(r        </a:t>
            </a:r>
            <a:r>
              <a:rPr b="0" lang="ko-KR" sz="2000" spc="-1" strike="noStrike" baseline="-12000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1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s) </a:t>
            </a:r>
            <a:r>
              <a:rPr b="0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(r        </a:t>
            </a:r>
            <a:r>
              <a:rPr b="0" lang="ko-KR" sz="2000" spc="-1" strike="noStrike" baseline="-12000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2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s) </a:t>
            </a:r>
            <a:r>
              <a:rPr b="0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0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(r        </a:t>
            </a:r>
            <a:r>
              <a:rPr b="0" lang="ko-KR" sz="2000" spc="-1" strike="noStrike" baseline="-12000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n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3940200" y="2252520"/>
            <a:ext cx="304920" cy="152640"/>
            <a:chOff x="3940200" y="2252520"/>
            <a:chExt cx="304920" cy="152640"/>
          </a:xfrm>
        </p:grpSpPr>
        <p:sp>
          <p:nvSpPr>
            <p:cNvPr id="512" name=""/>
            <p:cNvSpPr/>
            <p:nvPr/>
          </p:nvSpPr>
          <p:spPr>
            <a:xfrm>
              <a:off x="3940200" y="225252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245120" y="225252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 flipV="1">
              <a:off x="3940200" y="2252520"/>
              <a:ext cx="30492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940200" y="2252520"/>
              <a:ext cx="30492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3886200" y="2624040"/>
            <a:ext cx="304920" cy="152640"/>
            <a:chOff x="3886200" y="2624040"/>
            <a:chExt cx="304920" cy="152640"/>
          </a:xfrm>
        </p:grpSpPr>
        <p:sp>
          <p:nvSpPr>
            <p:cNvPr id="517" name=""/>
            <p:cNvSpPr/>
            <p:nvPr/>
          </p:nvSpPr>
          <p:spPr>
            <a:xfrm>
              <a:off x="3886200" y="26240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191120" y="26240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flipV="1">
              <a:off x="3886200" y="2624040"/>
              <a:ext cx="30492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886200" y="2624040"/>
              <a:ext cx="30492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1" name=""/>
          <p:cNvGrpSpPr/>
          <p:nvPr/>
        </p:nvGrpSpPr>
        <p:grpSpPr>
          <a:xfrm>
            <a:off x="3057480" y="4071600"/>
            <a:ext cx="304920" cy="152640"/>
            <a:chOff x="3057480" y="4071600"/>
            <a:chExt cx="304920" cy="152640"/>
          </a:xfrm>
        </p:grpSpPr>
        <p:sp>
          <p:nvSpPr>
            <p:cNvPr id="522" name=""/>
            <p:cNvSpPr/>
            <p:nvPr/>
          </p:nvSpPr>
          <p:spPr>
            <a:xfrm>
              <a:off x="3057480" y="40719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362400" y="40719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 flipV="1">
              <a:off x="3057480" y="407160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057480" y="407196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3929040" y="4822560"/>
            <a:ext cx="304920" cy="152640"/>
            <a:chOff x="3929040" y="4822560"/>
            <a:chExt cx="304920" cy="152640"/>
          </a:xfrm>
        </p:grpSpPr>
        <p:sp>
          <p:nvSpPr>
            <p:cNvPr id="527" name=""/>
            <p:cNvSpPr/>
            <p:nvPr/>
          </p:nvSpPr>
          <p:spPr>
            <a:xfrm>
              <a:off x="3929040" y="48229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233960" y="48229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 flipV="1">
              <a:off x="3929040" y="482256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929040" y="482292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1" name=""/>
          <p:cNvGrpSpPr/>
          <p:nvPr/>
        </p:nvGrpSpPr>
        <p:grpSpPr>
          <a:xfrm>
            <a:off x="2971800" y="5181480"/>
            <a:ext cx="304920" cy="152640"/>
            <a:chOff x="2971800" y="5181480"/>
            <a:chExt cx="304920" cy="152640"/>
          </a:xfrm>
        </p:grpSpPr>
        <p:sp>
          <p:nvSpPr>
            <p:cNvPr id="532" name=""/>
            <p:cNvSpPr/>
            <p:nvPr/>
          </p:nvSpPr>
          <p:spPr>
            <a:xfrm>
              <a:off x="2971800" y="51814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276720" y="51814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 flipV="1">
              <a:off x="2971800" y="5181480"/>
              <a:ext cx="30492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971800" y="5181480"/>
              <a:ext cx="30492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6" name=""/>
          <p:cNvGrpSpPr/>
          <p:nvPr/>
        </p:nvGrpSpPr>
        <p:grpSpPr>
          <a:xfrm>
            <a:off x="2622600" y="5551200"/>
            <a:ext cx="3821040" cy="163800"/>
            <a:chOff x="2622600" y="5551200"/>
            <a:chExt cx="3821040" cy="163800"/>
          </a:xfrm>
        </p:grpSpPr>
        <p:grpSp>
          <p:nvGrpSpPr>
            <p:cNvPr id="537" name=""/>
            <p:cNvGrpSpPr/>
            <p:nvPr/>
          </p:nvGrpSpPr>
          <p:grpSpPr>
            <a:xfrm>
              <a:off x="2622600" y="5551200"/>
              <a:ext cx="304920" cy="152640"/>
              <a:chOff x="2622600" y="5551200"/>
              <a:chExt cx="304920" cy="152640"/>
            </a:xfrm>
          </p:grpSpPr>
          <p:sp>
            <p:nvSpPr>
              <p:cNvPr id="538" name=""/>
              <p:cNvSpPr/>
              <p:nvPr/>
            </p:nvSpPr>
            <p:spPr>
              <a:xfrm>
                <a:off x="2622600" y="555156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2927520" y="555156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 flipV="1">
                <a:off x="2622600" y="5551200"/>
                <a:ext cx="30492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2622600" y="5551560"/>
                <a:ext cx="30492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2" name=""/>
            <p:cNvGrpSpPr/>
            <p:nvPr/>
          </p:nvGrpSpPr>
          <p:grpSpPr>
            <a:xfrm>
              <a:off x="4092480" y="5562360"/>
              <a:ext cx="304920" cy="152640"/>
              <a:chOff x="4092480" y="5562360"/>
              <a:chExt cx="304920" cy="152640"/>
            </a:xfrm>
          </p:grpSpPr>
          <p:sp>
            <p:nvSpPr>
              <p:cNvPr id="543" name=""/>
              <p:cNvSpPr/>
              <p:nvPr/>
            </p:nvSpPr>
            <p:spPr>
              <a:xfrm>
                <a:off x="4092480" y="55627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4397400" y="55627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 flipV="1">
                <a:off x="4092480" y="5562360"/>
                <a:ext cx="30492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4092480" y="5562720"/>
                <a:ext cx="30492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7" name=""/>
            <p:cNvGrpSpPr/>
            <p:nvPr/>
          </p:nvGrpSpPr>
          <p:grpSpPr>
            <a:xfrm>
              <a:off x="6139080" y="5562360"/>
              <a:ext cx="304560" cy="152640"/>
              <a:chOff x="6139080" y="5562360"/>
              <a:chExt cx="304560" cy="152640"/>
            </a:xfrm>
          </p:grpSpPr>
          <p:sp>
            <p:nvSpPr>
              <p:cNvPr id="548" name=""/>
              <p:cNvSpPr/>
              <p:nvPr/>
            </p:nvSpPr>
            <p:spPr>
              <a:xfrm>
                <a:off x="6139080" y="55627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6443640" y="55627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 flipV="1">
                <a:off x="6139080" y="5562360"/>
                <a:ext cx="30456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6139080" y="5562720"/>
                <a:ext cx="30456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B799-34B1-49CE-8851-3092CF7DA2BD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복합 죠인 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계속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개의 릴레이션을 내포한 죠인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: loan        depositor        custo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전략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 depositor         customer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를 계산한다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;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그  결과를  사용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loan         (depositor          customer)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를 계산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전략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 loan          depositor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를 먼저 계산하고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그 결과와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customer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를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죠인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전략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죠인들의 쌍을 동시에 수행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 loan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에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loan-number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로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customer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에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customer-name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으로 인덱스를 구축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depositor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내 각 튜플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에 대해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customer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loan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내의 상응하는 튜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들을 탐색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depositor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의 각 튜플은 정확히 한 번만 검사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전략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은 두 연산을 두 릴레이션의 두 죠인을 수행하는 것보다 더 효율적인 하나의 특수 목적 연산으로 결합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4" name=""/>
          <p:cNvGrpSpPr/>
          <p:nvPr/>
        </p:nvGrpSpPr>
        <p:grpSpPr>
          <a:xfrm>
            <a:off x="5388120" y="1893600"/>
            <a:ext cx="261720" cy="152640"/>
            <a:chOff x="5388120" y="1893600"/>
            <a:chExt cx="261720" cy="152640"/>
          </a:xfrm>
        </p:grpSpPr>
        <p:sp>
          <p:nvSpPr>
            <p:cNvPr id="555" name=""/>
            <p:cNvSpPr/>
            <p:nvPr/>
          </p:nvSpPr>
          <p:spPr>
            <a:xfrm>
              <a:off x="5388120" y="18939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649840" y="18939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V="1">
              <a:off x="5388120" y="1893600"/>
              <a:ext cx="2617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388120" y="1893960"/>
              <a:ext cx="2617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9" name=""/>
          <p:cNvGrpSpPr/>
          <p:nvPr/>
        </p:nvGrpSpPr>
        <p:grpSpPr>
          <a:xfrm>
            <a:off x="6846840" y="1893600"/>
            <a:ext cx="262080" cy="152640"/>
            <a:chOff x="6846840" y="1893600"/>
            <a:chExt cx="262080" cy="152640"/>
          </a:xfrm>
        </p:grpSpPr>
        <p:sp>
          <p:nvSpPr>
            <p:cNvPr id="560" name=""/>
            <p:cNvSpPr/>
            <p:nvPr/>
          </p:nvSpPr>
          <p:spPr>
            <a:xfrm>
              <a:off x="6846840" y="18939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108920" y="18939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 flipV="1">
              <a:off x="6846840" y="1893600"/>
              <a:ext cx="2620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846840" y="1893960"/>
              <a:ext cx="2620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4" name=""/>
          <p:cNvGrpSpPr/>
          <p:nvPr/>
        </p:nvGrpSpPr>
        <p:grpSpPr>
          <a:xfrm>
            <a:off x="3200400" y="2242800"/>
            <a:ext cx="262080" cy="152640"/>
            <a:chOff x="3200400" y="2242800"/>
            <a:chExt cx="262080" cy="152640"/>
          </a:xfrm>
        </p:grpSpPr>
        <p:sp>
          <p:nvSpPr>
            <p:cNvPr id="565" name=""/>
            <p:cNvSpPr/>
            <p:nvPr/>
          </p:nvSpPr>
          <p:spPr>
            <a:xfrm>
              <a:off x="3200400" y="22431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462480" y="22431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V="1">
              <a:off x="3200400" y="2242800"/>
              <a:ext cx="2620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200400" y="2243160"/>
              <a:ext cx="2620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9" name=""/>
          <p:cNvGrpSpPr/>
          <p:nvPr/>
        </p:nvGrpSpPr>
        <p:grpSpPr>
          <a:xfrm>
            <a:off x="2666880" y="2622240"/>
            <a:ext cx="1895400" cy="152640"/>
            <a:chOff x="2666880" y="2622240"/>
            <a:chExt cx="1895400" cy="152640"/>
          </a:xfrm>
        </p:grpSpPr>
        <p:grpSp>
          <p:nvGrpSpPr>
            <p:cNvPr id="570" name=""/>
            <p:cNvGrpSpPr/>
            <p:nvPr/>
          </p:nvGrpSpPr>
          <p:grpSpPr>
            <a:xfrm>
              <a:off x="2666880" y="2622240"/>
              <a:ext cx="262080" cy="152640"/>
              <a:chOff x="2666880" y="2622240"/>
              <a:chExt cx="262080" cy="152640"/>
            </a:xfrm>
          </p:grpSpPr>
          <p:sp>
            <p:nvSpPr>
              <p:cNvPr id="571" name=""/>
              <p:cNvSpPr/>
              <p:nvPr/>
            </p:nvSpPr>
            <p:spPr>
              <a:xfrm>
                <a:off x="2666880" y="262260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2928960" y="262260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 flipV="1">
                <a:off x="2666880" y="2622240"/>
                <a:ext cx="2620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2666880" y="2622600"/>
                <a:ext cx="2620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5" name=""/>
            <p:cNvGrpSpPr/>
            <p:nvPr/>
          </p:nvGrpSpPr>
          <p:grpSpPr>
            <a:xfrm>
              <a:off x="4300560" y="2622240"/>
              <a:ext cx="261720" cy="152640"/>
              <a:chOff x="4300560" y="2622240"/>
              <a:chExt cx="261720" cy="152640"/>
            </a:xfrm>
          </p:grpSpPr>
          <p:sp>
            <p:nvSpPr>
              <p:cNvPr id="576" name=""/>
              <p:cNvSpPr/>
              <p:nvPr/>
            </p:nvSpPr>
            <p:spPr>
              <a:xfrm>
                <a:off x="4300560" y="262260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4562280" y="262260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 flipV="1">
                <a:off x="4300560" y="2622240"/>
                <a:ext cx="26172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4300560" y="2622600"/>
                <a:ext cx="26172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80" name=""/>
          <p:cNvGrpSpPr/>
          <p:nvPr/>
        </p:nvGrpSpPr>
        <p:grpSpPr>
          <a:xfrm>
            <a:off x="2720880" y="2993760"/>
            <a:ext cx="262080" cy="152640"/>
            <a:chOff x="2720880" y="2993760"/>
            <a:chExt cx="262080" cy="152640"/>
          </a:xfrm>
        </p:grpSpPr>
        <p:sp>
          <p:nvSpPr>
            <p:cNvPr id="581" name=""/>
            <p:cNvSpPr/>
            <p:nvPr/>
          </p:nvSpPr>
          <p:spPr>
            <a:xfrm>
              <a:off x="2720880" y="29941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2982960" y="29941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 flipV="1">
              <a:off x="2720880" y="2993760"/>
              <a:ext cx="2620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2720880" y="2994120"/>
              <a:ext cx="2620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677E-324F-46B7-9EE4-A96B4287365E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기타 연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spcAft>
                <a:spcPts val="901"/>
              </a:spcAft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중복 제거는 해슁 또는 정렬을 통해 수행될 수 있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751"/>
              </a:spcAft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정렬시 중복은 서로 인접해 있을 것이고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중복 집합중의 하나만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751"/>
              </a:spcAft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제외하고는 삭제될 수 있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751"/>
              </a:spcAft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최적화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중복은 외부 정렬 – 합병에서의 중간 합병 단계에서와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751"/>
              </a:spcAft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함께 실행 파일 생성시 삭제될 수 있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751"/>
              </a:spcAft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해슁도 유사하다 – 중복은 같은 버켓에 있게 될 것이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901"/>
              </a:spcAft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추출은 각 튜플에 추출을 수행한 후 중복을 제거함으로써 구현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1934-4ECC-4FB1-8E01-94C6ED2C614E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기타 연산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계산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집성 연산은 중복 제거와 유사한 방법으로 수행할 수 있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정렬 또는 해슁이 튜플들을 같은 그룹에 함께 넣는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사용될 수 있으며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집성 함수는 각 그룹에 적용될 수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있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최적화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부분적인 집성 값을 계산함으로써 실행 파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을 생성하고 중간 합병하는 동안 튜플들은 같은 그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으로 묶는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집합 연산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및 –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) :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정렬한 후 합병 – 죠인의 변형을 사용하거나 해쉬 – 죠인의 변형을 사용할 수 있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A0CF-DD87-4BB3-BE85-91E0D69EAB7F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기타 연산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계속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예를 들어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해슁을 사용한 집합 연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같은 해쉬 함수를 양쪽 릴레이션을 분할해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ko-KR" sz="2000" spc="-1" strike="noStrike" baseline="-8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ko-KR" sz="2000" spc="-1" strike="noStrike" baseline="-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… , H</a:t>
            </a:r>
            <a:r>
              <a:rPr b="0" lang="ko-KR" sz="2000" spc="-1" strike="noStrike" baseline="-8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와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ko-KR" sz="2000" spc="-1" strike="noStrike" baseline="-8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ko-KR" sz="2000" spc="-1" strike="noStrike" baseline="-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… H</a:t>
            </a:r>
            <a:r>
              <a:rPr b="0" lang="ko-KR" sz="2000" spc="-1" strike="noStrike" baseline="-8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를 생성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각 분할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를 다음과 같이 처리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다른 해쉬 함수를 사용해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메모리에 넣은 후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ko-KR" sz="2000" spc="-1" strike="noStrike" baseline="-12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상에 메모리내 해쉬 인덱스를 구축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3. - r </a:t>
            </a:r>
            <a:r>
              <a:rPr b="0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s :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존재하지 않으면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ko-KR" sz="2000" spc="-1" strike="noStrike" baseline="-12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내의 튜플들을 해쉬 인덱스에 추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그리고 해쉬 인덱스 내의 튜플들을 결과에 추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r </a:t>
            </a:r>
            <a:r>
              <a:rPr b="0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s :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해쉬 인덱스 내에 이미 존재하면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ko-KR" sz="2000" spc="-1" strike="noStrike" baseline="-12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내의 튜플들을 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과에 출력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r – s : H</a:t>
            </a:r>
            <a:r>
              <a:rPr b="0" lang="ko-KR" sz="2000" spc="-1" strike="noStrike" baseline="-12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내의 각 튜플에 대해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해쉬 인덱스 내에 있으면 인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스로부터 삭제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해쉬 인덱스 내의 나머지 튜플들을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결과에 추가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F5CF-EAB9-4559-9715-DCF4C9D13B53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기타 연산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계속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739440" y="17524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외부 죠인은 다음 중 하나로 계산할 수 있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참가하지 않는 튜플들에 널을 채워 추가한 후 죠인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죠인 알고리즘을 수정함으로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예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r         s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에서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참가하지 않는 튜플들은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r – </a:t>
            </a:r>
            <a:r>
              <a:rPr b="0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(r       s)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내의 것들이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합병 – 죠인을 수정하여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r          s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를 계산한다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합병하는 동안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s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의  어떤 튜플과 부합하지 않는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의 각 튜플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에 대해 널로 채워 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력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우측 외부 죠인과 완전 외부 죠인도 이와 유사하게 계산될 수 있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3" name=""/>
          <p:cNvGrpSpPr/>
          <p:nvPr/>
        </p:nvGrpSpPr>
        <p:grpSpPr>
          <a:xfrm>
            <a:off x="1514520" y="3603240"/>
            <a:ext cx="380520" cy="152640"/>
            <a:chOff x="1514520" y="3603240"/>
            <a:chExt cx="380520" cy="152640"/>
          </a:xfrm>
        </p:grpSpPr>
        <p:grpSp>
          <p:nvGrpSpPr>
            <p:cNvPr id="594" name=""/>
            <p:cNvGrpSpPr/>
            <p:nvPr/>
          </p:nvGrpSpPr>
          <p:grpSpPr>
            <a:xfrm>
              <a:off x="1641240" y="3603240"/>
              <a:ext cx="253800" cy="152640"/>
              <a:chOff x="1641240" y="3603240"/>
              <a:chExt cx="253800" cy="152640"/>
            </a:xfrm>
          </p:grpSpPr>
          <p:sp>
            <p:nvSpPr>
              <p:cNvPr id="595" name=""/>
              <p:cNvSpPr/>
              <p:nvPr/>
            </p:nvSpPr>
            <p:spPr>
              <a:xfrm>
                <a:off x="1641240" y="360360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1895040" y="360360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flipV="1">
                <a:off x="1641240" y="3603240"/>
                <a:ext cx="2538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1641240" y="3603600"/>
                <a:ext cx="2538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9" name=""/>
            <p:cNvSpPr/>
            <p:nvPr/>
          </p:nvSpPr>
          <p:spPr>
            <a:xfrm>
              <a:off x="1514520" y="360792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1514520" y="375588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1" name=""/>
          <p:cNvGrpSpPr/>
          <p:nvPr/>
        </p:nvGrpSpPr>
        <p:grpSpPr>
          <a:xfrm>
            <a:off x="6413400" y="3603240"/>
            <a:ext cx="262080" cy="152640"/>
            <a:chOff x="6413400" y="3603240"/>
            <a:chExt cx="262080" cy="152640"/>
          </a:xfrm>
        </p:grpSpPr>
        <p:sp>
          <p:nvSpPr>
            <p:cNvPr id="602" name=""/>
            <p:cNvSpPr/>
            <p:nvPr/>
          </p:nvSpPr>
          <p:spPr>
            <a:xfrm>
              <a:off x="6413400" y="36036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6675480" y="36036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 flipV="1">
              <a:off x="6413400" y="3603240"/>
              <a:ext cx="2620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413400" y="3603600"/>
              <a:ext cx="2620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6" name=""/>
          <p:cNvGrpSpPr/>
          <p:nvPr/>
        </p:nvGrpSpPr>
        <p:grpSpPr>
          <a:xfrm>
            <a:off x="4267080" y="4016160"/>
            <a:ext cx="381240" cy="152640"/>
            <a:chOff x="4267080" y="4016160"/>
            <a:chExt cx="381240" cy="152640"/>
          </a:xfrm>
        </p:grpSpPr>
        <p:grpSp>
          <p:nvGrpSpPr>
            <p:cNvPr id="607" name=""/>
            <p:cNvGrpSpPr/>
            <p:nvPr/>
          </p:nvGrpSpPr>
          <p:grpSpPr>
            <a:xfrm>
              <a:off x="4394160" y="4016160"/>
              <a:ext cx="254160" cy="152640"/>
              <a:chOff x="4394160" y="4016160"/>
              <a:chExt cx="254160" cy="152640"/>
            </a:xfrm>
          </p:grpSpPr>
          <p:sp>
            <p:nvSpPr>
              <p:cNvPr id="608" name=""/>
              <p:cNvSpPr/>
              <p:nvPr/>
            </p:nvSpPr>
            <p:spPr>
              <a:xfrm>
                <a:off x="4394160" y="40165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4648320" y="40165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flipV="1">
                <a:off x="4394160" y="4016160"/>
                <a:ext cx="25416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4394160" y="4016520"/>
                <a:ext cx="25416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2" name=""/>
            <p:cNvSpPr/>
            <p:nvPr/>
          </p:nvSpPr>
          <p:spPr>
            <a:xfrm>
              <a:off x="4267080" y="4020840"/>
              <a:ext cx="12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267080" y="4168800"/>
              <a:ext cx="12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C2B5-0E52-45B9-8BE9-B679E5570831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비용 산정을 위한 카타로그 정보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릴레이션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내의 튜플의 수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: r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의 튜플들을 내포하고 있는 블록의 수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: r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의 한 튜플의 바이트 단위의 크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: r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의 블록킹 요인 – 즉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한 블록에 들어가는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의 튜플 수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V(A, r) :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애트리뷰트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에 대해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에 나타나는 서로 다른 값의 수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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(r)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의 크기와 같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SC(A, r) :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릴레이션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의 애트리뷰트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의 선택 수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; A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와 같은 조건을 만족하는 레코드의 평균수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의 튜플들이 파일내에 물리적으로 함께 저장되면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다음과 같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=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4419720" y="5138640"/>
            <a:ext cx="685800" cy="762120"/>
            <a:chOff x="4419720" y="5138640"/>
            <a:chExt cx="685800" cy="762120"/>
          </a:xfrm>
        </p:grpSpPr>
        <p:sp>
          <p:nvSpPr>
            <p:cNvPr id="145" name=""/>
            <p:cNvSpPr/>
            <p:nvPr/>
          </p:nvSpPr>
          <p:spPr>
            <a:xfrm>
              <a:off x="4419720" y="5595840"/>
              <a:ext cx="6858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ko-KR" sz="20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495680" y="5367240"/>
              <a:ext cx="5335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—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7" name=""/>
            <p:cNvGrpSpPr/>
            <p:nvPr/>
          </p:nvGrpSpPr>
          <p:grpSpPr>
            <a:xfrm>
              <a:off x="4495680" y="5138640"/>
              <a:ext cx="152640" cy="762120"/>
              <a:chOff x="4495680" y="5138640"/>
              <a:chExt cx="152640" cy="762120"/>
            </a:xfrm>
          </p:grpSpPr>
          <p:sp>
            <p:nvSpPr>
              <p:cNvPr id="148" name=""/>
              <p:cNvSpPr/>
              <p:nvPr/>
            </p:nvSpPr>
            <p:spPr>
              <a:xfrm>
                <a:off x="4495680" y="5138640"/>
                <a:ext cx="152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4495680" y="5138640"/>
                <a:ext cx="0" cy="76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" name=""/>
            <p:cNvGrpSpPr/>
            <p:nvPr/>
          </p:nvGrpSpPr>
          <p:grpSpPr>
            <a:xfrm>
              <a:off x="4876920" y="5138640"/>
              <a:ext cx="152280" cy="762120"/>
              <a:chOff x="4876920" y="5138640"/>
              <a:chExt cx="152280" cy="762120"/>
            </a:xfrm>
          </p:grpSpPr>
          <p:sp>
            <p:nvSpPr>
              <p:cNvPr id="151" name=""/>
              <p:cNvSpPr/>
              <p:nvPr/>
            </p:nvSpPr>
            <p:spPr>
              <a:xfrm>
                <a:off x="4876920" y="513864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029200" y="5138640"/>
                <a:ext cx="0" cy="76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3" name=""/>
            <p:cNvSpPr/>
            <p:nvPr/>
          </p:nvSpPr>
          <p:spPr>
            <a:xfrm>
              <a:off x="4419720" y="5138640"/>
              <a:ext cx="6858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ko-KR" sz="20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E0D7-15AF-4CBD-9AD9-F01A7B676BA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표현식의 평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구체화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최하위 단계에서 시작해 한 번에 하나의 연산을 평가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구체화된 결과를 임시 릴레이션 내에서 사용해 다음 단계 연산을 평가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아래 그림의 예에서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balance &lt; 2500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(account)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를 계산하고 저장한다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그리고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customer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와 죠인하고 저장하고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최종적으로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customer-name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추출을 계산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customer-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balance &lt; 2500                                                                  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custo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ac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6" name=""/>
          <p:cNvGrpSpPr/>
          <p:nvPr/>
        </p:nvGrpSpPr>
        <p:grpSpPr>
          <a:xfrm>
            <a:off x="2057040" y="4114800"/>
            <a:ext cx="5258160" cy="1862280"/>
            <a:chOff x="2057040" y="4114800"/>
            <a:chExt cx="5258160" cy="1862280"/>
          </a:xfrm>
        </p:grpSpPr>
        <p:grpSp>
          <p:nvGrpSpPr>
            <p:cNvPr id="617" name=""/>
            <p:cNvGrpSpPr/>
            <p:nvPr/>
          </p:nvGrpSpPr>
          <p:grpSpPr>
            <a:xfrm>
              <a:off x="4592520" y="4375080"/>
              <a:ext cx="262080" cy="152640"/>
              <a:chOff x="4592520" y="4375080"/>
              <a:chExt cx="262080" cy="152640"/>
            </a:xfrm>
          </p:grpSpPr>
          <p:sp>
            <p:nvSpPr>
              <p:cNvPr id="618" name=""/>
              <p:cNvSpPr/>
              <p:nvPr/>
            </p:nvSpPr>
            <p:spPr>
              <a:xfrm>
                <a:off x="4592520" y="437508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4854600" y="437508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flipV="1">
                <a:off x="4592520" y="4375080"/>
                <a:ext cx="26208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4592520" y="4375080"/>
                <a:ext cx="26208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2" name=""/>
            <p:cNvSpPr/>
            <p:nvPr/>
          </p:nvSpPr>
          <p:spPr>
            <a:xfrm>
              <a:off x="4724280" y="41148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2514600" y="559584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2057040" y="4572000"/>
              <a:ext cx="25146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4876920" y="4572000"/>
              <a:ext cx="243828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60A1-F0DD-4771-9068-D1844EEA2487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표현식의 평가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계속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파이프라이닝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한 연산의 결과를 다음으로 넘기면서 여러 연산을 동시에 평가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앞 장 표현식의 예에서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balance &lt; 2500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(account)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의 결과를 저장하지 않고 튜플들을 직접 죠인으로 넘긴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이와 유사하게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죠인 결과를 저장하지 않고 튜플들을 직접 추출로 넘긴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구체화보다 비용이 덜 든다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디스크에 임시 릴레이션을 저장할 필요가 없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파이프라이닝이 항상 가능한 것은 아니다 – 예를 들어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정렬과 해쉬 – 죠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파이프라이닝을 효과적으로 하기 위해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연산에 입력으로 도달되는 튜플들 조차 출력 튜플을 생성하는 평가 알고리즘을 사용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파이프라인은 두 가지 방법으로 실행될 수 있다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요구불 구동과 생성자 구동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83DC-0B67-46F2-BFB0-7195DCB0065F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관계형 표현식의 변환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표현식을 위한 질의 평가 계획의 생성에는 두 가지 절차를 내포한다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논리적으로 동등한 표현식을 생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결과 표현식에 주석을 달아 대안의 질의 계획 얻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표현식을 동등한 것으로 변환하기 위해 동등성 규칙을 사용한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산정 비용에 근거해 가장 비용이 싼 계획을 선택한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이러한 처리를 비용 기반 최적화라 한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EB95-3D39-43DA-A675-2C188F122517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표현식의 동등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두 개의 동등한 표현식으로 생성되는 릴레이션들은 애트리뷰트들이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다른 순서로 되어 있더라도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같은 애트리뷰트의 집합을 가지고 같은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튜플의 집합을 내포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2" name=""/>
          <p:cNvGrpSpPr/>
          <p:nvPr/>
        </p:nvGrpSpPr>
        <p:grpSpPr>
          <a:xfrm>
            <a:off x="914400" y="2819520"/>
            <a:ext cx="7620120" cy="3430800"/>
            <a:chOff x="914400" y="2819520"/>
            <a:chExt cx="7620120" cy="3430800"/>
          </a:xfrm>
        </p:grpSpPr>
        <p:sp>
          <p:nvSpPr>
            <p:cNvPr id="633" name=""/>
            <p:cNvSpPr/>
            <p:nvPr/>
          </p:nvSpPr>
          <p:spPr>
            <a:xfrm>
              <a:off x="914400" y="2895480"/>
              <a:ext cx="7620120" cy="33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4" name=""/>
            <p:cNvGrpSpPr/>
            <p:nvPr/>
          </p:nvGrpSpPr>
          <p:grpSpPr>
            <a:xfrm>
              <a:off x="990720" y="2819520"/>
              <a:ext cx="3231720" cy="2465640"/>
              <a:chOff x="990720" y="2819520"/>
              <a:chExt cx="3231720" cy="2465640"/>
            </a:xfrm>
          </p:grpSpPr>
          <p:sp>
            <p:nvSpPr>
              <p:cNvPr id="635" name=""/>
              <p:cNvSpPr/>
              <p:nvPr/>
            </p:nvSpPr>
            <p:spPr>
              <a:xfrm>
                <a:off x="2089080" y="2819520"/>
                <a:ext cx="155232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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customer-nam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2208240" y="3164040"/>
                <a:ext cx="1080" cy="206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2089080" y="3300480"/>
                <a:ext cx="180612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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branch-city=Brookly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38" name=""/>
              <p:cNvGrpSpPr/>
              <p:nvPr/>
            </p:nvGrpSpPr>
            <p:grpSpPr>
              <a:xfrm>
                <a:off x="2108160" y="3921120"/>
                <a:ext cx="231480" cy="138240"/>
                <a:chOff x="2108160" y="3921120"/>
                <a:chExt cx="231480" cy="138240"/>
              </a:xfrm>
            </p:grpSpPr>
            <p:sp>
              <p:nvSpPr>
                <p:cNvPr id="639" name=""/>
                <p:cNvSpPr/>
                <p:nvPr/>
              </p:nvSpPr>
              <p:spPr>
                <a:xfrm>
                  <a:off x="2108160" y="3921120"/>
                  <a:ext cx="0" cy="13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2339640" y="3921120"/>
                  <a:ext cx="0" cy="13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 flipV="1">
                  <a:off x="2108160" y="3921120"/>
                  <a:ext cx="231480" cy="13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2108160" y="3921120"/>
                  <a:ext cx="231480" cy="13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3" name=""/>
              <p:cNvGrpSpPr/>
              <p:nvPr/>
            </p:nvGrpSpPr>
            <p:grpSpPr>
              <a:xfrm>
                <a:off x="2833560" y="4462200"/>
                <a:ext cx="231480" cy="138240"/>
                <a:chOff x="2833560" y="4462200"/>
                <a:chExt cx="231480" cy="138240"/>
              </a:xfrm>
            </p:grpSpPr>
            <p:sp>
              <p:nvSpPr>
                <p:cNvPr id="644" name=""/>
                <p:cNvSpPr/>
                <p:nvPr/>
              </p:nvSpPr>
              <p:spPr>
                <a:xfrm>
                  <a:off x="2833560" y="4462560"/>
                  <a:ext cx="0" cy="137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>
                  <a:off x="3065040" y="4462560"/>
                  <a:ext cx="0" cy="137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 flipV="1">
                  <a:off x="2833560" y="4462200"/>
                  <a:ext cx="231480" cy="137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7" name=""/>
                <p:cNvSpPr/>
                <p:nvPr/>
              </p:nvSpPr>
              <p:spPr>
                <a:xfrm>
                  <a:off x="2833560" y="4462560"/>
                  <a:ext cx="231480" cy="137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48" name=""/>
              <p:cNvSpPr/>
              <p:nvPr/>
            </p:nvSpPr>
            <p:spPr>
              <a:xfrm>
                <a:off x="990720" y="4335480"/>
                <a:ext cx="87444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branc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2208240" y="3646440"/>
                <a:ext cx="1080" cy="206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flipH="1">
                <a:off x="1497960" y="4127400"/>
                <a:ext cx="671400" cy="276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2325600" y="4127400"/>
                <a:ext cx="672840" cy="276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1828800" y="4886280"/>
                <a:ext cx="982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accoun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3047760" y="4876920"/>
                <a:ext cx="1174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deposito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flipH="1">
                <a:off x="2325240" y="4678200"/>
                <a:ext cx="541080" cy="276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3038400" y="4678200"/>
                <a:ext cx="536040" cy="276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6" name=""/>
            <p:cNvSpPr/>
            <p:nvPr/>
          </p:nvSpPr>
          <p:spPr>
            <a:xfrm>
              <a:off x="1371600" y="5410080"/>
              <a:ext cx="2514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(a) </a:t>
              </a: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초기 표현식 트리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7" name=""/>
            <p:cNvGrpSpPr/>
            <p:nvPr/>
          </p:nvGrpSpPr>
          <p:grpSpPr>
            <a:xfrm>
              <a:off x="4419360" y="2971800"/>
              <a:ext cx="4115160" cy="2315160"/>
              <a:chOff x="4419360" y="2971800"/>
              <a:chExt cx="4115160" cy="2315160"/>
            </a:xfrm>
          </p:grpSpPr>
          <p:sp>
            <p:nvSpPr>
              <p:cNvPr id="658" name=""/>
              <p:cNvSpPr/>
              <p:nvPr/>
            </p:nvSpPr>
            <p:spPr>
              <a:xfrm>
                <a:off x="5991120" y="2971800"/>
                <a:ext cx="13161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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customer-nam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6096240" y="3375000"/>
                <a:ext cx="0" cy="358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60" name=""/>
              <p:cNvGrpSpPr/>
              <p:nvPr/>
            </p:nvGrpSpPr>
            <p:grpSpPr>
              <a:xfrm>
                <a:off x="5965920" y="3809880"/>
                <a:ext cx="262080" cy="138240"/>
                <a:chOff x="5965920" y="3809880"/>
                <a:chExt cx="262080" cy="138240"/>
              </a:xfrm>
            </p:grpSpPr>
            <p:sp>
              <p:nvSpPr>
                <p:cNvPr id="661" name=""/>
                <p:cNvSpPr/>
                <p:nvPr/>
              </p:nvSpPr>
              <p:spPr>
                <a:xfrm>
                  <a:off x="5965920" y="3809880"/>
                  <a:ext cx="0" cy="13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>
                  <a:off x="6228000" y="3809880"/>
                  <a:ext cx="0" cy="13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 flipV="1">
                  <a:off x="5965920" y="3809880"/>
                  <a:ext cx="262080" cy="13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>
                  <a:off x="5965920" y="3809880"/>
                  <a:ext cx="262080" cy="13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5" name=""/>
              <p:cNvGrpSpPr/>
              <p:nvPr/>
            </p:nvGrpSpPr>
            <p:grpSpPr>
              <a:xfrm>
                <a:off x="7043760" y="4387680"/>
                <a:ext cx="262080" cy="138240"/>
                <a:chOff x="7043760" y="4387680"/>
                <a:chExt cx="262080" cy="138240"/>
              </a:xfrm>
            </p:grpSpPr>
            <p:sp>
              <p:nvSpPr>
                <p:cNvPr id="666" name=""/>
                <p:cNvSpPr/>
                <p:nvPr/>
              </p:nvSpPr>
              <p:spPr>
                <a:xfrm>
                  <a:off x="7043760" y="4387680"/>
                  <a:ext cx="0" cy="13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>
                  <a:off x="7305840" y="4387680"/>
                  <a:ext cx="0" cy="13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 flipV="1">
                  <a:off x="7043760" y="4387680"/>
                  <a:ext cx="262080" cy="13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>
                  <a:off x="7043760" y="4387680"/>
                  <a:ext cx="262080" cy="13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70" name=""/>
              <p:cNvSpPr/>
              <p:nvPr/>
            </p:nvSpPr>
            <p:spPr>
              <a:xfrm>
                <a:off x="4419360" y="4888080"/>
                <a:ext cx="875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branc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flipH="1">
                <a:off x="4876560" y="4027320"/>
                <a:ext cx="106668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6248520" y="4027320"/>
                <a:ext cx="914400" cy="316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5943600" y="4871880"/>
                <a:ext cx="973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accoun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7391520" y="4871880"/>
                <a:ext cx="114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deposito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flipH="1">
                <a:off x="6400800" y="4567320"/>
                <a:ext cx="609840" cy="385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7315200" y="4567320"/>
                <a:ext cx="609840" cy="385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4745880" y="4191120"/>
                <a:ext cx="165600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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branch-city=Brookly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4832640" y="457200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9" name=""/>
            <p:cNvSpPr/>
            <p:nvPr/>
          </p:nvSpPr>
          <p:spPr>
            <a:xfrm>
              <a:off x="5181480" y="5410080"/>
              <a:ext cx="274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(b) </a:t>
              </a: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변환된 표현식 트리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3581280" y="5851440"/>
              <a:ext cx="198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동등한 표현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3FB5-BCC7-4A68-B003-418D2841B7A6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동등성 규칙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논리곱 선택 연산은 일련의 개별 선택으로 분리될 수 있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선택 연산은 교환 법칙이 성립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일련의 추출 연산들중 마지막 것만이 필요하고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다른 것들은 생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될 수 있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선택은 카티전 곱과 세타 죠인으로 결합될 수 있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(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(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2806560" y="2155680"/>
            <a:ext cx="2525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12000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baseline="-12000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E)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12000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12000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E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2774520" y="2955960"/>
            <a:ext cx="2664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12000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12000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E))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12000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12000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E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2666880" y="4251240"/>
            <a:ext cx="3962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</a:t>
            </a:r>
            <a:r>
              <a:rPr b="0" lang="ko-KR" sz="2000" spc="-1" strike="noStrike" baseline="-12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</a:t>
            </a:r>
            <a:r>
              <a:rPr b="0" lang="ko-KR" sz="2000" spc="-1" strike="noStrike" baseline="-12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(…(</a:t>
            </a:r>
            <a:r>
              <a:rPr b="0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</a:t>
            </a:r>
            <a:r>
              <a:rPr b="0" lang="ko-KR" sz="2000" spc="-1" strike="noStrike" baseline="-12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(E))</a:t>
            </a:r>
            <a:r>
              <a:rPr b="0" lang="ko-KR" sz="1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…)) = </a:t>
            </a:r>
            <a:r>
              <a:rPr b="0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</a:t>
            </a:r>
            <a:r>
              <a:rPr b="0" lang="ko-KR" sz="2000" spc="-1" strike="noStrike" baseline="-12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(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6" name=""/>
          <p:cNvGrpSpPr/>
          <p:nvPr/>
        </p:nvGrpSpPr>
        <p:grpSpPr>
          <a:xfrm>
            <a:off x="1545480" y="5165640"/>
            <a:ext cx="2658960" cy="440640"/>
            <a:chOff x="1545480" y="5165640"/>
            <a:chExt cx="2658960" cy="440640"/>
          </a:xfrm>
        </p:grpSpPr>
        <p:sp>
          <p:nvSpPr>
            <p:cNvPr id="687" name=""/>
            <p:cNvSpPr/>
            <p:nvPr/>
          </p:nvSpPr>
          <p:spPr>
            <a:xfrm>
              <a:off x="1545480" y="5165640"/>
              <a:ext cx="26589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000" spc="-1" strike="noStrike" baseline="-12000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lang="en-US" sz="2000" spc="-1" strike="noStrike" baseline="-12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(E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E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) = E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         </a:t>
              </a:r>
              <a:r>
                <a:rPr b="0" lang="en-US" sz="2000" spc="-1" strike="noStrike" baseline="-12000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lang="en-US" sz="2000" spc="-1" strike="noStrike" baseline="-12000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8" name=""/>
            <p:cNvGrpSpPr/>
            <p:nvPr/>
          </p:nvGrpSpPr>
          <p:grpSpPr>
            <a:xfrm>
              <a:off x="3386160" y="5306760"/>
              <a:ext cx="262080" cy="152640"/>
              <a:chOff x="3386160" y="5306760"/>
              <a:chExt cx="262080" cy="152640"/>
            </a:xfrm>
          </p:grpSpPr>
          <p:sp>
            <p:nvSpPr>
              <p:cNvPr id="689" name=""/>
              <p:cNvSpPr/>
              <p:nvPr/>
            </p:nvSpPr>
            <p:spPr>
              <a:xfrm>
                <a:off x="3386160" y="53071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3648240" y="53071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flipV="1">
                <a:off x="3386160" y="5306760"/>
                <a:ext cx="2620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3386160" y="5307120"/>
                <a:ext cx="2620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93" name=""/>
          <p:cNvGrpSpPr/>
          <p:nvPr/>
        </p:nvGrpSpPr>
        <p:grpSpPr>
          <a:xfrm>
            <a:off x="1653120" y="5546880"/>
            <a:ext cx="3352680" cy="440640"/>
            <a:chOff x="1653120" y="5546880"/>
            <a:chExt cx="3352680" cy="440640"/>
          </a:xfrm>
        </p:grpSpPr>
        <p:sp>
          <p:nvSpPr>
            <p:cNvPr id="694" name=""/>
            <p:cNvSpPr/>
            <p:nvPr/>
          </p:nvSpPr>
          <p:spPr>
            <a:xfrm>
              <a:off x="1653120" y="5546880"/>
              <a:ext cx="33526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000" spc="-1" strike="noStrike" baseline="-12000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000" spc="-1" strike="noStrike" baseline="-12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(E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          </a:t>
              </a:r>
              <a:r>
                <a:rPr b="0" lang="en-US" sz="2000" spc="-1" strike="noStrike" baseline="-12000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E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) = E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         </a:t>
              </a:r>
              <a:r>
                <a:rPr b="0" lang="en-US" sz="2000" spc="-1" strike="noStrike" baseline="-12000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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 baseline="-12000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000" spc="-1" strike="noStrike" baseline="-12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5" name=""/>
            <p:cNvGrpSpPr/>
            <p:nvPr/>
          </p:nvGrpSpPr>
          <p:grpSpPr>
            <a:xfrm>
              <a:off x="2328840" y="5688000"/>
              <a:ext cx="262080" cy="152640"/>
              <a:chOff x="2328840" y="5688000"/>
              <a:chExt cx="262080" cy="152640"/>
            </a:xfrm>
          </p:grpSpPr>
          <p:sp>
            <p:nvSpPr>
              <p:cNvPr id="696" name=""/>
              <p:cNvSpPr/>
              <p:nvPr/>
            </p:nvSpPr>
            <p:spPr>
              <a:xfrm>
                <a:off x="2328840" y="568800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2590920" y="568800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flipV="1">
                <a:off x="2328840" y="5688000"/>
                <a:ext cx="26208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2328840" y="5688000"/>
                <a:ext cx="26208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0" name=""/>
            <p:cNvGrpSpPr/>
            <p:nvPr/>
          </p:nvGrpSpPr>
          <p:grpSpPr>
            <a:xfrm>
              <a:off x="3841920" y="5682960"/>
              <a:ext cx="261720" cy="152640"/>
              <a:chOff x="3841920" y="5682960"/>
              <a:chExt cx="261720" cy="152640"/>
            </a:xfrm>
          </p:grpSpPr>
          <p:sp>
            <p:nvSpPr>
              <p:cNvPr id="701" name=""/>
              <p:cNvSpPr/>
              <p:nvPr/>
            </p:nvSpPr>
            <p:spPr>
              <a:xfrm>
                <a:off x="3841920" y="56833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4103640" y="56833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flipV="1">
                <a:off x="3841920" y="5682960"/>
                <a:ext cx="26172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3841920" y="5683320"/>
                <a:ext cx="26172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29D8-DD94-42E0-B424-D5A8D4061B37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동등성 규칙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계속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세타 죠인 연산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및 자연 죠인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은 교환 법칙이 성립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6. (a)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자연 죠인 연산은 결합 법칙이 성립한다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(b)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세타 죠인은 다음과 같은 방식의 결합 법칙이 성립한다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위에서 </a:t>
            </a:r>
            <a:r>
              <a:rPr b="0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는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로부터의 애트리뷰트만을 내포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7" name=""/>
          <p:cNvGrpSpPr/>
          <p:nvPr/>
        </p:nvGrpSpPr>
        <p:grpSpPr>
          <a:xfrm>
            <a:off x="3100320" y="2308320"/>
            <a:ext cx="2524320" cy="440640"/>
            <a:chOff x="3100320" y="2308320"/>
            <a:chExt cx="2524320" cy="440640"/>
          </a:xfrm>
        </p:grpSpPr>
        <p:sp>
          <p:nvSpPr>
            <p:cNvPr id="708" name=""/>
            <p:cNvSpPr/>
            <p:nvPr/>
          </p:nvSpPr>
          <p:spPr>
            <a:xfrm>
              <a:off x="3100320" y="2308320"/>
              <a:ext cx="25243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          </a:t>
              </a:r>
              <a:r>
                <a:rPr b="0" lang="en-US" sz="2000" spc="-1" strike="noStrike" baseline="-12000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E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=  E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         </a:t>
              </a:r>
              <a:r>
                <a:rPr b="0" lang="en-US" sz="2000" spc="-1" strike="noStrike" baseline="-12000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lang="en-US" sz="2000" spc="-1" strike="noStrike" baseline="-12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9" name=""/>
            <p:cNvGrpSpPr/>
            <p:nvPr/>
          </p:nvGrpSpPr>
          <p:grpSpPr>
            <a:xfrm>
              <a:off x="3471840" y="2442960"/>
              <a:ext cx="262080" cy="152640"/>
              <a:chOff x="3471840" y="2442960"/>
              <a:chExt cx="262080" cy="152640"/>
            </a:xfrm>
          </p:grpSpPr>
          <p:sp>
            <p:nvSpPr>
              <p:cNvPr id="710" name=""/>
              <p:cNvSpPr/>
              <p:nvPr/>
            </p:nvSpPr>
            <p:spPr>
              <a:xfrm>
                <a:off x="3471840" y="24433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3733920" y="24433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 flipV="1">
                <a:off x="3471840" y="2442960"/>
                <a:ext cx="2620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3471840" y="2443320"/>
                <a:ext cx="2620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4" name=""/>
            <p:cNvGrpSpPr/>
            <p:nvPr/>
          </p:nvGrpSpPr>
          <p:grpSpPr>
            <a:xfrm>
              <a:off x="4897440" y="2438280"/>
              <a:ext cx="262080" cy="152640"/>
              <a:chOff x="4897440" y="2438280"/>
              <a:chExt cx="262080" cy="152640"/>
            </a:xfrm>
          </p:grpSpPr>
          <p:sp>
            <p:nvSpPr>
              <p:cNvPr id="715" name=""/>
              <p:cNvSpPr/>
              <p:nvPr/>
            </p:nvSpPr>
            <p:spPr>
              <a:xfrm>
                <a:off x="4897440" y="243828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5159520" y="243828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 flipV="1">
                <a:off x="4897440" y="2438280"/>
                <a:ext cx="26208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4897440" y="2438280"/>
                <a:ext cx="26208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9" name=""/>
          <p:cNvGrpSpPr/>
          <p:nvPr/>
        </p:nvGrpSpPr>
        <p:grpSpPr>
          <a:xfrm>
            <a:off x="2666880" y="3370320"/>
            <a:ext cx="4267440" cy="440640"/>
            <a:chOff x="2666880" y="3370320"/>
            <a:chExt cx="4267440" cy="440640"/>
          </a:xfrm>
        </p:grpSpPr>
        <p:sp>
          <p:nvSpPr>
            <p:cNvPr id="720" name=""/>
            <p:cNvSpPr/>
            <p:nvPr/>
          </p:nvSpPr>
          <p:spPr>
            <a:xfrm>
              <a:off x="2666880" y="3370320"/>
              <a:ext cx="4267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(E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 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E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)        E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=  E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         </a:t>
              </a:r>
              <a:r>
                <a:rPr b="0" lang="en-US" sz="2000" spc="-1" strike="noStrike" baseline="-12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(E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   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1" name=""/>
            <p:cNvGrpSpPr/>
            <p:nvPr/>
          </p:nvGrpSpPr>
          <p:grpSpPr>
            <a:xfrm>
              <a:off x="3179880" y="3504960"/>
              <a:ext cx="260280" cy="152640"/>
              <a:chOff x="3179880" y="3504960"/>
              <a:chExt cx="260280" cy="152640"/>
            </a:xfrm>
          </p:grpSpPr>
          <p:sp>
            <p:nvSpPr>
              <p:cNvPr id="722" name=""/>
              <p:cNvSpPr/>
              <p:nvPr/>
            </p:nvSpPr>
            <p:spPr>
              <a:xfrm>
                <a:off x="3179880" y="350496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3440160" y="350496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 flipV="1">
                <a:off x="3179880" y="3504960"/>
                <a:ext cx="26028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3179880" y="3504960"/>
                <a:ext cx="26028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291280" y="3500280"/>
              <a:ext cx="260280" cy="152640"/>
              <a:chOff x="5291280" y="3500280"/>
              <a:chExt cx="260280" cy="152640"/>
            </a:xfrm>
          </p:grpSpPr>
          <p:sp>
            <p:nvSpPr>
              <p:cNvPr id="727" name=""/>
              <p:cNvSpPr/>
              <p:nvPr/>
            </p:nvSpPr>
            <p:spPr>
              <a:xfrm>
                <a:off x="5291280" y="350028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551560" y="350028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 flipV="1">
                <a:off x="5291280" y="3500280"/>
                <a:ext cx="26028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5291280" y="3500280"/>
                <a:ext cx="26028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1" name=""/>
            <p:cNvGrpSpPr/>
            <p:nvPr/>
          </p:nvGrpSpPr>
          <p:grpSpPr>
            <a:xfrm>
              <a:off x="3995640" y="3495240"/>
              <a:ext cx="260280" cy="152640"/>
              <a:chOff x="3995640" y="3495240"/>
              <a:chExt cx="260280" cy="152640"/>
            </a:xfrm>
          </p:grpSpPr>
          <p:sp>
            <p:nvSpPr>
              <p:cNvPr id="732" name=""/>
              <p:cNvSpPr/>
              <p:nvPr/>
            </p:nvSpPr>
            <p:spPr>
              <a:xfrm>
                <a:off x="3995640" y="349560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4255920" y="349560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 flipV="1">
                <a:off x="3995640" y="3495240"/>
                <a:ext cx="2602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3995640" y="3495600"/>
                <a:ext cx="2602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6118200" y="3495240"/>
              <a:ext cx="260280" cy="152640"/>
              <a:chOff x="6118200" y="3495240"/>
              <a:chExt cx="260280" cy="152640"/>
            </a:xfrm>
          </p:grpSpPr>
          <p:sp>
            <p:nvSpPr>
              <p:cNvPr id="737" name=""/>
              <p:cNvSpPr/>
              <p:nvPr/>
            </p:nvSpPr>
            <p:spPr>
              <a:xfrm>
                <a:off x="6118200" y="349560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6378480" y="349560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 flipV="1">
                <a:off x="6118200" y="3495240"/>
                <a:ext cx="2602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6118200" y="3495600"/>
                <a:ext cx="2602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41" name=""/>
          <p:cNvSpPr/>
          <p:nvPr/>
        </p:nvSpPr>
        <p:spPr>
          <a:xfrm>
            <a:off x="1752480" y="4495680"/>
            <a:ext cx="6172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          </a:t>
            </a:r>
            <a:r>
              <a:rPr b="0" lang="en-US" sz="2000" spc="-1" strike="noStrike" baseline="-12000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         </a:t>
            </a:r>
            <a:r>
              <a:rPr b="0" lang="en-US" sz="2000" spc="-1" strike="noStrike" baseline="-12000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baseline="-12000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          </a:t>
            </a:r>
            <a:r>
              <a:rPr b="0" lang="en-US" sz="2000" spc="-1" strike="noStrike" baseline="-12000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baseline="-12000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          </a:t>
            </a:r>
            <a:r>
              <a:rPr b="0" lang="en-US" sz="2000" spc="-1" strike="noStrike" baseline="-12000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2" name=""/>
          <p:cNvGrpSpPr/>
          <p:nvPr/>
        </p:nvGrpSpPr>
        <p:grpSpPr>
          <a:xfrm>
            <a:off x="2209680" y="4571640"/>
            <a:ext cx="297000" cy="152640"/>
            <a:chOff x="2209680" y="4571640"/>
            <a:chExt cx="297000" cy="152640"/>
          </a:xfrm>
        </p:grpSpPr>
        <p:sp>
          <p:nvSpPr>
            <p:cNvPr id="743" name=""/>
            <p:cNvSpPr/>
            <p:nvPr/>
          </p:nvSpPr>
          <p:spPr>
            <a:xfrm>
              <a:off x="2209680" y="45720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06680" y="45720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 flipV="1">
              <a:off x="2209680" y="4571640"/>
              <a:ext cx="2970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209680" y="4572000"/>
              <a:ext cx="2970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7" name=""/>
          <p:cNvGrpSpPr/>
          <p:nvPr/>
        </p:nvGrpSpPr>
        <p:grpSpPr>
          <a:xfrm>
            <a:off x="5265720" y="4625640"/>
            <a:ext cx="297000" cy="152640"/>
            <a:chOff x="5265720" y="4625640"/>
            <a:chExt cx="297000" cy="152640"/>
          </a:xfrm>
        </p:grpSpPr>
        <p:sp>
          <p:nvSpPr>
            <p:cNvPr id="748" name=""/>
            <p:cNvSpPr/>
            <p:nvPr/>
          </p:nvSpPr>
          <p:spPr>
            <a:xfrm>
              <a:off x="5265720" y="46260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5562720" y="46260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 flipV="1">
              <a:off x="5265720" y="4625640"/>
              <a:ext cx="2970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5265720" y="4626000"/>
              <a:ext cx="2970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2" name=""/>
          <p:cNvGrpSpPr/>
          <p:nvPr/>
        </p:nvGrpSpPr>
        <p:grpSpPr>
          <a:xfrm>
            <a:off x="3276720" y="4620960"/>
            <a:ext cx="296640" cy="152640"/>
            <a:chOff x="3276720" y="4620960"/>
            <a:chExt cx="296640" cy="152640"/>
          </a:xfrm>
        </p:grpSpPr>
        <p:sp>
          <p:nvSpPr>
            <p:cNvPr id="753" name=""/>
            <p:cNvSpPr/>
            <p:nvPr/>
          </p:nvSpPr>
          <p:spPr>
            <a:xfrm>
              <a:off x="3276720" y="46213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3573360" y="46213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 flipV="1">
              <a:off x="3276720" y="4620960"/>
              <a:ext cx="2966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3276720" y="4621320"/>
              <a:ext cx="2966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7" name=""/>
          <p:cNvGrpSpPr/>
          <p:nvPr/>
        </p:nvGrpSpPr>
        <p:grpSpPr>
          <a:xfrm>
            <a:off x="6637320" y="4620960"/>
            <a:ext cx="297000" cy="152640"/>
            <a:chOff x="6637320" y="4620960"/>
            <a:chExt cx="297000" cy="152640"/>
          </a:xfrm>
        </p:grpSpPr>
        <p:sp>
          <p:nvSpPr>
            <p:cNvPr id="758" name=""/>
            <p:cNvSpPr/>
            <p:nvPr/>
          </p:nvSpPr>
          <p:spPr>
            <a:xfrm>
              <a:off x="6637320" y="46213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934320" y="46213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 flipV="1">
              <a:off x="6637320" y="4620960"/>
              <a:ext cx="2970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637320" y="4621320"/>
              <a:ext cx="2970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04C0-30F0-4B44-AADF-885BE120F090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동등성 규칙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계속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7.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선택 연산은 다음과 같은 두 조건하에서 세타 죠인 연산에 걸쳐 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배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(a) </a:t>
            </a:r>
            <a:r>
              <a:rPr b="0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내 모든 애트리뷰트가 죠인되고 있는 표현식 중의 하나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(E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의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애트리뷰트만을 내포할 때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(b) </a:t>
            </a:r>
            <a:r>
              <a:rPr b="0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은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의 애트리뷰트만을 내포하고 </a:t>
            </a:r>
            <a:r>
              <a:rPr b="0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는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의 애트리뷰트만을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내포할 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4" name=""/>
          <p:cNvGrpSpPr/>
          <p:nvPr/>
        </p:nvGrpSpPr>
        <p:grpSpPr>
          <a:xfrm>
            <a:off x="2795760" y="3336840"/>
            <a:ext cx="3833640" cy="440640"/>
            <a:chOff x="2795760" y="3336840"/>
            <a:chExt cx="3833640" cy="440640"/>
          </a:xfrm>
        </p:grpSpPr>
        <p:sp>
          <p:nvSpPr>
            <p:cNvPr id="765" name=""/>
            <p:cNvSpPr/>
            <p:nvPr/>
          </p:nvSpPr>
          <p:spPr>
            <a:xfrm>
              <a:off x="2795760" y="3336840"/>
              <a:ext cx="38336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000" spc="-1" strike="noStrike" baseline="-12000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(E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         </a:t>
              </a:r>
              <a:r>
                <a:rPr b="0" lang="en-US" sz="2000" spc="-1" strike="noStrike" baseline="-12000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E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) = (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000" spc="-1" strike="noStrike" baseline="-12000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(E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))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           </a:t>
              </a:r>
              <a:r>
                <a:rPr b="0" lang="en-US" sz="2000" spc="-1" strike="noStrike" baseline="-12000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lang="en-US" sz="2000" spc="-1" strike="noStrike" baseline="-12000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6" name=""/>
            <p:cNvGrpSpPr/>
            <p:nvPr/>
          </p:nvGrpSpPr>
          <p:grpSpPr>
            <a:xfrm>
              <a:off x="3600360" y="3477600"/>
              <a:ext cx="262080" cy="152640"/>
              <a:chOff x="3600360" y="3477600"/>
              <a:chExt cx="262080" cy="152640"/>
            </a:xfrm>
          </p:grpSpPr>
          <p:sp>
            <p:nvSpPr>
              <p:cNvPr id="767" name=""/>
              <p:cNvSpPr/>
              <p:nvPr/>
            </p:nvSpPr>
            <p:spPr>
              <a:xfrm>
                <a:off x="3600360" y="347796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3862440" y="347796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 flipV="1">
                <a:off x="3600360" y="3477600"/>
                <a:ext cx="2620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600360" y="3477960"/>
                <a:ext cx="2620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1" name=""/>
            <p:cNvGrpSpPr/>
            <p:nvPr/>
          </p:nvGrpSpPr>
          <p:grpSpPr>
            <a:xfrm>
              <a:off x="5757840" y="3472920"/>
              <a:ext cx="262080" cy="152640"/>
              <a:chOff x="5757840" y="3472920"/>
              <a:chExt cx="262080" cy="152640"/>
            </a:xfrm>
          </p:grpSpPr>
          <p:sp>
            <p:nvSpPr>
              <p:cNvPr id="772" name=""/>
              <p:cNvSpPr/>
              <p:nvPr/>
            </p:nvSpPr>
            <p:spPr>
              <a:xfrm>
                <a:off x="5757840" y="347328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6019920" y="347328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 flipV="1">
                <a:off x="5757840" y="3472920"/>
                <a:ext cx="2620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5757840" y="3473280"/>
                <a:ext cx="2620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76" name=""/>
          <p:cNvGrpSpPr/>
          <p:nvPr/>
        </p:nvGrpSpPr>
        <p:grpSpPr>
          <a:xfrm>
            <a:off x="2286000" y="4861080"/>
            <a:ext cx="4876920" cy="440640"/>
            <a:chOff x="2286000" y="4861080"/>
            <a:chExt cx="4876920" cy="440640"/>
          </a:xfrm>
        </p:grpSpPr>
        <p:sp>
          <p:nvSpPr>
            <p:cNvPr id="777" name=""/>
            <p:cNvSpPr/>
            <p:nvPr/>
          </p:nvSpPr>
          <p:spPr>
            <a:xfrm>
              <a:off x="2286000" y="4861080"/>
              <a:ext cx="48769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000" spc="-1" strike="noStrike" baseline="-12000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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 baseline="-12000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(E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         </a:t>
              </a:r>
              <a:r>
                <a:rPr b="0" lang="en-US" sz="2000" spc="-1" strike="noStrike" baseline="-12000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E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) = (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000" spc="-1" strike="noStrike" baseline="-12000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(E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))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           </a:t>
              </a:r>
              <a:r>
                <a:rPr b="0" lang="en-US" sz="2000" spc="-1" strike="noStrike" baseline="-12000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lang="en-US" sz="2000" spc="-1" strike="noStrike" baseline="-12000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000" spc="-1" strike="noStrike" baseline="-12000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(E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)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8" name=""/>
            <p:cNvGrpSpPr/>
            <p:nvPr/>
          </p:nvGrpSpPr>
          <p:grpSpPr>
            <a:xfrm>
              <a:off x="3462480" y="5002200"/>
              <a:ext cx="262080" cy="152640"/>
              <a:chOff x="3462480" y="5002200"/>
              <a:chExt cx="262080" cy="152640"/>
            </a:xfrm>
          </p:grpSpPr>
          <p:sp>
            <p:nvSpPr>
              <p:cNvPr id="779" name=""/>
              <p:cNvSpPr/>
              <p:nvPr/>
            </p:nvSpPr>
            <p:spPr>
              <a:xfrm>
                <a:off x="3462480" y="500220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3724560" y="500220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 flipV="1">
                <a:off x="3462480" y="5002200"/>
                <a:ext cx="26208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3462480" y="5002200"/>
                <a:ext cx="26208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3" name=""/>
            <p:cNvGrpSpPr/>
            <p:nvPr/>
          </p:nvGrpSpPr>
          <p:grpSpPr>
            <a:xfrm>
              <a:off x="5627880" y="4997520"/>
              <a:ext cx="261720" cy="152640"/>
              <a:chOff x="5627880" y="4997520"/>
              <a:chExt cx="261720" cy="152640"/>
            </a:xfrm>
          </p:grpSpPr>
          <p:sp>
            <p:nvSpPr>
              <p:cNvPr id="784" name=""/>
              <p:cNvSpPr/>
              <p:nvPr/>
            </p:nvSpPr>
            <p:spPr>
              <a:xfrm>
                <a:off x="5627880" y="499752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5889600" y="499752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flipV="1">
                <a:off x="5627880" y="4997520"/>
                <a:ext cx="26172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5627880" y="4997520"/>
                <a:ext cx="26172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3520-E03E-4C53-8AD4-6913F3962792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동등성 규칙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계속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8.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추출 연산은 다음과 같이 세타 죠인 연산에 걸쳐 분배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(a) </a:t>
            </a:r>
            <a:r>
              <a:rPr b="0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가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의 애트리뷰트만을 내포하면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(b) E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1         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죠인을 고려해 보자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 L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를 각각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의 애트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뷰트 집합이라 하자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 L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는 죠인 조건 </a:t>
            </a:r>
            <a:r>
              <a:rPr b="0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에 내포되지만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에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는 없는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의 애트리뷰트라 하고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L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는 죠인 조건 </a:t>
            </a:r>
            <a:r>
              <a:rPr b="0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에 내포되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만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에는 없는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의 애트리뷰트라 하자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0" name=""/>
          <p:cNvGrpSpPr/>
          <p:nvPr/>
        </p:nvGrpSpPr>
        <p:grpSpPr>
          <a:xfrm>
            <a:off x="2057400" y="2819520"/>
            <a:ext cx="5410080" cy="457200"/>
            <a:chOff x="2057400" y="2819520"/>
            <a:chExt cx="5410080" cy="457200"/>
          </a:xfrm>
        </p:grpSpPr>
        <p:sp>
          <p:nvSpPr>
            <p:cNvPr id="791" name=""/>
            <p:cNvSpPr/>
            <p:nvPr/>
          </p:nvSpPr>
          <p:spPr>
            <a:xfrm>
              <a:off x="2057400" y="2819520"/>
              <a:ext cx="54100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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 baseline="-12000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 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 baseline="-12000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(E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          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) = (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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 baseline="-12000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(E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))        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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 baseline="-12000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(E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))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2" name=""/>
            <p:cNvGrpSpPr/>
            <p:nvPr/>
          </p:nvGrpSpPr>
          <p:grpSpPr>
            <a:xfrm>
              <a:off x="3429000" y="2997000"/>
              <a:ext cx="262080" cy="152640"/>
              <a:chOff x="3429000" y="2997000"/>
              <a:chExt cx="262080" cy="152640"/>
            </a:xfrm>
          </p:grpSpPr>
          <p:sp>
            <p:nvSpPr>
              <p:cNvPr id="793" name=""/>
              <p:cNvSpPr/>
              <p:nvPr/>
            </p:nvSpPr>
            <p:spPr>
              <a:xfrm>
                <a:off x="3429000" y="299736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3691080" y="299736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flipV="1">
                <a:off x="3429000" y="2997000"/>
                <a:ext cx="2620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3429000" y="2997360"/>
                <a:ext cx="2620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7" name=""/>
            <p:cNvGrpSpPr/>
            <p:nvPr/>
          </p:nvGrpSpPr>
          <p:grpSpPr>
            <a:xfrm>
              <a:off x="5816520" y="2997000"/>
              <a:ext cx="262080" cy="152640"/>
              <a:chOff x="5816520" y="2997000"/>
              <a:chExt cx="262080" cy="152640"/>
            </a:xfrm>
          </p:grpSpPr>
          <p:sp>
            <p:nvSpPr>
              <p:cNvPr id="798" name=""/>
              <p:cNvSpPr/>
              <p:nvPr/>
            </p:nvSpPr>
            <p:spPr>
              <a:xfrm>
                <a:off x="5816520" y="299736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6078600" y="299736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flipV="1">
                <a:off x="5816520" y="2997000"/>
                <a:ext cx="2620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5816520" y="2997360"/>
                <a:ext cx="2620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02" name=""/>
          <p:cNvGrpSpPr/>
          <p:nvPr/>
        </p:nvGrpSpPr>
        <p:grpSpPr>
          <a:xfrm>
            <a:off x="1795320" y="3733560"/>
            <a:ext cx="262080" cy="152640"/>
            <a:chOff x="1795320" y="3733560"/>
            <a:chExt cx="262080" cy="152640"/>
          </a:xfrm>
        </p:grpSpPr>
        <p:sp>
          <p:nvSpPr>
            <p:cNvPr id="803" name=""/>
            <p:cNvSpPr/>
            <p:nvPr/>
          </p:nvSpPr>
          <p:spPr>
            <a:xfrm>
              <a:off x="1795320" y="37339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2057400" y="37339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V="1">
              <a:off x="1795320" y="3733560"/>
              <a:ext cx="2620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1795320" y="3733920"/>
              <a:ext cx="2620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7" name=""/>
          <p:cNvGrpSpPr/>
          <p:nvPr/>
        </p:nvGrpSpPr>
        <p:grpSpPr>
          <a:xfrm>
            <a:off x="1219320" y="5334120"/>
            <a:ext cx="7162560" cy="457200"/>
            <a:chOff x="1219320" y="5334120"/>
            <a:chExt cx="7162560" cy="457200"/>
          </a:xfrm>
        </p:grpSpPr>
        <p:sp>
          <p:nvSpPr>
            <p:cNvPr id="808" name=""/>
            <p:cNvSpPr/>
            <p:nvPr/>
          </p:nvSpPr>
          <p:spPr>
            <a:xfrm>
              <a:off x="1219320" y="5334120"/>
              <a:ext cx="71625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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 baseline="-12000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 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 baseline="-12000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(E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          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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 baseline="-12000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 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 baseline="-12000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((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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 baseline="-12000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 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 baseline="-12000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(E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))       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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 baseline="-12000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 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 baseline="-12000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(E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)))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9" name=""/>
            <p:cNvGrpSpPr/>
            <p:nvPr/>
          </p:nvGrpSpPr>
          <p:grpSpPr>
            <a:xfrm>
              <a:off x="2590920" y="5511960"/>
              <a:ext cx="261720" cy="152640"/>
              <a:chOff x="2590920" y="5511960"/>
              <a:chExt cx="261720" cy="152640"/>
            </a:xfrm>
          </p:grpSpPr>
          <p:sp>
            <p:nvSpPr>
              <p:cNvPr id="810" name=""/>
              <p:cNvSpPr/>
              <p:nvPr/>
            </p:nvSpPr>
            <p:spPr>
              <a:xfrm>
                <a:off x="2590920" y="551196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2852640" y="551196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flipV="1">
                <a:off x="2590920" y="5511960"/>
                <a:ext cx="26172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2590920" y="5511960"/>
                <a:ext cx="26172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4" name=""/>
            <p:cNvGrpSpPr/>
            <p:nvPr/>
          </p:nvGrpSpPr>
          <p:grpSpPr>
            <a:xfrm>
              <a:off x="6291360" y="5511960"/>
              <a:ext cx="261720" cy="152640"/>
              <a:chOff x="6291360" y="5511960"/>
              <a:chExt cx="261720" cy="152640"/>
            </a:xfrm>
          </p:grpSpPr>
          <p:sp>
            <p:nvSpPr>
              <p:cNvPr id="815" name=""/>
              <p:cNvSpPr/>
              <p:nvPr/>
            </p:nvSpPr>
            <p:spPr>
              <a:xfrm>
                <a:off x="6291360" y="551196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6553080" y="551196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flipV="1">
                <a:off x="6291360" y="5511960"/>
                <a:ext cx="26172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6291360" y="5511960"/>
                <a:ext cx="26172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4478-3F6A-4849-A58B-C39B90826C39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동등성 규칙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계속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9.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합집합과 공통 집합 연산은 교환 법칙이 성립한다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차집합 연산은 교환 법칙이 성립하지 않는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10.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합집합과 공통 집합은 결합 법칙이 성립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11.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선택 연산은 </a:t>
            </a:r>
            <a:r>
              <a:rPr b="0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및 – 에 걸쳐 분배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예를 들어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차집합과 공통 집합에 대해서는 다음이 성립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12.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추출 연산은 합집합 연산에 걸쳐 분배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3581280" y="2552760"/>
            <a:ext cx="2362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= 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3581280" y="2857680"/>
            <a:ext cx="2362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= 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3048120" y="3962520"/>
            <a:ext cx="33526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3276720" y="4724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2755800" y="5460840"/>
            <a:ext cx="4114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) 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)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EBC4-4B81-4CCF-90D3-F451A54B5BA2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선택 연산 예제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질의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: Brooklyn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에 위치한 어떤 지점에 계좌를 가진 모든 고객명을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찾아라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규칙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7a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를 사용한 변환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선택을 가능한 먼저 수행하면 죠인될 릴레이션의 크기를 줄인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8" name=""/>
          <p:cNvGrpSpPr/>
          <p:nvPr/>
        </p:nvGrpSpPr>
        <p:grpSpPr>
          <a:xfrm>
            <a:off x="1943280" y="2743200"/>
            <a:ext cx="5943600" cy="609480"/>
            <a:chOff x="1943280" y="2743200"/>
            <a:chExt cx="5943600" cy="609480"/>
          </a:xfrm>
        </p:grpSpPr>
        <p:sp>
          <p:nvSpPr>
            <p:cNvPr id="829" name=""/>
            <p:cNvSpPr/>
            <p:nvPr/>
          </p:nvSpPr>
          <p:spPr>
            <a:xfrm>
              <a:off x="1943280" y="2743200"/>
              <a:ext cx="59436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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customer-name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branch-city = “Brooklyn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                                 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(branch        (account        depositor)))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0" name=""/>
            <p:cNvGrpSpPr/>
            <p:nvPr/>
          </p:nvGrpSpPr>
          <p:grpSpPr>
            <a:xfrm>
              <a:off x="4691160" y="3136680"/>
              <a:ext cx="261720" cy="152640"/>
              <a:chOff x="4691160" y="3136680"/>
              <a:chExt cx="261720" cy="152640"/>
            </a:xfrm>
          </p:grpSpPr>
          <p:sp>
            <p:nvSpPr>
              <p:cNvPr id="831" name=""/>
              <p:cNvSpPr/>
              <p:nvPr/>
            </p:nvSpPr>
            <p:spPr>
              <a:xfrm>
                <a:off x="4691160" y="313668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4952880" y="313668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flipV="1">
                <a:off x="4691160" y="3136680"/>
                <a:ext cx="26172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4691160" y="3136680"/>
                <a:ext cx="26172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5" name=""/>
            <p:cNvGrpSpPr/>
            <p:nvPr/>
          </p:nvGrpSpPr>
          <p:grpSpPr>
            <a:xfrm>
              <a:off x="6062760" y="3136680"/>
              <a:ext cx="261720" cy="152640"/>
              <a:chOff x="6062760" y="3136680"/>
              <a:chExt cx="261720" cy="152640"/>
            </a:xfrm>
          </p:grpSpPr>
          <p:sp>
            <p:nvSpPr>
              <p:cNvPr id="836" name=""/>
              <p:cNvSpPr/>
              <p:nvPr/>
            </p:nvSpPr>
            <p:spPr>
              <a:xfrm>
                <a:off x="6062760" y="313668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6324480" y="313668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flipV="1">
                <a:off x="6062760" y="3136680"/>
                <a:ext cx="26172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6062760" y="3136680"/>
                <a:ext cx="26172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40" name=""/>
          <p:cNvGrpSpPr/>
          <p:nvPr/>
        </p:nvGrpSpPr>
        <p:grpSpPr>
          <a:xfrm>
            <a:off x="1943280" y="4267080"/>
            <a:ext cx="5943600" cy="609480"/>
            <a:chOff x="1943280" y="4267080"/>
            <a:chExt cx="5943600" cy="609480"/>
          </a:xfrm>
        </p:grpSpPr>
        <p:sp>
          <p:nvSpPr>
            <p:cNvPr id="841" name=""/>
            <p:cNvSpPr/>
            <p:nvPr/>
          </p:nvSpPr>
          <p:spPr>
            <a:xfrm>
              <a:off x="1943280" y="4267080"/>
              <a:ext cx="59436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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customer-name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((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branch-city = “Brooklyn”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                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(branch)) 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    (account        depositor))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2" name=""/>
            <p:cNvGrpSpPr/>
            <p:nvPr/>
          </p:nvGrpSpPr>
          <p:grpSpPr>
            <a:xfrm>
              <a:off x="4818240" y="4660560"/>
              <a:ext cx="261720" cy="152640"/>
              <a:chOff x="4818240" y="4660560"/>
              <a:chExt cx="261720" cy="152640"/>
            </a:xfrm>
          </p:grpSpPr>
          <p:sp>
            <p:nvSpPr>
              <p:cNvPr id="843" name=""/>
              <p:cNvSpPr/>
              <p:nvPr/>
            </p:nvSpPr>
            <p:spPr>
              <a:xfrm>
                <a:off x="4818240" y="46609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5079960" y="46609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flipV="1">
                <a:off x="4818240" y="4660560"/>
                <a:ext cx="26172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4818240" y="4660920"/>
                <a:ext cx="26172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7" name=""/>
            <p:cNvGrpSpPr/>
            <p:nvPr/>
          </p:nvGrpSpPr>
          <p:grpSpPr>
            <a:xfrm>
              <a:off x="6189840" y="4660560"/>
              <a:ext cx="261720" cy="152640"/>
              <a:chOff x="6189840" y="4660560"/>
              <a:chExt cx="261720" cy="152640"/>
            </a:xfrm>
          </p:grpSpPr>
          <p:sp>
            <p:nvSpPr>
              <p:cNvPr id="848" name=""/>
              <p:cNvSpPr/>
              <p:nvPr/>
            </p:nvSpPr>
            <p:spPr>
              <a:xfrm>
                <a:off x="6189840" y="46609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6451560" y="46609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flipV="1">
                <a:off x="6189840" y="4660560"/>
                <a:ext cx="26172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6189840" y="4660920"/>
                <a:ext cx="26172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54C6-60E3-41B1-8899-90653B452E32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인덱스에 관한 카타로그 정보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ko-KR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: B</a:t>
            </a:r>
            <a:r>
              <a:rPr b="0" lang="ko-KR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트리와 같은 트리 구조 인덱스에 있어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인덱스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의 내부 노드의 평균 전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HT</a:t>
            </a:r>
            <a:r>
              <a:rPr b="0" lang="ko-KR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인덱스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내 계층 수 – 즉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, i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의 높이이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릴레이션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의 애트리뷰트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의 균형 트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(B</a:t>
            </a:r>
            <a:r>
              <a:rPr b="0" lang="ko-KR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트리 같은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인덱스에 있어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, HT</a:t>
            </a:r>
            <a:r>
              <a:rPr b="0" lang="ko-KR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=  </a:t>
            </a:r>
            <a:r>
              <a:rPr b="0" lang="ko-KR" sz="2400" spc="-1" strike="noStrike">
                <a:solidFill>
                  <a:srgbClr val="000000"/>
                </a:solidFill>
                <a:latin typeface="Symbol"/>
                <a:ea typeface="Symbol"/>
              </a:rPr>
              <a:t>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ko-KR" sz="2400" spc="-1" strike="noStrike" baseline="-12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ko-KR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(V(A, r))</a:t>
            </a:r>
            <a:r>
              <a:rPr b="0" lang="ko-KR" sz="2400" spc="-1" strike="noStrike">
                <a:solidFill>
                  <a:srgbClr val="000000"/>
                </a:solidFill>
                <a:latin typeface="Symbol"/>
                <a:ea typeface="Symbol"/>
              </a:rPr>
              <a:t>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이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해쉬 인덱스에 있어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HT</a:t>
            </a:r>
            <a:r>
              <a:rPr b="0" lang="ko-KR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는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이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LB</a:t>
            </a:r>
            <a:r>
              <a:rPr b="0" lang="ko-KR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: i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내 최하위 계층 인덱스 블록의 수 – 즉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인덱스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잎 계층 블록의 수이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0BB0-E80C-41E9-82FE-2C646F47D5F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선택 연산 예제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계속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질의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예금 잔고가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불을 초과하는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Brooklyn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에 계좌를 가진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모든 고객명을 찾아라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죠인의 결합 법칙을 사용한 변환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규칙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6a)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두번째 형식에 “가능한 먼저 선택” 규칙을 적용해 다음과 같은 부 표현식을 얻는다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따라서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일련의 변환이 사용 가능할 수 있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4" name=""/>
          <p:cNvGrpSpPr/>
          <p:nvPr/>
        </p:nvGrpSpPr>
        <p:grpSpPr>
          <a:xfrm>
            <a:off x="1905120" y="2590920"/>
            <a:ext cx="5943600" cy="609480"/>
            <a:chOff x="1905120" y="2590920"/>
            <a:chExt cx="5943600" cy="609480"/>
          </a:xfrm>
        </p:grpSpPr>
        <p:sp>
          <p:nvSpPr>
            <p:cNvPr id="855" name=""/>
            <p:cNvSpPr/>
            <p:nvPr/>
          </p:nvSpPr>
          <p:spPr>
            <a:xfrm>
              <a:off x="1905120" y="2590920"/>
              <a:ext cx="59436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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customer-name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branch-city = “Brooklyn” 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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 balance  &gt; 10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                                 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(branch        (account        depositor)))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6" name=""/>
            <p:cNvGrpSpPr/>
            <p:nvPr/>
          </p:nvGrpSpPr>
          <p:grpSpPr>
            <a:xfrm>
              <a:off x="4653000" y="2984400"/>
              <a:ext cx="261720" cy="152640"/>
              <a:chOff x="4653000" y="2984400"/>
              <a:chExt cx="261720" cy="152640"/>
            </a:xfrm>
          </p:grpSpPr>
          <p:sp>
            <p:nvSpPr>
              <p:cNvPr id="857" name=""/>
              <p:cNvSpPr/>
              <p:nvPr/>
            </p:nvSpPr>
            <p:spPr>
              <a:xfrm>
                <a:off x="4653000" y="298440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4914720" y="298440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flipV="1">
                <a:off x="4653000" y="2984400"/>
                <a:ext cx="26172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4653000" y="2984400"/>
                <a:ext cx="26172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1" name=""/>
            <p:cNvGrpSpPr/>
            <p:nvPr/>
          </p:nvGrpSpPr>
          <p:grpSpPr>
            <a:xfrm>
              <a:off x="6024600" y="2984400"/>
              <a:ext cx="261720" cy="152640"/>
              <a:chOff x="6024600" y="2984400"/>
              <a:chExt cx="261720" cy="152640"/>
            </a:xfrm>
          </p:grpSpPr>
          <p:sp>
            <p:nvSpPr>
              <p:cNvPr id="862" name=""/>
              <p:cNvSpPr/>
              <p:nvPr/>
            </p:nvSpPr>
            <p:spPr>
              <a:xfrm>
                <a:off x="6024600" y="298440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6286320" y="298440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flipV="1">
                <a:off x="6024600" y="2984400"/>
                <a:ext cx="26172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6024600" y="2984400"/>
                <a:ext cx="26172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66" name=""/>
          <p:cNvSpPr/>
          <p:nvPr/>
        </p:nvSpPr>
        <p:spPr>
          <a:xfrm>
            <a:off x="1905120" y="3657600"/>
            <a:ext cx="5943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customer-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ranch-city = “Brooklyn” 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 balance  &gt; 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branch         account))        depositor)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4678200" y="4051080"/>
            <a:ext cx="262080" cy="152640"/>
            <a:chOff x="4678200" y="4051080"/>
            <a:chExt cx="262080" cy="152640"/>
          </a:xfrm>
        </p:grpSpPr>
        <p:sp>
          <p:nvSpPr>
            <p:cNvPr id="868" name=""/>
            <p:cNvSpPr/>
            <p:nvPr/>
          </p:nvSpPr>
          <p:spPr>
            <a:xfrm>
              <a:off x="4678200" y="405144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4940280" y="405144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 flipV="1">
              <a:off x="4678200" y="4051080"/>
              <a:ext cx="2620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4678200" y="4051440"/>
              <a:ext cx="2620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2" name=""/>
          <p:cNvGrpSpPr/>
          <p:nvPr/>
        </p:nvGrpSpPr>
        <p:grpSpPr>
          <a:xfrm>
            <a:off x="6164280" y="4051080"/>
            <a:ext cx="262080" cy="152640"/>
            <a:chOff x="6164280" y="4051080"/>
            <a:chExt cx="262080" cy="152640"/>
          </a:xfrm>
        </p:grpSpPr>
        <p:sp>
          <p:nvSpPr>
            <p:cNvPr id="873" name=""/>
            <p:cNvSpPr/>
            <p:nvPr/>
          </p:nvSpPr>
          <p:spPr>
            <a:xfrm>
              <a:off x="6164280" y="405144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426360" y="405144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 flipV="1">
              <a:off x="6164280" y="4051080"/>
              <a:ext cx="2620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164280" y="4051440"/>
              <a:ext cx="2620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7" name=""/>
          <p:cNvGrpSpPr/>
          <p:nvPr/>
        </p:nvGrpSpPr>
        <p:grpSpPr>
          <a:xfrm>
            <a:off x="1905120" y="4863960"/>
            <a:ext cx="5715000" cy="609840"/>
            <a:chOff x="1905120" y="4863960"/>
            <a:chExt cx="5715000" cy="609840"/>
          </a:xfrm>
        </p:grpSpPr>
        <p:sp>
          <p:nvSpPr>
            <p:cNvPr id="878" name=""/>
            <p:cNvSpPr/>
            <p:nvPr/>
          </p:nvSpPr>
          <p:spPr>
            <a:xfrm>
              <a:off x="1905120" y="4863960"/>
              <a:ext cx="571500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branch-city = “Brooklyn” 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(branch)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balance &gt; 1000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(account)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9" name=""/>
            <p:cNvGrpSpPr/>
            <p:nvPr/>
          </p:nvGrpSpPr>
          <p:grpSpPr>
            <a:xfrm>
              <a:off x="4916520" y="5092560"/>
              <a:ext cx="252360" cy="152640"/>
              <a:chOff x="4916520" y="5092560"/>
              <a:chExt cx="252360" cy="152640"/>
            </a:xfrm>
          </p:grpSpPr>
          <p:sp>
            <p:nvSpPr>
              <p:cNvPr id="880" name=""/>
              <p:cNvSpPr/>
              <p:nvPr/>
            </p:nvSpPr>
            <p:spPr>
              <a:xfrm>
                <a:off x="4916520" y="509256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5168880" y="509256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flipV="1">
                <a:off x="4916520" y="5092560"/>
                <a:ext cx="25236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4916520" y="5092560"/>
                <a:ext cx="25236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ED27-8772-4BB0-AA2E-7F0F4C936CBB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추출 연산 예제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다음을 계산하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751"/>
              </a:spcAft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아래와 같은 스키마를 가진 릴레이션을 얻는다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동등성 규칙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8a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8b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를 사용해 추출을 앞으로 밀어내 얻어지는 중간 결과에서 불필요한 애트리뷰트를 제거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6" name=""/>
          <p:cNvGrpSpPr/>
          <p:nvPr/>
        </p:nvGrpSpPr>
        <p:grpSpPr>
          <a:xfrm>
            <a:off x="1905120" y="1994040"/>
            <a:ext cx="5943600" cy="609480"/>
            <a:chOff x="1905120" y="1994040"/>
            <a:chExt cx="5943600" cy="609480"/>
          </a:xfrm>
        </p:grpSpPr>
        <p:sp>
          <p:nvSpPr>
            <p:cNvPr id="887" name=""/>
            <p:cNvSpPr/>
            <p:nvPr/>
          </p:nvSpPr>
          <p:spPr>
            <a:xfrm>
              <a:off x="1905120" y="1994040"/>
              <a:ext cx="59436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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customer-name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((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branch-city = “Brooklyn” 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(branch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ccount)        depositor)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8" name=""/>
            <p:cNvGrpSpPr/>
            <p:nvPr/>
          </p:nvGrpSpPr>
          <p:grpSpPr>
            <a:xfrm>
              <a:off x="4653000" y="2387520"/>
              <a:ext cx="261720" cy="152640"/>
              <a:chOff x="4653000" y="2387520"/>
              <a:chExt cx="261720" cy="152640"/>
            </a:xfrm>
          </p:grpSpPr>
          <p:sp>
            <p:nvSpPr>
              <p:cNvPr id="889" name=""/>
              <p:cNvSpPr/>
              <p:nvPr/>
            </p:nvSpPr>
            <p:spPr>
              <a:xfrm>
                <a:off x="4653000" y="238752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4914720" y="238752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flipV="1">
                <a:off x="4653000" y="2387520"/>
                <a:ext cx="26172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4653000" y="2387520"/>
                <a:ext cx="26172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3" name=""/>
            <p:cNvGrpSpPr/>
            <p:nvPr/>
          </p:nvGrpSpPr>
          <p:grpSpPr>
            <a:xfrm>
              <a:off x="6024600" y="2387520"/>
              <a:ext cx="261720" cy="152640"/>
              <a:chOff x="6024600" y="2387520"/>
              <a:chExt cx="261720" cy="152640"/>
            </a:xfrm>
          </p:grpSpPr>
          <p:sp>
            <p:nvSpPr>
              <p:cNvPr id="894" name=""/>
              <p:cNvSpPr/>
              <p:nvPr/>
            </p:nvSpPr>
            <p:spPr>
              <a:xfrm>
                <a:off x="6024600" y="238752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6286320" y="238752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flipV="1">
                <a:off x="6024600" y="2387520"/>
                <a:ext cx="26172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6024600" y="2387520"/>
                <a:ext cx="26172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98" name=""/>
          <p:cNvGrpSpPr/>
          <p:nvPr/>
        </p:nvGrpSpPr>
        <p:grpSpPr>
          <a:xfrm>
            <a:off x="2438280" y="3073320"/>
            <a:ext cx="4496040" cy="609840"/>
            <a:chOff x="2438280" y="3073320"/>
            <a:chExt cx="4496040" cy="609840"/>
          </a:xfrm>
        </p:grpSpPr>
        <p:sp>
          <p:nvSpPr>
            <p:cNvPr id="899" name=""/>
            <p:cNvSpPr/>
            <p:nvPr/>
          </p:nvSpPr>
          <p:spPr>
            <a:xfrm>
              <a:off x="2438280" y="3073320"/>
              <a:ext cx="449604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branch-city = “Brooklyn” 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(branch)         account)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00" name=""/>
            <p:cNvGrpSpPr/>
            <p:nvPr/>
          </p:nvGrpSpPr>
          <p:grpSpPr>
            <a:xfrm>
              <a:off x="5549760" y="3301920"/>
              <a:ext cx="304920" cy="152640"/>
              <a:chOff x="5549760" y="3301920"/>
              <a:chExt cx="304920" cy="152640"/>
            </a:xfrm>
          </p:grpSpPr>
          <p:sp>
            <p:nvSpPr>
              <p:cNvPr id="901" name=""/>
              <p:cNvSpPr/>
              <p:nvPr/>
            </p:nvSpPr>
            <p:spPr>
              <a:xfrm>
                <a:off x="5549760" y="330192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5854680" y="330192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 flipV="1">
                <a:off x="5549760" y="3301920"/>
                <a:ext cx="30492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5549760" y="3301920"/>
                <a:ext cx="30492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05" name=""/>
          <p:cNvSpPr/>
          <p:nvPr/>
        </p:nvSpPr>
        <p:spPr>
          <a:xfrm>
            <a:off x="1143000" y="4203720"/>
            <a:ext cx="6400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branch-name, branch-city, assets, account-number, balanc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6" name=""/>
          <p:cNvGrpSpPr/>
          <p:nvPr/>
        </p:nvGrpSpPr>
        <p:grpSpPr>
          <a:xfrm>
            <a:off x="1206360" y="5473800"/>
            <a:ext cx="6566040" cy="609480"/>
            <a:chOff x="1206360" y="5473800"/>
            <a:chExt cx="6566040" cy="609480"/>
          </a:xfrm>
        </p:grpSpPr>
        <p:sp>
          <p:nvSpPr>
            <p:cNvPr id="907" name=""/>
            <p:cNvSpPr/>
            <p:nvPr/>
          </p:nvSpPr>
          <p:spPr>
            <a:xfrm>
              <a:off x="1206360" y="5473800"/>
              <a:ext cx="6566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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customer-name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((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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account-number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(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branch-city = “Brooklyn” 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(branch))        account))        depositor)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08" name=""/>
            <p:cNvGrpSpPr/>
            <p:nvPr/>
          </p:nvGrpSpPr>
          <p:grpSpPr>
            <a:xfrm>
              <a:off x="4576680" y="5867280"/>
              <a:ext cx="289080" cy="152640"/>
              <a:chOff x="4576680" y="5867280"/>
              <a:chExt cx="289080" cy="152640"/>
            </a:xfrm>
          </p:grpSpPr>
          <p:sp>
            <p:nvSpPr>
              <p:cNvPr id="909" name=""/>
              <p:cNvSpPr/>
              <p:nvPr/>
            </p:nvSpPr>
            <p:spPr>
              <a:xfrm>
                <a:off x="4576680" y="586728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4865760" y="586728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flipV="1">
                <a:off x="4576680" y="5867280"/>
                <a:ext cx="28908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4576680" y="5867280"/>
                <a:ext cx="28908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3" name=""/>
            <p:cNvGrpSpPr/>
            <p:nvPr/>
          </p:nvGrpSpPr>
          <p:grpSpPr>
            <a:xfrm>
              <a:off x="6024600" y="5867280"/>
              <a:ext cx="288720" cy="152640"/>
              <a:chOff x="6024600" y="5867280"/>
              <a:chExt cx="288720" cy="152640"/>
            </a:xfrm>
          </p:grpSpPr>
          <p:sp>
            <p:nvSpPr>
              <p:cNvPr id="914" name=""/>
              <p:cNvSpPr/>
              <p:nvPr/>
            </p:nvSpPr>
            <p:spPr>
              <a:xfrm>
                <a:off x="6024600" y="586728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6313320" y="586728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 flipV="1">
                <a:off x="6024600" y="5867280"/>
                <a:ext cx="28872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6024600" y="5867280"/>
                <a:ext cx="28872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D3E7-33A7-4E99-92C2-4D2384861DBE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죠인 순서화 예제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모든 릴레이션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ko-KR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, r</a:t>
            </a:r>
            <a:r>
              <a:rPr b="0" lang="ko-K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및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ko-KR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에 대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ko-KR" sz="2400" spc="-1" strike="noStrike" baseline="-25000">
                <a:solidFill>
                  <a:srgbClr val="000000"/>
                </a:solidFill>
                <a:latin typeface="Times New Roman"/>
              </a:rPr>
              <a:t>2        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lang="ko-KR" sz="24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가 매우 크고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ko-KR" sz="2400" spc="-1" strike="noStrike" baseline="-25000">
                <a:solidFill>
                  <a:srgbClr val="000000"/>
                </a:solidFill>
                <a:latin typeface="Times New Roman"/>
              </a:rPr>
              <a:t>1        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lang="ko-KR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가 작다면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다음과 같이 선택하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보다 작은 임시 릴레이션을 계산하고 저장하도록 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0" name=""/>
          <p:cNvGrpSpPr/>
          <p:nvPr/>
        </p:nvGrpSpPr>
        <p:grpSpPr>
          <a:xfrm>
            <a:off x="2057400" y="2349360"/>
            <a:ext cx="5562720" cy="609840"/>
            <a:chOff x="2057400" y="2349360"/>
            <a:chExt cx="5562720" cy="609840"/>
          </a:xfrm>
        </p:grpSpPr>
        <p:sp>
          <p:nvSpPr>
            <p:cNvPr id="921" name=""/>
            <p:cNvSpPr/>
            <p:nvPr/>
          </p:nvSpPr>
          <p:spPr>
            <a:xfrm>
              <a:off x="2057400" y="2349360"/>
              <a:ext cx="55627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       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  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(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2" name=""/>
            <p:cNvGrpSpPr/>
            <p:nvPr/>
          </p:nvGrpSpPr>
          <p:grpSpPr>
            <a:xfrm>
              <a:off x="2590920" y="2616120"/>
              <a:ext cx="261720" cy="152640"/>
              <a:chOff x="2590920" y="2616120"/>
              <a:chExt cx="261720" cy="152640"/>
            </a:xfrm>
          </p:grpSpPr>
          <p:sp>
            <p:nvSpPr>
              <p:cNvPr id="923" name=""/>
              <p:cNvSpPr/>
              <p:nvPr/>
            </p:nvSpPr>
            <p:spPr>
              <a:xfrm>
                <a:off x="2590920" y="261612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2852640" y="261612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 flipV="1">
                <a:off x="2590920" y="2616120"/>
                <a:ext cx="26172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2590920" y="2616120"/>
                <a:ext cx="26172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7" name=""/>
            <p:cNvGrpSpPr/>
            <p:nvPr/>
          </p:nvGrpSpPr>
          <p:grpSpPr>
            <a:xfrm>
              <a:off x="3497400" y="2616120"/>
              <a:ext cx="261720" cy="152640"/>
              <a:chOff x="3497400" y="2616120"/>
              <a:chExt cx="261720" cy="152640"/>
            </a:xfrm>
          </p:grpSpPr>
          <p:sp>
            <p:nvSpPr>
              <p:cNvPr id="928" name=""/>
              <p:cNvSpPr/>
              <p:nvPr/>
            </p:nvSpPr>
            <p:spPr>
              <a:xfrm>
                <a:off x="3497400" y="261612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3759120" y="261612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 flipV="1">
                <a:off x="3497400" y="2616120"/>
                <a:ext cx="26172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3497400" y="2616120"/>
                <a:ext cx="26172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2" name=""/>
            <p:cNvGrpSpPr/>
            <p:nvPr/>
          </p:nvGrpSpPr>
          <p:grpSpPr>
            <a:xfrm>
              <a:off x="4902120" y="2616120"/>
              <a:ext cx="262080" cy="152640"/>
              <a:chOff x="4902120" y="2616120"/>
              <a:chExt cx="262080" cy="152640"/>
            </a:xfrm>
          </p:grpSpPr>
          <p:sp>
            <p:nvSpPr>
              <p:cNvPr id="933" name=""/>
              <p:cNvSpPr/>
              <p:nvPr/>
            </p:nvSpPr>
            <p:spPr>
              <a:xfrm>
                <a:off x="4902120" y="261612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5164200" y="261612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 flipV="1">
                <a:off x="4902120" y="2616120"/>
                <a:ext cx="26208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4902120" y="2616120"/>
                <a:ext cx="26208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7" name=""/>
            <p:cNvGrpSpPr/>
            <p:nvPr/>
          </p:nvGrpSpPr>
          <p:grpSpPr>
            <a:xfrm>
              <a:off x="5783400" y="2628720"/>
              <a:ext cx="261720" cy="152640"/>
              <a:chOff x="5783400" y="2628720"/>
              <a:chExt cx="261720" cy="152640"/>
            </a:xfrm>
          </p:grpSpPr>
          <p:sp>
            <p:nvSpPr>
              <p:cNvPr id="938" name=""/>
              <p:cNvSpPr/>
              <p:nvPr/>
            </p:nvSpPr>
            <p:spPr>
              <a:xfrm>
                <a:off x="5783400" y="262872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6045120" y="262872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 flipV="1">
                <a:off x="5783400" y="2628720"/>
                <a:ext cx="26172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5783400" y="2628720"/>
                <a:ext cx="26172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42" name=""/>
          <p:cNvGrpSpPr/>
          <p:nvPr/>
        </p:nvGrpSpPr>
        <p:grpSpPr>
          <a:xfrm>
            <a:off x="1693800" y="3250800"/>
            <a:ext cx="262080" cy="152640"/>
            <a:chOff x="1693800" y="3250800"/>
            <a:chExt cx="262080" cy="152640"/>
          </a:xfrm>
        </p:grpSpPr>
        <p:sp>
          <p:nvSpPr>
            <p:cNvPr id="943" name=""/>
            <p:cNvSpPr/>
            <p:nvPr/>
          </p:nvSpPr>
          <p:spPr>
            <a:xfrm>
              <a:off x="1693800" y="32511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1955880" y="32511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 flipV="1">
              <a:off x="1693800" y="3250800"/>
              <a:ext cx="2620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1693800" y="3251160"/>
              <a:ext cx="2620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7" name=""/>
          <p:cNvGrpSpPr/>
          <p:nvPr/>
        </p:nvGrpSpPr>
        <p:grpSpPr>
          <a:xfrm>
            <a:off x="4564080" y="3250800"/>
            <a:ext cx="262080" cy="152640"/>
            <a:chOff x="4564080" y="3250800"/>
            <a:chExt cx="262080" cy="152640"/>
          </a:xfrm>
        </p:grpSpPr>
        <p:sp>
          <p:nvSpPr>
            <p:cNvPr id="948" name=""/>
            <p:cNvSpPr/>
            <p:nvPr/>
          </p:nvSpPr>
          <p:spPr>
            <a:xfrm>
              <a:off x="4564080" y="32511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4826160" y="32511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 flipV="1">
              <a:off x="4564080" y="3250800"/>
              <a:ext cx="2620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4564080" y="3251160"/>
              <a:ext cx="2620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2" name=""/>
          <p:cNvGrpSpPr/>
          <p:nvPr/>
        </p:nvGrpSpPr>
        <p:grpSpPr>
          <a:xfrm>
            <a:off x="3429000" y="3886200"/>
            <a:ext cx="2286000" cy="609480"/>
            <a:chOff x="3429000" y="3886200"/>
            <a:chExt cx="2286000" cy="609480"/>
          </a:xfrm>
        </p:grpSpPr>
        <p:sp>
          <p:nvSpPr>
            <p:cNvPr id="953" name=""/>
            <p:cNvSpPr/>
            <p:nvPr/>
          </p:nvSpPr>
          <p:spPr>
            <a:xfrm>
              <a:off x="3429000" y="3886200"/>
              <a:ext cx="22860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       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4" name=""/>
            <p:cNvGrpSpPr/>
            <p:nvPr/>
          </p:nvGrpSpPr>
          <p:grpSpPr>
            <a:xfrm>
              <a:off x="3962520" y="4140000"/>
              <a:ext cx="261720" cy="152640"/>
              <a:chOff x="3962520" y="4140000"/>
              <a:chExt cx="261720" cy="152640"/>
            </a:xfrm>
          </p:grpSpPr>
          <p:sp>
            <p:nvSpPr>
              <p:cNvPr id="955" name=""/>
              <p:cNvSpPr/>
              <p:nvPr/>
            </p:nvSpPr>
            <p:spPr>
              <a:xfrm>
                <a:off x="3962520" y="414036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4224240" y="414036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 flipV="1">
                <a:off x="3962520" y="4140000"/>
                <a:ext cx="26172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3962520" y="4140360"/>
                <a:ext cx="26172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9" name=""/>
            <p:cNvGrpSpPr/>
            <p:nvPr/>
          </p:nvGrpSpPr>
          <p:grpSpPr>
            <a:xfrm>
              <a:off x="4869000" y="4140000"/>
              <a:ext cx="261720" cy="152640"/>
              <a:chOff x="4869000" y="4140000"/>
              <a:chExt cx="261720" cy="152640"/>
            </a:xfrm>
          </p:grpSpPr>
          <p:sp>
            <p:nvSpPr>
              <p:cNvPr id="960" name=""/>
              <p:cNvSpPr/>
              <p:nvPr/>
            </p:nvSpPr>
            <p:spPr>
              <a:xfrm>
                <a:off x="4869000" y="414036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5130720" y="414036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 flipV="1">
                <a:off x="4869000" y="4140000"/>
                <a:ext cx="26172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4869000" y="4140360"/>
                <a:ext cx="26172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0EF9-82AC-4F05-8888-9AD1D9FCD99F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죠인 순서화 예제 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계속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787320" y="17524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다음 표현식을 고려해 보자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account         depositor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를 먼저 계산하여 아래와 죠인할 수 있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그러나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account          depositor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는 큰 릴레이션일 가능성이 있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은행 고객중 소수만이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Brooklyn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에 위치한 지점에 계좌를 가지고 있을 가능성이 보다 크므로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다음을 먼저 계산하는 것이 보다 낫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6" name=""/>
          <p:cNvGrpSpPr/>
          <p:nvPr/>
        </p:nvGrpSpPr>
        <p:grpSpPr>
          <a:xfrm>
            <a:off x="1752480" y="2362320"/>
            <a:ext cx="5943600" cy="609480"/>
            <a:chOff x="1752480" y="2362320"/>
            <a:chExt cx="5943600" cy="609480"/>
          </a:xfrm>
        </p:grpSpPr>
        <p:sp>
          <p:nvSpPr>
            <p:cNvPr id="967" name=""/>
            <p:cNvSpPr/>
            <p:nvPr/>
          </p:nvSpPr>
          <p:spPr>
            <a:xfrm>
              <a:off x="1752480" y="2362320"/>
              <a:ext cx="59436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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customer-name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((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branch-city = “Brooklyn” 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(branch)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ccount        depositor)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8" name=""/>
            <p:cNvGrpSpPr/>
            <p:nvPr/>
          </p:nvGrpSpPr>
          <p:grpSpPr>
            <a:xfrm>
              <a:off x="4500720" y="2755800"/>
              <a:ext cx="261720" cy="151920"/>
              <a:chOff x="4500720" y="2755800"/>
              <a:chExt cx="261720" cy="151920"/>
            </a:xfrm>
          </p:grpSpPr>
          <p:sp>
            <p:nvSpPr>
              <p:cNvPr id="969" name=""/>
              <p:cNvSpPr/>
              <p:nvPr/>
            </p:nvSpPr>
            <p:spPr>
              <a:xfrm>
                <a:off x="4500720" y="2755800"/>
                <a:ext cx="0" cy="15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4762440" y="2755800"/>
                <a:ext cx="0" cy="15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 flipV="1">
                <a:off x="4500720" y="2755800"/>
                <a:ext cx="261720" cy="15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4500720" y="2755800"/>
                <a:ext cx="261720" cy="15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3" name=""/>
            <p:cNvGrpSpPr/>
            <p:nvPr/>
          </p:nvGrpSpPr>
          <p:grpSpPr>
            <a:xfrm>
              <a:off x="5872320" y="2755800"/>
              <a:ext cx="261720" cy="151920"/>
              <a:chOff x="5872320" y="2755800"/>
              <a:chExt cx="261720" cy="151920"/>
            </a:xfrm>
          </p:grpSpPr>
          <p:sp>
            <p:nvSpPr>
              <p:cNvPr id="974" name=""/>
              <p:cNvSpPr/>
              <p:nvPr/>
            </p:nvSpPr>
            <p:spPr>
              <a:xfrm>
                <a:off x="5872320" y="2755800"/>
                <a:ext cx="0" cy="15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6134040" y="2755800"/>
                <a:ext cx="0" cy="15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 flipV="1">
                <a:off x="5872320" y="2755800"/>
                <a:ext cx="261720" cy="15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5872320" y="2755800"/>
                <a:ext cx="261720" cy="15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8" name=""/>
          <p:cNvGrpSpPr/>
          <p:nvPr/>
        </p:nvGrpSpPr>
        <p:grpSpPr>
          <a:xfrm>
            <a:off x="2171880" y="3352680"/>
            <a:ext cx="261720" cy="152640"/>
            <a:chOff x="2171880" y="3352680"/>
            <a:chExt cx="261720" cy="152640"/>
          </a:xfrm>
        </p:grpSpPr>
        <p:sp>
          <p:nvSpPr>
            <p:cNvPr id="979" name=""/>
            <p:cNvSpPr/>
            <p:nvPr/>
          </p:nvSpPr>
          <p:spPr>
            <a:xfrm>
              <a:off x="2171880" y="33526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2433600" y="33526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 flipV="1">
              <a:off x="2171880" y="3352680"/>
              <a:ext cx="26172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171880" y="3352680"/>
              <a:ext cx="26172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3" name=""/>
          <p:cNvSpPr/>
          <p:nvPr/>
        </p:nvSpPr>
        <p:spPr>
          <a:xfrm>
            <a:off x="3124080" y="3657600"/>
            <a:ext cx="2971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ranch-city = “Brooklyn”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branch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4" name=""/>
          <p:cNvGrpSpPr/>
          <p:nvPr/>
        </p:nvGrpSpPr>
        <p:grpSpPr>
          <a:xfrm>
            <a:off x="3090960" y="4444920"/>
            <a:ext cx="261720" cy="152640"/>
            <a:chOff x="3090960" y="4444920"/>
            <a:chExt cx="261720" cy="152640"/>
          </a:xfrm>
        </p:grpSpPr>
        <p:sp>
          <p:nvSpPr>
            <p:cNvPr id="985" name=""/>
            <p:cNvSpPr/>
            <p:nvPr/>
          </p:nvSpPr>
          <p:spPr>
            <a:xfrm>
              <a:off x="3090960" y="444492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3352680" y="444492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 flipV="1">
              <a:off x="3090960" y="4444920"/>
              <a:ext cx="26172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3090960" y="4444920"/>
              <a:ext cx="26172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"/>
          <p:cNvGrpSpPr/>
          <p:nvPr/>
        </p:nvGrpSpPr>
        <p:grpSpPr>
          <a:xfrm>
            <a:off x="2666880" y="5410080"/>
            <a:ext cx="4419720" cy="609840"/>
            <a:chOff x="2666880" y="5410080"/>
            <a:chExt cx="4419720" cy="609840"/>
          </a:xfrm>
        </p:grpSpPr>
        <p:sp>
          <p:nvSpPr>
            <p:cNvPr id="990" name=""/>
            <p:cNvSpPr/>
            <p:nvPr/>
          </p:nvSpPr>
          <p:spPr>
            <a:xfrm>
              <a:off x="2666880" y="5410080"/>
              <a:ext cx="44197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branch-city = “Brooklyn” 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(branch)         accoun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1" name=""/>
            <p:cNvGrpSpPr/>
            <p:nvPr/>
          </p:nvGrpSpPr>
          <p:grpSpPr>
            <a:xfrm>
              <a:off x="5694120" y="5625720"/>
              <a:ext cx="262080" cy="152640"/>
              <a:chOff x="5694120" y="5625720"/>
              <a:chExt cx="262080" cy="152640"/>
            </a:xfrm>
          </p:grpSpPr>
          <p:sp>
            <p:nvSpPr>
              <p:cNvPr id="992" name=""/>
              <p:cNvSpPr/>
              <p:nvPr/>
            </p:nvSpPr>
            <p:spPr>
              <a:xfrm>
                <a:off x="5694120" y="562608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5956200" y="562608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 flipV="1">
                <a:off x="5694120" y="5625720"/>
                <a:ext cx="2620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5694120" y="5626080"/>
                <a:ext cx="2620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D5D2-3B3D-4434-94F6-2D602D9FC441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평가 계획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평가 계획은 각 연산에 어떤 알고리즘이 사용되고 연산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의 실행이 어떻게 협력하는지를 정확히 정의한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4572000" y="2666880"/>
            <a:ext cx="4038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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customer-nam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중복 제거를 위해 정렬한다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4768920" y="3048120"/>
            <a:ext cx="0" cy="40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0" name=""/>
          <p:cNvGrpSpPr/>
          <p:nvPr/>
        </p:nvGrpSpPr>
        <p:grpSpPr>
          <a:xfrm>
            <a:off x="4624560" y="3457080"/>
            <a:ext cx="290520" cy="180000"/>
            <a:chOff x="4624560" y="3457080"/>
            <a:chExt cx="290520" cy="180000"/>
          </a:xfrm>
        </p:grpSpPr>
        <p:sp>
          <p:nvSpPr>
            <p:cNvPr id="1001" name=""/>
            <p:cNvSpPr/>
            <p:nvPr/>
          </p:nvSpPr>
          <p:spPr>
            <a:xfrm>
              <a:off x="4624560" y="3457440"/>
              <a:ext cx="0" cy="17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4915080" y="3457440"/>
              <a:ext cx="0" cy="17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 flipV="1">
              <a:off x="4624560" y="3457080"/>
              <a:ext cx="290520" cy="17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4624560" y="3457440"/>
              <a:ext cx="290520" cy="17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5" name=""/>
          <p:cNvGrpSpPr/>
          <p:nvPr/>
        </p:nvGrpSpPr>
        <p:grpSpPr>
          <a:xfrm>
            <a:off x="3287880" y="4001760"/>
            <a:ext cx="290520" cy="181440"/>
            <a:chOff x="3287880" y="4001760"/>
            <a:chExt cx="290520" cy="181440"/>
          </a:xfrm>
        </p:grpSpPr>
        <p:sp>
          <p:nvSpPr>
            <p:cNvPr id="1006" name=""/>
            <p:cNvSpPr/>
            <p:nvPr/>
          </p:nvSpPr>
          <p:spPr>
            <a:xfrm>
              <a:off x="3287880" y="4002120"/>
              <a:ext cx="0" cy="1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3578400" y="4002120"/>
              <a:ext cx="0" cy="1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 flipV="1">
              <a:off x="3287880" y="4001760"/>
              <a:ext cx="290520" cy="1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3287880" y="4002120"/>
              <a:ext cx="290520" cy="1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0" name=""/>
          <p:cNvSpPr/>
          <p:nvPr/>
        </p:nvSpPr>
        <p:spPr>
          <a:xfrm>
            <a:off x="1564920" y="5254560"/>
            <a:ext cx="87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 flipH="1">
            <a:off x="3419640" y="3662280"/>
            <a:ext cx="1180800" cy="29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4937040" y="3662280"/>
            <a:ext cx="1096920" cy="29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4348080" y="5251320"/>
            <a:ext cx="97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3673440" y="3862440"/>
            <a:ext cx="16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합병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죠인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 flipH="1">
            <a:off x="2153880" y="4172040"/>
            <a:ext cx="1096920" cy="363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3673440" y="4176720"/>
            <a:ext cx="117972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1977120" y="4464000"/>
            <a:ext cx="1656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ranch-city=Brookly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2070000" y="4822920"/>
            <a:ext cx="1800" cy="498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4761720" y="4464000"/>
            <a:ext cx="1243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alance &lt; 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4878360" y="4822920"/>
            <a:ext cx="1440" cy="498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5022720" y="3314880"/>
            <a:ext cx="160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해쉬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죠인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1398600" y="401796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파이프라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4713120" y="4197240"/>
            <a:ext cx="174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파이프라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2251080" y="4808520"/>
            <a:ext cx="176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인덱스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을 사용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4870440" y="4808520"/>
            <a:ext cx="259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선형 검색을 사용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5545440" y="3873600"/>
            <a:ext cx="113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osi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4191120" y="579132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평가 계획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8E44-57C4-4DF2-9D8F-37A436FD8928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평가 계획의 선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761760" y="1752120"/>
            <a:ext cx="79246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평가 계획을 선택할 때는 평가 기법의 상호 작용을 고려해야 한다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각 연산에 대해 독립적으로 가장 비용이 적은 알고리즘을 선택하는 것이 전체적으로 최상의 알고리즘을 생성하지 못할 수도 있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예를 들어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합병–죠인이 해쉬–죠인보다 비용이 더 들 수 있지만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외부 단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의 집성 연산에 대해서는 비용을 줄이는 정렬된 출력을 제공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수도 있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내포 –루프 죠인은 파이프라이닝을 위한 기회를 제공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실제 질의 최적기는 다음과 같은 두 가지 넓은 방법들의 요소를 결합한다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모든 계획을 검색해 비용기반 유형에서 최상의 계획을 선택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경험을 사용해 계획을 선택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CA50-57C1-454B-A182-7555F763387C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비용 기반 최적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825120" y="1752480"/>
            <a:ext cx="7823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spcAft>
                <a:spcPts val="550"/>
              </a:spcAft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ko-KR" sz="2200" spc="-1" strike="noStrike" baseline="-25000">
                <a:solidFill>
                  <a:srgbClr val="000000"/>
                </a:solidFill>
                <a:latin typeface="Times New Roman"/>
              </a:rPr>
              <a:t>1         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lang="ko-KR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        …       r</a:t>
            </a:r>
            <a:r>
              <a:rPr b="0" lang="ko-KR" sz="2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에 대한 최상의 죠인 순서를 찾아 보자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spcAft>
                <a:spcPts val="550"/>
              </a:spcAft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위의 표현식에 대해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(2(n - 1))! / (n - 1)!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의 죠인 순서가 존재한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 n = 7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이면 그 수는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665280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이고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, n = 10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이면 그 수는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1760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억 보다 크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spcAft>
                <a:spcPts val="550"/>
              </a:spcAft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모든 죠인 순서를 생성할 필요가 없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동적 프로그래밍을 사용하면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, {r</a:t>
            </a:r>
            <a:r>
              <a:rPr b="0" lang="ko-KR" sz="2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, r</a:t>
            </a:r>
            <a:r>
              <a:rPr b="0" lang="ko-KR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, … , r</a:t>
            </a:r>
            <a:r>
              <a:rPr b="0" lang="ko-KR" sz="2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의 어떤 부분 집합에 대한 최소 비용의 죠인 순서는 한 번만 계산되고 미래의 사용을 위해 저장된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spcAft>
                <a:spcPts val="550"/>
              </a:spcAft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이것은 시간 복잡성을 대략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O(3</a:t>
            </a:r>
            <a:r>
              <a:rPr b="0" lang="ko-KR" sz="2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으로 줄인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 n = 10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이면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이 수는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59000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이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2" name=""/>
          <p:cNvGrpSpPr/>
          <p:nvPr/>
        </p:nvGrpSpPr>
        <p:grpSpPr>
          <a:xfrm>
            <a:off x="1566720" y="1904760"/>
            <a:ext cx="262080" cy="152640"/>
            <a:chOff x="1566720" y="1904760"/>
            <a:chExt cx="262080" cy="152640"/>
          </a:xfrm>
        </p:grpSpPr>
        <p:sp>
          <p:nvSpPr>
            <p:cNvPr id="1033" name=""/>
            <p:cNvSpPr/>
            <p:nvPr/>
          </p:nvSpPr>
          <p:spPr>
            <a:xfrm>
              <a:off x="1566720" y="19051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828800" y="19051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 flipV="1">
              <a:off x="1566720" y="1904760"/>
              <a:ext cx="2620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1566720" y="1905120"/>
              <a:ext cx="2620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7" name=""/>
          <p:cNvGrpSpPr/>
          <p:nvPr/>
        </p:nvGrpSpPr>
        <p:grpSpPr>
          <a:xfrm>
            <a:off x="2328840" y="1904760"/>
            <a:ext cx="262080" cy="152640"/>
            <a:chOff x="2328840" y="1904760"/>
            <a:chExt cx="262080" cy="152640"/>
          </a:xfrm>
        </p:grpSpPr>
        <p:sp>
          <p:nvSpPr>
            <p:cNvPr id="1038" name=""/>
            <p:cNvSpPr/>
            <p:nvPr/>
          </p:nvSpPr>
          <p:spPr>
            <a:xfrm>
              <a:off x="2328840" y="19051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2590920" y="19051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 flipV="1">
              <a:off x="2328840" y="1904760"/>
              <a:ext cx="2620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2328840" y="1905120"/>
              <a:ext cx="2620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2" name=""/>
          <p:cNvGrpSpPr/>
          <p:nvPr/>
        </p:nvGrpSpPr>
        <p:grpSpPr>
          <a:xfrm>
            <a:off x="3124080" y="1904760"/>
            <a:ext cx="262080" cy="152640"/>
            <a:chOff x="3124080" y="1904760"/>
            <a:chExt cx="262080" cy="152640"/>
          </a:xfrm>
        </p:grpSpPr>
        <p:sp>
          <p:nvSpPr>
            <p:cNvPr id="1043" name=""/>
            <p:cNvSpPr/>
            <p:nvPr/>
          </p:nvSpPr>
          <p:spPr>
            <a:xfrm>
              <a:off x="3124080" y="19051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3386160" y="19051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 flipV="1">
              <a:off x="3124080" y="1904760"/>
              <a:ext cx="2620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3124080" y="1905120"/>
              <a:ext cx="2620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9277-8DAD-4374-93C7-13CB32021FF3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비용 기반 최적화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계속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왼쪽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깊이 죠인 트리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에서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각 죠인에 대한 오른쪽 편의 입력은 중간 죠인의 결과가 아닌 릴레이션이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왼쪽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깊이 죠인 트리만이 고려된다면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최상의 죠인 순서 비용은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O(2</a:t>
            </a:r>
            <a:r>
              <a:rPr b="0" lang="ko-KR" sz="2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이 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9" name=""/>
          <p:cNvGrpSpPr/>
          <p:nvPr/>
        </p:nvGrpSpPr>
        <p:grpSpPr>
          <a:xfrm>
            <a:off x="1219320" y="3200040"/>
            <a:ext cx="3123720" cy="2590920"/>
            <a:chOff x="1219320" y="3200040"/>
            <a:chExt cx="3123720" cy="2590920"/>
          </a:xfrm>
        </p:grpSpPr>
        <p:grpSp>
          <p:nvGrpSpPr>
            <p:cNvPr id="1050" name=""/>
            <p:cNvGrpSpPr/>
            <p:nvPr/>
          </p:nvGrpSpPr>
          <p:grpSpPr>
            <a:xfrm>
              <a:off x="3531240" y="3200040"/>
              <a:ext cx="244080" cy="152640"/>
              <a:chOff x="3531240" y="3200040"/>
              <a:chExt cx="244080" cy="152640"/>
            </a:xfrm>
          </p:grpSpPr>
          <p:sp>
            <p:nvSpPr>
              <p:cNvPr id="1051" name=""/>
              <p:cNvSpPr/>
              <p:nvPr/>
            </p:nvSpPr>
            <p:spPr>
              <a:xfrm>
                <a:off x="3531240" y="320040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3775320" y="320040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 flipV="1">
                <a:off x="3531240" y="3200040"/>
                <a:ext cx="2440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3531240" y="3200400"/>
                <a:ext cx="2440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5" name=""/>
            <p:cNvGrpSpPr/>
            <p:nvPr/>
          </p:nvGrpSpPr>
          <p:grpSpPr>
            <a:xfrm>
              <a:off x="2963160" y="3733560"/>
              <a:ext cx="243720" cy="152640"/>
              <a:chOff x="2963160" y="3733560"/>
              <a:chExt cx="243720" cy="152640"/>
            </a:xfrm>
          </p:grpSpPr>
          <p:sp>
            <p:nvSpPr>
              <p:cNvPr id="1056" name=""/>
              <p:cNvSpPr/>
              <p:nvPr/>
            </p:nvSpPr>
            <p:spPr>
              <a:xfrm>
                <a:off x="2963160" y="373356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3206880" y="373356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 flipV="1">
                <a:off x="2963160" y="3733560"/>
                <a:ext cx="24372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2963160" y="3733560"/>
                <a:ext cx="24372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0" name=""/>
            <p:cNvGrpSpPr/>
            <p:nvPr/>
          </p:nvGrpSpPr>
          <p:grpSpPr>
            <a:xfrm>
              <a:off x="2426040" y="4343040"/>
              <a:ext cx="244080" cy="152640"/>
              <a:chOff x="2426040" y="4343040"/>
              <a:chExt cx="244080" cy="152640"/>
            </a:xfrm>
          </p:grpSpPr>
          <p:sp>
            <p:nvSpPr>
              <p:cNvPr id="1061" name=""/>
              <p:cNvSpPr/>
              <p:nvPr/>
            </p:nvSpPr>
            <p:spPr>
              <a:xfrm>
                <a:off x="2426040" y="434340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2670120" y="434340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 flipV="1">
                <a:off x="2426040" y="4343040"/>
                <a:ext cx="2440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2426040" y="4343400"/>
                <a:ext cx="2440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5" name=""/>
            <p:cNvGrpSpPr/>
            <p:nvPr/>
          </p:nvGrpSpPr>
          <p:grpSpPr>
            <a:xfrm>
              <a:off x="1858320" y="4952520"/>
              <a:ext cx="243720" cy="152640"/>
              <a:chOff x="1858320" y="4952520"/>
              <a:chExt cx="243720" cy="152640"/>
            </a:xfrm>
          </p:grpSpPr>
          <p:sp>
            <p:nvSpPr>
              <p:cNvPr id="1066" name=""/>
              <p:cNvSpPr/>
              <p:nvPr/>
            </p:nvSpPr>
            <p:spPr>
              <a:xfrm>
                <a:off x="1858320" y="495288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2102040" y="495288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 flipV="1">
                <a:off x="1858320" y="4952520"/>
                <a:ext cx="24372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1858320" y="4952880"/>
                <a:ext cx="24372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0" name=""/>
            <p:cNvSpPr/>
            <p:nvPr/>
          </p:nvSpPr>
          <p:spPr>
            <a:xfrm flipH="1">
              <a:off x="3112200" y="3403440"/>
              <a:ext cx="4258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 flipH="1">
              <a:off x="2544120" y="3962160"/>
              <a:ext cx="4258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 flipH="1">
              <a:off x="2011320" y="4572000"/>
              <a:ext cx="4258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 flipH="1">
              <a:off x="1431720" y="5181480"/>
              <a:ext cx="4258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 flipH="1" flipV="1">
              <a:off x="3778920" y="3399120"/>
              <a:ext cx="417960" cy="33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 flipH="1" flipV="1">
              <a:off x="3210840" y="3945240"/>
              <a:ext cx="417960" cy="33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 flipH="1" flipV="1">
              <a:off x="2643120" y="4554720"/>
              <a:ext cx="417600" cy="33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 flipH="1" flipV="1">
              <a:off x="2074680" y="5164200"/>
              <a:ext cx="417960" cy="33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2923200" y="4952880"/>
              <a:ext cx="283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3491280" y="4343400"/>
              <a:ext cx="28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4059000" y="3809880"/>
              <a:ext cx="28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2355120" y="5562360"/>
              <a:ext cx="28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1219320" y="5562360"/>
              <a:ext cx="283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3" name=""/>
          <p:cNvGrpSpPr/>
          <p:nvPr/>
        </p:nvGrpSpPr>
        <p:grpSpPr>
          <a:xfrm>
            <a:off x="4572000" y="3276360"/>
            <a:ext cx="3733920" cy="1981440"/>
            <a:chOff x="4572000" y="3276360"/>
            <a:chExt cx="3733920" cy="1981440"/>
          </a:xfrm>
        </p:grpSpPr>
        <p:grpSp>
          <p:nvGrpSpPr>
            <p:cNvPr id="1084" name=""/>
            <p:cNvGrpSpPr/>
            <p:nvPr/>
          </p:nvGrpSpPr>
          <p:grpSpPr>
            <a:xfrm>
              <a:off x="6584040" y="3276360"/>
              <a:ext cx="242280" cy="152640"/>
              <a:chOff x="6584040" y="3276360"/>
              <a:chExt cx="242280" cy="152640"/>
            </a:xfrm>
          </p:grpSpPr>
          <p:sp>
            <p:nvSpPr>
              <p:cNvPr id="1085" name=""/>
              <p:cNvSpPr/>
              <p:nvPr/>
            </p:nvSpPr>
            <p:spPr>
              <a:xfrm>
                <a:off x="6584040" y="32767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6826320" y="32767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 flipV="1">
                <a:off x="6584040" y="3276360"/>
                <a:ext cx="2422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6584040" y="3276720"/>
                <a:ext cx="2422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9" name=""/>
            <p:cNvGrpSpPr/>
            <p:nvPr/>
          </p:nvGrpSpPr>
          <p:grpSpPr>
            <a:xfrm>
              <a:off x="5668200" y="3809880"/>
              <a:ext cx="242280" cy="152640"/>
              <a:chOff x="5668200" y="3809880"/>
              <a:chExt cx="242280" cy="152640"/>
            </a:xfrm>
          </p:grpSpPr>
          <p:sp>
            <p:nvSpPr>
              <p:cNvPr id="1090" name=""/>
              <p:cNvSpPr/>
              <p:nvPr/>
            </p:nvSpPr>
            <p:spPr>
              <a:xfrm>
                <a:off x="5668200" y="380988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5910480" y="380988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 flipV="1">
                <a:off x="5668200" y="3809880"/>
                <a:ext cx="24228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5668200" y="3809880"/>
                <a:ext cx="24228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4" name=""/>
            <p:cNvGrpSpPr/>
            <p:nvPr/>
          </p:nvGrpSpPr>
          <p:grpSpPr>
            <a:xfrm>
              <a:off x="5128200" y="4419360"/>
              <a:ext cx="241920" cy="152640"/>
              <a:chOff x="5128200" y="4419360"/>
              <a:chExt cx="241920" cy="152640"/>
            </a:xfrm>
          </p:grpSpPr>
          <p:sp>
            <p:nvSpPr>
              <p:cNvPr id="1095" name=""/>
              <p:cNvSpPr/>
              <p:nvPr/>
            </p:nvSpPr>
            <p:spPr>
              <a:xfrm>
                <a:off x="5128200" y="44197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5370120" y="44197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 flipV="1">
                <a:off x="5128200" y="4419360"/>
                <a:ext cx="24192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5128200" y="4419720"/>
                <a:ext cx="24192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9" name=""/>
            <p:cNvGrpSpPr/>
            <p:nvPr/>
          </p:nvGrpSpPr>
          <p:grpSpPr>
            <a:xfrm>
              <a:off x="7499880" y="3822480"/>
              <a:ext cx="241920" cy="152640"/>
              <a:chOff x="7499880" y="3822480"/>
              <a:chExt cx="241920" cy="152640"/>
            </a:xfrm>
          </p:grpSpPr>
          <p:sp>
            <p:nvSpPr>
              <p:cNvPr id="1100" name=""/>
              <p:cNvSpPr/>
              <p:nvPr/>
            </p:nvSpPr>
            <p:spPr>
              <a:xfrm>
                <a:off x="7499880" y="382284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7741800" y="382284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 flipV="1">
                <a:off x="7499880" y="3822480"/>
                <a:ext cx="24192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7499880" y="3822840"/>
                <a:ext cx="24192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04" name=""/>
            <p:cNvSpPr/>
            <p:nvPr/>
          </p:nvSpPr>
          <p:spPr>
            <a:xfrm>
              <a:off x="4572000" y="5029200"/>
              <a:ext cx="281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5628600" y="5029200"/>
              <a:ext cx="281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6192360" y="4419720"/>
              <a:ext cx="281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6967080" y="4419720"/>
              <a:ext cx="281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8024040" y="4419720"/>
              <a:ext cx="281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 flipH="1">
              <a:off x="5816160" y="3505320"/>
              <a:ext cx="798120" cy="29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 flipH="1">
              <a:off x="5252760" y="4038480"/>
              <a:ext cx="4226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 flipH="1">
              <a:off x="4712760" y="4648320"/>
              <a:ext cx="4226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 flipH="1" flipV="1">
              <a:off x="5914080" y="4021200"/>
              <a:ext cx="415440" cy="33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 flipH="1" flipV="1">
              <a:off x="5349960" y="4630680"/>
              <a:ext cx="415800" cy="33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 flipH="1">
              <a:off x="7107840" y="4038480"/>
              <a:ext cx="4226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 flipH="1" flipV="1">
              <a:off x="7745040" y="4021200"/>
              <a:ext cx="415800" cy="33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 flipH="1" flipV="1">
              <a:off x="6817320" y="3519360"/>
              <a:ext cx="798480" cy="28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7" name=""/>
          <p:cNvSpPr/>
          <p:nvPr/>
        </p:nvSpPr>
        <p:spPr>
          <a:xfrm>
            <a:off x="2133720" y="57913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(a)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왼쪽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깊이 죠인 트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5257800" y="579132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(b)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비왼쪽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깊이 죠인 트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7D74-1E90-4C21-A25B-F0E7A777D0F5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최적화에서의 동적 프로그래밍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릴레이션 집합에 대한 최상의 왼쪽–깊이 죠인 트리를 찾으려면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하나의 릴레이션을 오른쪽 편 입력으로 하고 다른 릴레이션들은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왼쪽 편 입력으로 한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개의 대안을 고려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왼쪽 편의 각 대안에 대해 최소 비용 죠인 순서를 사용해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반복해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계산하고 저장함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), n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개 대안중 가장 비용이 적은 것을 선택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릴레이션 집합에 대한 최상의 죠인 트리를 찾으려면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n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릴레이션중 집합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에 대한 최상의 계획을 찾기 위해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다음과 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은 형식의 모든 가능한 계획을 고려한다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: S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   (S – S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여기서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은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의 어떤 공집합이 아닌 부분 집합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이전처럼 각 계획의 비용을 찾기 위해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의 부분 집합에 대해 반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복적으로 계산하고 저장된 비용을 사용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ko-KR" sz="2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– 1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대안중 가장 비용이 적은 것을 찾는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1" name=""/>
          <p:cNvGrpSpPr/>
          <p:nvPr/>
        </p:nvGrpSpPr>
        <p:grpSpPr>
          <a:xfrm>
            <a:off x="6354720" y="4431960"/>
            <a:ext cx="262080" cy="152640"/>
            <a:chOff x="6354720" y="4431960"/>
            <a:chExt cx="262080" cy="152640"/>
          </a:xfrm>
        </p:grpSpPr>
        <p:sp>
          <p:nvSpPr>
            <p:cNvPr id="1122" name=""/>
            <p:cNvSpPr/>
            <p:nvPr/>
          </p:nvSpPr>
          <p:spPr>
            <a:xfrm>
              <a:off x="6354720" y="44323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6616800" y="44323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 flipV="1">
              <a:off x="6354720" y="4431960"/>
              <a:ext cx="2620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6354720" y="4432320"/>
              <a:ext cx="2620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6A51-98A8-42BD-861C-98D41978D881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Times New Roman"/>
              </a:rPr>
              <a:t>비용 기반 최적화에서 흥미있는 순서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표현식                                                     를 고려해 보자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흥미있는 정렬 순서란 이후의 연산에 사용될 수 있는 튜플들의 특정 정렬 순서이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r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또는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에 공통인 애트리뷰트로 정렬된                        의 결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를 생성하는 것은 유용하지만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r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에 공통인 애트리뷰트로 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성하는 것은 유용하지 않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합병–죠인을 사용해                         를 계산하는 것이 비용이 더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들지만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흥미있는 순서로 정렬된 출력을 제공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주어진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릴레이션 집합 각 부분 집합에 대해 최상의 죠인 순서를 찾는 것으로는 불충분하다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그 부분 집합을 위한 죠인 결과의 각 흥미있는 정렬 순서에 대해 각 부분 집합에 대한 최상의 죠인 순서를 찾아야 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앞의 동적 프로그래밍 알고리즘을 단순히 확장하면 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8" name=""/>
          <p:cNvGrpSpPr/>
          <p:nvPr/>
        </p:nvGrpSpPr>
        <p:grpSpPr>
          <a:xfrm>
            <a:off x="2070000" y="1790640"/>
            <a:ext cx="3340080" cy="304920"/>
            <a:chOff x="2070000" y="1790640"/>
            <a:chExt cx="3340080" cy="304920"/>
          </a:xfrm>
        </p:grpSpPr>
        <p:sp>
          <p:nvSpPr>
            <p:cNvPr id="1129" name=""/>
            <p:cNvSpPr/>
            <p:nvPr/>
          </p:nvSpPr>
          <p:spPr>
            <a:xfrm>
              <a:off x="2070000" y="1790640"/>
              <a:ext cx="33400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(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 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   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3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)         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       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5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30" name=""/>
            <p:cNvGrpSpPr/>
            <p:nvPr/>
          </p:nvGrpSpPr>
          <p:grpSpPr>
            <a:xfrm>
              <a:off x="2514600" y="1892160"/>
              <a:ext cx="262080" cy="152640"/>
              <a:chOff x="2514600" y="1892160"/>
              <a:chExt cx="262080" cy="152640"/>
            </a:xfrm>
          </p:grpSpPr>
          <p:sp>
            <p:nvSpPr>
              <p:cNvPr id="1131" name=""/>
              <p:cNvSpPr/>
              <p:nvPr/>
            </p:nvSpPr>
            <p:spPr>
              <a:xfrm>
                <a:off x="2514600" y="18925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2776680" y="18925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 flipV="1">
                <a:off x="2514600" y="1892160"/>
                <a:ext cx="2620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2514600" y="1892520"/>
                <a:ext cx="2620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5" name=""/>
            <p:cNvGrpSpPr/>
            <p:nvPr/>
          </p:nvGrpSpPr>
          <p:grpSpPr>
            <a:xfrm>
              <a:off x="3166920" y="1892160"/>
              <a:ext cx="262080" cy="152640"/>
              <a:chOff x="3166920" y="1892160"/>
              <a:chExt cx="262080" cy="152640"/>
            </a:xfrm>
          </p:grpSpPr>
          <p:sp>
            <p:nvSpPr>
              <p:cNvPr id="1136" name=""/>
              <p:cNvSpPr/>
              <p:nvPr/>
            </p:nvSpPr>
            <p:spPr>
              <a:xfrm>
                <a:off x="3166920" y="18925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3429000" y="18925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 flipV="1">
                <a:off x="3166920" y="1892160"/>
                <a:ext cx="2620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3166920" y="1892520"/>
                <a:ext cx="2620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0" name=""/>
            <p:cNvGrpSpPr/>
            <p:nvPr/>
          </p:nvGrpSpPr>
          <p:grpSpPr>
            <a:xfrm>
              <a:off x="3962520" y="1892160"/>
              <a:ext cx="261720" cy="152640"/>
              <a:chOff x="3962520" y="1892160"/>
              <a:chExt cx="261720" cy="152640"/>
            </a:xfrm>
          </p:grpSpPr>
          <p:sp>
            <p:nvSpPr>
              <p:cNvPr id="1141" name=""/>
              <p:cNvSpPr/>
              <p:nvPr/>
            </p:nvSpPr>
            <p:spPr>
              <a:xfrm>
                <a:off x="3962520" y="18925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4224240" y="18925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 flipV="1">
                <a:off x="3962520" y="1892160"/>
                <a:ext cx="26172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3962520" y="1892520"/>
                <a:ext cx="26172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5" name=""/>
            <p:cNvGrpSpPr/>
            <p:nvPr/>
          </p:nvGrpSpPr>
          <p:grpSpPr>
            <a:xfrm>
              <a:off x="4724280" y="1892160"/>
              <a:ext cx="262080" cy="152640"/>
              <a:chOff x="4724280" y="1892160"/>
              <a:chExt cx="262080" cy="152640"/>
            </a:xfrm>
          </p:grpSpPr>
          <p:sp>
            <p:nvSpPr>
              <p:cNvPr id="1146" name=""/>
              <p:cNvSpPr/>
              <p:nvPr/>
            </p:nvSpPr>
            <p:spPr>
              <a:xfrm>
                <a:off x="4724280" y="18925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4986360" y="18925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 flipV="1">
                <a:off x="4724280" y="1892160"/>
                <a:ext cx="2620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4724280" y="1892520"/>
                <a:ext cx="2620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50" name=""/>
          <p:cNvGrpSpPr/>
          <p:nvPr/>
        </p:nvGrpSpPr>
        <p:grpSpPr>
          <a:xfrm>
            <a:off x="5943600" y="2819520"/>
            <a:ext cx="1739880" cy="304560"/>
            <a:chOff x="5943600" y="2819520"/>
            <a:chExt cx="1739880" cy="304560"/>
          </a:xfrm>
        </p:grpSpPr>
        <p:sp>
          <p:nvSpPr>
            <p:cNvPr id="1151" name=""/>
            <p:cNvSpPr/>
            <p:nvPr/>
          </p:nvSpPr>
          <p:spPr>
            <a:xfrm>
              <a:off x="5943600" y="2819520"/>
              <a:ext cx="17398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ko-KR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ko-KR" sz="2000" spc="-1" strike="noStrike" baseline="-25000">
                  <a:solidFill>
                    <a:srgbClr val="000000"/>
                  </a:solidFill>
                  <a:latin typeface="Times New Roman"/>
                </a:rPr>
                <a:t>1         </a:t>
              </a:r>
              <a:r>
                <a:rPr b="0" lang="ko-KR" sz="2000" spc="-1" strike="noStrike">
                  <a:solidFill>
                    <a:srgbClr val="000000"/>
                  </a:solidFill>
                  <a:latin typeface="Times New Roman"/>
                </a:rPr>
                <a:t> r</a:t>
              </a:r>
              <a:r>
                <a:rPr b="0" lang="ko-KR" sz="2000" spc="-1" strike="noStrike" baseline="-25000">
                  <a:solidFill>
                    <a:srgbClr val="000000"/>
                  </a:solidFill>
                  <a:latin typeface="Times New Roman"/>
                </a:rPr>
                <a:t>2            </a:t>
              </a:r>
              <a:r>
                <a:rPr b="0" lang="ko-KR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ko-KR" sz="20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2" name=""/>
            <p:cNvGrpSpPr/>
            <p:nvPr/>
          </p:nvGrpSpPr>
          <p:grpSpPr>
            <a:xfrm>
              <a:off x="6387840" y="2921040"/>
              <a:ext cx="262080" cy="151920"/>
              <a:chOff x="6387840" y="2921040"/>
              <a:chExt cx="262080" cy="151920"/>
            </a:xfrm>
          </p:grpSpPr>
          <p:sp>
            <p:nvSpPr>
              <p:cNvPr id="1153" name=""/>
              <p:cNvSpPr/>
              <p:nvPr/>
            </p:nvSpPr>
            <p:spPr>
              <a:xfrm>
                <a:off x="6387840" y="2921040"/>
                <a:ext cx="0" cy="15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6649920" y="2921040"/>
                <a:ext cx="0" cy="15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 flipV="1">
                <a:off x="6387840" y="2921040"/>
                <a:ext cx="262080" cy="15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6387840" y="2921040"/>
                <a:ext cx="262080" cy="15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7" name=""/>
            <p:cNvGrpSpPr/>
            <p:nvPr/>
          </p:nvGrpSpPr>
          <p:grpSpPr>
            <a:xfrm>
              <a:off x="7040520" y="2921040"/>
              <a:ext cx="261720" cy="151920"/>
              <a:chOff x="7040520" y="2921040"/>
              <a:chExt cx="261720" cy="151920"/>
            </a:xfrm>
          </p:grpSpPr>
          <p:sp>
            <p:nvSpPr>
              <p:cNvPr id="1158" name=""/>
              <p:cNvSpPr/>
              <p:nvPr/>
            </p:nvSpPr>
            <p:spPr>
              <a:xfrm>
                <a:off x="7040520" y="2921040"/>
                <a:ext cx="0" cy="15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7302240" y="2921040"/>
                <a:ext cx="0" cy="15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 flipV="1">
                <a:off x="7040520" y="2921040"/>
                <a:ext cx="261720" cy="15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7040520" y="2921040"/>
                <a:ext cx="261720" cy="15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62" name=""/>
          <p:cNvGrpSpPr/>
          <p:nvPr/>
        </p:nvGrpSpPr>
        <p:grpSpPr>
          <a:xfrm>
            <a:off x="3543480" y="3911760"/>
            <a:ext cx="1739880" cy="304560"/>
            <a:chOff x="3543480" y="3911760"/>
            <a:chExt cx="1739880" cy="304560"/>
          </a:xfrm>
        </p:grpSpPr>
        <p:sp>
          <p:nvSpPr>
            <p:cNvPr id="1163" name=""/>
            <p:cNvSpPr/>
            <p:nvPr/>
          </p:nvSpPr>
          <p:spPr>
            <a:xfrm>
              <a:off x="3543480" y="3911760"/>
              <a:ext cx="17398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ko-KR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ko-KR" sz="2000" spc="-1" strike="noStrike" baseline="-25000">
                  <a:solidFill>
                    <a:srgbClr val="000000"/>
                  </a:solidFill>
                  <a:latin typeface="Times New Roman"/>
                </a:rPr>
                <a:t>1         </a:t>
              </a:r>
              <a:r>
                <a:rPr b="0" lang="ko-KR" sz="2000" spc="-1" strike="noStrike">
                  <a:solidFill>
                    <a:srgbClr val="000000"/>
                  </a:solidFill>
                  <a:latin typeface="Times New Roman"/>
                </a:rPr>
                <a:t> r</a:t>
              </a:r>
              <a:r>
                <a:rPr b="0" lang="ko-KR" sz="2000" spc="-1" strike="noStrike" baseline="-25000">
                  <a:solidFill>
                    <a:srgbClr val="000000"/>
                  </a:solidFill>
                  <a:latin typeface="Times New Roman"/>
                </a:rPr>
                <a:t>2            </a:t>
              </a:r>
              <a:r>
                <a:rPr b="0" lang="ko-KR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ko-KR" sz="20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64" name=""/>
            <p:cNvGrpSpPr/>
            <p:nvPr/>
          </p:nvGrpSpPr>
          <p:grpSpPr>
            <a:xfrm>
              <a:off x="3987720" y="4013280"/>
              <a:ext cx="262080" cy="151920"/>
              <a:chOff x="3987720" y="4013280"/>
              <a:chExt cx="262080" cy="151920"/>
            </a:xfrm>
          </p:grpSpPr>
          <p:sp>
            <p:nvSpPr>
              <p:cNvPr id="1165" name=""/>
              <p:cNvSpPr/>
              <p:nvPr/>
            </p:nvSpPr>
            <p:spPr>
              <a:xfrm>
                <a:off x="3987720" y="4013280"/>
                <a:ext cx="0" cy="15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4249800" y="4013280"/>
                <a:ext cx="0" cy="15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 flipV="1">
                <a:off x="3987720" y="4013280"/>
                <a:ext cx="262080" cy="15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3987720" y="4013280"/>
                <a:ext cx="262080" cy="15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9" name=""/>
            <p:cNvGrpSpPr/>
            <p:nvPr/>
          </p:nvGrpSpPr>
          <p:grpSpPr>
            <a:xfrm>
              <a:off x="4640400" y="4013280"/>
              <a:ext cx="261720" cy="151920"/>
              <a:chOff x="4640400" y="4013280"/>
              <a:chExt cx="261720" cy="151920"/>
            </a:xfrm>
          </p:grpSpPr>
          <p:sp>
            <p:nvSpPr>
              <p:cNvPr id="1170" name=""/>
              <p:cNvSpPr/>
              <p:nvPr/>
            </p:nvSpPr>
            <p:spPr>
              <a:xfrm>
                <a:off x="4640400" y="4013280"/>
                <a:ext cx="0" cy="15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4902120" y="4013280"/>
                <a:ext cx="0" cy="15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 flipV="1">
                <a:off x="4640400" y="4013280"/>
                <a:ext cx="261720" cy="15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4640400" y="4013280"/>
                <a:ext cx="261720" cy="15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195C-18AD-4235-9A34-0A0469753B43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질의 비용 산정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비용 산정을 하는 데는 많은 가능한 방법이 있는데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그 예로는 디스크 액세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CPU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시간 및 분산 또는 병렬 시스템에서의 통신 비용 등이 있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디스크 액세스가 일반적으로 가장 유력한 비용이며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또한 산정하기가 비교적 쉽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그러므로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디스크로부터의 블록 전송 수가 평가의 실질적인 비용산정으로 사용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블록들의 모든 전송은 같은 비용을 가진다고 가정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알고리즘의 비용은 많은 메모리를 가지면 디스크 액세스를 줄일 수 있으므로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메인 메모리 내 버퍼의 크기에 따른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따라서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비용을 산정할 때 메모리의 크기가 패러미터가 되어야 한다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흔히 최악의 경우의 산정을 사용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알고리즘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의 비용 산정을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로 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디스크에 되 쓰는 비용은 포함하지 않는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FA9A-DB1B-40A4-9DD7-4F8B2E9B59E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경험적 최적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동적 프로그래밍을 가진다 하더라도 비용 기반 최적화는 경비가 많이 든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시스템은 비용 기반 유형으로 이루어져야 하는 선택의 수를 줄이는데 경험을 사용할 수 있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경험적 최적화는 일반적으로 실행 성능을 향상시키는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모든 경우는 아니지만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규칙의 집합을 사용해 질의 트리를 변환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가능한 먼저 선택을 수행한다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튜플의 수를 줄인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가능한 먼저 추출을 수행한다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애트리뷰트의 수를 줄인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다른 유사한 연산 이전에 가장 제한적인 선택과 죠인 연산을 수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행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어떤 시스템에서는 경험만을 사용하고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다른 시스템에서는 경험과 부분적인 비용 기반 최적화를 결합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F807-077B-41B7-832B-92871B0A3CCB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전형적인 최적화 절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논리곱 선택을 일련의 단일 선택 연산으로 분해한다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규칙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1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가장 먼저 실행이 되도록 선택 연산을 질의 트리 아래로 이동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킨다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규칙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2, 7a, 7b, 11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가장 작은 릴레이션을 생성할 선택과 죠인 연산을 먼저 실행한다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규칙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6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선택 조건이 뒤에 나오는 카티전 곱 연산을 죠인 연산으로 대치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한다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규칙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4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필요한 곳에 새로운 추출을 생성하면서 추출 애트리뷰트 리스트를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분해해 가능한 트리의 아래로 이동시킨다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규칙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3, 8a, 8b, 1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연산들이 파이프라인될 수 있는 부 트리를 인지하여 파이프라이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을 사용해 실행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B926-F8FC-4F3F-8085-62123D7758EF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질의 최적기의 구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System R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최적기는 왼쪽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깊이 죠인 순서만을 고려한다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이것은 최적화 복잡성을 줄이고 파이프라인 평가에 따르는 계획을 생성한다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System R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은 또한 경험을 사용해 선택과 추출을 질의 트리 아래로 보낸다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차 인덱스를 사용한 검색에 대해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, Sybase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최적기는 튜플을 포함하고 있는 페이지가 버퍼에 있을 확률을 고려한다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2BB2-8E8E-4907-82CC-C663011358C0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질의 최적기의 구조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계속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어떤 질의 최적기는 경험적 선택과 대안의 액세스 계획의 생성을 통합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System R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Starburst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는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SQL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의 내포 블록 개념에 근거한 경험적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프로시저를 사용한다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비용 기반 죠인 순서 최적화가 뒤따르는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경험적 되쓰기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Oracle7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최적기는 사용 가능한 액세스 경로에 근거한 경험을 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원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경험을 사용한다 하더라도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비용 기반 질의 최적화는 실질적인 비용을 부과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이 비용은 일반적으로 특히 저속의 디스크 액세스 수를 감소시킴으로써 질의 실행시 얻는 절약으로 상쇄되고 남는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90A7-F19E-4F43-8F42-516052F1CC7D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선택 연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499"/>
              </a:spcBef>
              <a:spcAft>
                <a:spcPts val="249"/>
              </a:spcAft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파일 스캔 – 선택 조건을 충족하는 레코드를 찾아 검색하는 검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spcAft>
                <a:spcPts val="249"/>
              </a:spcAft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알고리즘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spcAft>
                <a:spcPts val="249"/>
              </a:spcAft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알고리즘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A1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선형 검색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).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각 파일 블록을 스캔해 모든 레코드가 선택 조건을 만족하는지 여부를 테스트 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spcAft>
                <a:spcPts val="249"/>
              </a:spcAft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비용산정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스캔할 디스크 블록의 수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)   E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A1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= b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spcAft>
                <a:spcPts val="249"/>
              </a:spcAft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선택이 키 애트리뷰트상에 행해지면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  E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A1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= (b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/ 2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spcAft>
                <a:spcPts val="249"/>
              </a:spcAft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레코드를 찾으면 중단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spcAft>
                <a:spcPts val="249"/>
              </a:spcAft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선형 검색은 다음에 관계없이 적용될 수 있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51"/>
              </a:spcBef>
              <a:spcAft>
                <a:spcPts val="224"/>
              </a:spcAft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선택 조건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또는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51"/>
              </a:spcBef>
              <a:spcAft>
                <a:spcPts val="224"/>
              </a:spcAft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파일 내 레코드의 순서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또는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51"/>
              </a:spcBef>
              <a:spcAft>
                <a:spcPts val="224"/>
              </a:spcAft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인덱스의 유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6A68-B9C1-4B4E-8F3D-A6FBC264B86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선택 연산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계속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A2 (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이진 검색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).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선택이 정렬된 파일상의 애트리뷰트에 동등 비교이면 적용 가능하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릴레이션의 블록들이 연속해 저장되었다고 가정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비용 산정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스캔할 디스크 블록의 수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)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A2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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(b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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+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– 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*  </a:t>
            </a:r>
            <a:r>
              <a:rPr b="0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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(b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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–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블록들에 이진 검색을 해 첫 번째 튜플에 도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하는 비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*  SC(A, r) –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선택을 만족할 레코드의 수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*  </a:t>
            </a:r>
            <a:r>
              <a:rPr b="0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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SC(A, r) / f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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이들 레코드가 점유할 블록의 수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키 애트리뷰트의 동등 조건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: SC(A, r) = 1 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비용 산정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A2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ko-KR" sz="2400" spc="-1" strike="noStrike">
                <a:solidFill>
                  <a:srgbClr val="000000"/>
                </a:solidFill>
                <a:latin typeface="Symbol"/>
                <a:ea typeface="Symbol"/>
              </a:rPr>
              <a:t>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ko-K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(b</a:t>
            </a:r>
            <a:r>
              <a:rPr b="0" lang="ko-KR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Symbol"/>
                <a:ea typeface="Symbol"/>
              </a:rPr>
              <a:t>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로 감소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745160" y="3102120"/>
            <a:ext cx="1447560" cy="685800"/>
            <a:chOff x="4745160" y="3102120"/>
            <a:chExt cx="1447560" cy="685800"/>
          </a:xfrm>
        </p:grpSpPr>
        <p:sp>
          <p:nvSpPr>
            <p:cNvPr id="163" name=""/>
            <p:cNvSpPr/>
            <p:nvPr/>
          </p:nvSpPr>
          <p:spPr>
            <a:xfrm>
              <a:off x="4745160" y="3513600"/>
              <a:ext cx="144756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ko-KR" sz="20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905360" y="3307680"/>
              <a:ext cx="112680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————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5" name=""/>
            <p:cNvGrpSpPr/>
            <p:nvPr/>
          </p:nvGrpSpPr>
          <p:grpSpPr>
            <a:xfrm>
              <a:off x="4767120" y="3102120"/>
              <a:ext cx="144000" cy="685800"/>
              <a:chOff x="4767120" y="3102120"/>
              <a:chExt cx="144000" cy="685800"/>
            </a:xfrm>
          </p:grpSpPr>
          <p:sp>
            <p:nvSpPr>
              <p:cNvPr id="166" name=""/>
              <p:cNvSpPr/>
              <p:nvPr/>
            </p:nvSpPr>
            <p:spPr>
              <a:xfrm>
                <a:off x="4767120" y="3102120"/>
                <a:ext cx="144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767120" y="3102120"/>
                <a:ext cx="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6037200" y="3102120"/>
              <a:ext cx="144000" cy="685800"/>
              <a:chOff x="6037200" y="3102120"/>
              <a:chExt cx="144000" cy="685800"/>
            </a:xfrm>
          </p:grpSpPr>
          <p:sp>
            <p:nvSpPr>
              <p:cNvPr id="169" name=""/>
              <p:cNvSpPr/>
              <p:nvPr/>
            </p:nvSpPr>
            <p:spPr>
              <a:xfrm>
                <a:off x="6037200" y="3102120"/>
                <a:ext cx="144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6181200" y="3102120"/>
                <a:ext cx="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1" name=""/>
            <p:cNvSpPr/>
            <p:nvPr/>
          </p:nvSpPr>
          <p:spPr>
            <a:xfrm>
              <a:off x="4745160" y="3131640"/>
              <a:ext cx="144756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C(A, r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C1B7-DCA2-4DD6-96BE-FAE1B59EB2E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05T09:43:25Z</dcterms:created>
  <dc:creator>서울산업대학교 교수 석상기</dc:creator>
  <dc:description/>
  <dc:language>en-US</dc:language>
  <cp:lastModifiedBy>.</cp:lastModifiedBy>
  <dcterms:modified xsi:type="dcterms:W3CDTF">1999-06-18T05:17:42Z</dcterms:modified>
  <cp:revision>26</cp:revision>
  <dc:subject/>
  <dc:title>제 12 장 질의 처리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5357798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EncodingType">
    <vt:r8>-99</vt:r8>
  </property>
  <property fmtid="{D5CDD505-2E9C-101B-9397-08002B2CF9AE}" pid="8" name="GraphicType">
    <vt:r8>1</vt:r8>
  </property>
  <property fmtid="{D5CDD505-2E9C-101B-9397-08002B2CF9AE}" pid="9" name="HomePage">
    <vt:lpwstr>http://cat1.snut.ac.kr/~sksuk/main.htm</vt:lpwstr>
  </property>
  <property fmtid="{D5CDD505-2E9C-101B-9397-08002B2CF9AE}" pid="10" name="LinkColor">
    <vt:r8>16711680</vt:r8>
  </property>
  <property fmtid="{D5CDD505-2E9C-101B-9397-08002B2CF9AE}" pid="11" name="MailAddress">
    <vt:lpwstr>sksuk@duck.snut.ac.kr</vt:lpwstr>
  </property>
  <property fmtid="{D5CDD505-2E9C-101B-9397-08002B2CF9AE}" pid="12" name="NavBtnPos">
    <vt:r8>1</vt:r8>
  </property>
  <property fmtid="{D5CDD505-2E9C-101B-9397-08002B2CF9AE}" pid="13" name="Other">
    <vt:lpwstr/>
  </property>
  <property fmtid="{D5CDD505-2E9C-101B-9397-08002B2CF9AE}" pid="14" name="OutputDir">
    <vt:lpwstr>E:\public_html\data</vt:lpwstr>
  </property>
  <property fmtid="{D5CDD505-2E9C-101B-9397-08002B2CF9AE}" pid="15" name="ScreenSize">
    <vt:r8>4</vt:r8>
  </property>
  <property fmtid="{D5CDD505-2E9C-101B-9397-08002B2CF9AE}" pid="16" name="ScreenUsage">
    <vt:r8>3</vt:r8>
  </property>
  <property fmtid="{D5CDD505-2E9C-101B-9397-08002B2CF9AE}" pid="17" name="ShowNotes">
    <vt:bool>0</vt:bool>
  </property>
  <property fmtid="{D5CDD505-2E9C-101B-9397-08002B2CF9AE}" pid="18" name="TemplateType">
    <vt:r8>2</vt:r8>
  </property>
  <property fmtid="{D5CDD505-2E9C-101B-9397-08002B2CF9AE}" pid="19" name="TextColor">
    <vt:r8>0</vt:r8>
  </property>
  <property fmtid="{D5CDD505-2E9C-101B-9397-08002B2CF9AE}" pid="20" name="TransparentButton">
    <vt:r8>0</vt:r8>
  </property>
  <property fmtid="{D5CDD505-2E9C-101B-9397-08002B2CF9AE}" pid="21" name="UseBrowserColor">
    <vt:bool>0</vt:bool>
  </property>
  <property fmtid="{D5CDD505-2E9C-101B-9397-08002B2CF9AE}" pid="22" name="VisitedColor">
    <vt:r8>64</vt:r8>
  </property>
</Properties>
</file>