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808E-43EF-415E-9A4E-85B8D21F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308F-CEF1-42B0-BE12-9B624BA3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984A-8300-446D-ADA9-DDFF583B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AFD0-E5E0-4BCD-8173-A3D72B1FB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CC79-488F-41BB-BA37-E5B913B83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F359-9E7C-4602-839B-7D36F1EF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E5E1-32B6-4A71-9291-399D8CF2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285B-8E73-4899-844E-9371261F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4A7A-0DDD-46C4-951E-EB08923B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8F21-7BB2-4C92-A6D1-5F3D3541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8994-014B-40E7-A4D8-813113B4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B984-27FF-4423-AC32-DD5D87B3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262B-E3B1-4A32-A572-E6C15131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4522-04B4-4988-8FE9-7B184BC1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91F0-AC11-4AD6-A8C1-49DFD63C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35AD-DE66-4E64-BC41-E51B00B92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8D5D-58C5-4AF6-AF12-6FD7D7A9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9D1D-4678-44B6-9D5C-15BC2929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0856-0E6B-47FC-867C-FE7ACAE7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9305-854F-4055-8D98-14F7055E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3AE5-46C7-40F2-9734-CDF2E5A6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10E0-FD64-4BF0-9B0A-40EC1D2A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4EAB-D1B2-4044-9AE9-6B265601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43C1-7E17-4EC9-94ED-D2DAEDD8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1C33-4B90-40C1-9919-15D2B9C45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4893-AB97-4B2C-A68A-715486150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장 저장 장치와 파일 구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물리 저장 매체의 개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자기 디스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차 저장 장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저장 장치 액세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파일 구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파일내 레코드의 구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 사전 저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객체 지향 데이터베이스의 저장 구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8A55-760D-42CD-97D5-DF841E75D0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디스크 서브 시스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디스크 제어기 – 컴퓨터 시스템과 디스크 드라이브 하드웨어간에 인터페이스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고급 명령으로 섹터를 읽고 쓰도록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디스크 암을 해당 트랙으로 움직이도록 하는 행위와 실제로 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터를 읽고 쓰는 행위 등을 시작하도록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371600" y="2133720"/>
            <a:ext cx="6324480" cy="2057400"/>
            <a:chOff x="1371600" y="2133720"/>
            <a:chExt cx="6324480" cy="2057400"/>
          </a:xfrm>
        </p:grpSpPr>
        <p:grpSp>
          <p:nvGrpSpPr>
            <p:cNvPr id="227" name=""/>
            <p:cNvGrpSpPr/>
            <p:nvPr/>
          </p:nvGrpSpPr>
          <p:grpSpPr>
            <a:xfrm>
              <a:off x="1371600" y="2133720"/>
              <a:ext cx="6324480" cy="1620360"/>
              <a:chOff x="1371600" y="2133720"/>
              <a:chExt cx="6324480" cy="1620360"/>
            </a:xfrm>
          </p:grpSpPr>
          <p:sp>
            <p:nvSpPr>
              <p:cNvPr id="228" name=""/>
              <p:cNvSpPr/>
              <p:nvPr/>
            </p:nvSpPr>
            <p:spPr>
              <a:xfrm>
                <a:off x="1371600" y="2133720"/>
                <a:ext cx="632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371600" y="2342880"/>
                <a:ext cx="632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057400" y="2813400"/>
                <a:ext cx="1523880" cy="57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디스크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제어기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514600" y="2133720"/>
                <a:ext cx="0" cy="67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048120" y="2342880"/>
                <a:ext cx="0" cy="47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581280" y="2970000"/>
                <a:ext cx="3581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4" name=""/>
              <p:cNvGrpSpPr/>
              <p:nvPr/>
            </p:nvGrpSpPr>
            <p:grpSpPr>
              <a:xfrm>
                <a:off x="4267080" y="3492720"/>
                <a:ext cx="3200040" cy="261360"/>
                <a:chOff x="4267080" y="3492720"/>
                <a:chExt cx="3200040" cy="2613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267080" y="3492720"/>
                  <a:ext cx="605520" cy="261360"/>
                </a:xfrm>
                <a:prstGeom prst="can">
                  <a:avLst>
                    <a:gd name="adj" fmla="val 2500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131800" y="3492720"/>
                  <a:ext cx="605520" cy="261360"/>
                </a:xfrm>
                <a:prstGeom prst="can">
                  <a:avLst>
                    <a:gd name="adj" fmla="val 2500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996880" y="3492720"/>
                  <a:ext cx="605160" cy="261360"/>
                </a:xfrm>
                <a:prstGeom prst="can">
                  <a:avLst>
                    <a:gd name="adj" fmla="val 2500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861600" y="3492720"/>
                  <a:ext cx="605520" cy="261360"/>
                </a:xfrm>
                <a:prstGeom prst="can">
                  <a:avLst>
                    <a:gd name="adj" fmla="val 2500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7162920" y="2970000"/>
                <a:ext cx="0" cy="52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300720" y="2970000"/>
                <a:ext cx="0" cy="52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427720" y="2970000"/>
                <a:ext cx="0" cy="52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572000" y="2970000"/>
                <a:ext cx="0" cy="52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3809880" y="2320560"/>
              <a:ext cx="289584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시스템 버스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343400" y="3817080"/>
              <a:ext cx="289548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디스크 들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DB49-DDD1-43AE-BD4B-15F36E8758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디스크의 성능 측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액세스 시간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읽기 또는 쓰기 요청이 제기되어 데이터 전송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시작할 때까지 걸리는 시간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음과 같이 구성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탐색 시간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해당 트랙상에 암이 위치하는데 걸리는 시간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평균 탐색 시간은 최악의 경우의 탐색 시간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/3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회전 지연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액세스될 섹터가 헤드 아래에 나타나는데 걸리는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시간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평균 지연은 최악의 지연 시간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 전송율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가 디스크로부터 검색되거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디스크에 저장될 수 있는 비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평균 고장 시간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MTTF) 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디스크가 고장없이 연속적으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실행될 평균 예상 시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73BE-A620-4854-B8AC-E0EBA1CD90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디스크 블록 액세스의 최적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블록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한 트랙상의 연속적인 일련의 섹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데이터는 디스크와 메인 메모리간에 블록 단위로 전송된다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크기는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512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바이트에서 수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KB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까지이다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디스크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암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스케쥴링 알고리즘은 디스크 암의 이동이  최소화 되도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트랙 액세스를 요구한다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승강기 알고리즘이 보통 사용된다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파일 구성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데이터가 액세스될 방법에 상응해 블록을 구성함으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써 블록 액세스 시간을 최적화 한다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관련있는 정보를 동일 실린더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또는 근처 실린더에 저장한다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비휘발성 쓰기 버퍼는 비휘발성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AM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버퍼에 즉시 블록 쓰기를 함으로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디스크 기록 시간을 향상시킨다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그리고 제어기는 디스크에 다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요청이 없을 때마다 디스크에 기록 한다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로그 디스크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블록 갱신의 순차 로그를 기록하는데 사용되는 디스크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이것은 탐색 시간을 제거한다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비휘발성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RAM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처럼 사용된다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E7B8-311E-461B-AB0E-C73CE07BF1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edundant Arrays of  Inexpensive D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값싸고 대중성 있는 디스크를 사용하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장점을 취한 디스크 구성 기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원래는 비싼 대형 디스크에 대한 비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효과 대안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오늘날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AID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경제적 이유보다는 높은 신뢰도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밴드폭을 위해 사용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따라서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“I”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inexpensive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대신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 해석되고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C8F5-5BEF-45CA-A482-368FBD454E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중복을 통한 신뢰도의 향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76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디스크 집합중의 몇 개의 디스크가 고장 날 기회가 특정 단일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디스크가 고장 날 기회보다 훨씬 더 높다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각각이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00,000 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시간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약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년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의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MTTF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를 가진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개의 디스크를 가진  시스템은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,000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시간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약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일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의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MTTF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를 가진 시스템을 갖게 될  것이다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중복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디스크 고장으로 잃어버리는 정보를 재구축하는데  사용될 수 있는 여분의 정보를 저장한다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거울형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또는 그림자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각 디스크를 이중으로 둔다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논리 디스크는 두개의 물리  디스크로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구성된다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각각의 쓰기는 양쪽의 디스크에서 수행된다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쌍 중의 한 디스크가 고장 나면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다른 쪽의 디스크는  여전히 사용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가능하다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4CB6-6A3D-46AA-9439-EB47143917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병렬화를 통한 성능의 향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디스크 시스템에서 병렬화의 두가지 주요 목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여러 개의 작은 액세스로 균등하게 분배하여 처리율을 높인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커다란 액세스를 병렬화하여 응답 시간을 단축시킨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여러 대의 디스크에 걸쳐 데이터를 분산시킴으로써 전송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향상 시킨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비트 단위분산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각 바이트의 비트를 여러 디스크에 분산시킨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8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개 디스크의 배열에서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각 바이트의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번째 비트를 디스크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에 기록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각 액세스는 단일 디스크의 비율보다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배로 데이터를  읽을 수 있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그러나 탐색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액세스 시간은 단일 디스크보다 더 나쁘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블록 단위 분산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n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대의 디스크에서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파일의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번째 블록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 i mod n ) + 1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번 디스크로 간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DB32-A5B8-4331-AAEE-83B100F0FC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ID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패리티 비트로 결합된 디스크 분산을 사용해 저렴한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비용으로 중복을 제공하는 기법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서로 다른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RAID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구조 또는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RAID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계층은 서로 다른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비용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성능 및 신뢰도의 특징을 가지고 있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계층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0 :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블록 계층에서의 분산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중복 없음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데이터 손실이 치명적이지 않은 고성능 어플리케이션에서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사용된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계층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1 :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거울형 디스크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최상의 쓰기 성능을 제공한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데이터베이스 시스템에서의 로그 파일 저장과 같은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어플리케이션에 주로 사용된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FD0F-662F-4A72-898D-5C9B029C4D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838080" y="6858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828800" y="1676520"/>
            <a:ext cx="5638680" cy="4419000"/>
            <a:chOff x="1828800" y="1676520"/>
            <a:chExt cx="5638680" cy="4419000"/>
          </a:xfrm>
        </p:grpSpPr>
        <p:grpSp>
          <p:nvGrpSpPr>
            <p:cNvPr id="259" name=""/>
            <p:cNvGrpSpPr/>
            <p:nvPr/>
          </p:nvGrpSpPr>
          <p:grpSpPr>
            <a:xfrm>
              <a:off x="1828800" y="1676520"/>
              <a:ext cx="5638680" cy="4419000"/>
              <a:chOff x="1828800" y="1676520"/>
              <a:chExt cx="5638680" cy="441900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3276720" y="1676520"/>
                <a:ext cx="2666880" cy="286560"/>
                <a:chOff x="3276720" y="1676520"/>
                <a:chExt cx="2666880" cy="28656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3276720" y="1676520"/>
                  <a:ext cx="533160" cy="286560"/>
                </a:xfrm>
                <a:prstGeom prst="can">
                  <a:avLst>
                    <a:gd name="adj" fmla="val 2500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3962520" y="1676520"/>
                  <a:ext cx="533160" cy="286560"/>
                </a:xfrm>
                <a:prstGeom prst="can">
                  <a:avLst>
                    <a:gd name="adj" fmla="val 2500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410080" y="1676520"/>
                  <a:ext cx="533520" cy="286560"/>
                </a:xfrm>
                <a:prstGeom prst="can">
                  <a:avLst>
                    <a:gd name="adj" fmla="val 2500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648320" y="1676520"/>
                  <a:ext cx="533160" cy="286560"/>
                </a:xfrm>
                <a:prstGeom prst="can">
                  <a:avLst>
                    <a:gd name="adj" fmla="val 2500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1828800" y="2250000"/>
                <a:ext cx="5638680" cy="286920"/>
                <a:chOff x="1828800" y="2250000"/>
                <a:chExt cx="5638680" cy="2869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1828800" y="2250000"/>
                  <a:ext cx="533520" cy="286920"/>
                </a:xfrm>
                <a:prstGeom prst="can">
                  <a:avLst>
                    <a:gd name="adj" fmla="val 2500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590920" y="2250000"/>
                  <a:ext cx="533160" cy="286920"/>
                </a:xfrm>
                <a:prstGeom prst="can">
                  <a:avLst>
                    <a:gd name="adj" fmla="val 2500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276720" y="2250000"/>
                  <a:ext cx="533160" cy="286920"/>
                </a:xfrm>
                <a:prstGeom prst="can">
                  <a:avLst>
                    <a:gd name="adj" fmla="val 2500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962520" y="2250000"/>
                  <a:ext cx="533160" cy="286920"/>
                </a:xfrm>
                <a:prstGeom prst="can">
                  <a:avLst>
                    <a:gd name="adj" fmla="val 2500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410080" y="2250000"/>
                  <a:ext cx="533520" cy="286920"/>
                </a:xfrm>
                <a:prstGeom prst="can">
                  <a:avLst>
                    <a:gd name="adj" fmla="val 2500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648320" y="2250000"/>
                  <a:ext cx="533160" cy="286920"/>
                </a:xfrm>
                <a:prstGeom prst="can">
                  <a:avLst>
                    <a:gd name="adj" fmla="val 2500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172200" y="2250000"/>
                  <a:ext cx="533520" cy="286920"/>
                </a:xfrm>
                <a:prstGeom prst="can">
                  <a:avLst>
                    <a:gd name="adj" fmla="val 2500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6934320" y="2250000"/>
                  <a:ext cx="533160" cy="286920"/>
                </a:xfrm>
                <a:prstGeom prst="can">
                  <a:avLst>
                    <a:gd name="adj" fmla="val 2500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2209680" y="2881800"/>
                <a:ext cx="4876560" cy="286560"/>
                <a:chOff x="2209680" y="2881800"/>
                <a:chExt cx="4876560" cy="28656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2209680" y="2881800"/>
                  <a:ext cx="533160" cy="286560"/>
                </a:xfrm>
                <a:prstGeom prst="can">
                  <a:avLst>
                    <a:gd name="adj" fmla="val 2500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895480" y="2881800"/>
                  <a:ext cx="533160" cy="286560"/>
                </a:xfrm>
                <a:prstGeom prst="can">
                  <a:avLst>
                    <a:gd name="adj" fmla="val 2500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581280" y="2881800"/>
                  <a:ext cx="533160" cy="286560"/>
                </a:xfrm>
                <a:prstGeom prst="can">
                  <a:avLst>
                    <a:gd name="adj" fmla="val 2500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028840" y="2881800"/>
                  <a:ext cx="533520" cy="286560"/>
                </a:xfrm>
                <a:prstGeom prst="can">
                  <a:avLst>
                    <a:gd name="adj" fmla="val 2500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267080" y="2881800"/>
                  <a:ext cx="533160" cy="286560"/>
                </a:xfrm>
                <a:prstGeom prst="can">
                  <a:avLst>
                    <a:gd name="adj" fmla="val 2500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790960" y="2881800"/>
                  <a:ext cx="533520" cy="286560"/>
                </a:xfrm>
                <a:prstGeom prst="can">
                  <a:avLst>
                    <a:gd name="adj" fmla="val 2500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53080" y="2881800"/>
                  <a:ext cx="533160" cy="286560"/>
                </a:xfrm>
                <a:prstGeom prst="can">
                  <a:avLst>
                    <a:gd name="adj" fmla="val 2500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2895480" y="3512880"/>
                <a:ext cx="3429000" cy="286560"/>
                <a:chOff x="2895480" y="3512880"/>
                <a:chExt cx="3429000" cy="28656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2895480" y="3512880"/>
                  <a:ext cx="533160" cy="286560"/>
                </a:xfrm>
                <a:prstGeom prst="can">
                  <a:avLst>
                    <a:gd name="adj" fmla="val 2500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581280" y="3512880"/>
                  <a:ext cx="533160" cy="286560"/>
                </a:xfrm>
                <a:prstGeom prst="can">
                  <a:avLst>
                    <a:gd name="adj" fmla="val 2500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028840" y="3512880"/>
                  <a:ext cx="533520" cy="286560"/>
                </a:xfrm>
                <a:prstGeom prst="can">
                  <a:avLst>
                    <a:gd name="adj" fmla="val 2500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267080" y="3512880"/>
                  <a:ext cx="533160" cy="286560"/>
                </a:xfrm>
                <a:prstGeom prst="can">
                  <a:avLst>
                    <a:gd name="adj" fmla="val 2500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790960" y="3512880"/>
                  <a:ext cx="533520" cy="286560"/>
                </a:xfrm>
                <a:prstGeom prst="can">
                  <a:avLst>
                    <a:gd name="adj" fmla="val 2500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95480" y="4201560"/>
                <a:ext cx="3429000" cy="286560"/>
                <a:chOff x="2895480" y="4201560"/>
                <a:chExt cx="3429000" cy="2865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95480" y="4201560"/>
                  <a:ext cx="533160" cy="286560"/>
                </a:xfrm>
                <a:prstGeom prst="can">
                  <a:avLst>
                    <a:gd name="adj" fmla="val 2500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581280" y="4201560"/>
                  <a:ext cx="533160" cy="286560"/>
                </a:xfrm>
                <a:prstGeom prst="can">
                  <a:avLst>
                    <a:gd name="adj" fmla="val 2500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028840" y="4201560"/>
                  <a:ext cx="533520" cy="286560"/>
                </a:xfrm>
                <a:prstGeom prst="can">
                  <a:avLst>
                    <a:gd name="adj" fmla="val 2500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267080" y="4201560"/>
                  <a:ext cx="533160" cy="286560"/>
                </a:xfrm>
                <a:prstGeom prst="can">
                  <a:avLst>
                    <a:gd name="adj" fmla="val 2500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5790960" y="4201560"/>
                  <a:ext cx="533520" cy="286560"/>
                </a:xfrm>
                <a:prstGeom prst="can">
                  <a:avLst>
                    <a:gd name="adj" fmla="val 2500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2895480" y="4890600"/>
                <a:ext cx="3429000" cy="286560"/>
                <a:chOff x="2895480" y="4890600"/>
                <a:chExt cx="3429000" cy="2865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2895480" y="4890600"/>
                  <a:ext cx="533160" cy="286560"/>
                </a:xfrm>
                <a:prstGeom prst="can">
                  <a:avLst>
                    <a:gd name="adj" fmla="val 2500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581280" y="4890600"/>
                  <a:ext cx="533160" cy="286560"/>
                </a:xfrm>
                <a:prstGeom prst="can">
                  <a:avLst>
                    <a:gd name="adj" fmla="val 2500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028840" y="4890600"/>
                  <a:ext cx="533520" cy="286560"/>
                </a:xfrm>
                <a:prstGeom prst="can">
                  <a:avLst>
                    <a:gd name="adj" fmla="val 2500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267080" y="4890600"/>
                  <a:ext cx="533160" cy="286560"/>
                </a:xfrm>
                <a:prstGeom prst="can">
                  <a:avLst>
                    <a:gd name="adj" fmla="val 2500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790960" y="4890600"/>
                  <a:ext cx="533520" cy="286560"/>
                </a:xfrm>
                <a:prstGeom prst="can">
                  <a:avLst>
                    <a:gd name="adj" fmla="val 2500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514600" y="5521680"/>
                <a:ext cx="4114800" cy="286920"/>
                <a:chOff x="2514600" y="5521680"/>
                <a:chExt cx="4114800" cy="2869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514600" y="5521680"/>
                  <a:ext cx="533520" cy="286920"/>
                </a:xfrm>
                <a:prstGeom prst="can">
                  <a:avLst>
                    <a:gd name="adj" fmla="val 2500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200400" y="5521680"/>
                  <a:ext cx="533520" cy="286920"/>
                </a:xfrm>
                <a:prstGeom prst="can">
                  <a:avLst>
                    <a:gd name="adj" fmla="val 2500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648320" y="5521680"/>
                  <a:ext cx="533160" cy="286920"/>
                </a:xfrm>
                <a:prstGeom prst="can">
                  <a:avLst>
                    <a:gd name="adj" fmla="val 2500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886200" y="5521680"/>
                  <a:ext cx="533520" cy="286920"/>
                </a:xfrm>
                <a:prstGeom prst="can">
                  <a:avLst>
                    <a:gd name="adj" fmla="val 2500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5410080" y="5521680"/>
                  <a:ext cx="533520" cy="286920"/>
                </a:xfrm>
                <a:prstGeom prst="can">
                  <a:avLst>
                    <a:gd name="adj" fmla="val 2500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095880" y="5521680"/>
                  <a:ext cx="533520" cy="286920"/>
                </a:xfrm>
                <a:prstGeom prst="can">
                  <a:avLst>
                    <a:gd name="adj" fmla="val 2500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7" name=""/>
              <p:cNvSpPr/>
              <p:nvPr/>
            </p:nvSpPr>
            <p:spPr>
              <a:xfrm>
                <a:off x="2362320" y="1994400"/>
                <a:ext cx="4647960" cy="2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(a) RAID 0 :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비중복 분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362320" y="2602800"/>
                <a:ext cx="4647960" cy="2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(b) RAID 1 :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거울형 디스크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362320" y="3234600"/>
                <a:ext cx="4647960" cy="2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(c) RAID 2 :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메모리 유형 오류 정정 코드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362320" y="3870720"/>
                <a:ext cx="4647960" cy="2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Times New Roman"/>
                  </a:rPr>
                  <a:t>(d) RAID 3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Times New Roman"/>
                  </a:rPr>
                  <a:t>비트 인터리브 패리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362320" y="4572360"/>
                <a:ext cx="4647960" cy="2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Times New Roman"/>
                  </a:rPr>
                  <a:t>(e) RAID 4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Times New Roman"/>
                  </a:rPr>
                  <a:t>블록 인터리브 패리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362320" y="5261040"/>
                <a:ext cx="4647960" cy="2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Times New Roman"/>
                  </a:rPr>
                  <a:t>(f) RAID 5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Times New Roman"/>
                  </a:rPr>
                  <a:t>블록 인터리브 분산 패리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362320" y="5866200"/>
                <a:ext cx="4647960" cy="2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(g) RAID 6 : P+Q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중복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4800600" y="2286000"/>
              <a:ext cx="2590920" cy="304920"/>
              <a:chOff x="4800600" y="2286000"/>
              <a:chExt cx="2590920" cy="304920"/>
            </a:xfrm>
          </p:grpSpPr>
          <p:sp>
            <p:nvSpPr>
              <p:cNvPr id="315" name=""/>
              <p:cNvSpPr/>
              <p:nvPr/>
            </p:nvSpPr>
            <p:spPr>
              <a:xfrm>
                <a:off x="4800600" y="2286000"/>
                <a:ext cx="3049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562720" y="2286000"/>
                <a:ext cx="3045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324480" y="2286000"/>
                <a:ext cx="3049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086600" y="2286000"/>
                <a:ext cx="3049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81480" y="289548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943600" y="289548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289548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943600" y="3529080"/>
              <a:ext cx="304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43600" y="423216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48120" y="495288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733920" y="495288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32320" y="495288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81480" y="495288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495288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666880" y="554508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52680" y="554508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24280" y="552780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72200" y="552132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504040" y="553392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962520" y="552780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30B4-F65F-4C25-A212-0FCA88D7A9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ID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층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계층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2 :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비트 분산을 가진 메모리 유형 오류 정정 코드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(EC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계층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3 :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비트 인터리브 패리티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하나의 패리티 비트가 오류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탐지가 아닌 오류 정정에 사용될 수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데이터를 기록할 때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패리티 비트가 또한 계산되어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기록되어야 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단일 디스크보다 데이터 전송은 더 빠르지만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각 입출력에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참여하기 때문에 초당 입출력은 더 적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계층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를 포함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적은 비용으로 계층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의 장점을 모두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제공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DE78-4981-4270-B65E-29C715EAB4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ID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층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계층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4 :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블록 인터리브 패리티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블록 계층의 분산을 사용하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개의 서로 다른 디스크 블록에 상응하는 패리티 블록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별도의 디스크에 가진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독립 블록 읽기에 대해 계층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보다 높은 입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출력율을 제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한다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블록 읽기는 하나의 디스크에 동작하므로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서로 다른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디스크에 저장된 블록들이 병렬로 읽힐 수 있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여러 블록의 읽기에 대해 보다 높은 전송율을 제공한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그러나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각 블록 쓰기는 또한 패리티 디스크에 쓰기를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하므로 패리티 블록은 독립 블록 쓰기에 대해 병목이 된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9C3B-6806-4EEF-A3E7-597B81FCB2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물리 저장 매체의 분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를 액세스할 수 있는 속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 단위당  비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신뢰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정전 또는 시스템 고장시 데이터 유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저장 장치의  물리적 고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저장 장치는 다음과 같이 구분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휘발성 저장 장치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정전시 내용이 유실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비휘발성 저장 장치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정전시 내용이 유실되지 않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차 및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차 저장 장치와 함께 배터리 백업 메인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메모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등이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CE60-0DED-4CE4-8CA4-7B4F1FA617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ID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층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계층 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5 : 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블록 인터리브 분산  패리티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데이터를 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개의 디스크에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25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저장하고 패리티를 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개의 디스크에 저장하는 대신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데이터의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25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패리티를 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N + 1 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개의 모든 디스크에 분할한다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25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, 5 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개의 디스크가 있으면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, n 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번째 블록 집합의 패리티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25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블록은 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(n mod 5) + 1 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번째 디스크에 저장되고 데이터 블록은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25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다른 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개의 디스크에 저장된다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25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계층 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보다 입출력 비율이 높다 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블록과 패리티 블록이 서로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25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다른 디스크에 있으면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블록 쓰기는 병렬로 처리된다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25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계층 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를 포함한다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계층 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6 :  P + Q 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중복 기법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계층 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와 유사 하지만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여러 디스크의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25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고장에 대비하기 위해 별도의 중복 정보를 저장한다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비용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25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많이 들지만 계층 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보다 신뢰도가 높다 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널리 사용되지는 않는다</a:t>
            </a:r>
            <a:r>
              <a:rPr b="0" lang="ko-KR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8327-10E3-4188-A1C3-866852C546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광 디스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Compact disk 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읽기 전용 메모리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 CD-RO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드라이브에 디스크를 장착하고 탈착할 수 있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대용량의 저장 장치이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디스크에 대략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500MB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수록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탐색 시간과 지연 시간이 높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자기 디스크보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데이터 전송율이 낮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디지털 비디오 디스크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DVD) 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새로운 광 양식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4.7 - 17 GB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를 보관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WORM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디스크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읽어 온 동일한 드라이브를 사용해 기록할 수 있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데이터는 한번만 기록될 수 있으며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지울 수는 없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대용량이며 생명 주기가 길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보관용 저장 장치로 사용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WORM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주크박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9E58-B39A-478F-BE69-C41CDDA622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자기 테이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대용량의 데이터를 보관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( 5GB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테이프가 보통이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현재로서는 가장 저렴한 저장 매체임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자기 및 광 디스크에 비해 액세스 시간이 매우 느리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순차 액세스만이 가능하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자주 사용하지 않는 정보를 저장용 및 한 시스템에서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다른 시스템으로 정보를 전달하기 위한 오프라인 매체로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주로 사용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대용량의 저장 장치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(terabyte(10</a:t>
            </a:r>
            <a:r>
              <a:rPr b="0" lang="ko-KR" sz="22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) - petabyte(10</a:t>
            </a:r>
            <a:r>
              <a:rPr b="0" lang="ko-KR" sz="22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로 테이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주크박스가 사용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C334-B302-499B-93F5-C1B9089C6B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저장 장치 액세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데이터베이스 파일은 블록이라는 고정 길이 저장 단위로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분할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블록은 저장 장치 할당과  데이터 전송 단위이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데이터베이스 시스템은 디스크와 메모리간에 최소한 블록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수  가 전송되도록 탐색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가급적 많은 블록이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메인 메모리에 있도록 하여 디스크 액세스 수를 줄일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수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버퍼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디스크 블록의 사본을 저장하는데 사용되는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메인 메모리 부분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버퍼 매니저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메인 메모리에 버퍼 공간을 할당하는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서브 시스템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9829-0300-43C7-83FA-11E9EA425E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버퍼 매니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프로그램은 디스크에서 블록이 필요할 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버퍼 매니저를 호출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필요한 블록이 버퍼내에 이미 존재하면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메인 메모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내의 블록 주소가 요청하는 프로그램에 주어진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블록이 버퍼내에 없으면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버퍼 매니저는 필요에 따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새로운 블록을 위한 공간을 마련하기 위해 일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블록을 내보내어 버퍼내에 공간을 할당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내보내진 블록은 디스크에 수록되고 읽히어진 최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시점 이후 갱신되었을 때만 디스크에 되쓰인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버퍼에 공간이 일단 할당되면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버퍼 매니저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디스크에서 버퍼로 블록을 읽어 들이고  메인 메모리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블록의 주소를 요청자에게 전달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E50C-42B5-4B64-858A-59F36594BA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버퍼 대치 전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대부분의 운영체제는 최근에 가장 사용되지 않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LR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블록을 대치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LRU 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미래의 참조 지표로서 과거의 블록 참조 패턴을 사용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질의는 잘 정의된 액세스 패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순차 스캔과 같은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가지며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베이스 시스템은 미래의 참조를 예측하는데 사용자 질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의 정보를 사용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LRU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데이터의 반복 스캔을 포함한 어떤 액세스 패턴에 대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서는 나쁜 전략일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질의 최적기가 제공하는 대치 전략상의 지침을 가진 혼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전략이 더 낫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4FC9-D1BB-4AC8-BDE5-ACD6949D9C2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버퍼 대치 전략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붙박이 블록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디스크에 되쓰이기가 허용되지 않은 메모리 블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즉시 던짐 전략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블록의 마지막 튜플이 처리되자 마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 블록이 점유한 공간을 해제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MRU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전략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시스템은 현재 처리중인 블록을 고정 시켜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 블록의 마지막 튜플이 처리된 후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블록은 해제되며 그것은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장 최근에 사용한 블록이 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버퍼 매니저는 요청이 특정 릴레이션을 참조한 확률에 관한 통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정보를 사용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 사전은 빈번히 액세스 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경험에 따르면 메인 메모리 버퍼내에 데이터 사전 블록을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유지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6DF1-A51D-450B-8C3C-885DC0D7CC5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파일 구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베이스는 파일의 모임으로 저장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각 파일은 레코드로 구성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레코는 필드로 구성된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한가지 방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레코드의 크기가 고정길이라 가정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각 파일은 한가지 유형만의 레코드를 가진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서로 다른 파일이 서로 다른 릴레이션에 사용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 경우는 구현하기가 가장 쉽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변길이 레코드는 후에 고려 하기로 하자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A3D5-53F1-41EC-8328-7D282D1E5F2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고정길이 레코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단순한 방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레코드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* ( i - 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번째 바이트부터 시작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저장한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여기서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은 각 레코드의 크기이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레코드 액세스는 단순하지만 레코드들이 블록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걸칠 수 있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레코드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의 삭제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대안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레코드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+ 1 , …, 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을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, …, n-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로 이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레코드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을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로 이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자유 리스트상의 모든 자유 레코드를 연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05EE-E16C-4B51-A7C5-A9CF0B9000C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자유 리스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내용이 삭제된 첫 번째 레코드의 주소를 파일 헤더에 저장한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이 첫 번째 레코드를 사용해 두 번째 사용 가능한 레코드 등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주소를 저장한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이들 저장된 주소는 레코드의 위치를 가리키기 때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포인터로 생각할 수 있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63680" y="3429000"/>
            <a:ext cx="5496120" cy="266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63680" y="3695760"/>
            <a:ext cx="5496120" cy="266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63680" y="3962520"/>
            <a:ext cx="5496120" cy="26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46040" y="364644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erry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63680" y="4227480"/>
            <a:ext cx="5496120" cy="266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63680" y="4494240"/>
            <a:ext cx="5496120" cy="266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63680" y="4761000"/>
            <a:ext cx="5496120" cy="26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63680" y="5292720"/>
            <a:ext cx="5496120" cy="26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65480" y="5557680"/>
            <a:ext cx="5495760" cy="266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65480" y="5821200"/>
            <a:ext cx="5495760" cy="266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30200" y="577692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erry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363400" y="495288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erry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24160" y="418464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Mian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47120" y="442260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wnt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31280" y="550404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wnt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699000" y="3705120"/>
            <a:ext cx="7920" cy="2387880"/>
          </a:xfrm>
          <a:custGeom>
            <a:avLst/>
            <a:gdLst/>
            <a:ahLst/>
            <a:rect l="l" t="t" r="r" b="b"/>
            <a:pathLst>
              <a:path w="5" h="1669">
                <a:moveTo>
                  <a:pt x="5" y="0"/>
                </a:moveTo>
                <a:lnTo>
                  <a:pt x="0" y="166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051520" y="3705120"/>
            <a:ext cx="7920" cy="2398680"/>
          </a:xfrm>
          <a:custGeom>
            <a:avLst/>
            <a:gdLst/>
            <a:ahLst/>
            <a:rect l="l" t="t" r="r" b="b"/>
            <a:pathLst>
              <a:path w="5" h="1677">
                <a:moveTo>
                  <a:pt x="0" y="0"/>
                </a:moveTo>
                <a:lnTo>
                  <a:pt x="5" y="167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85840" y="365112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1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7280" y="419904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2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87280" y="444960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87280" y="500868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2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65480" y="5008680"/>
            <a:ext cx="0" cy="34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761240" y="5008680"/>
            <a:ext cx="0" cy="34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759120" y="5586480"/>
            <a:ext cx="10684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759120" y="5861160"/>
            <a:ext cx="10684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2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61120" y="3732120"/>
            <a:ext cx="8395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361120" y="4281480"/>
            <a:ext cx="8395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361120" y="4556160"/>
            <a:ext cx="8395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372280" y="5037120"/>
            <a:ext cx="8395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61120" y="5586480"/>
            <a:ext cx="8395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61120" y="5865840"/>
            <a:ext cx="8395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9480" y="3465360"/>
            <a:ext cx="106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헤 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62040" y="3732120"/>
            <a:ext cx="10684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레코드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74640" y="3994200"/>
            <a:ext cx="10684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레코드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62040" y="4289400"/>
            <a:ext cx="10684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레코드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2560" y="4521240"/>
            <a:ext cx="10684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레코드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79320" y="4786200"/>
            <a:ext cx="106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레코드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96960" y="5060880"/>
            <a:ext cx="10684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레코드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96960" y="5297400"/>
            <a:ext cx="106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레코드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90480" y="5573880"/>
            <a:ext cx="10684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레코드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20720" y="5848200"/>
            <a:ext cx="10684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레코드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477120" y="3429000"/>
            <a:ext cx="0" cy="266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96080" y="3505320"/>
            <a:ext cx="470160" cy="609480"/>
          </a:xfrm>
          <a:custGeom>
            <a:avLst/>
            <a:gdLst/>
            <a:ahLst/>
            <a:rect l="l" t="t" r="r" b="b"/>
            <a:pathLst>
              <a:path w="296" h="384">
                <a:moveTo>
                  <a:pt x="0" y="0"/>
                </a:moveTo>
                <a:cubicBezTo>
                  <a:pt x="140" y="64"/>
                  <a:pt x="280" y="128"/>
                  <a:pt x="288" y="192"/>
                </a:cubicBezTo>
                <a:cubicBezTo>
                  <a:pt x="296" y="256"/>
                  <a:pt x="172" y="320"/>
                  <a:pt x="48" y="38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620120" y="4114800"/>
            <a:ext cx="571320" cy="838080"/>
          </a:xfrm>
          <a:custGeom>
            <a:avLst/>
            <a:gdLst/>
            <a:ahLst/>
            <a:rect l="l" t="t" r="r" b="b"/>
            <a:pathLst>
              <a:path w="360" h="528">
                <a:moveTo>
                  <a:pt x="0" y="0"/>
                </a:moveTo>
                <a:cubicBezTo>
                  <a:pt x="156" y="100"/>
                  <a:pt x="312" y="200"/>
                  <a:pt x="336" y="288"/>
                </a:cubicBezTo>
                <a:cubicBezTo>
                  <a:pt x="360" y="376"/>
                  <a:pt x="252" y="452"/>
                  <a:pt x="144" y="52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0120" y="4876920"/>
            <a:ext cx="495360" cy="609480"/>
          </a:xfrm>
          <a:custGeom>
            <a:avLst/>
            <a:gdLst/>
            <a:ahLst/>
            <a:rect l="l" t="t" r="r" b="b"/>
            <a:pathLst>
              <a:path w="312" h="384">
                <a:moveTo>
                  <a:pt x="0" y="0"/>
                </a:moveTo>
                <a:cubicBezTo>
                  <a:pt x="132" y="88"/>
                  <a:pt x="264" y="176"/>
                  <a:pt x="288" y="240"/>
                </a:cubicBezTo>
                <a:cubicBezTo>
                  <a:pt x="312" y="304"/>
                  <a:pt x="228" y="344"/>
                  <a:pt x="144" y="38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2400" y="54864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534520" y="5486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458200" y="5562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534520" y="56386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F023-98B5-4464-8FC0-BF7979FE21F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물리 저장 매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캐쉬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장 빠르고 가장 비싼 유형의 저장 장치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휘발성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하드웨어와 운영체제가 관리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메인 메모리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범용 기계 명령은 메인 메모리에 놓인 데이터에  연산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액세스가 빠르지만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일반적으로 전체 데이터베이스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저장하기에는 너무 작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때때로 코어 메모리라 하기도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휘발성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정전 또는 시스템 고장이 발생하면 메인 메모리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용은 보통 유실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ACB3-41CF-4694-8AFB-21EF618A5E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자유 리스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공간 효율이 보다 좋은 표현법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자유 레코드의 정상 애트리뷰트의 공간을 재사용해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포인터를 저장한다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사용중인 레코드에는 포인터가 저장되지 않는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허상 포인터는 또 다른 레코드가 포함하는 포인터가 가리키는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레코드를 이동 시키거나 삭제할 때 발생한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그 포인터는 더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더 이상 원하는 레코드를 가리키지 않는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다른 레코드가 가리키는 레코드의 이동 또는 삭제를 피한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그러한 레코드를 붙박이라 한다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8B1F-35E6-4A51-B902-01B277750CF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가변길이 레코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변길이 레코드는 데이터베이스 시스템에서 여러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방법으로 발생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한 파일에 여러 레코드 유형을 저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하나 이상의 필드에 가변길이를 허용하는 레코드 유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반복 필드를 허용하는 레코드 유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몇몇 구식 데이터 모델에서 사용됨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바이트 스트링 표현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end - of - record (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제어 문자를 각 레코드의 끝에 붙인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삭제가 어려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 증가가 어려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4FC9-11AF-4C9D-AD34-04FBB9AF677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가변길이 레코드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슬롯 페이지 구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헤더에는 다음을 포함한다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레코드 엔트리의 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블록내 자유 공간의 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각 레코드의 위치와 크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레코드는 그들간에 빈 공간이 없이 연속해 있도록 페이지내에서 이동할 수 있다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헤더내의 엔트리는 갱신되어야 한다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포인터는 레코드를 직접 가리켜서는 안된다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대신에 헤더내 레코드의 엔트리를 가리켜야 한다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133720" y="1905120"/>
            <a:ext cx="640080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124080" y="19051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429000" y="19051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733920" y="19051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38480" y="19051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343400" y="19051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77320" y="19051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467480" y="19051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010280" y="19051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324480" y="19051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33720" y="216864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572000" y="2168640"/>
            <a:ext cx="2286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19920" y="2168640"/>
            <a:ext cx="304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23623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76720" y="34290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8305920" y="25146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3581280" y="2362320"/>
            <a:ext cx="3657600" cy="838080"/>
            <a:chOff x="3581280" y="2362320"/>
            <a:chExt cx="3657600" cy="838080"/>
          </a:xfrm>
        </p:grpSpPr>
        <p:sp>
          <p:nvSpPr>
            <p:cNvPr id="431" name=""/>
            <p:cNvSpPr/>
            <p:nvPr/>
          </p:nvSpPr>
          <p:spPr>
            <a:xfrm>
              <a:off x="3581280" y="236232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581280" y="3200400"/>
              <a:ext cx="36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238880" y="2421720"/>
              <a:ext cx="0" cy="77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3886200" y="2362320"/>
            <a:ext cx="2590920" cy="609480"/>
            <a:chOff x="3886200" y="2362320"/>
            <a:chExt cx="2590920" cy="609480"/>
          </a:xfrm>
        </p:grpSpPr>
        <p:sp>
          <p:nvSpPr>
            <p:cNvPr id="435" name=""/>
            <p:cNvSpPr/>
            <p:nvPr/>
          </p:nvSpPr>
          <p:spPr>
            <a:xfrm>
              <a:off x="3886200" y="23623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886200" y="297180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6477120" y="2448720"/>
              <a:ext cx="0" cy="52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4191120" y="2362320"/>
            <a:ext cx="3581280" cy="380880"/>
            <a:chOff x="4191120" y="2362320"/>
            <a:chExt cx="3581280" cy="380880"/>
          </a:xfrm>
        </p:grpSpPr>
        <p:sp>
          <p:nvSpPr>
            <p:cNvPr id="439" name=""/>
            <p:cNvSpPr/>
            <p:nvPr/>
          </p:nvSpPr>
          <p:spPr>
            <a:xfrm>
              <a:off x="4191120" y="23623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91120" y="2743200"/>
              <a:ext cx="358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7772400" y="2416320"/>
              <a:ext cx="0" cy="32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2666880" y="2286000"/>
            <a:ext cx="3429000" cy="1371240"/>
            <a:chOff x="2666880" y="2286000"/>
            <a:chExt cx="3429000" cy="1371240"/>
          </a:xfrm>
        </p:grpSpPr>
        <p:sp>
          <p:nvSpPr>
            <p:cNvPr id="443" name=""/>
            <p:cNvSpPr/>
            <p:nvPr/>
          </p:nvSpPr>
          <p:spPr>
            <a:xfrm>
              <a:off x="2666880" y="2286000"/>
              <a:ext cx="0" cy="13712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66880" y="3657240"/>
              <a:ext cx="342900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6095880" y="2481120"/>
              <a:ext cx="0" cy="11754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990720" y="1905120"/>
            <a:ext cx="1066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크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위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109960" y="1787400"/>
            <a:ext cx="1066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#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엔트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33720" y="1506600"/>
            <a:ext cx="1066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블록 헤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76920" y="1905120"/>
            <a:ext cx="1066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자유 공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724280" y="358128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자유 공간의 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8C33-6234-49D9-8495-C51AC7EDC80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가변길이 레코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고정길이 표현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공약 예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포인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공간 예약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이미 알고 있는 최대 길이의 고정길이 레코드를 사용할 수 있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보다 짧은 레코드의 사용되지 않은 공간은 널 또는 레코드 끝 기호로 채운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762120" y="3962520"/>
            <a:ext cx="7677000" cy="2286000"/>
            <a:chOff x="762120" y="3962520"/>
            <a:chExt cx="7677000" cy="2286000"/>
          </a:xfrm>
        </p:grpSpPr>
        <p:grpSp>
          <p:nvGrpSpPr>
            <p:cNvPr id="454" name=""/>
            <p:cNvGrpSpPr/>
            <p:nvPr/>
          </p:nvGrpSpPr>
          <p:grpSpPr>
            <a:xfrm>
              <a:off x="762120" y="3962520"/>
              <a:ext cx="7677000" cy="2286000"/>
              <a:chOff x="762120" y="3962520"/>
              <a:chExt cx="7677000" cy="2286000"/>
            </a:xfrm>
          </p:grpSpPr>
          <p:sp>
            <p:nvSpPr>
              <p:cNvPr id="455" name=""/>
              <p:cNvSpPr/>
              <p:nvPr/>
            </p:nvSpPr>
            <p:spPr>
              <a:xfrm>
                <a:off x="1505160" y="3962520"/>
                <a:ext cx="6933960" cy="2286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Perryridge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A-102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400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A-201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900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A-218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7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Round Hill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A-305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350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  <a:ea typeface="궁서체"/>
                  </a:rPr>
                  <a:t>┸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  <a:ea typeface="궁서체"/>
                  </a:rPr>
                  <a:t>┸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  <a:ea typeface="궁서체"/>
                  </a:rPr>
                  <a:t>┸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  <a:ea typeface="궁서체"/>
                  </a:rPr>
                  <a:t>┸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Mianus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A-215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700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  <a:ea typeface="궁서체"/>
                  </a:rPr>
                  <a:t>┸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  <a:ea typeface="궁서체"/>
                  </a:rPr>
                  <a:t>┸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  <a:ea typeface="궁서체"/>
                  </a:rPr>
                  <a:t>┸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  <a:ea typeface="궁서체"/>
                  </a:rPr>
                  <a:t>┸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Downtown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A-101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500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A-110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600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  <a:ea typeface="궁서체"/>
                  </a:rPr>
                  <a:t>┸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  <a:ea typeface="궁서체"/>
                  </a:rPr>
                  <a:t>┸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Redwood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A-222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700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  <a:ea typeface="궁서체"/>
                  </a:rPr>
                  <a:t>┸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  <a:ea typeface="궁서체"/>
                  </a:rPr>
                  <a:t>┸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  <a:ea typeface="궁서체"/>
                  </a:rPr>
                  <a:t>┸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  <a:ea typeface="궁서체"/>
                  </a:rPr>
                  <a:t>┸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Brighton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A-217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750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  <a:ea typeface="궁서체"/>
                  </a:rPr>
                  <a:t>┸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  <a:ea typeface="궁서체"/>
                  </a:rPr>
                  <a:t>┸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  <a:ea typeface="궁서체"/>
                  </a:rPr>
                  <a:t>┸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  <a:ea typeface="궁서체"/>
                  </a:rPr>
                  <a:t>┸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62120" y="3986280"/>
                <a:ext cx="457200" cy="221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1505160" y="4361040"/>
              <a:ext cx="693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505160" y="4724640"/>
              <a:ext cx="693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505160" y="5105520"/>
              <a:ext cx="693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05160" y="5486760"/>
              <a:ext cx="693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05160" y="5867640"/>
              <a:ext cx="693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05360" y="396252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975200" y="396252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53400" y="396252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15240" y="396252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871040" y="396252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248360" y="396252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1617-72CF-40DF-A12C-36B620600C5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포인터 방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5181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포인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최대 레코드 길이는 모른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포인터로 서로 연결된 고정길이 레코드 리스트로 가변길이 레코드가 표현된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523880" y="2057400"/>
            <a:ext cx="6774120" cy="3070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erryridge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-10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ound Hill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-305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3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Mianu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-215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Downtow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-10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edwood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-22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-20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Brighto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-217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7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-11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-218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523880" y="2405160"/>
            <a:ext cx="6774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523880" y="3424320"/>
            <a:ext cx="6774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523880" y="3749760"/>
            <a:ext cx="6774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3880" y="4121280"/>
            <a:ext cx="6774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523880" y="4448160"/>
            <a:ext cx="6774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523880" y="4805280"/>
            <a:ext cx="67741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523880" y="2709720"/>
            <a:ext cx="67741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523880" y="3083040"/>
            <a:ext cx="6774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00400" y="2057400"/>
            <a:ext cx="1440" cy="30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00600" y="2057400"/>
            <a:ext cx="1440" cy="30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095880" y="2057400"/>
            <a:ext cx="1800" cy="30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066680" y="2057400"/>
            <a:ext cx="533520" cy="30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620120" y="4670280"/>
            <a:ext cx="11001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610480" y="4670280"/>
            <a:ext cx="1800" cy="130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405640" y="4800600"/>
            <a:ext cx="508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534520" y="4865760"/>
            <a:ext cx="1699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72320" y="4995720"/>
            <a:ext cx="11001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663040" y="4995720"/>
            <a:ext cx="1440" cy="13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458200" y="5127480"/>
            <a:ext cx="5079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586720" y="5192640"/>
            <a:ext cx="1699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543800" y="2209680"/>
            <a:ext cx="704880" cy="1676520"/>
          </a:xfrm>
          <a:custGeom>
            <a:avLst/>
            <a:gdLst/>
            <a:ahLst/>
            <a:rect l="l" t="t" r="r" b="b"/>
            <a:pathLst>
              <a:path w="400" h="1056">
                <a:moveTo>
                  <a:pt x="0" y="0"/>
                </a:moveTo>
                <a:cubicBezTo>
                  <a:pt x="184" y="152"/>
                  <a:pt x="368" y="304"/>
                  <a:pt x="384" y="480"/>
                </a:cubicBezTo>
                <a:cubicBezTo>
                  <a:pt x="400" y="656"/>
                  <a:pt x="152" y="968"/>
                  <a:pt x="96" y="105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20120" y="3276720"/>
            <a:ext cx="522000" cy="1218960"/>
          </a:xfrm>
          <a:custGeom>
            <a:avLst/>
            <a:gdLst/>
            <a:ahLst/>
            <a:rect l="l" t="t" r="r" b="b"/>
            <a:pathLst>
              <a:path w="296" h="768">
                <a:moveTo>
                  <a:pt x="0" y="0"/>
                </a:moveTo>
                <a:cubicBezTo>
                  <a:pt x="140" y="128"/>
                  <a:pt x="280" y="256"/>
                  <a:pt x="288" y="384"/>
                </a:cubicBezTo>
                <a:cubicBezTo>
                  <a:pt x="296" y="512"/>
                  <a:pt x="120" y="592"/>
                  <a:pt x="48" y="76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20120" y="4038480"/>
            <a:ext cx="606240" cy="838440"/>
          </a:xfrm>
          <a:custGeom>
            <a:avLst/>
            <a:gdLst/>
            <a:ahLst/>
            <a:rect l="l" t="t" r="r" b="b"/>
            <a:pathLst>
              <a:path w="344" h="528">
                <a:moveTo>
                  <a:pt x="0" y="0"/>
                </a:moveTo>
                <a:cubicBezTo>
                  <a:pt x="164" y="52"/>
                  <a:pt x="328" y="104"/>
                  <a:pt x="336" y="192"/>
                </a:cubicBezTo>
                <a:cubicBezTo>
                  <a:pt x="344" y="280"/>
                  <a:pt x="196" y="404"/>
                  <a:pt x="48" y="52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8862-2871-4E2D-A403-1594B1A246A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포인터 방법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포인터 구조의 단점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체인내 첫번째를 제외한 모든 레코드에서 공간이 낭비된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파일내에 두가지 종류의 블록을 허용해  해결한다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기본 블록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체인의 첫번째 레코드들을 내포한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오버플로 블록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체인의 첫번째 레코드들 이외의 레코드를 내포한다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1371600" y="3300480"/>
            <a:ext cx="6553080" cy="2971800"/>
            <a:chOff x="1371600" y="3300480"/>
            <a:chExt cx="6553080" cy="2971800"/>
          </a:xfrm>
        </p:grpSpPr>
        <p:grpSp>
          <p:nvGrpSpPr>
            <p:cNvPr id="497" name=""/>
            <p:cNvGrpSpPr/>
            <p:nvPr/>
          </p:nvGrpSpPr>
          <p:grpSpPr>
            <a:xfrm>
              <a:off x="1371600" y="3300480"/>
              <a:ext cx="5562360" cy="2895480"/>
              <a:chOff x="1371600" y="3300480"/>
              <a:chExt cx="5562360" cy="2895480"/>
            </a:xfrm>
          </p:grpSpPr>
          <p:grpSp>
            <p:nvGrpSpPr>
              <p:cNvPr id="498" name=""/>
              <p:cNvGrpSpPr/>
              <p:nvPr/>
            </p:nvGrpSpPr>
            <p:grpSpPr>
              <a:xfrm>
                <a:off x="1371600" y="3300480"/>
                <a:ext cx="5562360" cy="1904760"/>
                <a:chOff x="1371600" y="3300480"/>
                <a:chExt cx="5562360" cy="190476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1909800" y="3300480"/>
                  <a:ext cx="5024160" cy="19047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Perryridge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A-102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400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Round Hill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A-305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3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Mianus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A-215    7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Downtown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A-101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5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Redwood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A-222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7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Brighton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A-217    7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1371600" y="3319920"/>
                  <a:ext cx="331560" cy="184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기본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블록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1904760" y="3935160"/>
                  <a:ext cx="5029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1904760" y="4252680"/>
                  <a:ext cx="5029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1904760" y="4570200"/>
                  <a:ext cx="5029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1904760" y="4887360"/>
                  <a:ext cx="5029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3714480" y="3300480"/>
                  <a:ext cx="0" cy="1904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5584680" y="3300480"/>
                  <a:ext cx="0" cy="1904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4647960" y="3300480"/>
                  <a:ext cx="0" cy="1904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1904760" y="3652200"/>
                  <a:ext cx="5029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>
                <a:off x="3733560" y="5281560"/>
                <a:ext cx="3200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-201    9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-218    7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-110    6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647960" y="52815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580000" y="52815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733560" y="5586480"/>
                <a:ext cx="3200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33560" y="5891040"/>
                <a:ext cx="3200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743200" y="5357880"/>
                <a:ext cx="609480" cy="8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오버프로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블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6934320" y="3452760"/>
              <a:ext cx="990360" cy="1981080"/>
            </a:xfrm>
            <a:custGeom>
              <a:avLst/>
              <a:gdLst/>
              <a:ahLst/>
              <a:rect l="l" t="t" r="r" b="b"/>
              <a:pathLst>
                <a:path w="624" h="1248">
                  <a:moveTo>
                    <a:pt x="0" y="0"/>
                  </a:moveTo>
                  <a:cubicBezTo>
                    <a:pt x="312" y="184"/>
                    <a:pt x="624" y="368"/>
                    <a:pt x="624" y="576"/>
                  </a:cubicBezTo>
                  <a:cubicBezTo>
                    <a:pt x="624" y="784"/>
                    <a:pt x="104" y="1136"/>
                    <a:pt x="0" y="124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781680" y="4443480"/>
              <a:ext cx="939960" cy="1600200"/>
            </a:xfrm>
            <a:custGeom>
              <a:avLst/>
              <a:gdLst/>
              <a:ahLst/>
              <a:rect l="l" t="t" r="r" b="b"/>
              <a:pathLst>
                <a:path w="592" h="1008">
                  <a:moveTo>
                    <a:pt x="0" y="0"/>
                  </a:moveTo>
                  <a:cubicBezTo>
                    <a:pt x="280" y="180"/>
                    <a:pt x="560" y="360"/>
                    <a:pt x="576" y="528"/>
                  </a:cubicBezTo>
                  <a:cubicBezTo>
                    <a:pt x="592" y="696"/>
                    <a:pt x="344" y="852"/>
                    <a:pt x="96" y="100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934320" y="5433840"/>
              <a:ext cx="228600" cy="30492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0" y="0"/>
                  </a:moveTo>
                  <a:cubicBezTo>
                    <a:pt x="72" y="56"/>
                    <a:pt x="144" y="112"/>
                    <a:pt x="144" y="144"/>
                  </a:cubicBezTo>
                  <a:cubicBezTo>
                    <a:pt x="144" y="176"/>
                    <a:pt x="72" y="184"/>
                    <a:pt x="0" y="19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6858000" y="6119640"/>
              <a:ext cx="703080" cy="152640"/>
              <a:chOff x="6858000" y="6119640"/>
              <a:chExt cx="703080" cy="152640"/>
            </a:xfrm>
          </p:grpSpPr>
          <p:sp>
            <p:nvSpPr>
              <p:cNvPr id="519" name=""/>
              <p:cNvSpPr/>
              <p:nvPr/>
            </p:nvSpPr>
            <p:spPr>
              <a:xfrm>
                <a:off x="6858000" y="611964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467480" y="6119640"/>
                <a:ext cx="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408800" y="619596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449840" y="627228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6858000" y="5815080"/>
              <a:ext cx="703080" cy="152280"/>
              <a:chOff x="6858000" y="5815080"/>
              <a:chExt cx="703080" cy="152280"/>
            </a:xfrm>
          </p:grpSpPr>
          <p:sp>
            <p:nvSpPr>
              <p:cNvPr id="524" name=""/>
              <p:cNvSpPr/>
              <p:nvPr/>
            </p:nvSpPr>
            <p:spPr>
              <a:xfrm>
                <a:off x="6858000" y="581508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467480" y="5815080"/>
                <a:ext cx="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408800" y="589104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449840" y="5967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B87C-488C-4F47-8478-98762B51234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파일내 레코드의 구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힙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레코드는 파일내에 공간이 있는 어느 곳에라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위치할 수 있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순차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각 레코드의 검색 키 값에 근거해 레코드를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순차적으로 저장한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해슁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각 레코드의 일부 애트리뷰트에 해쉬 함수가 계산된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결과는 파일내의 어떤 블록에 레코드가 위치할 지를 지정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한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군집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여러 다른 릴레이션의 레코드들이 같은 파일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저장될 수 있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관련된 레코드들은 동일 블록에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저장된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8080-BB2E-49F0-B67D-B43FDDF1B77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순차 파일 구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전체 파일의 순차 처리를 요구하는 어플리케이션에 적합하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파일내의 레코드는 검색 키로 정렬된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2286000" y="2969280"/>
            <a:ext cx="3773520" cy="3291480"/>
            <a:chOff x="2286000" y="2969280"/>
            <a:chExt cx="3773520" cy="3291480"/>
          </a:xfrm>
        </p:grpSpPr>
        <p:grpSp>
          <p:nvGrpSpPr>
            <p:cNvPr id="533" name=""/>
            <p:cNvGrpSpPr/>
            <p:nvPr/>
          </p:nvGrpSpPr>
          <p:grpSpPr>
            <a:xfrm>
              <a:off x="2286000" y="2971800"/>
              <a:ext cx="3267000" cy="3131640"/>
              <a:chOff x="2286000" y="2971800"/>
              <a:chExt cx="3267000" cy="3131640"/>
            </a:xfrm>
          </p:grpSpPr>
          <p:sp>
            <p:nvSpPr>
              <p:cNvPr id="534" name=""/>
              <p:cNvSpPr/>
              <p:nvPr/>
            </p:nvSpPr>
            <p:spPr>
              <a:xfrm>
                <a:off x="2286000" y="2971800"/>
                <a:ext cx="3267000" cy="3131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Brighton      A-217   750     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Downtown   A-101   5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Downtown   A-110   6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Mianus         A-215   7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Perryridge    A-102   4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Perryridge    A-201   9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Perryridge    A-218   7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Redwood      A-222   7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Round Hill   A-305   35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569400" y="2971800"/>
                <a:ext cx="0" cy="313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444560" y="2971800"/>
                <a:ext cx="0" cy="313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969440" y="2971800"/>
                <a:ext cx="0" cy="313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286000" y="3335760"/>
                <a:ext cx="326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286000" y="3700080"/>
                <a:ext cx="326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286000" y="4064040"/>
                <a:ext cx="326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286000" y="4394520"/>
                <a:ext cx="326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286000" y="4719600"/>
                <a:ext cx="326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286000" y="5067000"/>
                <a:ext cx="326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286000" y="5430960"/>
                <a:ext cx="326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286000" y="5755680"/>
                <a:ext cx="326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5378040" y="6047280"/>
              <a:ext cx="551160" cy="213480"/>
              <a:chOff x="5378040" y="6047280"/>
              <a:chExt cx="551160" cy="213480"/>
            </a:xfrm>
          </p:grpSpPr>
          <p:sp>
            <p:nvSpPr>
              <p:cNvPr id="547" name=""/>
              <p:cNvSpPr/>
              <p:nvPr/>
            </p:nvSpPr>
            <p:spPr>
              <a:xfrm>
                <a:off x="5378040" y="6047280"/>
                <a:ext cx="46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844240" y="6047280"/>
                <a:ext cx="0" cy="14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754600" y="6192720"/>
                <a:ext cx="17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826240" y="6260760"/>
                <a:ext cx="5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5396760" y="2969280"/>
              <a:ext cx="662760" cy="3062880"/>
              <a:chOff x="5396760" y="2969280"/>
              <a:chExt cx="662760" cy="3062880"/>
            </a:xfrm>
          </p:grpSpPr>
          <p:sp>
            <p:nvSpPr>
              <p:cNvPr id="552" name=""/>
              <p:cNvSpPr/>
              <p:nvPr/>
            </p:nvSpPr>
            <p:spPr>
              <a:xfrm rot="20611200">
                <a:off x="5436360" y="3044520"/>
                <a:ext cx="583200" cy="363960"/>
              </a:xfrm>
              <a:custGeom>
                <a:avLst/>
                <a:gdLst>
                  <a:gd name="textAreaLeft" fmla="*/ 78120 w 583200"/>
                  <a:gd name="textAreaRight" fmla="*/ 505080 w 583200"/>
                  <a:gd name="textAreaTop" fmla="*/ 63720 h 363960"/>
                  <a:gd name="textAreaBottom" fmla="*/ 263880 h 36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20611200">
                <a:off x="5436360" y="3408480"/>
                <a:ext cx="583200" cy="363960"/>
              </a:xfrm>
              <a:custGeom>
                <a:avLst/>
                <a:gdLst>
                  <a:gd name="textAreaLeft" fmla="*/ 78120 w 583200"/>
                  <a:gd name="textAreaRight" fmla="*/ 505080 w 583200"/>
                  <a:gd name="textAreaTop" fmla="*/ 63720 h 363960"/>
                  <a:gd name="textAreaBottom" fmla="*/ 263880 h 36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20611200">
                <a:off x="5436360" y="3772440"/>
                <a:ext cx="583200" cy="364320"/>
              </a:xfrm>
              <a:custGeom>
                <a:avLst/>
                <a:gdLst>
                  <a:gd name="textAreaLeft" fmla="*/ 78120 w 583200"/>
                  <a:gd name="textAreaRight" fmla="*/ 505080 w 583200"/>
                  <a:gd name="textAreaTop" fmla="*/ 63720 h 364320"/>
                  <a:gd name="textAreaBottom" fmla="*/ 264240 h 364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20611200">
                <a:off x="5436360" y="4136760"/>
                <a:ext cx="583200" cy="363960"/>
              </a:xfrm>
              <a:custGeom>
                <a:avLst/>
                <a:gdLst>
                  <a:gd name="textAreaLeft" fmla="*/ 78120 w 583200"/>
                  <a:gd name="textAreaRight" fmla="*/ 505080 w 583200"/>
                  <a:gd name="textAreaTop" fmla="*/ 63720 h 363960"/>
                  <a:gd name="textAreaBottom" fmla="*/ 263880 h 36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20611200">
                <a:off x="5436360" y="4500720"/>
                <a:ext cx="583200" cy="363960"/>
              </a:xfrm>
              <a:custGeom>
                <a:avLst/>
                <a:gdLst>
                  <a:gd name="textAreaLeft" fmla="*/ 78120 w 583200"/>
                  <a:gd name="textAreaRight" fmla="*/ 505080 w 583200"/>
                  <a:gd name="textAreaTop" fmla="*/ 63720 h 363960"/>
                  <a:gd name="textAreaBottom" fmla="*/ 263880 h 36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20611200">
                <a:off x="5436360" y="4864680"/>
                <a:ext cx="583200" cy="364320"/>
              </a:xfrm>
              <a:custGeom>
                <a:avLst/>
                <a:gdLst>
                  <a:gd name="textAreaLeft" fmla="*/ 78120 w 583200"/>
                  <a:gd name="textAreaRight" fmla="*/ 505080 w 583200"/>
                  <a:gd name="textAreaTop" fmla="*/ 63720 h 364320"/>
                  <a:gd name="textAreaBottom" fmla="*/ 264240 h 364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20611200">
                <a:off x="5436360" y="5229000"/>
                <a:ext cx="583200" cy="363960"/>
              </a:xfrm>
              <a:custGeom>
                <a:avLst/>
                <a:gdLst>
                  <a:gd name="textAreaLeft" fmla="*/ 78120 w 583200"/>
                  <a:gd name="textAreaRight" fmla="*/ 505080 w 583200"/>
                  <a:gd name="textAreaTop" fmla="*/ 63720 h 363960"/>
                  <a:gd name="textAreaBottom" fmla="*/ 263880 h 36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20611200">
                <a:off x="5436360" y="5592960"/>
                <a:ext cx="583200" cy="363960"/>
              </a:xfrm>
              <a:custGeom>
                <a:avLst/>
                <a:gdLst>
                  <a:gd name="textAreaLeft" fmla="*/ 78120 w 583200"/>
                  <a:gd name="textAreaRight" fmla="*/ 505080 w 583200"/>
                  <a:gd name="textAreaTop" fmla="*/ 63720 h 363960"/>
                  <a:gd name="textAreaBottom" fmla="*/ 263880 h 36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600D-6085-4EAD-9330-131984A7EFE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순차 파일 구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삭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포인터 체인을 사용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삽입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레코드가 삽입된 파일내의 위치를 찾아야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자유 공간이 있으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그 곳에 삽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자유 공간이 없으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오버플로 블록에 삽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어떤 경우든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포인터 체인은 갱신해야 한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순차적으로 저장하기 위해 항상 파일을 재구성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필요가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D3EF-2E25-49D1-BAE8-335FEFFEBC6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군집 파일 구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단순한 파일 구조에서는 각 릴레이션을 별도의 파일에 저장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군집 파일 구조를 사용해 하나의 파일에 여러 릴레이션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저장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ustomer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depositor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군집 구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deposito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자연 죠인한 형태를  내포한 질의와 한 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객의 계좌를 내포하고 있는 질의에 좋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고객만을 내포한 질의에는 좋지 않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변 크기의 레코드가 발생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447920" y="3124080"/>
            <a:ext cx="1752480" cy="160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y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y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-10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y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-2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y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-5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urner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tn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urne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-3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362320" y="312408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447920" y="342756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59080" y="419112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459080" y="445788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200400" y="31240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267080" y="312408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267080" y="419112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300480" y="3178080"/>
            <a:ext cx="9144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okl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317760" y="4214880"/>
            <a:ext cx="914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m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447920" y="392112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447920" y="36576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F3A6-0137-423A-BFA2-08311E129F5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물리 저장 매체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플래시 메모리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읽기는 대량 메인 메모리 만큼 빠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정전시에도 데이터는 유실되지 않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러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한정된 횟수의 쓰기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지우기 사이클만을 지원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자기 디스크 저장 장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주된 장기 데이터 저장 매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일반적으로 데이터베이스 전체를 저장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액세스를 위해서는 데이터가 디스크에서 메모리로 이동해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하고 저장을 위해서는 디스크에 다시 쓰인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직접 액세스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어떠한 순서로도 디스크상의 데이터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읽을 수 있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정전과 시스템 고장에도 데이터는 보통 유실되지 않는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디스크 고장이 데이터를 파괴할 수 있지만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시스템 고장보다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빈번하지 않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6DBF-6AF8-4FFE-BCE4-7BAF8187EF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데이터 사전 저장 구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 사전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시스템 카타로그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는 메타 데이터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저장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즉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음과 같은 데이터에 관한 데이터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에 관한 정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애트리뷰트명과 유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물리 파일 구성 정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릴레이션내 튜플의 수와 같은 통계 정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무결성 제약 조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뷰 정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사용자 및 계정 정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인덱스에 관한 정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1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장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34CC-17D9-4D4C-9A4B-817DF492D19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데이터 사전 저장 구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카타로그 구조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음 중 하나를 사용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효율적인 액세스를 위해 설계된 특수한 데이터 구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효율적인 액세스를 위해 사용된 기존의 시스템 기능을 가진 릴레이션의 집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후자의 방법을 일반적으로 선호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능한 카타로그 표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System-catalog-schema = (relation-name, number-of-attribu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Attribute-schema = (attribute-name, relation-name, domain-type, position, leng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User-schema = (user-name, encrypted-password, 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Index-scheme = (index-name, relation-name, index-typ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index-attribu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View-schema = (view-name, defin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68A6-C77B-4690-982C-3E69C7A95E8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객체를 파일로의 대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객체를 파일로 대응시키는 것은 관계형 시스템에서 튜플을 파일로 대응시키는 것과 유사하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객체 데이터는 파일 구조를 사용해 저장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객체지향 데이터베이스에서의 객체는 균일성이 부족하며 매우 클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러한 객체는 관계형 시스템에서의 레코드와는 달리 처리해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적은 수의 원소를 가진 집합 필드는 연결 리스트와 같은 데이터 구조를 사용해 구현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많은 수의 원소를 가진 필드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B-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리 또는 데이터베이스내의 별도의 릴레이션으로 구현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집합 필드는 또한 정규화로 저장 장치 단계에서 제거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4298-A992-461F-8935-71E43193A99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객체를 파일로의 대응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객체들을 객체 식별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OID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로 식별한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저장 장치 시스템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I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가 주어진 객체를 찾는 기법이 필요하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논리 식별자는 객체의 물리적 위치를 직접 지정하지 않는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OI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를 객체의 실제 위치에 대응시키는 인덱스를 유지해야만 한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물리 식별자는 객체가 직접 발견될 수 있도록 객체의 위치를 코드화한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물리 식별자는 일반적으로 다음과 같은 부분으로 구성되어 있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볼륨 또는 파일 식별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볼륨 또는 파일내의 페이지 식별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페이지내의 옵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41F3-05A3-408D-8FDD-7ED17AB401E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영속 포인터의 관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물리적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OID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는 유일한 식별자를 갖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 식별자는 객체내에 또한 저장되어 허상 포인터를 통한 참조를 검출하는데 사용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1295280" y="2971800"/>
            <a:ext cx="6782040" cy="3110040"/>
            <a:chOff x="1295280" y="2971800"/>
            <a:chExt cx="6782040" cy="3110040"/>
          </a:xfrm>
        </p:grpSpPr>
        <p:grpSp>
          <p:nvGrpSpPr>
            <p:cNvPr id="587" name=""/>
            <p:cNvGrpSpPr/>
            <p:nvPr/>
          </p:nvGrpSpPr>
          <p:grpSpPr>
            <a:xfrm>
              <a:off x="1295280" y="2971800"/>
              <a:ext cx="3504960" cy="645120"/>
              <a:chOff x="1295280" y="2971800"/>
              <a:chExt cx="3504960" cy="64512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1295280" y="3294360"/>
                <a:ext cx="3504960" cy="322560"/>
                <a:chOff x="1295280" y="3294360"/>
                <a:chExt cx="3504960" cy="32256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1295280" y="3294360"/>
                  <a:ext cx="3504960" cy="322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Vol.   Page   Offset      Unique-I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3581280" y="3294360"/>
                  <a:ext cx="0" cy="32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1" name=""/>
              <p:cNvSpPr/>
              <p:nvPr/>
            </p:nvSpPr>
            <p:spPr>
              <a:xfrm>
                <a:off x="1295280" y="2971800"/>
                <a:ext cx="2286000" cy="25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물리적 객체 식별자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5181480" y="2971800"/>
              <a:ext cx="2895840" cy="645120"/>
              <a:chOff x="5181480" y="2971800"/>
              <a:chExt cx="2895840" cy="645120"/>
            </a:xfrm>
          </p:grpSpPr>
          <p:grpSp>
            <p:nvGrpSpPr>
              <p:cNvPr id="593" name=""/>
              <p:cNvGrpSpPr/>
              <p:nvPr/>
            </p:nvGrpSpPr>
            <p:grpSpPr>
              <a:xfrm>
                <a:off x="5257800" y="3294360"/>
                <a:ext cx="2819520" cy="322560"/>
                <a:chOff x="5257800" y="3294360"/>
                <a:chExt cx="2819520" cy="3225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5257800" y="3294360"/>
                  <a:ext cx="2819520" cy="322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Unique-Id      Data……...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6576840" y="3294360"/>
                  <a:ext cx="0" cy="32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6" name=""/>
              <p:cNvSpPr/>
              <p:nvPr/>
            </p:nvSpPr>
            <p:spPr>
              <a:xfrm>
                <a:off x="5181480" y="2971800"/>
                <a:ext cx="914400" cy="25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객체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3657600" y="4520880"/>
              <a:ext cx="4191120" cy="322560"/>
              <a:chOff x="3657600" y="4520880"/>
              <a:chExt cx="4191120" cy="322560"/>
            </a:xfrm>
          </p:grpSpPr>
          <p:sp>
            <p:nvSpPr>
              <p:cNvPr id="598" name=""/>
              <p:cNvSpPr/>
              <p:nvPr/>
            </p:nvSpPr>
            <p:spPr>
              <a:xfrm>
                <a:off x="3657600" y="4520880"/>
                <a:ext cx="4191120" cy="322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51                …. data…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029200" y="4520880"/>
                <a:ext cx="0" cy="322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2819520" y="3875400"/>
              <a:ext cx="342900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a)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일반적인 구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위치    유일한 식별자    데이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1" name=""/>
            <p:cNvGrpSpPr/>
            <p:nvPr/>
          </p:nvGrpSpPr>
          <p:grpSpPr>
            <a:xfrm>
              <a:off x="4038480" y="4908240"/>
              <a:ext cx="2210040" cy="322560"/>
              <a:chOff x="4038480" y="4908240"/>
              <a:chExt cx="2210040" cy="322560"/>
            </a:xfrm>
          </p:grpSpPr>
          <p:sp>
            <p:nvSpPr>
              <p:cNvPr id="602" name=""/>
              <p:cNvSpPr/>
              <p:nvPr/>
            </p:nvSpPr>
            <p:spPr>
              <a:xfrm>
                <a:off x="4038480" y="4908240"/>
                <a:ext cx="2210040" cy="322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6.32.45608       5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410080" y="4908240"/>
                <a:ext cx="0" cy="322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4038480" y="5295600"/>
              <a:ext cx="2210040" cy="322560"/>
              <a:chOff x="4038480" y="5295600"/>
              <a:chExt cx="2210040" cy="322560"/>
            </a:xfrm>
          </p:grpSpPr>
          <p:sp>
            <p:nvSpPr>
              <p:cNvPr id="605" name=""/>
              <p:cNvSpPr/>
              <p:nvPr/>
            </p:nvSpPr>
            <p:spPr>
              <a:xfrm>
                <a:off x="4038480" y="5295600"/>
                <a:ext cx="2210040" cy="322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6.32.45608       5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410080" y="5295600"/>
                <a:ext cx="0" cy="322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7" name=""/>
            <p:cNvSpPr/>
            <p:nvPr/>
          </p:nvSpPr>
          <p:spPr>
            <a:xfrm>
              <a:off x="2055600" y="4556160"/>
              <a:ext cx="1332720" cy="126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.32.456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ood O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ad O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733920" y="5682960"/>
              <a:ext cx="162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b)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사용 예제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5EEC-E893-4897-AF34-9C7FB301BBA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영속 포인터의 관리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OID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를 사용해 영속 포인터를 구현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영속 포인터는 메모리내 포인터보다 대체로 길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포인터 스위즐링은 메모리에 이미 존재하는 영속 객체를 찾는 비용을 줄인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소프트웨어 스위즐링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포인터 역참조에서의 스위즐링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영속 포인터가 처음 역참조될 때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객체가 메모리에 위치한 후 스위즐된다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메모리내 포인터로 대치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같은 포인터의 연속적인 역참조는 보다 쉬워진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메모리내 객체의 물리적인 위치는 스위즐된 포인터가 가리키고 있으면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변경되어서는 안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해결책은 메모리내에 페이지를 고정시키는 것이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객체가 디스크에 되쓰일 때는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그것이 내포하는 어떠한 스위즐된 포인터는 역스위즐될 필요가 있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3CC3-C5FC-42A9-815B-43A5A183EED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하드웨어 스위즐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객체내의 영속 포인터는 메모리내 포인터와 같은 양의 공간을 필요로 한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객체 외부의 별도 저장 공간이 포인터 정보의 나머지를 저장하는데 사용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영속 포인터와 메모리내 포인터간의 효율적이고 내부적인 변환을 위해 가상 메모리 변환 기법을 사용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페이지내의 모든 영속 포인터는 페이지가 처음 읽힐 때 스위즐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따라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프로그래머는 한가지 유형의 포인터 즉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메모리내 포인터로만 작업해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몇몇 스위즐된 포인터는 현재 실제 메모리에 할당되지 않은 가상 메모리 주소를 가리킬 수도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A82E-9E37-4D89-9FC3-173E356DF8E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하드웨어 스위즐링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영속 포인터는 개념적으로 두 부분으로 나누어진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페이지 식별자와 페이지내에서의 옵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포인터내 페이지 식별자는 짧은 간접 포인터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페이지 식별자로부터 완전 데이터베이스 페이지 식별자로의 대응을 제공하는 변환 테이블을 가진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페이지의 변환 테이블은 작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4096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바이트의 페이지에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바이트 짜리 포인터가 기껏해야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024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개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같은 페이지에 대한 페이지내의 여러 포인터는 변환 테이블 내에서 같은 엔트리를 공유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D915-79C7-449C-907C-AF51842E22F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하드웨어 스위즐링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디스크에 있을 때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스위즐링 전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페이지 이미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1676520" y="1905120"/>
            <a:ext cx="5715000" cy="3352680"/>
            <a:chOff x="1676520" y="1905120"/>
            <a:chExt cx="5715000" cy="3352680"/>
          </a:xfrm>
        </p:grpSpPr>
        <p:grpSp>
          <p:nvGrpSpPr>
            <p:cNvPr id="618" name=""/>
            <p:cNvGrpSpPr/>
            <p:nvPr/>
          </p:nvGrpSpPr>
          <p:grpSpPr>
            <a:xfrm>
              <a:off x="2057400" y="2038320"/>
              <a:ext cx="5105160" cy="1330200"/>
              <a:chOff x="2057400" y="2038320"/>
              <a:chExt cx="5105160" cy="1330200"/>
            </a:xfrm>
          </p:grpSpPr>
          <p:grpSp>
            <p:nvGrpSpPr>
              <p:cNvPr id="619" name=""/>
              <p:cNvGrpSpPr/>
              <p:nvPr/>
            </p:nvGrpSpPr>
            <p:grpSpPr>
              <a:xfrm>
                <a:off x="2057400" y="2038320"/>
                <a:ext cx="1447560" cy="931320"/>
                <a:chOff x="2057400" y="2038320"/>
                <a:chExt cx="1447560" cy="93132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2057400" y="2038320"/>
                  <a:ext cx="1447560" cy="9313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PageID  Off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2395    25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2057400" y="2370600"/>
                  <a:ext cx="1447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057400" y="2637000"/>
                  <a:ext cx="1447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2971800" y="2370600"/>
                  <a:ext cx="0" cy="26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3886200" y="2038320"/>
                <a:ext cx="1447560" cy="931320"/>
                <a:chOff x="3886200" y="2038320"/>
                <a:chExt cx="1447560" cy="93132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3886200" y="2038320"/>
                  <a:ext cx="1447560" cy="9313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PageID  Off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4867    0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3886200" y="2370600"/>
                  <a:ext cx="1447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3886200" y="2637000"/>
                  <a:ext cx="1447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4800600" y="2370600"/>
                  <a:ext cx="0" cy="26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715000" y="2038320"/>
                <a:ext cx="1447560" cy="931320"/>
                <a:chOff x="5715000" y="2038320"/>
                <a:chExt cx="1447560" cy="93132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715000" y="2038320"/>
                  <a:ext cx="1447560" cy="9313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PageID  Off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2395    17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15000" y="2370600"/>
                  <a:ext cx="1447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5715000" y="2637000"/>
                  <a:ext cx="1447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6629400" y="2370600"/>
                  <a:ext cx="0" cy="26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4" name=""/>
              <p:cNvSpPr/>
              <p:nvPr/>
            </p:nvSpPr>
            <p:spPr>
              <a:xfrm>
                <a:off x="2286000" y="3035880"/>
                <a:ext cx="914400" cy="33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객체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191120" y="3035880"/>
                <a:ext cx="914400" cy="33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객체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019920" y="3020760"/>
                <a:ext cx="9144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객체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1828800" y="3429000"/>
              <a:ext cx="5105520" cy="1728720"/>
              <a:chOff x="1828800" y="3429000"/>
              <a:chExt cx="5105520" cy="1728720"/>
            </a:xfrm>
          </p:grpSpPr>
          <p:grpSp>
            <p:nvGrpSpPr>
              <p:cNvPr id="638" name=""/>
              <p:cNvGrpSpPr/>
              <p:nvPr/>
            </p:nvGrpSpPr>
            <p:grpSpPr>
              <a:xfrm>
                <a:off x="3733920" y="3429000"/>
                <a:ext cx="3200400" cy="1728720"/>
                <a:chOff x="3733920" y="3429000"/>
                <a:chExt cx="3200400" cy="1728720"/>
              </a:xfrm>
            </p:grpSpPr>
            <p:grpSp>
              <p:nvGrpSpPr>
                <p:cNvPr id="639" name=""/>
                <p:cNvGrpSpPr/>
                <p:nvPr/>
              </p:nvGrpSpPr>
              <p:grpSpPr>
                <a:xfrm>
                  <a:off x="3733920" y="3761640"/>
                  <a:ext cx="3200400" cy="1396080"/>
                  <a:chOff x="3733920" y="3761640"/>
                  <a:chExt cx="3200400" cy="1396080"/>
                </a:xfrm>
              </p:grpSpPr>
              <p:sp>
                <p:nvSpPr>
                  <p:cNvPr id="640" name=""/>
                  <p:cNvSpPr/>
                  <p:nvPr/>
                </p:nvSpPr>
                <p:spPr>
                  <a:xfrm>
                    <a:off x="3733920" y="3761640"/>
                    <a:ext cx="3200400" cy="139608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395      679.34.2800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867      519.56.8400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7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4724280" y="3761640"/>
                    <a:ext cx="0" cy="1396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3733920" y="4145040"/>
                    <a:ext cx="3200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3733920" y="4492800"/>
                    <a:ext cx="3200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3733920" y="4825080"/>
                    <a:ext cx="3200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5" name=""/>
                <p:cNvSpPr/>
                <p:nvPr/>
              </p:nvSpPr>
              <p:spPr>
                <a:xfrm>
                  <a:off x="3733920" y="3429000"/>
                  <a:ext cx="3200400" cy="33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000000"/>
                      </a:solidFill>
                      <a:latin typeface="Times New Roman"/>
                    </a:rPr>
                    <a:t>PageID     FullPageI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6" name=""/>
              <p:cNvSpPr/>
              <p:nvPr/>
            </p:nvSpPr>
            <p:spPr>
              <a:xfrm>
                <a:off x="1828800" y="4027320"/>
                <a:ext cx="175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변환 테이블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>
              <a:off x="1676520" y="1905120"/>
              <a:ext cx="5715000" cy="3352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D535-0AA3-4789-9DED-A0BC6061344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하드웨어 스위즐링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메모리내 포인터가 역참조될 때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운영체제에서 아직 할당되지 않은 저장 공간을 가리키는 페이지를 탐지하면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분할 위배가 발생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mmap call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이 분할 위배시 호출되는 관련 함수이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함수는 페이지를 위한 저장 공간을 할당하고 디스크로부터 페이지를 읽어들인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그리고 페이지내의 모든 영속 포인터에 대해 스위즐링이 수행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객체 유형 정보를 사용해 찾은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포인터가 가상 메모리 주소가 아직 할당되지 않은 페이지를 가리키면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가상 메모리 주소가 할당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아직 사용되지 않았으면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짧은 페이지 식별자내의 주소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페이지에 저장 공간은 아직 할당되지 않는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포인터내의 페이지 식별자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그리고 변환테이블 엔트리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가 페이지의 가상 메모리 주소로 변경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74E3-1BF5-44CE-87D1-B403CF3D012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물리 저장 매체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광 저장 장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비휘발성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CD-ROM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 가장 범용적인 유형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보관용 저장 장치로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WORM(write-once, read-man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광 디스크가 사용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테이프 저장 장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주로 백업용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디스크 고장으로부터 회복하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위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및 보관용 데이터로 사용되며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비휘발성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순차 액세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디스크에 비해 훨씬 느리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대용량임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5GB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테이프가 보통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테이프는 드라이브로부터 탈착될 수 있으며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저장 비용이 디스크 보다 훨씬 싸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4928-37C5-4E00-A4B6-D87BEEEF01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하드웨어 스위즐링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762120" y="45720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스위즐링 후의 페이지 이미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짧은 페이지 식별자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395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가진 페이지가 주소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500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할당되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포인터와 변환 테이블 내의 변경에 주목하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짧은 페이지 식별자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4867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가진 페이지가 주소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4867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할당되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포인터와 변환 테이블에 변화가 없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1752480" y="1905120"/>
            <a:ext cx="5334120" cy="2514600"/>
            <a:chOff x="1752480" y="1905120"/>
            <a:chExt cx="5334120" cy="2514600"/>
          </a:xfrm>
        </p:grpSpPr>
        <p:grpSp>
          <p:nvGrpSpPr>
            <p:cNvPr id="653" name=""/>
            <p:cNvGrpSpPr/>
            <p:nvPr/>
          </p:nvGrpSpPr>
          <p:grpSpPr>
            <a:xfrm>
              <a:off x="2107800" y="2004840"/>
              <a:ext cx="4764600" cy="997560"/>
              <a:chOff x="2107800" y="2004840"/>
              <a:chExt cx="4764600" cy="997560"/>
            </a:xfrm>
          </p:grpSpPr>
          <p:grpSp>
            <p:nvGrpSpPr>
              <p:cNvPr id="654" name=""/>
              <p:cNvGrpSpPr/>
              <p:nvPr/>
            </p:nvGrpSpPr>
            <p:grpSpPr>
              <a:xfrm>
                <a:off x="2107800" y="2004840"/>
                <a:ext cx="1351080" cy="698400"/>
                <a:chOff x="2107800" y="2004840"/>
                <a:chExt cx="1351080" cy="69840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2107800" y="2004840"/>
                  <a:ext cx="1351080" cy="698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</a:rPr>
                    <a:t>PageID  Off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</a:rPr>
                    <a:t>5001    25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2107800" y="2253960"/>
                  <a:ext cx="135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2107800" y="2453760"/>
                  <a:ext cx="135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961000" y="2253960"/>
                  <a:ext cx="0" cy="19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"/>
              <p:cNvGrpSpPr/>
              <p:nvPr/>
            </p:nvGrpSpPr>
            <p:grpSpPr>
              <a:xfrm>
                <a:off x="3814560" y="2004840"/>
                <a:ext cx="1351080" cy="698400"/>
                <a:chOff x="3814560" y="2004840"/>
                <a:chExt cx="1351080" cy="69840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3814560" y="2004840"/>
                  <a:ext cx="1351080" cy="698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</a:rPr>
                    <a:t>PageID  Off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</a:rPr>
                    <a:t>4867    02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3814560" y="2253960"/>
                  <a:ext cx="135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3814560" y="2453760"/>
                  <a:ext cx="135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667760" y="2253960"/>
                  <a:ext cx="0" cy="19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5521320" y="2004840"/>
                <a:ext cx="1351080" cy="698400"/>
                <a:chOff x="5521320" y="2004840"/>
                <a:chExt cx="1351080" cy="69840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5521320" y="2004840"/>
                  <a:ext cx="1351080" cy="698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</a:rPr>
                    <a:t>PageID  Off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</a:rPr>
                    <a:t>5001    17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5521320" y="2253960"/>
                  <a:ext cx="135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521320" y="2453760"/>
                  <a:ext cx="1351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6374520" y="2253960"/>
                  <a:ext cx="0" cy="19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9" name=""/>
              <p:cNvSpPr/>
              <p:nvPr/>
            </p:nvSpPr>
            <p:spPr>
              <a:xfrm>
                <a:off x="2320920" y="2752920"/>
                <a:ext cx="853200" cy="24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객체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098960" y="2752920"/>
                <a:ext cx="853200" cy="24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객체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805720" y="2741760"/>
                <a:ext cx="853200" cy="24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객체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1894320" y="3047760"/>
              <a:ext cx="4764960" cy="1296720"/>
              <a:chOff x="1894320" y="3047760"/>
              <a:chExt cx="4764960" cy="1296720"/>
            </a:xfrm>
          </p:grpSpPr>
          <p:grpSp>
            <p:nvGrpSpPr>
              <p:cNvPr id="673" name=""/>
              <p:cNvGrpSpPr/>
              <p:nvPr/>
            </p:nvGrpSpPr>
            <p:grpSpPr>
              <a:xfrm>
                <a:off x="3672360" y="3047760"/>
                <a:ext cx="2986920" cy="1296720"/>
                <a:chOff x="3672360" y="3047760"/>
                <a:chExt cx="2986920" cy="1296720"/>
              </a:xfrm>
            </p:grpSpPr>
            <p:grpSp>
              <p:nvGrpSpPr>
                <p:cNvPr id="674" name=""/>
                <p:cNvGrpSpPr/>
                <p:nvPr/>
              </p:nvGrpSpPr>
              <p:grpSpPr>
                <a:xfrm>
                  <a:off x="3672360" y="3297240"/>
                  <a:ext cx="2986920" cy="1047240"/>
                  <a:chOff x="3672360" y="3297240"/>
                  <a:chExt cx="2986920" cy="104724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>
                    <a:off x="3672360" y="3297240"/>
                    <a:ext cx="2986920" cy="10472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001      679.34.28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867      519.56.84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4596480" y="3297240"/>
                    <a:ext cx="0" cy="1047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3672360" y="3584880"/>
                    <a:ext cx="2986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3672360" y="3845520"/>
                    <a:ext cx="2986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3672360" y="4095000"/>
                    <a:ext cx="2986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0" name=""/>
                <p:cNvSpPr/>
                <p:nvPr/>
              </p:nvSpPr>
              <p:spPr>
                <a:xfrm>
                  <a:off x="3672360" y="3047760"/>
                  <a:ext cx="2986920" cy="24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PageID        FullPageI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1" name=""/>
              <p:cNvSpPr/>
              <p:nvPr/>
            </p:nvSpPr>
            <p:spPr>
              <a:xfrm>
                <a:off x="1894320" y="3496320"/>
                <a:ext cx="1635840" cy="2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변환 테이블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1752480" y="1905120"/>
              <a:ext cx="5334120" cy="251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128C-D2D0-42E6-A551-E34FB045980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하드웨어 스위즐링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스위즐링 후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모든 짧은 페이지 식별자는 그 페이지에 할당된 가상 메모리 주소를 가리킨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객체를 액세스하고 있는 함수는 그것이 영속 포인터를 가지고 있는지 알 필요가 없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메모리내 포인터를 사용하는 기존의 코드와 라이브러리를 재사용할 수 있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모든 페이지가 짧은 페이지 식별자에서와 같은 주소로 할당되면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페이지 내에서 어떠한 변경도 필요없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역스위즐링의 필요가 없다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스위즐링 후의 페이지는 디스크에 직접 보관될 수 있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프로세스는 가상 메모리 크기 이상의 페이지를 액세스해서는 안된다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다른 페이지에 대한 가상 메모리 주소의 재사용은 비용이 많이 든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B0FF-B312-4A06-A78E-BCBAEF2F675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객체의 디스크 구조와 메모리 구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메모리에 저장된 객체의 형식과 데이터베이스로 디스크에 저장된 형식이 다를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 이유는 다음과 같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소프트웨어 스위즐링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영속 포인터와 메모리내 포인터의 구조가 다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서로 다른 표현을 가진 서로 다른 컴퓨터에서 데이터베이스를 액세스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베이스내 객체의 물리적 표현을 컴퓨터와 컴파일러에 독립되도록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객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또는 페이지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메모리로 올 때 디스크 표현으로 부터 특정 컴퓨터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언어 및 컴파일러에서 요구되는 형으로 내부적으로  변환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3E2F-22E2-43FC-991D-25F27730D05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대형 객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대형 객체는 일반적으로 이진 데이터를 포함하기 때문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inary large object(blob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이라 한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아래와 같은 예가 있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텍스트 문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이미지 및 컴퓨터 지원 설계와 같은 그래픽 데이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오디오 및 비디오 데이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대형 객체는 메모리로 올 때 연속된 바이트 순서로 저장될 필요가 있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객체가 페이지 이상이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버퍼 풀의 연속 페이지가 그것을 저장하기 위해 할당되어야 한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연속 저장 공간의 필요성을 제거하기 위해서는 데이터에 직접 액세스를 허용하지 않고 파일 시스템형의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를 통해서만 액세스하도록 하는 것이 좋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3AB0-FFBC-477D-82EB-DB5B113864F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대형 객체의 수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B-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트리 구조를 사용해 객체를 표현한다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객체의 특정 영역으로 부터 바이트의 갱신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삽입 및 삭제와 함께 전체 객체의 읽기를 허용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데이터베이스 외부의 특수 목적 어플리케이션 프로그램이 대형 객체를 조작하기 위해 사용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텍스트 데이터는 에디터와 포매터가 조작하는 바이트 스트링으로 취급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그래픽 데이터는 비트맵 또는 기하 객체의 집합으로 표현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데이터베이스 시스템내에서 또는 특수 소프트웨어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즉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VLSI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설계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로 관리할 수 있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오디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비디오 데이터는 일반적으로 별도의 어플리케이션 소프트웨어로 생성하고 디스플레이하며 특수 목적의 편집 소프트웨어를 사용해 수정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동시성 제어와 버전의 생성을 위한 체크 아웃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체크 인 방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E80B-C655-4C62-88F3-82CDB2A431A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저장 장치 계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1905120"/>
            <a:ext cx="2438640" cy="304560"/>
          </a:xfrm>
          <a:prstGeom prst="cube">
            <a:avLst>
              <a:gd name="adj" fmla="val 25000"/>
            </a:avLst>
          </a:prstGeom>
          <a:solidFill>
            <a:srgbClr val="0099cc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캐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66880" y="2590920"/>
            <a:ext cx="2971800" cy="304560"/>
          </a:xfrm>
          <a:prstGeom prst="cube">
            <a:avLst>
              <a:gd name="adj" fmla="val 25000"/>
            </a:avLst>
          </a:prstGeom>
          <a:solidFill>
            <a:srgbClr val="000000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메인 메모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4800600"/>
            <a:ext cx="4419720" cy="304920"/>
          </a:xfrm>
          <a:prstGeom prst="cube">
            <a:avLst>
              <a:gd name="adj" fmla="val 25000"/>
            </a:avLst>
          </a:prstGeom>
          <a:solidFill>
            <a:srgbClr val="00ff00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광 디스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5562720"/>
            <a:ext cx="5562720" cy="304560"/>
          </a:xfrm>
          <a:prstGeom prst="cube">
            <a:avLst>
              <a:gd name="adj" fmla="val 25000"/>
            </a:avLst>
          </a:prstGeom>
          <a:solidFill>
            <a:srgbClr val="cc00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자기 테이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4114800"/>
            <a:ext cx="3809880" cy="304920"/>
          </a:xfrm>
          <a:prstGeom prst="cube">
            <a:avLst>
              <a:gd name="adj" fmla="val 25000"/>
            </a:avLst>
          </a:prstGeom>
          <a:solidFill>
            <a:srgbClr val="000000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자기디스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3352680"/>
            <a:ext cx="3352680" cy="304920"/>
          </a:xfrm>
          <a:prstGeom prst="cube">
            <a:avLst>
              <a:gd name="adj" fmla="val 25000"/>
            </a:avLst>
          </a:prstGeom>
          <a:solidFill>
            <a:srgbClr val="ffff00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플래쉬 메모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220968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289548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365760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441972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510552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2209680"/>
            <a:ext cx="76320" cy="457200"/>
          </a:xfrm>
          <a:prstGeom prst="upArrow">
            <a:avLst>
              <a:gd name="adj1" fmla="val 50000"/>
              <a:gd name="adj2" fmla="val 14976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2895480"/>
            <a:ext cx="76320" cy="457200"/>
          </a:xfrm>
          <a:prstGeom prst="upArrow">
            <a:avLst>
              <a:gd name="adj1" fmla="val 50000"/>
              <a:gd name="adj2" fmla="val 14976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3657600"/>
            <a:ext cx="76320" cy="457200"/>
          </a:xfrm>
          <a:prstGeom prst="upArrow">
            <a:avLst>
              <a:gd name="adj1" fmla="val 50000"/>
              <a:gd name="adj2" fmla="val 14976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4419720"/>
            <a:ext cx="76320" cy="457200"/>
          </a:xfrm>
          <a:prstGeom prst="upArrow">
            <a:avLst>
              <a:gd name="adj1" fmla="val 50000"/>
              <a:gd name="adj2" fmla="val 14976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0" y="5105520"/>
            <a:ext cx="76320" cy="457200"/>
          </a:xfrm>
          <a:prstGeom prst="upArrow">
            <a:avLst>
              <a:gd name="adj1" fmla="val 50000"/>
              <a:gd name="adj2" fmla="val 14976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E729-69A3-467E-AE23-8E489478E0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저장 장치 계층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주 저장 장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가장 빠르지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휘발성이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캐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메인 메모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차 저장 장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계층상에서 다음 계층이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비휘발성이   고 비교적 빠른 액세스 시간을 가진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온라인 저장 장치라 하기도 한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플래시 메모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자기 디스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차 저장 장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계층상에서 가장 하위 계층이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비휘발성이고 액세스 시간이 느리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오프라인 저장 장치라 하기도 한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자기 테이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광 저장 장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D880-42D1-4DAD-9C96-1DF3CFF848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자기 디스크 구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2362320"/>
            <a:ext cx="3733920" cy="6858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4952880"/>
            <a:ext cx="3733560" cy="6858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3124080"/>
            <a:ext cx="3733920" cy="6858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2590920"/>
            <a:ext cx="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048120" y="2590560"/>
            <a:ext cx="1676160" cy="304920"/>
            <a:chOff x="3048120" y="2590560"/>
            <a:chExt cx="1676160" cy="304920"/>
          </a:xfrm>
        </p:grpSpPr>
        <p:sp>
          <p:nvSpPr>
            <p:cNvPr id="142" name=""/>
            <p:cNvSpPr/>
            <p:nvPr/>
          </p:nvSpPr>
          <p:spPr>
            <a:xfrm>
              <a:off x="3048120" y="2590920"/>
              <a:ext cx="1676160" cy="304560"/>
            </a:xfrm>
            <a:prstGeom prst="donut">
              <a:avLst>
                <a:gd name="adj" fmla="val 25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3467160" y="2615760"/>
              <a:ext cx="23904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3167280" y="2666520"/>
              <a:ext cx="35892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65480" y="2819520"/>
              <a:ext cx="2394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85840" y="2819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85840" y="25909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45120" y="2793960"/>
              <a:ext cx="2991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125600" y="2590560"/>
              <a:ext cx="1195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586680" y="2819520"/>
              <a:ext cx="1195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346920" y="2793960"/>
              <a:ext cx="2394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4245120" y="2641320"/>
              <a:ext cx="2394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048120" y="274320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04880" y="274320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048120" y="3276360"/>
            <a:ext cx="1676160" cy="304920"/>
            <a:chOff x="3048120" y="3276360"/>
            <a:chExt cx="1676160" cy="304920"/>
          </a:xfrm>
        </p:grpSpPr>
        <p:sp>
          <p:nvSpPr>
            <p:cNvPr id="156" name=""/>
            <p:cNvSpPr/>
            <p:nvPr/>
          </p:nvSpPr>
          <p:spPr>
            <a:xfrm>
              <a:off x="3048120" y="3276720"/>
              <a:ext cx="1676160" cy="304560"/>
            </a:xfrm>
            <a:prstGeom prst="donut">
              <a:avLst>
                <a:gd name="adj" fmla="val 25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3467160" y="3301560"/>
              <a:ext cx="23904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3167280" y="3352320"/>
              <a:ext cx="35892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65480" y="3505320"/>
              <a:ext cx="2394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5840" y="35053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85840" y="32767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45120" y="3479760"/>
              <a:ext cx="2991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4125600" y="3276360"/>
              <a:ext cx="1195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586680" y="3505320"/>
              <a:ext cx="1195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346920" y="3479760"/>
              <a:ext cx="2394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245120" y="3327120"/>
              <a:ext cx="2394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048120" y="342900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04880" y="342900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048120" y="5105160"/>
            <a:ext cx="1676160" cy="304920"/>
            <a:chOff x="3048120" y="5105160"/>
            <a:chExt cx="1676160" cy="304920"/>
          </a:xfrm>
        </p:grpSpPr>
        <p:sp>
          <p:nvSpPr>
            <p:cNvPr id="170" name=""/>
            <p:cNvSpPr/>
            <p:nvPr/>
          </p:nvSpPr>
          <p:spPr>
            <a:xfrm>
              <a:off x="3048120" y="5105520"/>
              <a:ext cx="1676160" cy="304560"/>
            </a:xfrm>
            <a:prstGeom prst="donut">
              <a:avLst>
                <a:gd name="adj" fmla="val 25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3467160" y="5130360"/>
              <a:ext cx="23904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3167280" y="5181120"/>
              <a:ext cx="35892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65480" y="5334120"/>
              <a:ext cx="2394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85840" y="53341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85840" y="5105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45120" y="5308560"/>
              <a:ext cx="2991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4125600" y="5105160"/>
              <a:ext cx="1195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3586680" y="5334120"/>
              <a:ext cx="1195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346920" y="5308560"/>
              <a:ext cx="2394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245120" y="5155920"/>
              <a:ext cx="2394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048120" y="525780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04880" y="525780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809880" y="2133720"/>
            <a:ext cx="152640" cy="609480"/>
          </a:xfrm>
          <a:prstGeom prst="flowChartMagneticDisk">
            <a:avLst/>
          </a:prstGeom>
          <a:solidFill>
            <a:srgbClr val="969696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3048120"/>
            <a:ext cx="152640" cy="38088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9880" y="3809880"/>
            <a:ext cx="152640" cy="144792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91120" y="2514600"/>
            <a:ext cx="2971800" cy="228600"/>
          </a:xfrm>
          <a:prstGeom prst="parallelogram">
            <a:avLst>
              <a:gd name="adj" fmla="val 325000"/>
            </a:avLst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5638680"/>
            <a:ext cx="152640" cy="38124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00600" y="3048120"/>
            <a:ext cx="16765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15000" y="2819520"/>
            <a:ext cx="7621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276720"/>
            <a:ext cx="2971800" cy="228600"/>
          </a:xfrm>
          <a:prstGeom prst="parallelogram">
            <a:avLst>
              <a:gd name="adj" fmla="val 325000"/>
            </a:avLst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91120" y="5105520"/>
            <a:ext cx="2971800" cy="228600"/>
          </a:xfrm>
          <a:prstGeom prst="parallelogram">
            <a:avLst>
              <a:gd name="adj" fmla="val 325000"/>
            </a:avLst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77120" y="1905120"/>
            <a:ext cx="685800" cy="4572000"/>
          </a:xfrm>
          <a:prstGeom prst="cube">
            <a:avLst>
              <a:gd name="adj" fmla="val 25000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27432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4280" y="281952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3581280"/>
            <a:ext cx="7621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715000" y="5451480"/>
            <a:ext cx="7621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76920" y="3809880"/>
            <a:ext cx="167616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5638680"/>
            <a:ext cx="167616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00600" y="2590920"/>
            <a:ext cx="533520" cy="75960"/>
          </a:xfrm>
          <a:prstGeom prst="parallelogram">
            <a:avLst>
              <a:gd name="adj" fmla="val 17559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76920" y="3352680"/>
            <a:ext cx="533160" cy="76320"/>
          </a:xfrm>
          <a:prstGeom prst="parallelogram">
            <a:avLst>
              <a:gd name="adj" fmla="val 174646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24280" y="5181480"/>
            <a:ext cx="533520" cy="76320"/>
          </a:xfrm>
          <a:prstGeom prst="parallelogram">
            <a:avLst>
              <a:gd name="adj" fmla="val 174764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81280" y="5791320"/>
            <a:ext cx="698760" cy="622080"/>
          </a:xfrm>
          <a:custGeom>
            <a:avLst/>
            <a:gdLst/>
            <a:ahLst/>
            <a:rect l="l" t="t" r="r" b="b"/>
            <a:pathLst>
              <a:path w="440" h="392">
                <a:moveTo>
                  <a:pt x="384" y="8"/>
                </a:moveTo>
                <a:cubicBezTo>
                  <a:pt x="412" y="4"/>
                  <a:pt x="440" y="0"/>
                  <a:pt x="432" y="56"/>
                </a:cubicBezTo>
                <a:cubicBezTo>
                  <a:pt x="424" y="112"/>
                  <a:pt x="408" y="296"/>
                  <a:pt x="336" y="344"/>
                </a:cubicBezTo>
                <a:cubicBezTo>
                  <a:pt x="264" y="392"/>
                  <a:pt x="132" y="368"/>
                  <a:pt x="0" y="3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657600" y="624852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81280" y="63244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209680" y="5334120"/>
            <a:ext cx="4572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4343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57400" y="304812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2133720"/>
            <a:ext cx="53316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5028840" y="457200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7086600" y="3124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962520" y="2057400"/>
            <a:ext cx="3808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410080" y="563832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28800" y="57150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디스크 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05120" y="1981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트랙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1981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회전 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0120" y="297180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암 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29718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섹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4120" y="434340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읽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쓰기 헤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26708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실린더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57800" y="59436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38480" y="624852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회 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6824-1C2A-4264-87A6-BAE6133595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자기 디스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76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읽기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쓰기 헤드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디스크 판 표면의 가까이에 위치해 있는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76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장치로서 코드화된 정보를 자기적으로 읽고 쓴다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76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디스크 판의 표면은 원형의 트랙으로 나뉘어 있으며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각 트랙은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76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섹터로 나뉘어 있다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76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섹터는 데이터를 읽고 쓸 수 있는 가장 작은 단위이다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76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섹터를 읽고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쓰려면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76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디스크 암이 앞뒤로 움직여 해당 트랙에 헤드를 위치시킨다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76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디스크 판은 계속해서 회전하고 있으며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헤드 아래에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76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섹터가 올 때 데이터를 읽고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쓴다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76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헤드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디스크 조립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공통 암에 장착된 여러 헤드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디스크 판당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76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하나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를 가진 한 회전 축상의 여러 디스크 판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76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실린더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는 모든 디스크 판의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번째 트랙들로 구성된다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1E89-5F89-4C9A-B2C5-78D643E4B4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1T16:19:02Z</dcterms:created>
  <dc:creator>서울산업대학교 교수 석상기</dc:creator>
  <dc:description/>
  <dc:language>en-US</dc:language>
  <cp:lastModifiedBy>.</cp:lastModifiedBy>
  <dcterms:modified xsi:type="dcterms:W3CDTF">1999-06-16T17:45:35Z</dcterms:modified>
  <cp:revision>42</cp:revision>
  <dc:subject/>
  <dc:title>제10장 저장 장치와 파일구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5357798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EncodingType">
    <vt:r8>-99</vt:r8>
  </property>
  <property fmtid="{D5CDD505-2E9C-101B-9397-08002B2CF9AE}" pid="8" name="GraphicType">
    <vt:r8>1</vt:r8>
  </property>
  <property fmtid="{D5CDD505-2E9C-101B-9397-08002B2CF9AE}" pid="9" name="HomePage">
    <vt:lpwstr>http://cat1.snut.ac.kr/~sksuk</vt:lpwstr>
  </property>
  <property fmtid="{D5CDD505-2E9C-101B-9397-08002B2CF9AE}" pid="10" name="LinkColor">
    <vt:r8>16711680</vt:r8>
  </property>
  <property fmtid="{D5CDD505-2E9C-101B-9397-08002B2CF9AE}" pid="11" name="MailAddress">
    <vt:lpwstr>sksuk@duck.snut.ac.kr</vt:lpwstr>
  </property>
  <property fmtid="{D5CDD505-2E9C-101B-9397-08002B2CF9AE}" pid="12" name="NavBtnPos">
    <vt:r8>1</vt:r8>
  </property>
  <property fmtid="{D5CDD505-2E9C-101B-9397-08002B2CF9AE}" pid="13" name="Other">
    <vt:lpwstr/>
  </property>
  <property fmtid="{D5CDD505-2E9C-101B-9397-08002B2CF9AE}" pid="14" name="OutputDir">
    <vt:lpwstr>E:\public_html\data</vt:lpwstr>
  </property>
  <property fmtid="{D5CDD505-2E9C-101B-9397-08002B2CF9AE}" pid="15" name="ScreenSize">
    <vt:r8>4</vt:r8>
  </property>
  <property fmtid="{D5CDD505-2E9C-101B-9397-08002B2CF9AE}" pid="16" name="ScreenUsage">
    <vt:r8>3</vt:r8>
  </property>
  <property fmtid="{D5CDD505-2E9C-101B-9397-08002B2CF9AE}" pid="17" name="ShowNotes">
    <vt:bool>0</vt:bool>
  </property>
  <property fmtid="{D5CDD505-2E9C-101B-9397-08002B2CF9AE}" pid="18" name="TemplateType">
    <vt:r8>2</vt:r8>
  </property>
  <property fmtid="{D5CDD505-2E9C-101B-9397-08002B2CF9AE}" pid="19" name="TextColor">
    <vt:r8>0</vt:r8>
  </property>
  <property fmtid="{D5CDD505-2E9C-101B-9397-08002B2CF9AE}" pid="20" name="TransparentButton">
    <vt:r8>0</vt:r8>
  </property>
  <property fmtid="{D5CDD505-2E9C-101B-9397-08002B2CF9AE}" pid="21" name="UseBrowserColor">
    <vt:bool>0</vt:bool>
  </property>
  <property fmtid="{D5CDD505-2E9C-101B-9397-08002B2CF9AE}" pid="22" name="VisitedColor">
    <vt:r8>64</vt:r8>
  </property>
</Properties>
</file>