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9AF-602C-4F00-831F-C8FAF17E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9A8-D241-44BE-9D7B-90706B27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9D2-D70B-4EEA-B59F-B6ECF5D1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FB9-C362-45C3-90FA-A1AADF4B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CBB3-D06A-4792-A297-9E966D50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C4A-D4EE-4F74-8BD0-B58A60B1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6AE0-445A-46B7-BF2F-36FEE409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A861-1CB2-499D-A3BA-0E4B6790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FB10-624D-4A14-94ED-30BE440E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47E9-C241-476C-8D06-AED26F4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499B-61D3-4DFB-8863-CAD369E7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1B6-4A3A-4984-9C25-7796DE2B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5C6A-153D-4D85-BEA0-CA6F1185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41AC-350E-4E85-9096-B4F0B85A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AFF7-D050-40C5-9985-5C5E685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EE8E-9544-4BDB-AAA9-9B15E83E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09C5-D135-4297-B8B1-99F48F63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0AA-769C-4CBB-8325-B0F29AF9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8D5-DC7B-4DE2-8B47-B8DF1AF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051-22DC-4E88-BF3F-D11D2DC6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F40-788E-4BB8-BA4F-2D4DD6AD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9C9-542D-4683-925D-C1EA8565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2B6-A1C3-43F5-ABB7-D41C049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7A4-7B1E-44AD-9009-499FC9D7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7C96-3CF8-4419-BC88-B19DA6B47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96D3-4757-4DF3-BFDE-9E8D29F7C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개요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의 목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의 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정의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조작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 관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저장 장치 관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관리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사용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반적인 시스템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739-7846-4F0F-AAC7-74BB9E4B87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관계형 모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관계형 모델에서 테이블 데이터의 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438280"/>
            <a:ext cx="7238880" cy="1905120"/>
            <a:chOff x="1143000" y="2438280"/>
            <a:chExt cx="7238880" cy="1905120"/>
          </a:xfrm>
        </p:grpSpPr>
        <p:sp>
          <p:nvSpPr>
            <p:cNvPr id="157" name=""/>
            <p:cNvSpPr/>
            <p:nvPr/>
          </p:nvSpPr>
          <p:spPr>
            <a:xfrm>
              <a:off x="1143000" y="2438280"/>
              <a:ext cx="7238880" cy="1905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customer             social             customer        customer        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49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-name             -security             -street              -city            -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Johnson         192-83-7465        Alma            Palo Alto          A-101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Smith            019-28-3746         North           Rye   </a:t>
              </a:r>
              <a:r>
                <a:rPr b="0" lang="ko-KR" sz="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ko-KR" sz="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     A-2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Johnson         192-83-7465        Alma            Palo Alto          A-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Jones             321-12-3123         Main            Harrison </a:t>
              </a:r>
              <a:r>
                <a:rPr b="0" lang="ko-KR" sz="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A-2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smith             019-28-3746         North           Rye       </a:t>
              </a:r>
              <a:r>
                <a:rPr b="0" lang="ko-KR" sz="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   A-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0920" y="24382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24382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38680" y="24382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6600" y="24382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3009960"/>
              <a:ext cx="723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19520" y="4572000"/>
            <a:ext cx="3429000" cy="1523880"/>
            <a:chOff x="2819520" y="4572000"/>
            <a:chExt cx="3429000" cy="1523880"/>
          </a:xfrm>
        </p:grpSpPr>
        <p:sp>
          <p:nvSpPr>
            <p:cNvPr id="164" name=""/>
            <p:cNvSpPr/>
            <p:nvPr/>
          </p:nvSpPr>
          <p:spPr>
            <a:xfrm>
              <a:off x="2819520" y="4572000"/>
              <a:ext cx="3429000" cy="1523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ccount-number       bal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-101                 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-201                 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-215                 7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A-217                 75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5560" y="457200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9520" y="487656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9F7-58D7-4387-82D3-7827DF7A04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정의어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DD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스키마를 정의하기 위한 명세 표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DD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컴파일러는 데이터 사전에 저장되는 테이블의 집합을 생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사전에는 메타 데이터를 가진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에 관한 데이터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 저장 및 정의어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DB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스템이 사용하는 저장 구조와 액세스 메소드가 정의되는 특수한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DD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0D4-07F0-4278-A369-943BA7541D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조작어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DM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적절한 데이터 모델로 구축된 데이터를 액세스하고 조작하기 위한 언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의 두 가지 유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절차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사용자는 어떤 데이터를 어떻게 구하는지를 명시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비절차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사용자는 데이터를 어떻게 구하는지를 명시하지 않고 어떤 데이터가 필요한가만 명시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D6E-414C-4775-AE79-2855655A52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 관리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트랜잭션은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어플리케이션 내에서 하나의 논리적 기능을 수행하는 연산들의 모임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트랜잭션 관리 구성 요소는 시스템 고장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정전 및 운영체제 손상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과 트랜잭션의 실패에도 불구하고 데이터베이스가 일관성 있는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정확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상태를 유지하도록 보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동시성 제어 매니저는 데이터베이스의 일관성을 보장하기 위해 동시 실행 트랜잭션 간의 상호 작용을 통제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D89-4E55-4198-875F-972B39678C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저장 장치 관리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저장 장치 매니저는 데이터베이스에 저장된 하위 단계 데이터와 시스템에 제기된 어플리케이션 프로그램 및 질의 간에 인터페이스를 제공하는 프로그램 모듈이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저장 장치 매니저는 다음과 같은 임무를 수행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파일 매니저와의 상호 작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효율적인 데이터의 저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검색 및 갱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DF2-44C5-4043-83C5-A87A86C55A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 관리자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의 행위를 조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관리자는 조직의 정보 자원과 요구 사항에 대해 충분한 이해를 하고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관리자의 임무는 다음과 같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스키마 정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저장 구조와 액세스 메소드 정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DB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액세스 사용자 권한 부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결성 제약 조건 지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자와의 긴밀한 유대 관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성능 감시와 요구 사항 변경에 대한 응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19F-4DB1-4E8D-95AC-AEFD079818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사용자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사용자들은 시스템과의 상호 작용으로 그들이 기대하는 방향에 있어 차이가 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어플리케이션 프로그래머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 DML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호출을 통해 시스템과 상호 작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능숙한 사용자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 DB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질의어로 요구를 작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특수 사용자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전통적인 데이터 처리의 틀에는 맞지 않는 특수한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어플리케이션을 작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초보 사용자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이미 작성된 영구 어플리케이션 프로그램중의 하나를 호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A81-87C5-4080-82C7-D9D49D5E6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전체 시스템 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82160" y="3336840"/>
            <a:ext cx="861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bas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20" y="1660320"/>
            <a:ext cx="8153280" cy="4800600"/>
            <a:chOff x="533520" y="1660320"/>
            <a:chExt cx="8153280" cy="4800600"/>
          </a:xfrm>
        </p:grpSpPr>
        <p:sp>
          <p:nvSpPr>
            <p:cNvPr id="182" name=""/>
            <p:cNvSpPr/>
            <p:nvPr/>
          </p:nvSpPr>
          <p:spPr>
            <a:xfrm>
              <a:off x="533520" y="1660680"/>
              <a:ext cx="7086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270160"/>
              <a:ext cx="16761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270160"/>
              <a:ext cx="1676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2270160"/>
              <a:ext cx="1600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2270160"/>
              <a:ext cx="1676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520" y="2727360"/>
              <a:ext cx="7772400" cy="25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2803680"/>
              <a:ext cx="701064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4175280"/>
              <a:ext cx="701064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3880" y="5318280"/>
              <a:ext cx="60962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5394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53942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91" idx="0"/>
              <a:endCxn id="192" idx="0"/>
            </p:cNvCxnSpPr>
            <p:nvPr/>
          </p:nvCxnSpPr>
          <p:spPr>
            <a:xfrm flipH="1" flipV="1" rot="5400000">
              <a:off x="4533840" y="3222000"/>
              <a:ext cx="76680" cy="6096960"/>
            </a:xfrm>
            <a:prstGeom prst="curvedConnector5">
              <a:avLst>
                <a:gd name="adj1" fmla="val -200000"/>
                <a:gd name="adj2" fmla="val 49997"/>
                <a:gd name="adj3" fmla="val -2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"/>
            <p:cNvSpPr/>
            <p:nvPr/>
          </p:nvSpPr>
          <p:spPr>
            <a:xfrm>
              <a:off x="763200" y="1660320"/>
              <a:ext cx="12121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tive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tellers, agents, etc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88840" y="1660320"/>
              <a:ext cx="864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gramm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25920" y="1660320"/>
              <a:ext cx="848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phistic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46440" y="1660320"/>
              <a:ext cx="863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dministr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70920" y="2269800"/>
              <a:ext cx="750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99720" y="2269800"/>
              <a:ext cx="750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gra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3560" y="2346120"/>
              <a:ext cx="476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20680" y="2269800"/>
              <a:ext cx="622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310824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3108240"/>
              <a:ext cx="768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gra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bject co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8280" y="287964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080" y="287964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19920" y="287964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489480"/>
              <a:ext cx="13716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4251240"/>
              <a:ext cx="16002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52680" y="4251240"/>
              <a:ext cx="16002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52680" y="4784760"/>
              <a:ext cx="1600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9000" y="5622840"/>
              <a:ext cx="1600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5622840"/>
              <a:ext cx="1600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6080040"/>
              <a:ext cx="1600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8680" y="6080040"/>
              <a:ext cx="1600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0120" y="3031920"/>
              <a:ext cx="672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20120" y="4403520"/>
              <a:ext cx="623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28800" y="2879640"/>
              <a:ext cx="800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</a:rPr>
                <a:t>embed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</a:rPr>
                <a:t>D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</a:rPr>
                <a:t>pre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47960" y="2955600"/>
              <a:ext cx="637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63000" y="2955600"/>
              <a:ext cx="715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pre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520" y="3489120"/>
              <a:ext cx="715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71720" y="4251240"/>
              <a:ext cx="742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68560" y="4251240"/>
              <a:ext cx="623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6200" y="4708440"/>
              <a:ext cx="623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7600" y="5622480"/>
              <a:ext cx="544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d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84160" y="5622480"/>
              <a:ext cx="905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atistical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69120" y="6079680"/>
              <a:ext cx="646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 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3240" y="6079680"/>
              <a:ext cx="945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 diction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204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4080" y="204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52880" y="204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81680" y="204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5280" y="26510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4080" y="2651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52880" y="2651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1680" y="2651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057400" y="34131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76560" y="3413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952520" y="3413160"/>
              <a:ext cx="3049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334120" y="341316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5638680" y="3413160"/>
              <a:ext cx="13716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62920" y="341316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809880" y="3184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057400" y="36417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86000" y="402264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022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1120" y="463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742840" y="5089680"/>
              <a:ext cx="609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33920" y="5089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33920" y="58514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480" y="562284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sk 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1736640"/>
              <a:ext cx="990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325-11C2-4BA0-A408-539CF51DEB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 관리 시스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BM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상호 관련 있는 데이터의 모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데이터를 액세스하기 위한 프로그램의 집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에는 특정 기관에 관한 정보를 내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는 사용하기 편하고 효율적인 환경을 제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8FA-7014-49D7-BF0D-3712EA4CC9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시스템의 목적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는 전통적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가 지원하는 파일 처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시스템의 아래와 같은 문제점을 처리하기 위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개발 되었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의 중복과 불일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 액세스상의 어려운 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의 고립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여러 파일과 포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무결성 문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갱신의 원자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여러 사용자에 의한 동시 액세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보안 문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145-B2E5-4AF8-ADA0-CC732E5636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의 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시스템의 구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4400" y="2514600"/>
            <a:ext cx="7618320" cy="3580920"/>
            <a:chOff x="914400" y="2514600"/>
            <a:chExt cx="7618320" cy="3580920"/>
          </a:xfrm>
        </p:grpSpPr>
        <p:sp>
          <p:nvSpPr>
            <p:cNvPr id="116" name=""/>
            <p:cNvSpPr/>
            <p:nvPr/>
          </p:nvSpPr>
          <p:spPr>
            <a:xfrm>
              <a:off x="4219560" y="2742120"/>
              <a:ext cx="81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뷰 단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914400" y="2514600"/>
              <a:ext cx="7618320" cy="3580920"/>
              <a:chOff x="914400" y="2514600"/>
              <a:chExt cx="7618320" cy="3580920"/>
            </a:xfrm>
          </p:grpSpPr>
          <p:sp>
            <p:nvSpPr>
              <p:cNvPr id="118" name=""/>
              <p:cNvSpPr/>
              <p:nvPr/>
            </p:nvSpPr>
            <p:spPr>
              <a:xfrm>
                <a:off x="914400" y="2514600"/>
                <a:ext cx="7618320" cy="167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20760" y="3277800"/>
                <a:ext cx="1446120" cy="60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뷰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87640" y="3277800"/>
                <a:ext cx="1446480" cy="60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뷰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07160" y="3277800"/>
                <a:ext cx="1446120" cy="60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뷰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87640" y="4497120"/>
                <a:ext cx="1446480" cy="60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논리 단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87640" y="5487840"/>
                <a:ext cx="1446480" cy="60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물리 단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73440" y="41922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73440" y="5106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CFA-456C-46A0-B8E5-9F02E17DCB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추상화 단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물리 단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가 어떻게 저장되는지를 기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논리 단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D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저장된 데이터와 데이터간의 관계를 기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name :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street :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city :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단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응용 프로그램은 데이터 형의 상세 사항은 감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는 또한 보안 목적으로 정보를 감출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급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A2A-36CA-4F01-A9F1-596220BAA2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사례와 스키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프로그래밍 언어의 형과 변수와 유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스키마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DB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 논리 구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고객 및 계좌의 집합과 그들 간의 관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례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특정 시점에서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 실제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49E-4515-44AF-95C3-1BEDBD6C6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독립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상위 단계의 스키마 정의에 영향을 주지 않고 어떤 단계의 스키마 정의를 수정할 수 있는 능력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양한 단계와 구성 요소 간의 인터페이스는 어떤 부분의 변화가 다른 부분에 심각한 영향을 주지 않도록 잘 정의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독립성의 두 종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리적 데이터 독립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논리적 데이터 독립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A8F-C7F5-44D5-91D6-3CC8A1BD97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모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55160" y="1771560"/>
            <a:ext cx="738684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 사항을 기술하는 도구들의 모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의 관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의 의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의 제약 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기반 논리 모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엔티티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관계 모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 지향 모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미 모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함수 모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 기반 논리 모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관계형 모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SQL/DS, DB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네트워크 모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계층 모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I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F6C-3B54-4F18-B193-564C404CE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모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모델의 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2120" y="2895480"/>
            <a:ext cx="7924320" cy="3047760"/>
            <a:chOff x="762120" y="2895480"/>
            <a:chExt cx="7924320" cy="3047760"/>
          </a:xfrm>
        </p:grpSpPr>
        <p:sp>
          <p:nvSpPr>
            <p:cNvPr id="137" name=""/>
            <p:cNvSpPr/>
            <p:nvPr/>
          </p:nvSpPr>
          <p:spPr>
            <a:xfrm>
              <a:off x="1581840" y="2895480"/>
              <a:ext cx="191268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cial-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3657240"/>
              <a:ext cx="1912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stomer-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62920" y="2895480"/>
              <a:ext cx="19123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stomer-str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04560" y="3657240"/>
              <a:ext cx="1912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stomer-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54040" y="3200040"/>
              <a:ext cx="1912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ount-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73760" y="3885840"/>
              <a:ext cx="1912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l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9920" y="5028840"/>
              <a:ext cx="163944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5320" y="5105160"/>
              <a:ext cx="1366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28320" y="4190760"/>
              <a:ext cx="4096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1240" y="342864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016080" y="3352680"/>
              <a:ext cx="88812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220920" y="4114440"/>
              <a:ext cx="95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14240" y="4724280"/>
              <a:ext cx="1365840" cy="12189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pos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699360" y="53337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80440" y="53337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2120" y="3733560"/>
              <a:ext cx="4096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046640" y="4419360"/>
              <a:ext cx="204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D48-0D10-4F32-AF6F-E8A3675FE0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7T05:13:45Z</dcterms:created>
  <dc:creator>서울산업대학교 교수 석상기</dc:creator>
  <dc:description/>
  <dc:language>en-US</dc:language>
  <cp:lastModifiedBy>.</cp:lastModifiedBy>
  <dcterms:modified xsi:type="dcterms:W3CDTF">1999-06-15T18:45:59Z</dcterms:modified>
  <cp:revision>43</cp:revision>
  <dc:subject/>
  <dc:title>제 1 장 개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